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04F7-E551-4A5A-A43D-A73D8808DD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CE3F-F5FB-4039-BA82-A7257977052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C744-3C9D-46AF-AD99-3D5434BA3A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3C41-D1BD-4724-8B41-8A6FCAE87AC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ECDE-9473-43A0-BBD0-1572C38E1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B6B3-4C7C-4CDD-BBFF-194A411F7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42ED-2CCC-4F62-BDEC-76F970FF0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EFBB-1141-4476-9E1A-5DD7194EE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493-13C0-482C-B4A5-2B71613A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351-BA38-4AE7-827C-0A864D91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4DF-2A61-4A1A-B603-A49AC7C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B15-A404-4D81-A484-117CC187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B25-8618-4D9A-966B-58572106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AFC-9A79-4702-8E6F-C34F17A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6AF-383F-4CEF-98F4-5FED6C7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1AE1-4849-42B9-B198-050B4A72F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1EE-41A8-4846-B6F4-66A24343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47F-1CA3-49CA-9EDE-E2A6D048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44A-85DD-40B3-B7BA-3AE62155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A7B-DE24-4A46-A794-0E329A3E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680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42680" y="119664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5056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680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42680" y="5108400"/>
            <a:ext cx="28054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1D2-2230-4489-BA62-1EC15608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F5E3-D240-4D65-B31E-27049AF6E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1644-1180-4428-A0BD-0B3B0F58C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4550-450F-49E6-AF82-66F390EAD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8E13-39A5-4CA0-A482-E5D5BCA39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4DFB-77A1-433F-881B-CBA3E21E5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6000" y="510840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D58E-9F1E-44BC-867C-B5CBE599B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2523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0560" y="5108400"/>
            <a:ext cx="87138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3343-391B-40F9-B415-87BFA58DA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sldNum" idx="1"/>
          </p:nvPr>
        </p:nvSpPr>
        <p:spPr>
          <a:xfrm>
            <a:off x="70099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1555-75A5-4EB7-BD1D-E2C365E82278}" type="slidenum">
              <a:rPr b="0" lang="es-E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75E-AB7B-41B8-B2DC-9A66F353592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675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ubdelainnovacion.cl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3e3ff"/>
                </a:solidFill>
                <a:latin typeface="Arial"/>
              </a:rPr>
              <a:t>El Control de Gestión en el Sector Público</a:t>
            </a:r>
            <a:endParaRPr b="1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ario Waissblu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clubdelainnovacion.c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Convenios Colectivos de Desempeñ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Corresponde a incentivos que se pagan a grupos o unidades de trabajo dentro de una institución, generalmente asociado al cumplimiento de metas de gestión del grup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:  Trimestral/Semestralmente;  se lleva a cabo a través del “Informe de Ejecución  presupuestaria” que indica  nivel de ejecución (%) que se lleva hasta el momento. Además, incipientemente, “Informes de Avance del PROPIR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onvenios de Desempeño de la Alta Dirección: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Compromisos de metas entre los directivos nombrados a través del Sistema de Alta Dirección Pública del Servicio Civil con la autoridad pertinente (Ministro o Jefes de Servic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25C4-F096-42CE-8CDE-3B4B30A4CCAF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1" lang="en-US" sz="1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988640"/>
            <a:ext cx="84582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tinuar aumentando el número de evaluaci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urante la administración de la Presidenta Michelle Bachelet se evaluará el 50% de los programas públicos comprendidos en la Ley de Presupuestos (155 program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forzar el análisis ex-ante de los program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tregar asistencia técnica a los Servicios Públicos que presentan nuevos programas o ampliaciones de programas existentes para mejorar su diseño y en la elaboración de líneas base que permitan su futura evaluació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6C8D-FA32-4647-8EC1-234E88198D1D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3640" y="177300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evaluaciones deben considerar la transversalidad de las Políticas Pública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hacia el desarrollo de evaluaciones integrales que permitan captar el efecto conjunto de varios programas sobre un determinado resultado de política (Ejemplo: programas de becas escolares de educación básica y media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mplementar el Fondo de Modernización de la Gestión Públic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objetivo 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inanciar la elaboración de propuestas de solución de una debilidad o un problema en la gestión actual de instituciones públicas vinculada al desarrollo económico productivo a partir de un diagnóstico de dicho problema, en el marco legislativo vigent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1BBE-1E85-4ADF-8D10-30C1EEE76536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sinergia entre los distintos mecanismos de incentivo al desempeñ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nuar avanzando en la relación al interior de las instituciones públicas de los distintos mecanismos de  incentivo al desempeño (PMG, convenios colectivos, convenios alta dirección pública, entre otras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125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poyar la implementación de nuevos mecanismos de incentivo al desempeño instituc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(Ley 20.21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as de Eficiencia Institucional y Colectivas Poder Judicial (Ley 20.224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venio de Desempeño Institucional (Ley 20.240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685800" y="476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66ffff"/>
                </a:solidFill>
                <a:latin typeface="Arial"/>
              </a:rPr>
              <a:t>METAS Y DESAFÍOS DEL SISTEMA DE EVALUACIÓN Y CONTROL DE GESTIÓN</a:t>
            </a:r>
            <a:br>
              <a:rPr sz="2000"/>
            </a:br>
            <a:r>
              <a:rPr b="1" lang="es-CL" sz="1600" spc="-1" strike="noStrike">
                <a:solidFill>
                  <a:srgbClr val="66ffff"/>
                </a:solidFill>
                <a:latin typeface="Arial"/>
              </a:rPr>
              <a:t>(DIP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‘</a:t>
            </a: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Back to the Rough Ground!’ Beyond</a:t>
            </a: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Theory to Practice in Evaluation</a:t>
            </a:r>
            <a:r>
              <a:rPr b="0" lang="es-ES" sz="2400" spc="-1" strike="noStrike">
                <a:solidFill>
                  <a:srgbClr val="e3e3ff"/>
                </a:solidFill>
                <a:latin typeface="Arial"/>
              </a:rPr>
              <a:t>. </a:t>
            </a:r>
            <a:r>
              <a:rPr b="1" lang="es-ES" sz="1800" spc="-1" strike="noStrike">
                <a:solidFill>
                  <a:srgbClr val="e3e3ff"/>
                </a:solidFill>
                <a:latin typeface="Arial"/>
              </a:rPr>
              <a:t>T. A. Schwandt, 2003</a:t>
            </a:r>
            <a:br>
              <a:rPr sz="2000"/>
            </a:b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0314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formativity” se refiere a la “exteriorización del conocimiento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onocimiento, y la relación entre los proveedores y usuarios del conocimiento, se “commoditiza”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gobierno, “performativity” es un principio de gobernanza y mecanismo de conducción a distancia, que reemplaza la intervención y la prescripción por la colocación de metas, la rendición de cuentas y la comparación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o se logra con tecnologías tales como calidad total, indicadores de desempeño, y auditorías de desempeñ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“rendición de cuentas”, en el discurso contemporáneo, es una noción técnica y contractual. La “responsabilidad” es una noción moral. La “rendición de cuentas” induce a ver la evaluación como un “commodity” que se compra, vende y aplica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5000"/>
              </a:lnSpc>
              <a:spcBef>
                <a:spcPts val="1012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”, en cambio, refuerza la idea de que el aprendizaje se desarrolla en un diálogo recíproco, que presume un conjunto de motivaciones y disposiciones a “hacer lo correcto”, y considera el aprendizaje como un proceso colectivo de transformarnos en personas de una cierta naturaleza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Tenemos en Chile prácticas y estilos de planificación de largo plazo y anuales, que después le den sentido y utilidad a un sistema de control de gestión y evaluación estratégic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los organismos transversales, como DIPRES o SEGPRES, no están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de fac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ustituyendo la responsabilidad de ministros sectoriales, intendentes y directores de servicio, los cuales “chutean hacia arriba” su mandato y responsabilidad esencial de planificar y  luego controlar la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e punto hemos caído en el “performativity” de carácter ritual, sustituyendo con ello los diálogos significativos de carácter estratégico – y de servicio público - entre los distintos estamentos del poder ejecu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hace la distinción adecuada, en materia de control operacional y presupuestal detallado, entre servicios públicos de nivel avanzado de desarrollo, de aquellos de desarrollo incipie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 la institucionalidad pública de planificación, control de gestión y evaluación la más adecuad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Las interrogantes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754200"/>
            <a:ext cx="8713800" cy="74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en presencia de una hiperproliferación de instrumentos e indicadores, que a la postre terminan diluyendo y obscureciendo la discusión de lo verdaderamente relevant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Estamos cayendo en un uso excesivo de indicadores “cuantitativos y verificables” – por cierto importantes – pero a costa de diluir la discusión de metas estratégicas de carácter más cualitativ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No estaremos a veces mezclando y confundiendo en un mismo saco los incentivos institucionales, con los incentivos individuales, con el ámbito del mejoramiento de la gestión, y con el ámbito de la medición no-prescriptiva del mejoramiento de gestió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Hasta qué punto el uso excesivo de la aprobación ex ante (tanto presupuestal como de inversiones como administrativa) no genera un “chuteo de responsabilidades hacia arriba o hacia el lado” en los Ministerios Sectoriales, Gobiernos Regionales y Directores de Servicio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24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¿Se le está dando a la tasa de ejecución presupuestal un énfasis desmedido por sobre la eficacia, eficiencia y calidad de las intervenciones pública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42800" y="836280"/>
            <a:ext cx="7596360" cy="4824720"/>
            <a:chOff x="442800" y="836280"/>
            <a:chExt cx="7596360" cy="4824720"/>
          </a:xfrm>
        </p:grpSpPr>
        <p:sp>
          <p:nvSpPr>
            <p:cNvPr id="131" name=""/>
            <p:cNvSpPr/>
            <p:nvPr/>
          </p:nvSpPr>
          <p:spPr>
            <a:xfrm>
              <a:off x="1701720" y="5013360"/>
              <a:ext cx="597708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1720" y="1182600"/>
              <a:ext cx="597708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1720" y="3860640"/>
              <a:ext cx="597708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01720" y="1844640"/>
              <a:ext cx="597708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9044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9044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5600" y="204480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21200" y="2922480"/>
              <a:ext cx="158436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191628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90880" y="2838600"/>
              <a:ext cx="158436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480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75240" y="226044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1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480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46440" y="3125880"/>
              <a:ext cx="3603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991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558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20680" y="40464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63880" y="3989520"/>
              <a:ext cx="180036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79880" y="4075200"/>
              <a:ext cx="158436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44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604840" y="4292640"/>
              <a:ext cx="2876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2800" y="1268280"/>
              <a:ext cx="388764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22440" y="5084640"/>
              <a:ext cx="460836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78800" y="1341360"/>
              <a:ext cx="360360" cy="1295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78800" y="3068640"/>
              <a:ext cx="360360" cy="12952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8800" y="4508640"/>
              <a:ext cx="360360" cy="1008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442800" y="836280"/>
              <a:ext cx="1116000" cy="4608360"/>
            </a:xfrm>
            <a:custGeom>
              <a:avLst/>
              <a:gdLst>
                <a:gd name="textAreaLeft" fmla="*/ 149400 w 1116000"/>
                <a:gd name="textAreaRight" fmla="*/ 966600 w 111600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800000">
              <a:off x="1342440" y="2997000"/>
              <a:ext cx="360360" cy="122364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1342440" y="1268280"/>
              <a:ext cx="360360" cy="122400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0800000">
              <a:off x="622080" y="2276280"/>
              <a:ext cx="936720" cy="3168360"/>
            </a:xfrm>
            <a:custGeom>
              <a:avLst/>
              <a:gdLst>
                <a:gd name="textAreaLeft" fmla="*/ 125280 w 936720"/>
                <a:gd name="textAreaRight" fmla="*/ 811440 w 93672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(teórico) del Sector Público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68000" y="836280"/>
            <a:ext cx="7596000" cy="4824720"/>
            <a:chOff x="468000" y="836280"/>
            <a:chExt cx="7596000" cy="4824720"/>
          </a:xfrm>
        </p:grpSpPr>
        <p:sp>
          <p:nvSpPr>
            <p:cNvPr id="164" name=""/>
            <p:cNvSpPr/>
            <p:nvPr/>
          </p:nvSpPr>
          <p:spPr>
            <a:xfrm>
              <a:off x="1726920" y="5013360"/>
              <a:ext cx="5976720" cy="6476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6920" y="1182600"/>
              <a:ext cx="5976720" cy="4334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6920" y="3860640"/>
              <a:ext cx="5976720" cy="9367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26920" y="1844640"/>
              <a:ext cx="597672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1564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1564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lanificación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0800" y="204480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46400" y="2922480"/>
              <a:ext cx="1584000" cy="50724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Presupuesto anu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30480" y="191628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de largo plaz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6080" y="2838600"/>
              <a:ext cx="1584000" cy="713880"/>
            </a:xfrm>
            <a:prstGeom prst="rect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Metas cuali y cuanti  anu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000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00440" y="226044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36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0000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71640" y="3125880"/>
              <a:ext cx="360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4360" y="2549520"/>
              <a:ext cx="0" cy="360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81080" y="2620800"/>
              <a:ext cx="0" cy="216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45880" y="40464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Estratég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9080" y="3989520"/>
              <a:ext cx="1800000" cy="67500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Operacional y Presupuestari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05080" y="4075200"/>
              <a:ext cx="1584000" cy="481320"/>
            </a:xfrm>
            <a:prstGeom prst="rect">
              <a:avLst/>
            </a:prstGeom>
            <a:solidFill>
              <a:srgbClr val="521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500" spc="-1" strike="noStrike">
                  <a:solidFill>
                    <a:srgbClr val="ffffff"/>
                  </a:solidFill>
                  <a:latin typeface="Arial"/>
                </a:rPr>
                <a:t>C d G Administrativ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6000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630400" y="4292640"/>
              <a:ext cx="28728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8000" y="1268280"/>
              <a:ext cx="3887280" cy="30060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Formulación de Políticas Públic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47640" y="5084640"/>
              <a:ext cx="4608000" cy="507240"/>
            </a:xfrm>
            <a:prstGeom prst="rect">
              <a:avLst/>
            </a:prstGeom>
            <a:solidFill>
              <a:srgbClr val="0a3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Evaluación ex post de impacto, eficacia, eficiencia, calidad y gest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04000" y="1341360"/>
              <a:ext cx="360000" cy="1295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640"/>
                <a:gd name="textAreaBottom" fmla="*/ 89280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4000" y="3068640"/>
              <a:ext cx="360000" cy="129528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73240 h 1295280"/>
                <a:gd name="textAreaBottom" fmla="*/ 89244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704000" y="4508640"/>
              <a:ext cx="360000" cy="1008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12400 h 1008000"/>
                <a:gd name="textAreaBottom" fmla="*/ 6948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468000" y="836280"/>
              <a:ext cx="1115640" cy="4608360"/>
            </a:xfrm>
            <a:custGeom>
              <a:avLst/>
              <a:gdLst>
                <a:gd name="textAreaLeft" fmla="*/ 149400 w 1115640"/>
                <a:gd name="textAreaRight" fmla="*/ 966240 w 1115640"/>
                <a:gd name="textAreaTop" fmla="*/ 1004400 h 4608360"/>
                <a:gd name="textAreaBottom" fmla="*/ 3067920 h 46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3092778"/>
                  <a:lnTo>
                    <a:pt x="7066" y="21082"/>
                  </a:lnTo>
                  <a:lnTo>
                    <a:pt x="0" y="18960"/>
                  </a:lnTo>
                  <a:lnTo>
                    <a:pt x="7066" y="15802"/>
                  </a:lnTo>
                  <a:lnTo>
                    <a:pt x="7066" y="18314"/>
                  </a:lnTo>
                  <a:arcTo wR="21600" hR="9416" stAng="3092778" swAng="-3072404"/>
                  <a:lnTo>
                    <a:pt x="21598" y="9544"/>
                  </a:lnTo>
                  <a:arcTo wR="21600" hR="9416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416" stAng="-5400000" swAng="5400000"/>
                  <a:lnTo>
                    <a:pt x="21600" y="9672"/>
                  </a:lnTo>
                  <a:arcTo wR="21600" hR="9416" stAng="0" swAng="-20373"/>
                  <a:lnTo>
                    <a:pt x="21598" y="9544"/>
                  </a:lnTo>
                  <a:arcTo wR="21600" hR="9416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1368000" y="2997000"/>
              <a:ext cx="360000" cy="122364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3640"/>
                <a:gd name="textAreaBottom" fmla="*/ 843120 h 12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1368000" y="1268280"/>
              <a:ext cx="360000" cy="1224000"/>
            </a:xfrm>
            <a:custGeom>
              <a:avLst/>
              <a:gdLst>
                <a:gd name="textAreaLeft" fmla="*/ 48240 w 360000"/>
                <a:gd name="textAreaRight" fmla="*/ 311760 w 360000"/>
                <a:gd name="textAreaTop" fmla="*/ 258120 h 1224000"/>
                <a:gd name="textAreaBottom" fmla="*/ 84348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2993569"/>
                  <a:lnTo>
                    <a:pt x="7232" y="21074"/>
                  </a:lnTo>
                  <a:lnTo>
                    <a:pt x="0" y="18832"/>
                  </a:lnTo>
                  <a:lnTo>
                    <a:pt x="7232" y="15538"/>
                  </a:lnTo>
                  <a:lnTo>
                    <a:pt x="7232" y="17698"/>
                  </a:lnTo>
                  <a:arcTo wR="21600" hR="9112" stAng="2993569" swAng="-2896612"/>
                  <a:lnTo>
                    <a:pt x="21552" y="9720"/>
                  </a:lnTo>
                  <a:arcTo wR="21600" hR="9112" stAng="-96957" swAng="-5303043"/>
                  <a:close/>
                </a:path>
                <a:path fill="darkenLess" w="21600" h="21600">
                  <a:moveTo>
                    <a:pt x="0" y="0"/>
                  </a:moveTo>
                  <a:arcTo wR="21600" hR="9112" stAng="-5400000" swAng="5400000"/>
                  <a:lnTo>
                    <a:pt x="21600" y="10328"/>
                  </a:lnTo>
                  <a:arcTo wR="21600" hR="9112" stAng="0" swAng="-96957"/>
                  <a:lnTo>
                    <a:pt x="21552" y="9720"/>
                  </a:lnTo>
                  <a:arcTo wR="21600" hR="9112" stAng="-96957" swAng="-5303043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0800000">
              <a:off x="646920" y="2276280"/>
              <a:ext cx="936360" cy="3168360"/>
            </a:xfrm>
            <a:custGeom>
              <a:avLst/>
              <a:gdLst>
                <a:gd name="textAreaLeft" fmla="*/ 125280 w 936360"/>
                <a:gd name="textAreaRight" fmla="*/ 811080 w 936360"/>
                <a:gd name="textAreaTop" fmla="*/ 687960 h 3168360"/>
                <a:gd name="textAreaBottom" fmla="*/ 210240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3085218"/>
                  <a:lnTo>
                    <a:pt x="7073" y="21083"/>
                  </a:lnTo>
                  <a:lnTo>
                    <a:pt x="0" y="18896"/>
                  </a:lnTo>
                  <a:lnTo>
                    <a:pt x="7073" y="15675"/>
                  </a:lnTo>
                  <a:lnTo>
                    <a:pt x="7073" y="18251"/>
                  </a:lnTo>
                  <a:arcTo wR="21600" hR="9384" stAng="3085218" swAng="-3064844"/>
                  <a:lnTo>
                    <a:pt x="21598" y="9512"/>
                  </a:lnTo>
                  <a:arcTo wR="21600" hR="9384" stAng="-20373" swAng="-5379627"/>
                  <a:close/>
                </a:path>
                <a:path fill="darkenLess" w="21600" h="21600">
                  <a:moveTo>
                    <a:pt x="0" y="0"/>
                  </a:moveTo>
                  <a:arcTo wR="21600" hR="9384" stAng="-5400000" swAng="5400000"/>
                  <a:lnTo>
                    <a:pt x="21600" y="9640"/>
                  </a:lnTo>
                  <a:arcTo wR="21600" hR="9384" stAng="0" swAng="-20373"/>
                  <a:lnTo>
                    <a:pt x="21598" y="9512"/>
                  </a:lnTo>
                  <a:arcTo wR="21600" hR="9384" stAng="-20373" swAng="-5379627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210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stitu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0200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cen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ndivi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2768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y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ogr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a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37440" y="2637000"/>
            <a:ext cx="1008000" cy="2808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2808000"/>
              <a:gd name="textAreaBottom" fmla="*/ 2759040 h 2808000"/>
            </a:gdLst>
            <a:ahLst/>
            <a:rect l="textAreaLeft" t="textAreaTop" r="textAreaRight" b="textAreaBottom"/>
            <a:pathLst>
              <a:path w="21600" h="60158">
                <a:moveTo>
                  <a:pt x="3600" y="0"/>
                </a:moveTo>
                <a:arcTo wR="3600" hR="3600" stAng="16200000" swAng="-5400000"/>
                <a:lnTo>
                  <a:pt x="0" y="56558"/>
                </a:lnTo>
                <a:arcTo wR="3600" hR="3600" stAng="10800000" swAng="-5400000"/>
                <a:lnTo>
                  <a:pt x="18000" y="6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valua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ción n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rescrip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tiva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Gest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Una pequeña aclaración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ta es una medición “prescriptiva”: “el número de atenciones ambulatorias del Hospital San José superó las 70.000 por año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La medición “no-prescriptiva”: “el Hospital San José cuenta con un método y procedimiento documentado para el mejoramiento permanente de su proceso de prestaciones ambulatoria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s necesario tener muy en cuenta en qué momento y con qué propósito se utilizan evaluaciones de uno y otro tipo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El Ciclo </a:t>
            </a:r>
            <a:br>
              <a:rPr sz="2800"/>
            </a:br>
            <a:r>
              <a:rPr b="1" lang="es-CL" sz="1800" spc="-1" strike="noStrike">
                <a:solidFill>
                  <a:srgbClr val="e3e3ff"/>
                </a:solidFill>
                <a:latin typeface="Arial"/>
              </a:rPr>
              <a:t>(DIPRES)</a:t>
            </a:r>
            <a:endParaRPr b="1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FEFD-3703-4268-82FA-6B1CE914DE5A}" type="slidenum">
              <a:rPr b="1" lang="es-ES_tradnl" sz="14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028"/>
          <p:cNvSpPr/>
          <p:nvPr/>
        </p:nvSpPr>
        <p:spPr>
          <a:xfrm>
            <a:off x="6934320" y="259092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1030"/>
          <p:cNvSpPr/>
          <p:nvPr/>
        </p:nvSpPr>
        <p:spPr>
          <a:xfrm>
            <a:off x="990720" y="2514600"/>
            <a:ext cx="1752480" cy="332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1031"/>
          <p:cNvSpPr/>
          <p:nvPr/>
        </p:nvSpPr>
        <p:spPr>
          <a:xfrm>
            <a:off x="6705720" y="2590920"/>
            <a:ext cx="2322360" cy="7027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INDICADORE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SEMPEÑ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033"/>
          <p:cNvSpPr/>
          <p:nvPr/>
        </p:nvSpPr>
        <p:spPr>
          <a:xfrm flipH="1">
            <a:off x="1905120" y="2924280"/>
            <a:ext cx="2880" cy="27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34"/>
          <p:cNvSpPr/>
          <p:nvPr/>
        </p:nvSpPr>
        <p:spPr>
          <a:xfrm>
            <a:off x="1905120" y="3200400"/>
            <a:ext cx="1082520" cy="12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035"/>
          <p:cNvSpPr/>
          <p:nvPr/>
        </p:nvSpPr>
        <p:spPr>
          <a:xfrm>
            <a:off x="7543800" y="327672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36"/>
          <p:cNvSpPr/>
          <p:nvPr/>
        </p:nvSpPr>
        <p:spPr>
          <a:xfrm flipH="1">
            <a:off x="6781680" y="388620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037"/>
          <p:cNvSpPr/>
          <p:nvPr/>
        </p:nvSpPr>
        <p:spPr>
          <a:xfrm>
            <a:off x="4648320" y="46483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39"/>
          <p:cNvSpPr/>
          <p:nvPr/>
        </p:nvSpPr>
        <p:spPr>
          <a:xfrm>
            <a:off x="755280" y="4724280"/>
            <a:ext cx="2174040" cy="8240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ESENTACIÓN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AL 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040"/>
          <p:cNvSpPr/>
          <p:nvPr/>
        </p:nvSpPr>
        <p:spPr>
          <a:xfrm>
            <a:off x="6858000" y="4800600"/>
            <a:ext cx="16765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041"/>
          <p:cNvSpPr/>
          <p:nvPr/>
        </p:nvSpPr>
        <p:spPr>
          <a:xfrm>
            <a:off x="7475400" y="4952880"/>
            <a:ext cx="599760" cy="3682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B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042"/>
          <p:cNvSpPr/>
          <p:nvPr/>
        </p:nvSpPr>
        <p:spPr>
          <a:xfrm flipH="1">
            <a:off x="5714640" y="518148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1043"/>
          <p:cNvSpPr/>
          <p:nvPr/>
        </p:nvSpPr>
        <p:spPr>
          <a:xfrm flipV="1">
            <a:off x="57150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044"/>
          <p:cNvSpPr/>
          <p:nvPr/>
        </p:nvSpPr>
        <p:spPr>
          <a:xfrm>
            <a:off x="2944800" y="5229360"/>
            <a:ext cx="93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045"/>
          <p:cNvSpPr/>
          <p:nvPr/>
        </p:nvSpPr>
        <p:spPr>
          <a:xfrm flipV="1">
            <a:off x="3886200" y="464796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46"/>
          <p:cNvSpPr/>
          <p:nvPr/>
        </p:nvSpPr>
        <p:spPr>
          <a:xfrm>
            <a:off x="609480" y="5791320"/>
            <a:ext cx="7696440" cy="108576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CANISMOS DE INCENTIVO REMUNERACIONAL INSTITU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PROGRAMA DE MEJORAMIENTO DE LA GEST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METAS DE EFICIENCIA INSTITU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buClr>
                <a:srgbClr val="003399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 </a:t>
            </a: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LEY MÉD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47"/>
          <p:cNvSpPr/>
          <p:nvPr/>
        </p:nvSpPr>
        <p:spPr>
          <a:xfrm>
            <a:off x="3429000" y="2057400"/>
            <a:ext cx="243828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DEFINICIONES ESTRATÉG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049"/>
          <p:cNvSpPr/>
          <p:nvPr/>
        </p:nvSpPr>
        <p:spPr>
          <a:xfrm>
            <a:off x="4800600" y="2590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050" descr=""/>
          <p:cNvPicPr/>
          <p:nvPr/>
        </p:nvPicPr>
        <p:blipFill>
          <a:blip r:embed="rId1"/>
          <a:stretch/>
        </p:blipFill>
        <p:spPr>
          <a:xfrm>
            <a:off x="2971800" y="2916360"/>
            <a:ext cx="3733920" cy="1733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2" name="Rectangle 1051"/>
          <p:cNvSpPr/>
          <p:nvPr/>
        </p:nvSpPr>
        <p:spPr>
          <a:xfrm>
            <a:off x="6324480" y="1295280"/>
            <a:ext cx="2590920" cy="5756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EVALUACIÓN DE 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1052"/>
          <p:cNvSpPr/>
          <p:nvPr/>
        </p:nvSpPr>
        <p:spPr>
          <a:xfrm flipH="1">
            <a:off x="6248160" y="1905120"/>
            <a:ext cx="990360" cy="9903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54"/>
          <p:cNvSpPr/>
          <p:nvPr/>
        </p:nvSpPr>
        <p:spPr>
          <a:xfrm>
            <a:off x="304920" y="3505320"/>
            <a:ext cx="1981080" cy="94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400" spc="-1" strike="noStrike">
                <a:solidFill>
                  <a:srgbClr val="003399"/>
                </a:solidFill>
                <a:latin typeface="Times New Roman"/>
                <a:ea typeface="ＭＳ Ｐゴシック"/>
              </a:rPr>
              <a:t>FONDO MODERNIZACIÓN DE LA GESTIÓN PÚBL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055"/>
          <p:cNvSpPr/>
          <p:nvPr/>
        </p:nvSpPr>
        <p:spPr>
          <a:xfrm>
            <a:off x="2268360" y="3933720"/>
            <a:ext cx="719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Definiciones Estratégicas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Proporciona información sobre directrices orientadoras del quehacer de una organización, producto de la Planificación Estratégica en relación a: Misión, Objetivos estratégicos,  Bienes y servicios estratégicos, usuarios/beneficiarios/clien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Indicadores de Desempeño Institucion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Miden cómo evoluciona el desempeño de los principales productos de una institución pública (eficacia, eficiencia, economía, calidad de servicio; en las fases de, proceso, producto y resultado. Se fundamenta en protocolos con el Congre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Programas Gubernamentale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PG) (1997): analizan consistencia de los objetivos, organización y gestión, y resultados a nivel de producto (cobertura, focalización, entre otro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de Impacto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(EI) (2001): Además de lo anterior, evalúa resultados intermedios y finales en los beneficiarios (grupos de control y técnicas econométrica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Evaluación Comprehensiva del Gasto (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CG) (2002): Evalúa una o más instituciones, abarcando aspectos de su diseño institucional, consistencia con las definiciones estratégicas, aspectos de gestión organizacional y resultad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1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e3e3ff"/>
                </a:solidFill>
                <a:latin typeface="Arial"/>
              </a:rPr>
              <a:t>Programas de Mejoramiento de la Gestión (PMGs)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Ley 19.553, 1998).</a:t>
            </a:r>
            <a:endParaRPr b="1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8920" y="1844280"/>
            <a:ext cx="8713800" cy="74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ede “asignación de modernización” a trabajadores de planta y contrata, por cumplimiento de los PMG. Estos establecen objetivos específicos anuales medidos con indicadores de gest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Básic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 5 áreas y 11 sistemas de gestión con 4 ó 6 etapas; evaluación la hace “red de experto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rograma Marco Avanzado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orpora exigencias de Norma ISO 9001:2000, para certificar sistemas PMG por organismos extern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3e3ff"/>
                </a:solidFill>
                <a:latin typeface="Arial"/>
              </a:rPr>
              <a:t>Instrumentos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2:33:59Z</dcterms:created>
  <dc:creator> </dc:creator>
  <dc:description/>
  <dc:language>en-US</dc:language>
  <cp:lastModifiedBy>Eduardo Acuña</cp:lastModifiedBy>
  <dcterms:modified xsi:type="dcterms:W3CDTF">2008-08-08T16:47:11Z</dcterms:modified>
  <cp:revision>7</cp:revision>
  <dc:subject/>
  <dc:title>El Control de Gestión en el Sector Públic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