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B022-064C-4C4D-ABD9-8AE35D81FAF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081E-8E6B-4E05-9BDE-1E2DA48EA4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90B3-7961-4CE6-A4E1-AFC507D94A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CC29-5F2D-4393-8102-726D69B6B26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E582-AFA2-4B19-B1F6-BE04EA753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DCDD-DE5C-42F8-BA07-0D3031F76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4611-4DDF-4E78-A105-86BCAA2D1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9680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268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25056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19680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268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B8450-0E54-4657-9F78-C51B03F16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5D59-299C-46EC-88E4-665D2643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240-7D4F-40B4-B0B1-C92A1371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446-DC67-4B01-A59F-47918D9E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7C10-BD96-49C3-AEAD-D5805BA6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34C-59B6-4D2F-9861-B961054B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6E2-4C53-4B14-89A9-A0AD05E8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4F0-A06B-4F53-8DD7-A65E9EA9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A41EA-78D2-4A58-889B-C88C6FC7B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C379-717A-4D03-8468-9B94A79E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1A3-A96A-4D99-A6BD-232CCD95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754-C887-4623-949F-F86A497D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8F1E-B078-416B-B094-F22D1B36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9680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4268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5056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9680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4268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9937-3F70-4305-978C-D9FC6C40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4CBBB-80EF-4449-9FB0-01342BC6A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17C6-7E57-4BB7-8998-8F3CE9C80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D0F2-9C53-465C-9733-8CDC40A85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73AA-EAB5-4D23-9B2F-A1E625023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8A92-6335-4E22-B913-DBEC98934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2C640-851F-4425-8F13-FEDB66CF3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D404-3108-47B4-ACB0-32BB4A6E3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sldNum" idx="1"/>
          </p:nvPr>
        </p:nvSpPr>
        <p:spPr>
          <a:xfrm>
            <a:off x="7009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1803-A794-41A9-916E-880AB847B744}" type="slidenum">
              <a:rPr b="0" lang="es-E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E156-99DF-4B60-BC5A-DE66D04E910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675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ubdelainnovacion.cl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e3e3ff"/>
                </a:solidFill>
                <a:latin typeface="Arial"/>
              </a:rPr>
              <a:t>El Control de Gestión en el Sector Público</a:t>
            </a:r>
            <a:endParaRPr b="1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ario Waissblu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partamento de Ingeniería Indust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www.clubdelainnovacion.c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Convenios Colectivos de Desempeñ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Corresponde a incentivos que se pagan a grupos o unidades de trabajo dentro de una institución, generalmente asociado al cumplimiento de metas de gestión del grupo de trabaj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ontrol Presupuestari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:  Trimestral/Semestralmente;  se lleva a cabo a través del “Informe de Ejecución  presupuestaria” que indica  nivel de ejecución (%) que se lleva hasta el momento. Además, incipientemente, “Informes de Avance del PROPIR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Convenios de Desempeño de la Alta Dirección: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Compromisos de metas entre los directivos nombrados a través del Sistema de Alta Dirección Pública del Servicio Civil con la autoridad pertinente (Ministro o Jefes de Servici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E39A-FF26-47A0-81BD-AB88C67ADF42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66ffff"/>
                </a:solidFill>
                <a:latin typeface="Arial"/>
              </a:rPr>
              <a:t>METAS Y DESAFÍOS DEL SISTEMA DE EVALUACIÓN Y CONTROL DE GESTIÓN</a:t>
            </a:r>
            <a:br>
              <a:rPr sz="2000"/>
            </a:br>
            <a:r>
              <a:rPr b="1" lang="es-CL" sz="1600" spc="-1" strike="noStrike">
                <a:solidFill>
                  <a:srgbClr val="66ffff"/>
                </a:solidFill>
                <a:latin typeface="Arial"/>
              </a:rPr>
              <a:t>(DIPRES)</a:t>
            </a:r>
            <a:endParaRPr b="1" lang="en-US" sz="1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988640"/>
            <a:ext cx="845820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tinuar aumentando el número de evaluacio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urante la administración de la Presidenta Michelle Bachelet se evaluará el 50% de los programas públicos comprendidos en la Ley de Presupuestos (155 programa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eforzar el análisis ex-ante de los programa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tregar asistencia técnica a los Servicios Públicos que presentan nuevos programas o ampliaciones de programas existentes para mejorar su diseño y en la elaboración de líneas base que permitan su futura evaluació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BAA6-8E03-4F13-87C0-DB0CA5043E03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s evaluaciones deben considerar la transversalidad de las Políticas Públic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tinuar avanzando hacia el desarrollo de evaluaciones integrales que permitan captar el efecto conjunto de varios programas sobre un determinado resultado de política (Ejemplo: programas de becas escolares de educación básica y media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mplementar el Fondo de Modernización de la Gestión Públic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u objetivo 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inanciar la elaboración de propuestas de solución de una debilidad o un problema en la gestión actual de instituciones públicas vinculada al desarrollo económico productivo a partir de un diagnóstico de dicho problema, en el marco legislativo vigen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0" algn="just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685800" y="476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66ffff"/>
                </a:solidFill>
                <a:latin typeface="Arial"/>
              </a:rPr>
              <a:t>METAS Y DESAFÍOS DEL SISTEMA DE EVALUACIÓN Y CONTROL DE GESTIÓN</a:t>
            </a:r>
            <a:br>
              <a:rPr sz="2000"/>
            </a:br>
            <a:r>
              <a:rPr b="1" lang="es-CL" sz="1600" spc="-1" strike="noStrike">
                <a:solidFill>
                  <a:srgbClr val="66ffff"/>
                </a:solidFill>
                <a:latin typeface="Arial"/>
              </a:rPr>
              <a:t>(DIP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66C9-229A-4C7C-B780-8E69DE0DD47D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ejorar la sinergia entre los distintos mecanismos de incentivo al desempeñ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tinuar avanzando en la relación al interior de las instituciones públicas de los distintos mecanismos de  incentivo al desempeño (PMG, convenios colectivos, convenios alta dirección pública, entre otra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poyar la implementación de nuevos mecanismos de incentivo al desempeño instituc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tas de Eficiencia Institucional (Ley 20.21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tas de Eficiencia Institucional y Colectivas Poder Judicial (Ley 20.224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venio de Desempeño Institucional (Ley 20.240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685800" y="476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66ffff"/>
                </a:solidFill>
                <a:latin typeface="Arial"/>
              </a:rPr>
              <a:t>METAS Y DESAFÍOS DEL SISTEMA DE EVALUACIÓN Y CONTROL DE GESTIÓN</a:t>
            </a:r>
            <a:br>
              <a:rPr sz="2000"/>
            </a:br>
            <a:r>
              <a:rPr b="1" lang="es-CL" sz="1600" spc="-1" strike="noStrike">
                <a:solidFill>
                  <a:srgbClr val="66ffff"/>
                </a:solidFill>
                <a:latin typeface="Arial"/>
              </a:rPr>
              <a:t>(DIP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‘</a:t>
            </a: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Back to the Rough Ground!’ Beyond</a:t>
            </a:r>
            <a:br>
              <a:rPr sz="2400"/>
            </a:b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Theory to Practice in Evaluation</a:t>
            </a:r>
            <a:r>
              <a:rPr b="0" lang="es-ES" sz="2400" spc="-1" strike="noStrike">
                <a:solidFill>
                  <a:srgbClr val="e3e3ff"/>
                </a:solidFill>
                <a:latin typeface="Arial"/>
              </a:rPr>
              <a:t>. </a:t>
            </a:r>
            <a:r>
              <a:rPr b="1" lang="es-ES" sz="1800" spc="-1" strike="noStrike">
                <a:solidFill>
                  <a:srgbClr val="e3e3ff"/>
                </a:solidFill>
                <a:latin typeface="Arial"/>
              </a:rPr>
              <a:t>T. A. Schwandt, 2003</a:t>
            </a:r>
            <a:br>
              <a:rPr sz="2000"/>
            </a:br>
            <a:endParaRPr b="1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0314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rformativity” se refiere a la “exteriorización del conocimiento”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conocimiento, y la relación entre los proveedores y usuarios del conocimiento, se “commoditiza”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gobierno, “performativity” es un principio de gobernanza y mecanismo de conducción a distancia, que reemplaza la intervención y la prescripción por la colocación de metas, la rendición de cuentas y la comparación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o se logra con tecnologías tales como calidad total, indicadores de desempeño, y auditorías de desempeño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“rendición de cuentas”, en el discurso contemporáneo, es una noción técnica y contractual. La “responsabilidad” es una noción moral. La “rendición de cuentas” induce a ver la evaluación como un “commodity” que se compra, vende y aplica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sponsabilidad”, en cambio, refuerza la idea de que el aprendizaje se desarrolla en un diálogo recíproco, que presume un conjunto de motivaciones y disposiciones a “hacer lo correcto”, y considera el aprendizaje como un proceso colectivo de transformarnos en personas de una cierta naturaleza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Las interrogantes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Tenemos en Chile prácticas y estilos de planificación de largo plazo y anuales, que después le den sentido y utilidad a un sistema de control de gestión y evaluación estratégic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Hasta qué punto los organismos transversales, como DIPRES o SEGPRES, no está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e fact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sustituyendo la responsabilidad de ministros sectoriales, intendentes y directores de servicio, los cuales “chutean hacia arriba” su mandato y responsabilidad esencial de planificar y  luego controlar la gestión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Hasta que punto hemos caído en el “performativity” de carácter ritual, sustituyendo con ello los diálogos significativos de carácter estratégico – y de servicio público - entre los distintos estamentos del poder ejecutiv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Se hace la distinción adecuada, en materia de control operacional y presupuestal detallado, entre servicios públicos de nivel avanzado de desarrollo, de aquellos de desarrollo incipient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Es la institucionalidad pública de planificación, control de gestión y evaluación la más adecuad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Las interrogantes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560" y="754200"/>
            <a:ext cx="8713800" cy="74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Estamos en presencia de una hiperproliferación de instrumentos e indicadores, que a la postre terminan diluyendo y obscureciendo la discusión de lo verdaderamente relevant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Estamos cayendo en un uso excesivo de indicadores “cuantitativos y verificables” – por cierto importantes – pero a costa de diluir la discusión de metas estratégicas de carácter más cualitativ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No estaremos a veces mezclando y confundiendo en un mismo saco los incentivos institucionales, con los incentivos individuales, con el ámbito del mejoramiento de la gestión, y con el ámbito de la medición no-prescriptiva del mejoramiento de gestión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Hasta qué punto el uso excesivo de la aprobación ex ante (tanto presupuestal como de inversiones como administrativa) no genera un “chuteo de responsabilidades hacia arriba o hacia el lado” en los Ministerios Sectoriales, Gobiernos Regionales y Directores de Servici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Se le está dando a la tasa de ejecución presupuestal un énfasis desmedido por sobre la eficacia, eficiencia y calidad de las intervenciones pública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El Ciclo (teórico) del Sector Público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42800" y="836280"/>
            <a:ext cx="7596360" cy="4824720"/>
            <a:chOff x="442800" y="836280"/>
            <a:chExt cx="7596360" cy="4824720"/>
          </a:xfrm>
        </p:grpSpPr>
        <p:sp>
          <p:nvSpPr>
            <p:cNvPr id="131" name=""/>
            <p:cNvSpPr/>
            <p:nvPr/>
          </p:nvSpPr>
          <p:spPr>
            <a:xfrm>
              <a:off x="1701720" y="5013360"/>
              <a:ext cx="5977080" cy="647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1720" y="1182600"/>
              <a:ext cx="5977080" cy="4334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01720" y="3860640"/>
              <a:ext cx="5977080" cy="9367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01720" y="1844640"/>
              <a:ext cx="5977080" cy="18003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90440" y="204480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90440" y="292248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35600" y="204480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21200" y="292248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05280" y="1916280"/>
              <a:ext cx="158436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90880" y="2838600"/>
              <a:ext cx="158436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 anu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4800" y="226044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75240" y="226044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11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74800" y="312588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46440" y="312588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991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55880" y="2620800"/>
              <a:ext cx="0" cy="216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20680" y="4046400"/>
              <a:ext cx="158436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Estratég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63880" y="3989520"/>
              <a:ext cx="1800360" cy="67500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Operacional y Presupuestari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79880" y="4075200"/>
              <a:ext cx="158436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Administrativ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74440" y="4292640"/>
              <a:ext cx="2876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604840" y="4292640"/>
              <a:ext cx="2876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82800" y="1268280"/>
              <a:ext cx="3887640" cy="30060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Formulación de Políticas Públic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22440" y="5084640"/>
              <a:ext cx="4608360" cy="50724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Evaluación ex post de impacto, eficacia, eficiencia, calidad y gest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78800" y="1341360"/>
              <a:ext cx="360360" cy="12956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73240 h 1295640"/>
                <a:gd name="textAreaBottom" fmla="*/ 8928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78800" y="3068640"/>
              <a:ext cx="360360" cy="129528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73240 h 1295280"/>
                <a:gd name="textAreaBottom" fmla="*/ 8924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8800" y="4508640"/>
              <a:ext cx="360360" cy="100800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12400 h 1008000"/>
                <a:gd name="textAreaBottom" fmla="*/ 694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0800000">
              <a:off x="442800" y="836280"/>
              <a:ext cx="1116000" cy="4608360"/>
            </a:xfrm>
            <a:custGeom>
              <a:avLst/>
              <a:gdLst>
                <a:gd name="textAreaLeft" fmla="*/ 149400 w 1116000"/>
                <a:gd name="textAreaRight" fmla="*/ 966600 w 1116000"/>
                <a:gd name="textAreaTop" fmla="*/ 1004400 h 4608360"/>
                <a:gd name="textAreaBottom" fmla="*/ 3067920 h 46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3092778"/>
                  <a:lnTo>
                    <a:pt x="7066" y="21082"/>
                  </a:lnTo>
                  <a:lnTo>
                    <a:pt x="0" y="18960"/>
                  </a:lnTo>
                  <a:lnTo>
                    <a:pt x="7066" y="15802"/>
                  </a:lnTo>
                  <a:lnTo>
                    <a:pt x="7066" y="18314"/>
                  </a:lnTo>
                  <a:arcTo wR="21600" hR="9416" stAng="3092778" swAng="-3072404"/>
                  <a:lnTo>
                    <a:pt x="21598" y="9544"/>
                  </a:lnTo>
                  <a:arcTo wR="21600" hR="9416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-20373"/>
                  <a:lnTo>
                    <a:pt x="21598" y="9544"/>
                  </a:lnTo>
                  <a:arcTo wR="21600" hR="9416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0800000">
              <a:off x="1342440" y="2997000"/>
              <a:ext cx="360360" cy="12236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58120 h 1223640"/>
                <a:gd name="textAreaBottom" fmla="*/ 84312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800000">
              <a:off x="1342440" y="1268280"/>
              <a:ext cx="360360" cy="122400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58120 h 1224000"/>
                <a:gd name="textAreaBottom" fmla="*/ 84348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0800000">
              <a:off x="622080" y="2276280"/>
              <a:ext cx="936720" cy="3168360"/>
            </a:xfrm>
            <a:custGeom>
              <a:avLst/>
              <a:gdLst>
                <a:gd name="textAreaLeft" fmla="*/ 125280 w 936720"/>
                <a:gd name="textAreaRight" fmla="*/ 811440 w 936720"/>
                <a:gd name="textAreaTop" fmla="*/ 687960 h 3168360"/>
                <a:gd name="textAreaBottom" fmla="*/ 2102400 h 31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3085218"/>
                  <a:lnTo>
                    <a:pt x="7073" y="21083"/>
                  </a:lnTo>
                  <a:lnTo>
                    <a:pt x="0" y="18896"/>
                  </a:lnTo>
                  <a:lnTo>
                    <a:pt x="7073" y="15675"/>
                  </a:lnTo>
                  <a:lnTo>
                    <a:pt x="7073" y="18251"/>
                  </a:lnTo>
                  <a:arcTo wR="21600" hR="9384" stAng="3085218" swAng="-3064844"/>
                  <a:lnTo>
                    <a:pt x="21598" y="9512"/>
                  </a:lnTo>
                  <a:arcTo wR="21600" hR="9384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-20373"/>
                  <a:lnTo>
                    <a:pt x="21598" y="9512"/>
                  </a:lnTo>
                  <a:arcTo wR="21600" hR="9384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El Ciclo (teórico) del Sector Público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68000" y="836280"/>
            <a:ext cx="7596000" cy="4824720"/>
            <a:chOff x="468000" y="836280"/>
            <a:chExt cx="7596000" cy="4824720"/>
          </a:xfrm>
        </p:grpSpPr>
        <p:sp>
          <p:nvSpPr>
            <p:cNvPr id="164" name=""/>
            <p:cNvSpPr/>
            <p:nvPr/>
          </p:nvSpPr>
          <p:spPr>
            <a:xfrm>
              <a:off x="1726920" y="5013360"/>
              <a:ext cx="5976720" cy="647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26920" y="1182600"/>
              <a:ext cx="5976720" cy="4334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26920" y="3860640"/>
              <a:ext cx="5976720" cy="9367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26920" y="1844640"/>
              <a:ext cx="5976720" cy="18003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15640" y="204480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15640" y="292248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60800" y="204480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46400" y="292248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30480" y="1916280"/>
              <a:ext cx="158400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16080" y="2838600"/>
              <a:ext cx="158400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 anu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00000" y="226044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00440" y="226044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363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00000" y="312588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71640" y="312588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243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81080" y="2620800"/>
              <a:ext cx="0" cy="216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45880" y="4046400"/>
              <a:ext cx="158400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Estratég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89080" y="3989520"/>
              <a:ext cx="1800000" cy="67500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Operacional y Presupuestari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05080" y="4075200"/>
              <a:ext cx="158400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Administrativ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600000" y="4292640"/>
              <a:ext cx="2872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630400" y="4292640"/>
              <a:ext cx="2872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08000" y="1268280"/>
              <a:ext cx="3887280" cy="30060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Formulación de Políticas Públic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47640" y="5084640"/>
              <a:ext cx="4608000" cy="50724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Evaluación ex post de impacto, eficacia, eficiencia, calidad y gest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04000" y="1341360"/>
              <a:ext cx="360000" cy="129564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73240 h 1295640"/>
                <a:gd name="textAreaBottom" fmla="*/ 8928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04000" y="3068640"/>
              <a:ext cx="360000" cy="129528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73240 h 1295280"/>
                <a:gd name="textAreaBottom" fmla="*/ 8924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04000" y="4508640"/>
              <a:ext cx="360000" cy="100800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12400 h 1008000"/>
                <a:gd name="textAreaBottom" fmla="*/ 694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000">
              <a:off x="468000" y="836280"/>
              <a:ext cx="1115640" cy="4608360"/>
            </a:xfrm>
            <a:custGeom>
              <a:avLst/>
              <a:gdLst>
                <a:gd name="textAreaLeft" fmla="*/ 149400 w 1115640"/>
                <a:gd name="textAreaRight" fmla="*/ 966240 w 1115640"/>
                <a:gd name="textAreaTop" fmla="*/ 1004400 h 4608360"/>
                <a:gd name="textAreaBottom" fmla="*/ 3067920 h 46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3092778"/>
                  <a:lnTo>
                    <a:pt x="7066" y="21082"/>
                  </a:lnTo>
                  <a:lnTo>
                    <a:pt x="0" y="18960"/>
                  </a:lnTo>
                  <a:lnTo>
                    <a:pt x="7066" y="15802"/>
                  </a:lnTo>
                  <a:lnTo>
                    <a:pt x="7066" y="18314"/>
                  </a:lnTo>
                  <a:arcTo wR="21600" hR="9416" stAng="3092778" swAng="-3072404"/>
                  <a:lnTo>
                    <a:pt x="21598" y="9544"/>
                  </a:lnTo>
                  <a:arcTo wR="21600" hR="9416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-20373"/>
                  <a:lnTo>
                    <a:pt x="21598" y="9544"/>
                  </a:lnTo>
                  <a:arcTo wR="21600" hR="9416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0800000">
              <a:off x="1368000" y="2997000"/>
              <a:ext cx="360000" cy="122364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58120 h 1223640"/>
                <a:gd name="textAreaBottom" fmla="*/ 84312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0800000">
              <a:off x="1368000" y="1268280"/>
              <a:ext cx="360000" cy="122400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58120 h 1224000"/>
                <a:gd name="textAreaBottom" fmla="*/ 84348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0800000">
              <a:off x="646920" y="2276280"/>
              <a:ext cx="936360" cy="3168360"/>
            </a:xfrm>
            <a:custGeom>
              <a:avLst/>
              <a:gdLst>
                <a:gd name="textAreaLeft" fmla="*/ 125280 w 936360"/>
                <a:gd name="textAreaRight" fmla="*/ 811080 w 936360"/>
                <a:gd name="textAreaTop" fmla="*/ 687960 h 3168360"/>
                <a:gd name="textAreaBottom" fmla="*/ 2102400 h 31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3085218"/>
                  <a:lnTo>
                    <a:pt x="7073" y="21083"/>
                  </a:lnTo>
                  <a:lnTo>
                    <a:pt x="0" y="18896"/>
                  </a:lnTo>
                  <a:lnTo>
                    <a:pt x="7073" y="15675"/>
                  </a:lnTo>
                  <a:lnTo>
                    <a:pt x="7073" y="18251"/>
                  </a:lnTo>
                  <a:arcTo wR="21600" hR="9384" stAng="3085218" swAng="-3064844"/>
                  <a:lnTo>
                    <a:pt x="21598" y="9512"/>
                  </a:lnTo>
                  <a:arcTo wR="21600" hR="9384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-20373"/>
                  <a:lnTo>
                    <a:pt x="21598" y="9512"/>
                  </a:lnTo>
                  <a:arcTo wR="21600" hR="9384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02104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cen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stitu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0200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cen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divi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u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2768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Pla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y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Progra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as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3744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valua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ción n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Prescrip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tiva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Una pequeña aclaración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sta es una medición “prescriptiva”: “el número de atenciones ambulatorias del Hospital San José superó las 70.000 por año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La medición “no-prescriptiva”: “el Hospital San José cuenta con un método y procedimiento documentado para el mejoramiento permanente de su proceso de prestaciones ambulatoria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s necesario tener muy en cuenta en qué momento y con qué propósito se utilizan evaluaciones de uno y otro tip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El Ciclo </a:t>
            </a:r>
            <a:br>
              <a:rPr sz="2800"/>
            </a:br>
            <a:r>
              <a:rPr b="1" lang="es-CL" sz="1800" spc="-1" strike="noStrike">
                <a:solidFill>
                  <a:srgbClr val="e3e3ff"/>
                </a:solidFill>
                <a:latin typeface="Arial"/>
              </a:rPr>
              <a:t>(DIPRES)</a:t>
            </a:r>
            <a:endParaRPr b="1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5DBB-12FD-4712-892B-2EE625B1306D}" type="slidenum">
              <a:rPr b="1" lang="es-ES_tradnl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028"/>
          <p:cNvSpPr/>
          <p:nvPr/>
        </p:nvSpPr>
        <p:spPr>
          <a:xfrm>
            <a:off x="6934320" y="2590920"/>
            <a:ext cx="19047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030"/>
          <p:cNvSpPr/>
          <p:nvPr/>
        </p:nvSpPr>
        <p:spPr>
          <a:xfrm>
            <a:off x="990720" y="2514600"/>
            <a:ext cx="1752480" cy="332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031"/>
          <p:cNvSpPr/>
          <p:nvPr/>
        </p:nvSpPr>
        <p:spPr>
          <a:xfrm>
            <a:off x="6705720" y="2590920"/>
            <a:ext cx="2322360" cy="7027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INDICADORES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DESEMPE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033"/>
          <p:cNvSpPr/>
          <p:nvPr/>
        </p:nvSpPr>
        <p:spPr>
          <a:xfrm flipH="1">
            <a:off x="1905120" y="2924280"/>
            <a:ext cx="2880" cy="27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34"/>
          <p:cNvSpPr/>
          <p:nvPr/>
        </p:nvSpPr>
        <p:spPr>
          <a:xfrm>
            <a:off x="1905120" y="3200400"/>
            <a:ext cx="1082520" cy="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035"/>
          <p:cNvSpPr/>
          <p:nvPr/>
        </p:nvSpPr>
        <p:spPr>
          <a:xfrm>
            <a:off x="7543800" y="32767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036"/>
          <p:cNvSpPr/>
          <p:nvPr/>
        </p:nvSpPr>
        <p:spPr>
          <a:xfrm flipH="1">
            <a:off x="6781680" y="3886200"/>
            <a:ext cx="774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037"/>
          <p:cNvSpPr/>
          <p:nvPr/>
        </p:nvSpPr>
        <p:spPr>
          <a:xfrm>
            <a:off x="4648320" y="464832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39"/>
          <p:cNvSpPr/>
          <p:nvPr/>
        </p:nvSpPr>
        <p:spPr>
          <a:xfrm>
            <a:off x="755280" y="4724280"/>
            <a:ext cx="2174040" cy="8240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PRESENTACIÓN 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PROGRAMA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AL PRESUPU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040"/>
          <p:cNvSpPr/>
          <p:nvPr/>
        </p:nvSpPr>
        <p:spPr>
          <a:xfrm>
            <a:off x="6858000" y="4800600"/>
            <a:ext cx="167652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041"/>
          <p:cNvSpPr/>
          <p:nvPr/>
        </p:nvSpPr>
        <p:spPr>
          <a:xfrm>
            <a:off x="7475400" y="4952880"/>
            <a:ext cx="59976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B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042"/>
          <p:cNvSpPr/>
          <p:nvPr/>
        </p:nvSpPr>
        <p:spPr>
          <a:xfrm flipH="1">
            <a:off x="5714640" y="518148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043"/>
          <p:cNvSpPr/>
          <p:nvPr/>
        </p:nvSpPr>
        <p:spPr>
          <a:xfrm flipV="1">
            <a:off x="5715000" y="464796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044"/>
          <p:cNvSpPr/>
          <p:nvPr/>
        </p:nvSpPr>
        <p:spPr>
          <a:xfrm>
            <a:off x="2944800" y="5229360"/>
            <a:ext cx="93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045"/>
          <p:cNvSpPr/>
          <p:nvPr/>
        </p:nvSpPr>
        <p:spPr>
          <a:xfrm flipV="1">
            <a:off x="3886200" y="464796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046"/>
          <p:cNvSpPr/>
          <p:nvPr/>
        </p:nvSpPr>
        <p:spPr>
          <a:xfrm>
            <a:off x="609480" y="5791320"/>
            <a:ext cx="7696440" cy="10857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MECANISMOS DE INCENTIVO REMUNERACIONAL INSTITU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buClr>
                <a:srgbClr val="0033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 </a:t>
            </a: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PROGRAMA DE MEJORAMIENTO DE LA GEST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buClr>
                <a:srgbClr val="0033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 </a:t>
            </a: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METAS DE EFICIENCIA INSTITU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buClr>
                <a:srgbClr val="0033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 </a:t>
            </a: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LEY MÉD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047"/>
          <p:cNvSpPr/>
          <p:nvPr/>
        </p:nvSpPr>
        <p:spPr>
          <a:xfrm>
            <a:off x="3429000" y="2057400"/>
            <a:ext cx="2438280" cy="5756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DEFINICIONES ESTRATÉGI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049"/>
          <p:cNvSpPr/>
          <p:nvPr/>
        </p:nvSpPr>
        <p:spPr>
          <a:xfrm>
            <a:off x="4800600" y="2590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050" descr=""/>
          <p:cNvPicPr/>
          <p:nvPr/>
        </p:nvPicPr>
        <p:blipFill>
          <a:blip r:embed="rId1"/>
          <a:stretch/>
        </p:blipFill>
        <p:spPr>
          <a:xfrm>
            <a:off x="2971800" y="2916360"/>
            <a:ext cx="3733920" cy="173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2" name="Rectangle 1051"/>
          <p:cNvSpPr/>
          <p:nvPr/>
        </p:nvSpPr>
        <p:spPr>
          <a:xfrm>
            <a:off x="6324480" y="1295280"/>
            <a:ext cx="2590920" cy="57564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EVALUACIÓN DE INVERS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052"/>
          <p:cNvSpPr/>
          <p:nvPr/>
        </p:nvSpPr>
        <p:spPr>
          <a:xfrm flipH="1">
            <a:off x="6248160" y="1905120"/>
            <a:ext cx="990360" cy="9903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054"/>
          <p:cNvSpPr/>
          <p:nvPr/>
        </p:nvSpPr>
        <p:spPr>
          <a:xfrm>
            <a:off x="304920" y="3505320"/>
            <a:ext cx="1981080" cy="94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FONDO MODERNIZACIÓN DE LA GESTIÓN PÚBL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055"/>
          <p:cNvSpPr/>
          <p:nvPr/>
        </p:nvSpPr>
        <p:spPr>
          <a:xfrm>
            <a:off x="2268360" y="3933720"/>
            <a:ext cx="719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Definiciones Estratégicas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 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Proporciona información sobre directrices orientadoras del quehacer de una organización, producto de la Planificación Estratégica en relación a: Misión, Objetivos estratégicos,  Bienes y servicios estratégicos, usuarios/beneficiarios/clien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Indicadores de Desempeño Institucion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Miden cómo evoluciona el desempeño de los principales productos de una institución pública (eficacia, eficiencia, economía, calidad de servicio; en las fases de, proceso, producto y resultado. Se fundamenta en protocolos con el Congre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valuación Programas Gubernamentale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(EPG) (1997): analizan consistencia de los objetivos, organización y gestión, y resultados a nivel de producto (cobertura, focalización, entre otro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valuación de Impacto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(EI) (2001): Además de lo anterior, evalúa resultados intermedios y finales en los beneficiarios (grupos de control y técnicas econométrica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valuación Comprehensiva del Gasto (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CG) (2002): Evalúa una o más instituciones, abarcando aspectos de su diseño institucional, consistencia con las definiciones estratégicas, aspectos de gestión organizacional y resultad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Programas de Mejoramiento de la Gestión (PMGs)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Ley 19.553, 1998).</a:t>
            </a:r>
            <a:endParaRPr b="1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cede “asignación de modernización” a trabajadores de planta y contrata, por cumplimiento de los PMG. Estos establecen objetivos específicos anuales medidos con indicadores de gestió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Programa Marco Básic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 5 áreas y 11 sistemas de gestión con 4 ó 6 etapas; evaluación la hace “red de experto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Programa Marco Avanzad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Incorpora exigencias de Norma ISO 9001:2000, para certificar sistemas PMG por organismos extern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12:33:59Z</dcterms:created>
  <dc:creator> </dc:creator>
  <dc:description/>
  <dc:language>en-US</dc:language>
  <cp:lastModifiedBy>Eduardo Acuña</cp:lastModifiedBy>
  <dcterms:modified xsi:type="dcterms:W3CDTF">2008-08-08T16:47:11Z</dcterms:modified>
  <cp:revision>7</cp:revision>
  <dc:subject/>
  <dc:title>El Control de Gestión en el Sector Públic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