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F6B7-7C74-45D7-8D82-354EB18DF1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3788-09BD-4139-BD46-4D9FBC4C28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2702-E8CA-490E-AB31-CB6F7B08EA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053A-09E3-4FF8-9C81-28B758C778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455D-C12E-4512-A88A-446266DFD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2B8B-18A2-40F1-9234-EB5680132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2F78-70B7-4E3B-8844-D018AD3B3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47FA-4B20-490D-9F99-944FA1F37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C8C-2F28-40A9-9CCE-FB0B4857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E0A-2A4B-4D47-ACB5-5F06944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718-0306-49E6-893F-DD0B983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267-6B00-466A-B5FB-B300BB3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5AB-532E-42A1-9B99-2A471441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2EF-76E1-49C9-9AF8-3463597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7F6-C58B-4F3B-A319-5E7B76D3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3E38-A0E0-411E-97E2-4799F0A84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A18-36F1-47AD-A49C-906D9637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93A-736A-42A5-B004-BD42B435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A48-5CFB-4B48-8354-6670CA3A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C7B-0755-4928-B0AF-18CDF5C5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76F-79CD-4590-B504-352144A6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9139-F9E9-4107-8E5D-D789DB246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8E85-F663-43E7-956C-BBBC2E60C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BCAF-2644-4022-AE1D-D03D18B4D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1B29-5BB5-4A15-A913-0013B1594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96D5-F63A-4575-A072-11C47D6AD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A5D5-5C2B-4CDC-B2CD-C712DE40C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AE03-48D2-45F8-A515-BBF6D6E7D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0D6-FF8B-4467-A478-F77E3240C781}" type="slidenum">
              <a:rPr b="0" lang="es-E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D340-963D-4855-81A8-918F236CCBC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ubdelainnovacion.cl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3e3ff"/>
                </a:solidFill>
                <a:latin typeface="Arial"/>
              </a:rPr>
              <a:t>El Control de Gestión en el Sector Público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rio Waissblu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clubdelainnovacion.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venios Colectivos de Desempeñ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Corresponde a incentivos que se pagan a grupos o unidades de trabajo dentro de una institución, generalmente asociado al cumplimiento de metas de gestión del grup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 Trimestral/Semestralmente;  se lleva a cabo a través del “Informe de Ejecución  presupuestaria” que indica  nivel de ejecución (%) que se lleva hasta el momento. Además, incipientemente, “Informes de Avance del PROPI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onvenios de Desempeño de la Alta Dirección: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mpromisos de metas entre los directivos nombrados a través del Sistema de Alta Dirección Pública del Servicio Civil con la autoridad pertinente (Ministro o Jefes de Servic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9D0-98DE-43D6-B9F4-DE36751C4409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1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988640"/>
            <a:ext cx="84582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tinuar aumentando el número de evaluaci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urante la administración de la Presidenta Michelle Bachelet se evaluará el 50% de los programas públicos comprendidos en la Ley de Presupuestos (155 program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forzar el análisis ex-ante de los program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tregar asistencia técnica a los Servicios Públicos que presentan nuevos programas o ampliaciones de programas existentes para mejorar su diseño y en la elaboración de líneas base que permitan su futura evalu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6A9-E6DF-402C-9DAD-1EA3D4155B34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evaluaciones deben considerar la transversalidad de las Política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hacia el desarrollo de evaluaciones integrales que permitan captar el efecto conjunto de varios programas sobre un determinado resultado de política (Ejemplo: programas de becas escolares de educación básica y medi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lementar el Fondo de Modernización de la Gestión Públ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objetivo 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nanciar la elaboración de propuestas de solución de una debilidad o un problema en la gestión actual de instituciones públicas vinculada al desarrollo económico productivo a partir de un diagnóstico de dicho problema, en el marco legislativo vig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 algn="just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BAF7-50CD-4E06-92F3-F1656149E5D3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sinergia entre los distintos mecanismos de incentivo al desempeñ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en la relación al interior de las instituciones públicas de los distintos mecanismos de  incentivo al desempeño (PMG, convenios colectivos, convenios alta dirección pública, entre otr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poyar la implementación de nuevos mecanismos de incentivo al desempeño instituc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(Ley 20.21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y Colectivas Poder Judicial (Ley 20.224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venio de Desempeño Institucional (Ley 20.240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‘</a:t>
            </a: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Back to the Rough Ground!’ Beyond</a:t>
            </a: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Theory to Practice in Evaluation</a:t>
            </a:r>
            <a:r>
              <a:rPr b="0" lang="es-ES" sz="2400" spc="-1" strike="noStrike">
                <a:solidFill>
                  <a:srgbClr val="e3e3ff"/>
                </a:solidFill>
                <a:latin typeface="Arial"/>
              </a:rPr>
              <a:t>. </a:t>
            </a:r>
            <a:r>
              <a:rPr b="1" lang="es-ES" sz="1800" spc="-1" strike="noStrike">
                <a:solidFill>
                  <a:srgbClr val="e3e3ff"/>
                </a:solidFill>
                <a:latin typeface="Arial"/>
              </a:rPr>
              <a:t>T. A. Schwandt, 2003</a:t>
            </a:r>
            <a:br>
              <a:rPr sz="2000"/>
            </a:b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314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tivity” se refiere a la “exteriorización del conocimiento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nocimiento, y la relación entre los proveedores y usuarios del conocimiento, se “commoditiza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gobierno, “performativity” es un principio de gobernanza y mecanismo de conducción a distancia, que reemplaza la intervención y la prescripción por la colocación de metas, la rendición de cuentas y la comparació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 se logra con tecnologías tales como calidad total, indicadores de desempeño, y auditorías de desempeñ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“rendición de cuentas”, en el discurso contemporáneo, es una noción técnica y contractual. La “responsabilidad” es una noción moral. La “rendición de cuentas” induce a ver la evaluación como un “commodity” que se compra, vende y aplica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”, en cambio, refuerza la idea de que el aprendizaje se desarrolla en un diálogo recíproco, que presume un conjunto de motivaciones y disposiciones a “hacer lo correcto”, y considera el aprendizaje como un proceso colectivo de transformarnos en personas de una cierta naturalez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Tenemos en Chile prácticas y estilos de planificación de largo plazo y anuales, que después le den sentido y utilidad a un sistema de control de gestión y evaluación estratégic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los organismos transversales, como DIPRES o SEGPRES, no está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 fac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ustituyendo la responsabilidad de ministros sectoriales, intendentes y directores de servicio, los cuales “chutean hacia arriba” su mandato y responsabilidad esencial de planificar y  luego controlar la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e punto hemos caído en el “performativity” de carácter ritual, sustituyendo con ello los diálogos significativos de carácter estratégico – y de servicio público - entre los distintos estamentos del poder ejecu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hace la distinción adecuada, en materia de control operacional y presupuestal detallado, entre servicios públicos de nivel avanzado de desarrollo, de aquellos de desarrollo incipie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 la institucionalidad pública de planificación, control de gestión y evaluación la más adecuad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754200"/>
            <a:ext cx="871380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en presencia de una hiperproliferación de instrumentos e indicadores, que a la postre terminan diluyendo y obscureciendo la discusión de lo verdaderamente releva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cayendo en un uso excesivo de indicadores “cuantitativos y verificables” – por cierto importantes – pero a costa de diluir la discusión de metas estratégicas de carácter más cualita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No estaremos a veces mezclando y confundiendo en un mismo saco los incentivos institucionales, con los incentivos individuales, con el ámbito del mejoramiento de la gestión, y con el ámbito de la medición no-prescriptiva del mejoramiento de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el uso excesivo de la aprobación ex ante (tanto presupuestal como de inversiones como administrativa) no genera un “chuteo de responsabilidades hacia arriba o hacia el lado” en los Ministerios Sectoriales, Gobiernos Regionales y Directores de Servici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le está dando a la tasa de ejecución presupuestal un énfasis desmedido por sobre la eficacia, eficiencia y calidad de las intervenciones pública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2800" y="836280"/>
            <a:ext cx="7596360" cy="4824720"/>
            <a:chOff x="442800" y="836280"/>
            <a:chExt cx="7596360" cy="4824720"/>
          </a:xfrm>
        </p:grpSpPr>
        <p:sp>
          <p:nvSpPr>
            <p:cNvPr id="131" name=""/>
            <p:cNvSpPr/>
            <p:nvPr/>
          </p:nvSpPr>
          <p:spPr>
            <a:xfrm>
              <a:off x="1701720" y="5013360"/>
              <a:ext cx="597708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1720" y="1182600"/>
              <a:ext cx="597708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1720" y="3860640"/>
              <a:ext cx="597708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01720" y="1844640"/>
              <a:ext cx="597708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044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44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560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2120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191628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0880" y="283860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480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24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1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480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644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99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58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0464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3989520"/>
              <a:ext cx="180036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9880" y="40752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44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048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2800" y="1268280"/>
              <a:ext cx="388764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22440" y="5084640"/>
              <a:ext cx="460836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78800" y="1341360"/>
              <a:ext cx="360360" cy="1295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78800" y="3068640"/>
              <a:ext cx="360360" cy="12952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8800" y="4508640"/>
              <a:ext cx="360360" cy="1008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442800" y="836280"/>
              <a:ext cx="1116000" cy="4608360"/>
            </a:xfrm>
            <a:custGeom>
              <a:avLst/>
              <a:gdLst>
                <a:gd name="textAreaLeft" fmla="*/ 149400 w 1116000"/>
                <a:gd name="textAreaRight" fmla="*/ 966600 w 111600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1342440" y="2997000"/>
              <a:ext cx="360360" cy="1223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1342440" y="1268280"/>
              <a:ext cx="360360" cy="1224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622080" y="2276280"/>
              <a:ext cx="936720" cy="3168360"/>
            </a:xfrm>
            <a:custGeom>
              <a:avLst/>
              <a:gdLst>
                <a:gd name="textAreaLeft" fmla="*/ 125280 w 936720"/>
                <a:gd name="textAreaRight" fmla="*/ 811440 w 93672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000" y="836280"/>
            <a:ext cx="7596000" cy="4824720"/>
            <a:chOff x="468000" y="836280"/>
            <a:chExt cx="7596000" cy="4824720"/>
          </a:xfrm>
        </p:grpSpPr>
        <p:sp>
          <p:nvSpPr>
            <p:cNvPr id="164" name=""/>
            <p:cNvSpPr/>
            <p:nvPr/>
          </p:nvSpPr>
          <p:spPr>
            <a:xfrm>
              <a:off x="1726920" y="5013360"/>
              <a:ext cx="59767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6920" y="1182600"/>
              <a:ext cx="597672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6920" y="3860640"/>
              <a:ext cx="597672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1844640"/>
              <a:ext cx="597672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564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564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080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640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480" y="191628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6080" y="283860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000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044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6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000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164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4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10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5880" y="40464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9080" y="3989520"/>
              <a:ext cx="180000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080" y="40752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6000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04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08000" y="1268280"/>
              <a:ext cx="388728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7640" y="5084640"/>
              <a:ext cx="460800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1341360"/>
              <a:ext cx="360000" cy="1295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4000" y="3068640"/>
              <a:ext cx="360000" cy="129528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04000" y="4508640"/>
              <a:ext cx="360000" cy="1008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468000" y="836280"/>
              <a:ext cx="1115640" cy="4608360"/>
            </a:xfrm>
            <a:custGeom>
              <a:avLst/>
              <a:gdLst>
                <a:gd name="textAreaLeft" fmla="*/ 149400 w 1115640"/>
                <a:gd name="textAreaRight" fmla="*/ 966240 w 111564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1368000" y="2997000"/>
              <a:ext cx="360000" cy="1223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368000" y="1268280"/>
              <a:ext cx="360000" cy="1224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646920" y="2276280"/>
              <a:ext cx="936360" cy="3168360"/>
            </a:xfrm>
            <a:custGeom>
              <a:avLst/>
              <a:gdLst>
                <a:gd name="textAreaLeft" fmla="*/ 125280 w 936360"/>
                <a:gd name="textAreaRight" fmla="*/ 811080 w 93636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210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stitu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divi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ogr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a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374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valu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ón 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escrip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Una pequeña aclaración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a es una medición “prescriptiva”: “el número de atenciones ambulatorias del Hospital San José superó las 70.000 por añ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medición “no-prescriptiva”: “el Hospital San José cuenta con un método y procedimiento documentado para el mejoramiento permanente de su proceso de prestaciones ambulatori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 necesario tener muy en cuenta en qué momento y con qué propósito se utilizan evaluaciones de uno y otro tip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</a:t>
            </a:r>
            <a:br>
              <a:rPr sz="2800"/>
            </a:br>
            <a:r>
              <a:rPr b="1" lang="es-CL" sz="1800" spc="-1" strike="noStrike">
                <a:solidFill>
                  <a:srgbClr val="e3e3ff"/>
                </a:solidFill>
                <a:latin typeface="Arial"/>
              </a:rPr>
              <a:t>(DIPRES)</a:t>
            </a: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059-DEC4-4F98-90C7-16101F3C8D29}" type="slidenum">
              <a:rPr b="1" lang="es-ES_tradnl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28"/>
          <p:cNvSpPr/>
          <p:nvPr/>
        </p:nvSpPr>
        <p:spPr>
          <a:xfrm>
            <a:off x="6934320" y="259092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30"/>
          <p:cNvSpPr/>
          <p:nvPr/>
        </p:nvSpPr>
        <p:spPr>
          <a:xfrm>
            <a:off x="990720" y="2514600"/>
            <a:ext cx="1752480" cy="33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31"/>
          <p:cNvSpPr/>
          <p:nvPr/>
        </p:nvSpPr>
        <p:spPr>
          <a:xfrm>
            <a:off x="6705720" y="2590920"/>
            <a:ext cx="2322360" cy="702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INDICADORE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33"/>
          <p:cNvSpPr/>
          <p:nvPr/>
        </p:nvSpPr>
        <p:spPr>
          <a:xfrm flipH="1">
            <a:off x="1905120" y="2924280"/>
            <a:ext cx="2880" cy="27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34"/>
          <p:cNvSpPr/>
          <p:nvPr/>
        </p:nvSpPr>
        <p:spPr>
          <a:xfrm>
            <a:off x="1905120" y="3200400"/>
            <a:ext cx="108252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5"/>
          <p:cNvSpPr/>
          <p:nvPr/>
        </p:nvSpPr>
        <p:spPr>
          <a:xfrm>
            <a:off x="7543800" y="3276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36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37"/>
          <p:cNvSpPr/>
          <p:nvPr/>
        </p:nvSpPr>
        <p:spPr>
          <a:xfrm>
            <a:off x="4648320" y="46483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39"/>
          <p:cNvSpPr/>
          <p:nvPr/>
        </p:nvSpPr>
        <p:spPr>
          <a:xfrm>
            <a:off x="755280" y="4724280"/>
            <a:ext cx="2174040" cy="824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ESENTACIÓN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AL 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40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41"/>
          <p:cNvSpPr/>
          <p:nvPr/>
        </p:nvSpPr>
        <p:spPr>
          <a:xfrm>
            <a:off x="7475400" y="4952880"/>
            <a:ext cx="5997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42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043"/>
          <p:cNvSpPr/>
          <p:nvPr/>
        </p:nvSpPr>
        <p:spPr>
          <a:xfrm flipV="1">
            <a:off x="57150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44"/>
          <p:cNvSpPr/>
          <p:nvPr/>
        </p:nvSpPr>
        <p:spPr>
          <a:xfrm>
            <a:off x="2944800" y="5229360"/>
            <a:ext cx="9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45"/>
          <p:cNvSpPr/>
          <p:nvPr/>
        </p:nvSpPr>
        <p:spPr>
          <a:xfrm flipV="1">
            <a:off x="38862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46"/>
          <p:cNvSpPr/>
          <p:nvPr/>
        </p:nvSpPr>
        <p:spPr>
          <a:xfrm>
            <a:off x="609480" y="5791320"/>
            <a:ext cx="7696440" cy="1085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CANISMOS DE INCENTIVO REMUNERACIONAL INSTITU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 DE MEJORAMIENTO DE LA 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TAS DE EFICIENCIA INSTITU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LEY MÉD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47"/>
          <p:cNvSpPr/>
          <p:nvPr/>
        </p:nvSpPr>
        <p:spPr>
          <a:xfrm>
            <a:off x="3429000" y="2057400"/>
            <a:ext cx="243828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FINICIONES ESTRATÉG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49"/>
          <p:cNvSpPr/>
          <p:nvPr/>
        </p:nvSpPr>
        <p:spPr>
          <a:xfrm>
            <a:off x="4800600" y="2590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050" descr=""/>
          <p:cNvPicPr/>
          <p:nvPr/>
        </p:nvPicPr>
        <p:blipFill>
          <a:blip r:embed="rId1"/>
          <a:stretch/>
        </p:blipFill>
        <p:spPr>
          <a:xfrm>
            <a:off x="2971800" y="2916360"/>
            <a:ext cx="3733920" cy="173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Rectangle 1051"/>
          <p:cNvSpPr/>
          <p:nvPr/>
        </p:nvSpPr>
        <p:spPr>
          <a:xfrm>
            <a:off x="6324480" y="1295280"/>
            <a:ext cx="259092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 DE 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52"/>
          <p:cNvSpPr/>
          <p:nvPr/>
        </p:nvSpPr>
        <p:spPr>
          <a:xfrm flipH="1">
            <a:off x="6248160" y="1905120"/>
            <a:ext cx="990360" cy="9903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54"/>
          <p:cNvSpPr/>
          <p:nvPr/>
        </p:nvSpPr>
        <p:spPr>
          <a:xfrm>
            <a:off x="304920" y="3505320"/>
            <a:ext cx="1981080" cy="94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FONDO MODERNIZACIÓN DE LA GESTIÓN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055"/>
          <p:cNvSpPr/>
          <p:nvPr/>
        </p:nvSpPr>
        <p:spPr>
          <a:xfrm>
            <a:off x="2268360" y="3933720"/>
            <a:ext cx="71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efiniciones Estratégicas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roporciona información sobre directrices orientadoras del quehacer de una organización, producto de la Planificación Estratégica en relación a: Misión, Objetivos estratégicos,  Bienes y servicios estratégicos, usuarios/beneficiarios/clien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Indicadores de Desempeño Institu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Miden cómo evoluciona el desempeño de los principales productos de una institución pública (eficacia, eficiencia, economía, calidad de servicio; en las fases de, proceso, producto y resultado. Se fundamenta en protocolos con el Congr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Programas Gubernamental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PG) (1997): analizan consistencia de los objetivos, organización y gestión, y resultados a nivel de producto (cobertura, focalización, entre otro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de Impact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I) (2001): Además de lo anterior, evalúa resultados intermedios y finales en los beneficiarios (grupos de control y técnicas econométric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Comprehensiva del Gasto (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CG) (2002): Evalúa una o más instituciones, abarcando aspectos de su diseño institucional, consistencia con las definiciones estratégicas, aspectos de gestión organizacional y result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Programas de Mejoramiento de la Gestión (PMGs)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Ley 19.553, 1998).</a:t>
            </a:r>
            <a:endParaRPr b="1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ede “asignación de modernización” a trabajadores de planta y contrata, por cumplimiento de los PMG. Estos establecen objetivos específicos anuales medidos con indicadores de gest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Básic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 5 áreas y 11 sistemas de gestión con 4 ó 6 etapas; evaluación la hace “red de experto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Avanzad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orpora exigencias de Norma ISO 9001:2000, para certificar sistemas PMG por organismos extern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2:33:59Z</dcterms:created>
  <dc:creator> </dc:creator>
  <dc:description/>
  <dc:language>en-US</dc:language>
  <cp:lastModifiedBy>Eduardo Acuña</cp:lastModifiedBy>
  <dcterms:modified xsi:type="dcterms:W3CDTF">2008-08-08T16:47:11Z</dcterms:modified>
  <cp:revision>7</cp:revision>
  <dc:subject/>
  <dc:title>El Control de Gestión en el Sector Públ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