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6624720" cy="9810720"/>
          </a:xfrm>
          <a:custGeom>
            <a:avLst/>
            <a:gdLst>
              <a:gd name="textAreaLeft" fmla="*/ 360 w 6624720"/>
              <a:gd name="textAreaRight" fmla="*/ 6624360 w 6624720"/>
              <a:gd name="textAreaTop" fmla="*/ 360 h 9810720"/>
              <a:gd name="textAreaBottom" fmla="*/ 9810360 h 9810720"/>
            </a:gdLst>
            <a:ahLst/>
            <a:rect l="textAreaLeft" t="textAreaTop" r="textAreaRight" b="textAreaBottom"/>
            <a:pathLst>
              <a:path w="21600" h="31987">
                <a:moveTo>
                  <a:pt x="5" y="0"/>
                </a:moveTo>
                <a:arcTo wR="5" hR="5" stAng="16200000" swAng="-5400000"/>
                <a:lnTo>
                  <a:pt x="0" y="31982"/>
                </a:lnTo>
                <a:arcTo wR="5" hR="5" stAng="10800000" swAng="-5400000"/>
                <a:lnTo>
                  <a:pt x="21595" y="3198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6848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dt" idx="19"/>
          </p:nvPr>
        </p:nvSpPr>
        <p:spPr>
          <a:xfrm>
            <a:off x="3753000" y="0"/>
            <a:ext cx="286848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ftr" idx="20"/>
          </p:nvPr>
        </p:nvSpPr>
        <p:spPr>
          <a:xfrm>
            <a:off x="0" y="9318600"/>
            <a:ext cx="286848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21"/>
          </p:nvPr>
        </p:nvSpPr>
        <p:spPr>
          <a:xfrm>
            <a:off x="3753000" y="9318600"/>
            <a:ext cx="286848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578678-52FC-4CF9-A0BC-ECD0B90B5F62}" type="slidenum">
              <a: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Img"/>
          </p:nvPr>
        </p:nvSpPr>
        <p:spPr>
          <a:xfrm>
            <a:off x="555120" y="783720"/>
            <a:ext cx="5327640" cy="399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 type="body"/>
          </p:nvPr>
        </p:nvSpPr>
        <p:spPr>
          <a:xfrm>
            <a:off x="847800" y="5035320"/>
            <a:ext cx="4741920" cy="47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"/>
          <p:cNvSpPr/>
          <p:nvPr/>
        </p:nvSpPr>
        <p:spPr>
          <a:xfrm>
            <a:off x="3753000" y="9318600"/>
            <a:ext cx="2869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5ED65-C705-49B3-AB83-6E1EBD9733E0}" type="slidenum">
              <a: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0" y="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3753000" y="0"/>
            <a:ext cx="2869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025640" y="8589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847800" y="5035320"/>
            <a:ext cx="474336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"/>
          <p:cNvSpPr/>
          <p:nvPr/>
        </p:nvSpPr>
        <p:spPr>
          <a:xfrm>
            <a:off x="3753000" y="9318600"/>
            <a:ext cx="2869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EAB51-79A1-4D2F-8B0D-FC25B3DF232E}" type="slidenum">
              <a: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0" y="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3753000" y="0"/>
            <a:ext cx="2869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025640" y="8589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847800" y="5035320"/>
            <a:ext cx="474336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"/>
          <p:cNvSpPr/>
          <p:nvPr/>
        </p:nvSpPr>
        <p:spPr>
          <a:xfrm>
            <a:off x="3753000" y="9318600"/>
            <a:ext cx="2869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03A42-35A2-49E0-92A7-53D56D3ECA8F}" type="slidenum">
              <a: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0" y="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3753000" y="0"/>
            <a:ext cx="2869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025640" y="8589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847800" y="5035320"/>
            <a:ext cx="474336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BEC99-5308-4043-A370-3F2515582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1166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25A10-4716-4C03-A1B7-401AFCE7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352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C1DEB-9790-4B3B-B720-D6C404DD9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28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136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28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136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A0C26-772C-4EA1-865D-764CEE6A0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E334-D770-411A-B5F3-BC78510B2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816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E461-2B90-4AA2-9D51-F8DB355C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81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CA51-8CDD-451D-AC3A-466DE4A8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2F3C-5BAE-4915-A8CF-B5EBEAF1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F682-FA3B-4FEB-ADAC-B7E863DF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1EDB-8A64-495B-B81E-3167A774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CF10-D5A8-4A10-BE15-E3BB204D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816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A3C68-BBD2-4F1F-8CEE-0BA19092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352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3411-BCAB-45A4-9B5E-25E829FE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EECC-F14F-4FC9-A0F1-424FC2A2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1166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7B38-D1E1-4813-B370-BE92EEFE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352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6AA4-D21F-4BB5-A5A7-38C72F985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28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136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28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136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5163-92B0-43A2-AFFB-4220CC684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191DD-F57C-4349-AAF7-DF61BBCB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816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6D154-99EC-4244-9390-EC6A80C5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81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2EAFE-534D-4456-B7B6-C3B90276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FBA18-D467-42F9-BB62-69B676DB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08CF8-93CA-46A7-A002-C42E3673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81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F80F7-FD90-451B-AC08-2B1FD8DA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3890A-B2FE-448E-8628-E4D240F4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B02BC-4615-4804-80CD-3509D29A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352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EADB7-9FBB-45FE-B93D-191F0D86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4F825-89CC-4477-93D6-1FC5B112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1166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A7391-7551-4CAC-9517-0689072E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352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EADB8-21DD-4406-BE97-3A4EBE7B0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28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136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28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136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EA02B-0F98-4A12-8798-80151328A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915E8B-3049-4E44-82C4-3F51F0592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816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66795E-6091-43FB-BF4D-B69AEAFF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81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946DA5-2120-4127-AE7A-C2FB1C06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14927-7F07-4070-9388-49F36E50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4AC9B6-7396-4FC7-8358-DA3AA25B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7A87F5-1A26-43B3-A4E8-808E8C48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20B5E2-CA15-44B0-9C6E-FF75AA43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1EAF34-16B2-42A4-AF7B-08651748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352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3573BA-B024-4D46-AD45-C544D89F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F509BF-5EC6-4EEF-87ED-4DDD5685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41166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E56C54-2EAE-4685-9258-8D637A7A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352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969108-44B7-4BDA-AB35-3FCB1CFE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28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136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28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136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9DC792-6331-41B2-BD9A-588839FAE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4C62A-9CEF-4CB1-9C69-4B23C88DF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EA439-3D37-4142-8257-20DB2995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816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D2C3F-11E5-4E1E-BC9D-F9EB5E61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81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C76B3-FF17-4058-87A7-9A665DC0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522D7-A59E-437B-903F-53F84677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0388B-0E0A-4FFF-B674-59714837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863F2-06EC-42BE-860C-594FDAC3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AAE26-0B1E-4184-BDD5-68D28FD2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352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CB8A3-7F11-41F0-81A5-7BA5018C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60CD6-3AF9-421C-A93D-E69C9B2A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1166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79F01-9639-4998-9154-BFD1AFE7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352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9613A-AE68-4F91-8A20-63BFE628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896D4-1C6E-4486-A4BF-93CDF5B9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28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136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28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136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FEED4-9566-4A2A-B021-0E87C4E32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6CBE9-4B97-4780-B9AD-5BE84AAB9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816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35887-8714-4C06-B012-230BFB2F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81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F2166-3B0A-4603-B0F9-5B237D00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ACDD3-321E-4EEE-8899-3EFCD957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518F6-BB51-44DD-A184-C1E9A5F2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40A69-409A-443D-8E7C-7C6EFB46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CF751-EA7E-4B11-9931-9B5D64A3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352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DC774-C17D-4FD2-971F-8E8DDD01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9D6C1-70F2-4778-90B1-F82CAFB0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B5582-20F1-42C3-804A-C1AFA456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1166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2535D-2547-459E-8220-AEF738D9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352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422FC-32A7-40FC-B093-7DF71BFDB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28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1360" y="19051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28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1360" y="41166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74E4D-6278-495E-A64F-8FDEB952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3520" y="41166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8868D-5269-48C6-A271-B4486B75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9051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E39C4-44D1-4015-83C2-69910DF5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245280"/>
            <a:ext cx="2894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AD7C22-D91B-40FA-8ED1-1DDBCB6AE055}" type="slidenum">
              <a:rPr b="0" lang="es-E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7756F25-282D-4FE6-9619-DDCE43F24E56}" type="slidenum">
              <a:rPr b="0" lang="es-ES" sz="12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601812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81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35A940B-AEEA-4123-A29E-DD1AE0D5AC40}" type="slidenum">
              <a: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9940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ftr" idx="10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5184330-40AD-470B-BEE8-A9AD812E0FB2}" type="slidenum">
              <a: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dt" idx="12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304560" y="6245280"/>
            <a:ext cx="22842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22845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FD62D-D6FC-4B67-8D9E-613242B6942A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09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dt" idx="16"/>
          </p:nvPr>
        </p:nvSpPr>
        <p:spPr>
          <a:xfrm>
            <a:off x="304560" y="6245280"/>
            <a:ext cx="22842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ftr" idx="17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5280"/>
            <a:ext cx="22845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9AE37-B86C-426C-BB47-BFE00DE65FC7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8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153280" cy="356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Semina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Rol del cristal en la crea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de clima interior y eficiencia energét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1403280" y="4724280"/>
            <a:ext cx="606420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2000" spc="-1" strike="noStrike">
                <a:solidFill>
                  <a:srgbClr val="00ccff"/>
                </a:solidFill>
                <a:latin typeface="Arial"/>
              </a:rPr>
              <a:t>Alain J. Kaczorows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1400" spc="-1" strike="noStrike">
                <a:solidFill>
                  <a:srgbClr val="00ccff"/>
                </a:solidFill>
                <a:latin typeface="Arial"/>
              </a:rPr>
              <a:t>AGENTE DEL GRUPO AGC PARA CHILE Y ARGENT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657600" y="1143000"/>
          <a:ext cx="1619280" cy="101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1143000"/>
                    <a:ext cx="161928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0620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Tahoma"/>
              </a:rPr>
              <a:t>Algunas definiciones...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La Transmisión de Luz : </a:t>
            </a: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T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295280" y="4979880"/>
            <a:ext cx="2438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ffff"/>
                </a:solidFill>
                <a:latin typeface="Arial"/>
              </a:rPr>
              <a:t>Reflexión de Luz (R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764160" y="5727600"/>
            <a:ext cx="2150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ffff"/>
                </a:solidFill>
                <a:latin typeface="Arial"/>
              </a:rPr>
              <a:t>Absorción de Lu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459320" y="1865160"/>
            <a:ext cx="839880" cy="3611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248abe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92360" y="2733840"/>
            <a:ext cx="3990960" cy="2309760"/>
          </a:xfr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630840" y="4446720"/>
            <a:ext cx="22845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ffff"/>
                </a:solidFill>
                <a:latin typeface="Arial"/>
              </a:rPr>
              <a:t>Transmisión de Luz</a:t>
            </a:r>
            <a:br>
              <a:rPr sz="2400"/>
            </a:br>
            <a:r>
              <a:rPr b="1" lang="es-ES" sz="2400" spc="-1" strike="noStrike">
                <a:solidFill>
                  <a:srgbClr val="00ffff"/>
                </a:solidFill>
                <a:latin typeface="Arial"/>
              </a:rPr>
              <a:t>(T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7720" y="10620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Tahoma"/>
              </a:rPr>
              <a:t>Algunas Definiciones...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El Factor Solar : </a:t>
            </a: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F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"/>
          <p:cNvSpPr/>
          <p:nvPr/>
        </p:nvSpPr>
        <p:spPr>
          <a:xfrm>
            <a:off x="4040280" y="1789200"/>
            <a:ext cx="839520" cy="361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248abe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066680" y="3454560"/>
            <a:ext cx="180684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ffff"/>
                </a:solidFill>
                <a:latin typeface="Arial"/>
              </a:rPr>
              <a:t>Reflexión Energética</a:t>
            </a:r>
            <a:br>
              <a:rPr sz="2000"/>
            </a:br>
            <a:r>
              <a:rPr b="0" lang="es-ES" sz="2000" spc="-1" strike="noStrike">
                <a:solidFill>
                  <a:srgbClr val="00ffff"/>
                </a:solidFill>
                <a:latin typeface="Arial"/>
              </a:rPr>
              <a:t>(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354320" y="4564080"/>
            <a:ext cx="1499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62a08"/>
                </a:solidFill>
                <a:latin typeface="Arial"/>
              </a:rPr>
              <a:t>Energía </a:t>
            </a:r>
            <a:br>
              <a:rPr sz="2000"/>
            </a:br>
            <a:r>
              <a:rPr b="0" lang="es-ES" sz="2000" spc="-1" strike="noStrike">
                <a:solidFill>
                  <a:srgbClr val="f62a08"/>
                </a:solidFill>
                <a:latin typeface="Arial"/>
              </a:rPr>
              <a:t>Reirrad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58080" y="2290680"/>
            <a:ext cx="15699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Transm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de Ener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Directa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(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675400" y="4564080"/>
            <a:ext cx="24019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62a08"/>
                </a:solidFill>
                <a:latin typeface="Arial"/>
              </a:rPr>
              <a:t>Energía </a:t>
            </a:r>
            <a:br>
              <a:rPr sz="2000"/>
            </a:br>
            <a:r>
              <a:rPr b="0" lang="es-ES" sz="2000" spc="-1" strike="noStrike">
                <a:solidFill>
                  <a:srgbClr val="f62a08"/>
                </a:solidFill>
                <a:latin typeface="Arial"/>
              </a:rPr>
              <a:t>Reirrad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521080" y="2147760"/>
            <a:ext cx="3544920" cy="2806920"/>
          </a:xfr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859280" y="3429000"/>
            <a:ext cx="24670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ffff"/>
                </a:solidFill>
                <a:latin typeface="Arial"/>
              </a:rPr>
              <a:t>Ab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ffff"/>
                </a:solidFill>
                <a:latin typeface="Arial"/>
              </a:rPr>
              <a:t>Energética </a:t>
            </a:r>
            <a:br>
              <a:rPr sz="2000"/>
            </a:br>
            <a:r>
              <a:rPr b="0" lang="es-ES" sz="2000" spc="-1" strike="noStrike">
                <a:solidFill>
                  <a:srgbClr val="00ffff"/>
                </a:solidFill>
                <a:latin typeface="Arial"/>
              </a:rPr>
              <a:t>(A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7567560" y="2209680"/>
            <a:ext cx="1616040" cy="3125880"/>
            <a:chOff x="7567560" y="2209680"/>
            <a:chExt cx="1616040" cy="3125880"/>
          </a:xfrm>
        </p:grpSpPr>
        <p:sp>
          <p:nvSpPr>
            <p:cNvPr id="560" name=""/>
            <p:cNvSpPr/>
            <p:nvPr/>
          </p:nvSpPr>
          <p:spPr>
            <a:xfrm>
              <a:off x="8070840" y="3182760"/>
              <a:ext cx="1112760" cy="118620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ffcc00"/>
                  </a:solidFill>
                  <a:latin typeface="Arial"/>
                </a:rPr>
                <a:t>Factor</a:t>
              </a:r>
              <a:br>
                <a:rPr sz="2400"/>
              </a:br>
              <a:r>
                <a:rPr b="1" lang="es-ES" sz="2400" spc="-1" strike="noStrike">
                  <a:solidFill>
                    <a:srgbClr val="ffcc00"/>
                  </a:solidFill>
                  <a:latin typeface="Arial"/>
                </a:rPr>
                <a:t>Solar</a:t>
              </a:r>
              <a:br>
                <a:rPr sz="2400"/>
              </a:br>
              <a:r>
                <a:rPr b="1" lang="es-ES" sz="2400" spc="-1" strike="noStrike">
                  <a:solidFill>
                    <a:srgbClr val="ffcc00"/>
                  </a:solidFill>
                  <a:latin typeface="Arial"/>
                </a:rPr>
                <a:t>(F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7567560" y="2209680"/>
              <a:ext cx="536760" cy="3125880"/>
              <a:chOff x="7567560" y="2209680"/>
              <a:chExt cx="536760" cy="3125880"/>
            </a:xfrm>
          </p:grpSpPr>
          <p:sp>
            <p:nvSpPr>
              <p:cNvPr id="562" name=""/>
              <p:cNvSpPr/>
              <p:nvPr/>
            </p:nvSpPr>
            <p:spPr>
              <a:xfrm>
                <a:off x="7721640" y="2209680"/>
                <a:ext cx="1440" cy="3124440"/>
              </a:xfrm>
              <a:prstGeom prst="line">
                <a:avLst/>
              </a:prstGeom>
              <a:ln w="507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7567560" y="2209680"/>
                <a:ext cx="155520" cy="1800"/>
              </a:xfrm>
              <a:prstGeom prst="line">
                <a:avLst/>
              </a:prstGeom>
              <a:ln w="507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7567560" y="5334120"/>
                <a:ext cx="155520" cy="1440"/>
              </a:xfrm>
              <a:prstGeom prst="line">
                <a:avLst/>
              </a:prstGeom>
              <a:ln w="507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7719840" y="3733920"/>
                <a:ext cx="384480" cy="1440"/>
              </a:xfrm>
              <a:prstGeom prst="line">
                <a:avLst/>
              </a:prstGeom>
              <a:ln w="50760">
                <a:solidFill>
                  <a:srgbClr val="ffcc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6" name=""/>
          <p:cNvGrpSpPr/>
          <p:nvPr/>
        </p:nvGrpSpPr>
        <p:grpSpPr>
          <a:xfrm>
            <a:off x="1045800" y="5661000"/>
            <a:ext cx="7558560" cy="603360"/>
            <a:chOff x="1045800" y="5661000"/>
            <a:chExt cx="7558560" cy="603360"/>
          </a:xfrm>
        </p:grpSpPr>
        <p:sp>
          <p:nvSpPr>
            <p:cNvPr id="567" name=""/>
            <p:cNvSpPr/>
            <p:nvPr/>
          </p:nvSpPr>
          <p:spPr>
            <a:xfrm>
              <a:off x="1045800" y="5745240"/>
              <a:ext cx="7463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ffcc00"/>
                  </a:solidFill>
                  <a:latin typeface="Arial"/>
                </a:rPr>
                <a:t>Ecuación energética:      1 = TED + AE + 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30760" y="5661000"/>
              <a:ext cx="3873600" cy="59688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 fill="hold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 fill="hold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-76320"/>
            <a:ext cx="81536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Tahoma"/>
              </a:rPr>
              <a:t>Algunas Definiciones...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El Coeficiente de Sombra (Shading coeficien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"/>
          <p:cNvSpPr/>
          <p:nvPr/>
        </p:nvSpPr>
        <p:spPr>
          <a:xfrm>
            <a:off x="901800" y="1335240"/>
            <a:ext cx="779760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ffff"/>
                </a:solidFill>
                <a:latin typeface="Arial"/>
              </a:rPr>
              <a:t>EL FACTOR SOLAR (FS) DE UN CRISTAL INCOL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ffff"/>
                </a:solidFill>
                <a:latin typeface="Arial"/>
              </a:rPr>
              <a:t>DE 3 mm DE ESPESOR = 87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ffff"/>
                </a:solidFill>
                <a:latin typeface="Arial"/>
              </a:rPr>
              <a:t>LA RELACION DEL FACTOR SOLAR DE CUALQU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ffff"/>
                </a:solidFill>
                <a:latin typeface="Arial"/>
              </a:rPr>
              <a:t>CRISTAL A ESE CRISTAL DE REFERENC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ffff"/>
                </a:solidFill>
                <a:latin typeface="Arial"/>
              </a:rPr>
              <a:t>SE EXPRESA COM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 u="sng">
                <a:solidFill>
                  <a:srgbClr val="ffcc00"/>
                </a:solidFill>
                <a:uFillTx/>
                <a:latin typeface="Arial"/>
              </a:rPr>
              <a:t>FACTOR SOLAR</a:t>
            </a:r>
            <a:r>
              <a:rPr b="0" lang="es-MX" sz="24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Arial"/>
              </a:rPr>
              <a:t>          </a:t>
            </a:r>
            <a:r>
              <a:rPr b="0" lang="es-MX" sz="2400" spc="-1" strike="noStrike">
                <a:solidFill>
                  <a:srgbClr val="ffcc00"/>
                </a:solidFill>
                <a:latin typeface="Arial"/>
              </a:rPr>
              <a:t>0,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ffff"/>
                </a:solidFill>
                <a:latin typeface="Arial"/>
              </a:rPr>
              <a:t>ESO ES EL </a:t>
            </a:r>
            <a:r>
              <a:rPr b="0" lang="es-MX" sz="2400" spc="-1" strike="noStrike">
                <a:solidFill>
                  <a:srgbClr val="ffcc00"/>
                </a:solidFill>
                <a:latin typeface="Arial"/>
              </a:rPr>
              <a:t>COEFICIENTE DE SOMBRA</a:t>
            </a:r>
            <a:r>
              <a:rPr b="0" lang="es-MX" sz="2400" spc="-1" strike="noStrike">
                <a:solidFill>
                  <a:srgbClr val="00ffff"/>
                </a:solidFill>
                <a:latin typeface="Arial"/>
              </a:rPr>
              <a:t> (Sha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ffff"/>
                </a:solidFill>
                <a:latin typeface="Arial"/>
              </a:rPr>
              <a:t>NO TIENE UNIDADES (ES UNA RELACÍ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ffff"/>
                </a:solidFill>
                <a:latin typeface="Arial"/>
              </a:rPr>
              <a:t>SE USA EN CALCULOS DE CLIMAT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6324480" y="1371600"/>
            <a:ext cx="2133720" cy="14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00ffff"/>
                </a:solidFill>
                <a:latin typeface="Times New Roman"/>
              </a:rPr>
              <a:t>Temperatura interior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2400" spc="-1" strike="noStrike">
                <a:solidFill>
                  <a:srgbClr val="00ffff"/>
                </a:solidFill>
                <a:latin typeface="Times New Roman"/>
              </a:rPr>
              <a:t>T</a:t>
            </a:r>
            <a:r>
              <a:rPr b="1" i="1" lang="es-ES" sz="2400" spc="-1" strike="noStrike" baseline="-25000">
                <a:solidFill>
                  <a:srgbClr val="00ffff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990720" y="1219320"/>
            <a:ext cx="2133360" cy="14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00ffff"/>
                </a:solidFill>
                <a:latin typeface="Times New Roman"/>
              </a:rPr>
              <a:t>Temperatura exterior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2400" spc="-1" strike="noStrike">
                <a:solidFill>
                  <a:srgbClr val="00ffff"/>
                </a:solidFill>
                <a:latin typeface="Times New Roman"/>
              </a:rPr>
              <a:t>T</a:t>
            </a:r>
            <a:r>
              <a:rPr b="1" i="1" lang="es-ES" sz="2400" spc="-1" strike="noStrike" baseline="-25000">
                <a:solidFill>
                  <a:srgbClr val="00ffff"/>
                </a:solidFill>
                <a:latin typeface="Times New Roman"/>
              </a:rPr>
              <a:t>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5942160" y="3498840"/>
            <a:ext cx="2085480" cy="306000"/>
            <a:chOff x="5942160" y="3498840"/>
            <a:chExt cx="2085480" cy="306000"/>
          </a:xfrm>
        </p:grpSpPr>
        <p:sp>
          <p:nvSpPr>
            <p:cNvPr id="574" name=""/>
            <p:cNvSpPr/>
            <p:nvPr/>
          </p:nvSpPr>
          <p:spPr>
            <a:xfrm>
              <a:off x="6181560" y="3498840"/>
              <a:ext cx="244800" cy="304920"/>
            </a:xfrm>
            <a:custGeom>
              <a:avLst/>
              <a:gdLst>
                <a:gd name="textAreaLeft" fmla="*/ 122400 w 244800"/>
                <a:gd name="textAreaRight" fmla="*/ 244800 w 24480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5444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493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10800000">
              <a:off x="6411600" y="3499920"/>
              <a:ext cx="244440" cy="304920"/>
            </a:xfrm>
            <a:custGeom>
              <a:avLst/>
              <a:gdLst>
                <a:gd name="textAreaLeft" fmla="*/ 122040 w 244440"/>
                <a:gd name="textAreaRight" fmla="*/ 2444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5444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493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183360" y="3498840"/>
              <a:ext cx="244440" cy="304920"/>
            </a:xfrm>
            <a:custGeom>
              <a:avLst/>
              <a:gdLst>
                <a:gd name="textAreaLeft" fmla="*/ 0 w 244440"/>
                <a:gd name="textAreaRight" fmla="*/ 1220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659" y="21599"/>
                  </a:moveTo>
                  <a:arcTo wR="10800" hR="10800" stAng="5444935" swAng="5355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59" y="21599"/>
                  </a:moveTo>
                  <a:arcTo wR="10800" hR="10800" stAng="5444935" swAng="535506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10800000">
              <a:off x="5976720" y="3499920"/>
              <a:ext cx="244440" cy="304920"/>
            </a:xfrm>
            <a:custGeom>
              <a:avLst/>
              <a:gdLst>
                <a:gd name="textAreaLeft" fmla="*/ 0 w 244440"/>
                <a:gd name="textAreaRight" fmla="*/ 1220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659" y="21599"/>
                  </a:moveTo>
                  <a:arcTo wR="10800" hR="10800" stAng="5444935" swAng="5355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59" y="21599"/>
                  </a:moveTo>
                  <a:arcTo wR="10800" hR="10800" stAng="5444935" swAng="535506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095960" y="3498840"/>
              <a:ext cx="244800" cy="304920"/>
            </a:xfrm>
            <a:custGeom>
              <a:avLst/>
              <a:gdLst>
                <a:gd name="textAreaLeft" fmla="*/ 122400 w 244800"/>
                <a:gd name="textAreaRight" fmla="*/ 244800 w 24480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5444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493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10800000">
              <a:off x="7326000" y="3499920"/>
              <a:ext cx="244440" cy="304920"/>
            </a:xfrm>
            <a:custGeom>
              <a:avLst/>
              <a:gdLst>
                <a:gd name="textAreaLeft" fmla="*/ 122040 w 244440"/>
                <a:gd name="textAreaRight" fmla="*/ 2444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5444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493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097760" y="3498840"/>
              <a:ext cx="244440" cy="304920"/>
            </a:xfrm>
            <a:custGeom>
              <a:avLst/>
              <a:gdLst>
                <a:gd name="textAreaLeft" fmla="*/ 0 w 244440"/>
                <a:gd name="textAreaRight" fmla="*/ 1220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659" y="21599"/>
                  </a:moveTo>
                  <a:arcTo wR="10800" hR="10800" stAng="5444935" swAng="5355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59" y="21599"/>
                  </a:moveTo>
                  <a:arcTo wR="10800" hR="10800" stAng="5444935" swAng="535506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0800000">
              <a:off x="6891120" y="3499920"/>
              <a:ext cx="244440" cy="304920"/>
            </a:xfrm>
            <a:custGeom>
              <a:avLst/>
              <a:gdLst>
                <a:gd name="textAreaLeft" fmla="*/ 0 w 244440"/>
                <a:gd name="textAreaRight" fmla="*/ 1220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659" y="21599"/>
                  </a:moveTo>
                  <a:arcTo wR="10800" hR="10800" stAng="5444935" swAng="5355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59" y="21599"/>
                  </a:moveTo>
                  <a:arcTo wR="10800" hR="10800" stAng="5444935" swAng="535506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638760" y="3498840"/>
              <a:ext cx="244800" cy="304920"/>
            </a:xfrm>
            <a:custGeom>
              <a:avLst/>
              <a:gdLst>
                <a:gd name="textAreaLeft" fmla="*/ 122400 w 244800"/>
                <a:gd name="textAreaRight" fmla="*/ 244800 w 24480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5444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493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10800000">
              <a:off x="6868800" y="3499920"/>
              <a:ext cx="244440" cy="304920"/>
            </a:xfrm>
            <a:custGeom>
              <a:avLst/>
              <a:gdLst>
                <a:gd name="textAreaLeft" fmla="*/ 122040 w 244440"/>
                <a:gd name="textAreaRight" fmla="*/ 2444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5444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493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640560" y="3498840"/>
              <a:ext cx="244440" cy="304920"/>
            </a:xfrm>
            <a:custGeom>
              <a:avLst/>
              <a:gdLst>
                <a:gd name="textAreaLeft" fmla="*/ 0 w 244440"/>
                <a:gd name="textAreaRight" fmla="*/ 1220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659" y="21599"/>
                  </a:moveTo>
                  <a:arcTo wR="10800" hR="10800" stAng="5444935" swAng="5355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59" y="21599"/>
                  </a:moveTo>
                  <a:arcTo wR="10800" hR="10800" stAng="5444935" swAng="535506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10800000">
              <a:off x="6433920" y="3499920"/>
              <a:ext cx="244440" cy="304920"/>
            </a:xfrm>
            <a:custGeom>
              <a:avLst/>
              <a:gdLst>
                <a:gd name="textAreaLeft" fmla="*/ 0 w 244440"/>
                <a:gd name="textAreaRight" fmla="*/ 1220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659" y="21599"/>
                  </a:moveTo>
                  <a:arcTo wR="10800" hR="10800" stAng="5444935" swAng="5355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59" y="21599"/>
                  </a:moveTo>
                  <a:arcTo wR="10800" hR="10800" stAng="5444935" swAng="535506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553160" y="3498840"/>
              <a:ext cx="244800" cy="304920"/>
            </a:xfrm>
            <a:custGeom>
              <a:avLst/>
              <a:gdLst>
                <a:gd name="textAreaLeft" fmla="*/ 122400 w 244800"/>
                <a:gd name="textAreaRight" fmla="*/ 244800 w 24480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5444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493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10800000">
              <a:off x="7783200" y="3499920"/>
              <a:ext cx="244440" cy="304920"/>
            </a:xfrm>
            <a:custGeom>
              <a:avLst/>
              <a:gdLst>
                <a:gd name="textAreaLeft" fmla="*/ 122040 w 244440"/>
                <a:gd name="textAreaRight" fmla="*/ 2444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5444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493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554960" y="3498840"/>
              <a:ext cx="244440" cy="304920"/>
            </a:xfrm>
            <a:custGeom>
              <a:avLst/>
              <a:gdLst>
                <a:gd name="textAreaLeft" fmla="*/ 0 w 244440"/>
                <a:gd name="textAreaRight" fmla="*/ 1220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659" y="21599"/>
                  </a:moveTo>
                  <a:arcTo wR="10800" hR="10800" stAng="5444935" swAng="5355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59" y="21599"/>
                  </a:moveTo>
                  <a:arcTo wR="10800" hR="10800" stAng="5444935" swAng="535506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10800000">
              <a:off x="7348320" y="3499920"/>
              <a:ext cx="244440" cy="304920"/>
            </a:xfrm>
            <a:custGeom>
              <a:avLst/>
              <a:gdLst>
                <a:gd name="textAreaLeft" fmla="*/ 0 w 244440"/>
                <a:gd name="textAreaRight" fmla="*/ 1220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659" y="21599"/>
                  </a:moveTo>
                  <a:arcTo wR="10800" hR="10800" stAng="5444935" swAng="5355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59" y="21599"/>
                  </a:moveTo>
                  <a:arcTo wR="10800" hR="10800" stAng="5444935" swAng="535506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5942160" y="3498840"/>
              <a:ext cx="155520" cy="144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1522440" y="3498840"/>
            <a:ext cx="2085480" cy="306000"/>
            <a:chOff x="1522440" y="3498840"/>
            <a:chExt cx="2085480" cy="306000"/>
          </a:xfrm>
        </p:grpSpPr>
        <p:sp>
          <p:nvSpPr>
            <p:cNvPr id="592" name=""/>
            <p:cNvSpPr/>
            <p:nvPr/>
          </p:nvSpPr>
          <p:spPr>
            <a:xfrm>
              <a:off x="1762200" y="3498840"/>
              <a:ext cx="244440" cy="304920"/>
            </a:xfrm>
            <a:custGeom>
              <a:avLst/>
              <a:gdLst>
                <a:gd name="textAreaLeft" fmla="*/ 122040 w 244440"/>
                <a:gd name="textAreaRight" fmla="*/ 2444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5444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493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10800000">
              <a:off x="1991880" y="3499920"/>
              <a:ext cx="244440" cy="304920"/>
            </a:xfrm>
            <a:custGeom>
              <a:avLst/>
              <a:gdLst>
                <a:gd name="textAreaLeft" fmla="*/ 122040 w 244440"/>
                <a:gd name="textAreaRight" fmla="*/ 2444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5444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493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63640" y="3498840"/>
              <a:ext cx="244440" cy="304920"/>
            </a:xfrm>
            <a:custGeom>
              <a:avLst/>
              <a:gdLst>
                <a:gd name="textAreaLeft" fmla="*/ 0 w 244440"/>
                <a:gd name="textAreaRight" fmla="*/ 1220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659" y="21599"/>
                  </a:moveTo>
                  <a:arcTo wR="10800" hR="10800" stAng="5444935" swAng="5355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59" y="21599"/>
                  </a:moveTo>
                  <a:arcTo wR="10800" hR="10800" stAng="5444935" swAng="535506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10800000">
              <a:off x="1557000" y="3499920"/>
              <a:ext cx="244440" cy="304920"/>
            </a:xfrm>
            <a:custGeom>
              <a:avLst/>
              <a:gdLst>
                <a:gd name="textAreaLeft" fmla="*/ 0 w 244440"/>
                <a:gd name="textAreaRight" fmla="*/ 1220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659" y="21599"/>
                  </a:moveTo>
                  <a:arcTo wR="10800" hR="10800" stAng="5444935" swAng="5355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59" y="21599"/>
                  </a:moveTo>
                  <a:arcTo wR="10800" hR="10800" stAng="5444935" swAng="535506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676600" y="3498840"/>
              <a:ext cx="244440" cy="304920"/>
            </a:xfrm>
            <a:custGeom>
              <a:avLst/>
              <a:gdLst>
                <a:gd name="textAreaLeft" fmla="*/ 122040 w 244440"/>
                <a:gd name="textAreaRight" fmla="*/ 2444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5444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493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0800000">
              <a:off x="2906280" y="3499920"/>
              <a:ext cx="244440" cy="304920"/>
            </a:xfrm>
            <a:custGeom>
              <a:avLst/>
              <a:gdLst>
                <a:gd name="textAreaLeft" fmla="*/ 122040 w 244440"/>
                <a:gd name="textAreaRight" fmla="*/ 2444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5444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493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678040" y="3498840"/>
              <a:ext cx="244440" cy="304920"/>
            </a:xfrm>
            <a:custGeom>
              <a:avLst/>
              <a:gdLst>
                <a:gd name="textAreaLeft" fmla="*/ 0 w 244440"/>
                <a:gd name="textAreaRight" fmla="*/ 1220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659" y="21599"/>
                  </a:moveTo>
                  <a:arcTo wR="10800" hR="10800" stAng="5444935" swAng="5355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59" y="21599"/>
                  </a:moveTo>
                  <a:arcTo wR="10800" hR="10800" stAng="5444935" swAng="535506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0800000">
              <a:off x="2471400" y="3499920"/>
              <a:ext cx="244440" cy="304920"/>
            </a:xfrm>
            <a:custGeom>
              <a:avLst/>
              <a:gdLst>
                <a:gd name="textAreaLeft" fmla="*/ 0 w 244440"/>
                <a:gd name="textAreaRight" fmla="*/ 1220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659" y="21599"/>
                  </a:moveTo>
                  <a:arcTo wR="10800" hR="10800" stAng="5444935" swAng="5355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59" y="21599"/>
                  </a:moveTo>
                  <a:arcTo wR="10800" hR="10800" stAng="5444935" swAng="535506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219400" y="3498840"/>
              <a:ext cx="244440" cy="304920"/>
            </a:xfrm>
            <a:custGeom>
              <a:avLst/>
              <a:gdLst>
                <a:gd name="textAreaLeft" fmla="*/ 122040 w 244440"/>
                <a:gd name="textAreaRight" fmla="*/ 2444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5444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493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10800000">
              <a:off x="2449080" y="3499920"/>
              <a:ext cx="244440" cy="304920"/>
            </a:xfrm>
            <a:custGeom>
              <a:avLst/>
              <a:gdLst>
                <a:gd name="textAreaLeft" fmla="*/ 122040 w 244440"/>
                <a:gd name="textAreaRight" fmla="*/ 2444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5444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493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220840" y="3498840"/>
              <a:ext cx="244440" cy="304920"/>
            </a:xfrm>
            <a:custGeom>
              <a:avLst/>
              <a:gdLst>
                <a:gd name="textAreaLeft" fmla="*/ 0 w 244440"/>
                <a:gd name="textAreaRight" fmla="*/ 1220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659" y="21599"/>
                  </a:moveTo>
                  <a:arcTo wR="10800" hR="10800" stAng="5444935" swAng="5355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59" y="21599"/>
                  </a:moveTo>
                  <a:arcTo wR="10800" hR="10800" stAng="5444935" swAng="535506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10800000">
              <a:off x="2014200" y="3499920"/>
              <a:ext cx="244440" cy="304920"/>
            </a:xfrm>
            <a:custGeom>
              <a:avLst/>
              <a:gdLst>
                <a:gd name="textAreaLeft" fmla="*/ 0 w 244440"/>
                <a:gd name="textAreaRight" fmla="*/ 1220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659" y="21599"/>
                  </a:moveTo>
                  <a:arcTo wR="10800" hR="10800" stAng="5444935" swAng="5355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59" y="21599"/>
                  </a:moveTo>
                  <a:arcTo wR="10800" hR="10800" stAng="5444935" swAng="535506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133800" y="3498840"/>
              <a:ext cx="244440" cy="304920"/>
            </a:xfrm>
            <a:custGeom>
              <a:avLst/>
              <a:gdLst>
                <a:gd name="textAreaLeft" fmla="*/ 122040 w 244440"/>
                <a:gd name="textAreaRight" fmla="*/ 2444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5444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493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10800000">
              <a:off x="3363480" y="3499920"/>
              <a:ext cx="244440" cy="304920"/>
            </a:xfrm>
            <a:custGeom>
              <a:avLst/>
              <a:gdLst>
                <a:gd name="textAreaLeft" fmla="*/ 122040 w 244440"/>
                <a:gd name="textAreaRight" fmla="*/ 2444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5444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493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135240" y="3498840"/>
              <a:ext cx="244440" cy="304920"/>
            </a:xfrm>
            <a:custGeom>
              <a:avLst/>
              <a:gdLst>
                <a:gd name="textAreaLeft" fmla="*/ 0 w 244440"/>
                <a:gd name="textAreaRight" fmla="*/ 1220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659" y="21599"/>
                  </a:moveTo>
                  <a:arcTo wR="10800" hR="10800" stAng="5444935" swAng="5355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59" y="21599"/>
                  </a:moveTo>
                  <a:arcTo wR="10800" hR="10800" stAng="5444935" swAng="535506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10800000">
              <a:off x="2928600" y="3499920"/>
              <a:ext cx="244440" cy="304920"/>
            </a:xfrm>
            <a:custGeom>
              <a:avLst/>
              <a:gdLst>
                <a:gd name="textAreaLeft" fmla="*/ 0 w 244440"/>
                <a:gd name="textAreaRight" fmla="*/ 122040 w 244440"/>
                <a:gd name="textAreaTop" fmla="*/ 15228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659" y="21599"/>
                  </a:moveTo>
                  <a:arcTo wR="10800" hR="10800" stAng="5444935" swAng="5355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59" y="21599"/>
                  </a:moveTo>
                  <a:arcTo wR="10800" hR="10800" stAng="5444935" swAng="5355065"/>
                </a:path>
              </a:pathLst>
            </a:custGeom>
            <a:noFill/>
            <a:ln cap="rnd" w="25560">
              <a:solidFill>
                <a:srgbClr val="ff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1522440" y="3498840"/>
              <a:ext cx="155520" cy="144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5614920" y="2403360"/>
            <a:ext cx="1074960" cy="2500560"/>
            <a:chOff x="5614920" y="2403360"/>
            <a:chExt cx="1074960" cy="2500560"/>
          </a:xfrm>
        </p:grpSpPr>
        <p:sp>
          <p:nvSpPr>
            <p:cNvPr id="610" name=""/>
            <p:cNvSpPr/>
            <p:nvPr/>
          </p:nvSpPr>
          <p:spPr>
            <a:xfrm>
              <a:off x="5614920" y="2465280"/>
              <a:ext cx="1067040" cy="2438640"/>
            </a:xfrm>
            <a:custGeom>
              <a:avLst/>
              <a:gdLst>
                <a:gd name="textAreaLeft" fmla="*/ 0 w 1067040"/>
                <a:gd name="textAreaRight" fmla="*/ 533520 w 1067040"/>
                <a:gd name="textAreaTop" fmla="*/ 0 h 2438640"/>
                <a:gd name="textAreaBottom" fmla="*/ 1219320 h 243864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0" y="10800"/>
                  </a:moveTo>
                  <a:arcTo wR="10800" hR="10800" stAng="10800000" swAng="538976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9769"/>
                </a:path>
              </a:pathLst>
            </a:custGeom>
            <a:noFill/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10800000">
              <a:off x="5638680" y="2403360"/>
              <a:ext cx="1051200" cy="2438640"/>
            </a:xfrm>
            <a:custGeom>
              <a:avLst/>
              <a:gdLst>
                <a:gd name="textAreaLeft" fmla="*/ 515880 w 1051200"/>
                <a:gd name="textAreaRight" fmla="*/ 1051200 w 1051200"/>
                <a:gd name="textAreaTop" fmla="*/ 0 h 2438640"/>
                <a:gd name="textAreaBottom" fmla="*/ 1219320 h 243864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0"/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2921040" y="2400480"/>
            <a:ext cx="1093320" cy="2503440"/>
            <a:chOff x="2921040" y="2400480"/>
            <a:chExt cx="1093320" cy="2503440"/>
          </a:xfrm>
        </p:grpSpPr>
        <p:sp>
          <p:nvSpPr>
            <p:cNvPr id="613" name=""/>
            <p:cNvSpPr/>
            <p:nvPr/>
          </p:nvSpPr>
          <p:spPr>
            <a:xfrm>
              <a:off x="2921040" y="2400480"/>
              <a:ext cx="1066680" cy="2438280"/>
            </a:xfrm>
            <a:custGeom>
              <a:avLst/>
              <a:gdLst>
                <a:gd name="textAreaLeft" fmla="*/ 533160 w 1066680"/>
                <a:gd name="textAreaRight" fmla="*/ 1066680 w 1066680"/>
                <a:gd name="textAreaTop" fmla="*/ 1218960 h 2438280"/>
                <a:gd name="textAreaBottom" fmla="*/ 2438280 h 243828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10800000">
              <a:off x="2947680" y="2465280"/>
              <a:ext cx="1066680" cy="2438640"/>
            </a:xfrm>
            <a:custGeom>
              <a:avLst/>
              <a:gdLst>
                <a:gd name="textAreaLeft" fmla="*/ 0 w 1066680"/>
                <a:gd name="textAreaRight" fmla="*/ 533160 w 1066680"/>
                <a:gd name="textAreaTop" fmla="*/ 1219320 h 2438640"/>
                <a:gd name="textAreaBottom" fmla="*/ 2438640 h 243864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4197240" y="1835280"/>
            <a:ext cx="1206720" cy="341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248abe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537160" y="4559400"/>
            <a:ext cx="2666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Times New Roman"/>
              </a:rPr>
              <a:t>Convección </a:t>
            </a:r>
            <a:br>
              <a:rPr sz="1800"/>
            </a:br>
            <a:r>
              <a:rPr b="0" lang="es-ES" sz="1400" spc="-1" strike="noStrike">
                <a:solidFill>
                  <a:srgbClr val="00ffff"/>
                </a:solidFill>
                <a:latin typeface="Times New Roman"/>
              </a:rPr>
              <a:t>(y conduc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222960" y="3111480"/>
            <a:ext cx="154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Times New Roman"/>
              </a:rPr>
              <a:t>Rad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013280" y="4025880"/>
            <a:ext cx="154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on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197240" y="3352680"/>
            <a:ext cx="1206720" cy="596880"/>
          </a:xfrm>
          <a:prstGeom prst="leftArrow">
            <a:avLst>
              <a:gd name="adj1" fmla="val 50000"/>
              <a:gd name="adj2" fmla="val 6084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1692360" y="5516640"/>
            <a:ext cx="6478560" cy="930240"/>
            <a:chOff x="1692360" y="5516640"/>
            <a:chExt cx="6478560" cy="930240"/>
          </a:xfrm>
        </p:grpSpPr>
        <p:sp>
          <p:nvSpPr>
            <p:cNvPr id="621" name=""/>
            <p:cNvSpPr/>
            <p:nvPr/>
          </p:nvSpPr>
          <p:spPr>
            <a:xfrm>
              <a:off x="1692360" y="5745240"/>
              <a:ext cx="2133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ffcc00"/>
                  </a:solidFill>
                  <a:latin typeface="Times New Roman"/>
                </a:rPr>
                <a:t>Valor-U 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979800" y="5516640"/>
              <a:ext cx="21337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635280" y="5973840"/>
              <a:ext cx="2820960" cy="14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368520" y="6049800"/>
              <a:ext cx="3354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037200" y="5745240"/>
              <a:ext cx="2133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s-ES" sz="2000" spc="-1" strike="noStrike">
                  <a:solidFill>
                    <a:srgbClr val="ffcc00"/>
                  </a:solidFill>
                  <a:latin typeface="Times New Roman"/>
                </a:rPr>
                <a:t>          </a:t>
              </a:r>
              <a:r>
                <a:rPr b="0" i="1" lang="es-ES" sz="2000" spc="-1" strike="noStrike">
                  <a:solidFill>
                    <a:srgbClr val="ffcc00"/>
                  </a:solidFill>
                  <a:latin typeface="Times New Roman"/>
                </a:rPr>
                <a:t>(W/m2.∆K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1727280" y="3111480"/>
            <a:ext cx="154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Times New Roman"/>
              </a:rPr>
              <a:t>Rad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346040" y="4559400"/>
            <a:ext cx="2667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Times New Roman"/>
              </a:rPr>
              <a:t>Convección </a:t>
            </a:r>
            <a:br>
              <a:rPr sz="1800"/>
            </a:br>
            <a:r>
              <a:rPr b="0" lang="es-ES" sz="1400" spc="-1" strike="noStrike">
                <a:solidFill>
                  <a:srgbClr val="00ffff"/>
                </a:solidFill>
                <a:latin typeface="Times New Roman"/>
              </a:rPr>
              <a:t>(y conduc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7720" y="136440"/>
            <a:ext cx="815364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Tahoma"/>
              </a:rPr>
              <a:t>Algunas definiciones...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El Valor-U (no depende del sol...)</a:t>
            </a:r>
            <a:r>
              <a:rPr b="0" i="1" lang="es-ES" sz="2800" spc="-1" strike="noStrike">
                <a:solidFill>
                  <a:srgbClr val="18587a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3653280" y="551664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l </a:t>
            </a:r>
            <a:r>
              <a:rPr b="0" lang="es-ES" sz="1800" spc="-1" strike="noStrike">
                <a:solidFill>
                  <a:srgbClr val="f62a08"/>
                </a:solidFill>
                <a:latin typeface="Tahoma"/>
              </a:rPr>
              <a:t>calor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iempre via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536640" y="5964120"/>
            <a:ext cx="27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l punto caliente al frí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dur="indefinite" fill="hold">
                      <p:stCondLst>
                        <p:cond delay="indefinite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 fill="hold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2149560" y="1557000"/>
            <a:ext cx="576720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TL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   : Transmisión de Lu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RL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: Reflexión de Lu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FS 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 : Factor Sol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CS (ShC)</a:t>
            </a:r>
            <a:r>
              <a:rPr b="0" lang="es-ES" sz="1800" spc="-1" strike="noStrike">
                <a:solidFill>
                  <a:srgbClr val="ffcc00"/>
                </a:solidFill>
                <a:latin typeface="Tahoma"/>
              </a:rPr>
              <a:t> : Coeficiente de Sombra (Shading Coef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62a08"/>
                </a:solidFill>
                <a:latin typeface="Tahoma"/>
              </a:rPr>
              <a:t>Valor-U   </a:t>
            </a:r>
            <a:r>
              <a:rPr b="0" lang="es-ES" sz="2800" spc="-1" strike="noStrike">
                <a:solidFill>
                  <a:srgbClr val="f62a08"/>
                </a:solidFill>
                <a:latin typeface="Tahoma"/>
              </a:rPr>
              <a:t> : Valor-U (o Valor-k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ffff"/>
                </a:solidFill>
                <a:latin typeface="Tahoma"/>
              </a:rPr>
              <a:t>Parámetros estét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00ffff"/>
                </a:solidFill>
                <a:latin typeface="Tahoma"/>
              </a:rPr>
              <a:t>Color en reflexión, en transmi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ffff"/>
                </a:solidFill>
                <a:latin typeface="Tahoma"/>
              </a:rPr>
              <a:t>Aspectos del ‘Procesamiento’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s-ES" sz="2400" spc="-1" strike="noStrike">
                <a:solidFill>
                  <a:srgbClr val="00ffff"/>
                </a:solidFill>
                <a:latin typeface="Tahoma"/>
              </a:rPr>
              <a:t>Tratamiento térmico, serigrafía,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837720" y="-76320"/>
            <a:ext cx="81536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Tahoma"/>
              </a:rPr>
              <a:t>En resumen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Parámetros claves para caracterizar un cristal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2123640" y="1995120"/>
            <a:ext cx="5767560" cy="422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es-ES" sz="3200" spc="-1" strike="noStrike">
                <a:solidFill>
                  <a:srgbClr val="00ffff"/>
                </a:solidFill>
                <a:latin typeface="Tahoma"/>
              </a:rPr>
              <a:t>¿ Factor Solar o Valor-U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Ganancia Relativa de Calor</a:t>
            </a:r>
            <a:r>
              <a:rPr b="0" lang="es-ES" sz="2400" spc="-1" strike="noStrike">
                <a:solidFill>
                  <a:srgbClr val="00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ffff"/>
                </a:solidFill>
                <a:latin typeface="Tahoma"/>
              </a:rPr>
              <a:t>(RHG Relative Heat Gain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ahoma"/>
              </a:rPr>
              <a:t>= ([630 W x 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ShC</a:t>
            </a:r>
            <a:r>
              <a:rPr b="0" lang="es-ES" sz="2400" spc="-1" strike="noStrike">
                <a:solidFill>
                  <a:srgbClr val="00ffff"/>
                </a:solidFill>
                <a:latin typeface="Tahoma"/>
              </a:rPr>
              <a:t>] + [8ºC x </a:t>
            </a:r>
            <a:r>
              <a:rPr b="0" lang="es-ES" sz="2400" spc="-1" strike="noStrike">
                <a:solidFill>
                  <a:srgbClr val="f62a08"/>
                </a:solidFill>
                <a:latin typeface="Tahoma"/>
              </a:rPr>
              <a:t>Valor U</a:t>
            </a:r>
            <a:r>
              <a:rPr b="0" lang="es-ES" sz="2400" spc="-1" strike="noStrike">
                <a:solidFill>
                  <a:srgbClr val="00ffff"/>
                </a:solidFill>
                <a:latin typeface="Tahoma"/>
              </a:rPr>
              <a:t>]) expresado en W/m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 u="sng">
                <a:solidFill>
                  <a:srgbClr val="00ffff"/>
                </a:solidFill>
                <a:uFillTx/>
                <a:latin typeface="Tahoma"/>
              </a:rPr>
              <a:t>Ejempl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ffff"/>
                </a:solidFill>
                <a:latin typeface="Tahoma"/>
              </a:rPr>
              <a:t>ShC = 0,40  Valor-U = 5,5  RHG = 296 W/m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ffff"/>
                </a:solidFill>
                <a:latin typeface="Tahoma"/>
              </a:rPr>
              <a:t>ShC = 0,25  Valor-U = 5,5</a:t>
            </a:r>
            <a:r>
              <a:rPr b="1" lang="es-ES" sz="16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ffff"/>
                </a:solidFill>
                <a:latin typeface="Tahoma"/>
              </a:rPr>
              <a:t>RHG = 201 W/m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ffff"/>
                </a:solidFill>
                <a:latin typeface="Tahoma"/>
              </a:rPr>
              <a:t>ShC = 0,40  Valor-U = 2,8</a:t>
            </a:r>
            <a:r>
              <a:rPr b="1" lang="es-ES" sz="16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ffff"/>
                </a:solidFill>
                <a:latin typeface="Tahoma"/>
              </a:rPr>
              <a:t>RHG = 274 W/m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ffff"/>
                </a:solidFill>
                <a:latin typeface="Tahoma"/>
              </a:rPr>
              <a:t>ShC = 0,25  Valor-U = 2,8</a:t>
            </a:r>
            <a:r>
              <a:rPr b="1" lang="es-ES" sz="16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ffff"/>
                </a:solidFill>
                <a:latin typeface="Tahoma"/>
              </a:rPr>
              <a:t>RHG = 180 W/m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title"/>
          </p:nvPr>
        </p:nvSpPr>
        <p:spPr>
          <a:xfrm>
            <a:off x="837720" y="-76320"/>
            <a:ext cx="81536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Tahoma"/>
              </a:rPr>
              <a:t>Discusión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Parámetros claves para caracterizar y comparar un cristal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2123640" y="1995120"/>
            <a:ext cx="5767560" cy="425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es-ES" sz="3200" spc="-1" strike="noStrike">
                <a:solidFill>
                  <a:srgbClr val="00ffff"/>
                </a:solidFill>
                <a:latin typeface="Tahoma"/>
              </a:rPr>
              <a:t>¿ Alta transmisión de Luz o Factor Solar bajo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es-ES" sz="3200" spc="-1" strike="noStrike">
                <a:solidFill>
                  <a:srgbClr val="23ff23"/>
                </a:solidFill>
                <a:latin typeface="Tahoma"/>
              </a:rPr>
              <a:t>* La luz se puede controlar con cortin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es-ES" sz="3200" spc="-1" strike="noStrike">
                <a:solidFill>
                  <a:srgbClr val="ff0000"/>
                </a:solidFill>
                <a:latin typeface="Tahoma"/>
              </a:rPr>
              <a:t>* El calor que entró por el vidrio NO se puede controlar a posterio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title"/>
          </p:nvPr>
        </p:nvSpPr>
        <p:spPr>
          <a:xfrm>
            <a:off x="837720" y="-76320"/>
            <a:ext cx="81536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Tahoma"/>
              </a:rPr>
              <a:t>Discusión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Parámetros claves para caracterizar y comparar un cristal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"/>
          <p:cNvGrpSpPr/>
          <p:nvPr/>
        </p:nvGrpSpPr>
        <p:grpSpPr>
          <a:xfrm>
            <a:off x="2117880" y="1371600"/>
            <a:ext cx="1064880" cy="4164120"/>
            <a:chOff x="2117880" y="1371600"/>
            <a:chExt cx="1064880" cy="4164120"/>
          </a:xfrm>
        </p:grpSpPr>
        <p:sp>
          <p:nvSpPr>
            <p:cNvPr id="638" name=""/>
            <p:cNvSpPr/>
            <p:nvPr/>
          </p:nvSpPr>
          <p:spPr>
            <a:xfrm>
              <a:off x="2117880" y="3657600"/>
              <a:ext cx="96840" cy="1878120"/>
            </a:xfrm>
            <a:solidFill>
              <a:srgbClr val="004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206800" y="3549600"/>
              <a:ext cx="31680" cy="1986120"/>
            </a:xfrm>
            <a:solidFill>
              <a:srgbClr val="005e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224080" y="3424320"/>
              <a:ext cx="31680" cy="2111400"/>
            </a:xfrm>
            <a:solidFill>
              <a:srgbClr val="006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241720" y="2909880"/>
              <a:ext cx="31680" cy="2625840"/>
            </a:xfrm>
            <a:solidFill>
              <a:srgbClr val="0084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260440" y="2841480"/>
              <a:ext cx="32040" cy="2694240"/>
            </a:xfrm>
            <a:solidFill>
              <a:srgbClr val="00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279520" y="2749680"/>
              <a:ext cx="33480" cy="2786040"/>
            </a:xfrm>
            <a:solidFill>
              <a:srgbClr val="00aa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297160" y="2475000"/>
              <a:ext cx="30240" cy="3060720"/>
            </a:xfrm>
            <a:solidFill>
              <a:srgbClr val="00bb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314440" y="2319480"/>
              <a:ext cx="33480" cy="3216240"/>
            </a:xfrm>
            <a:solidFill>
              <a:srgbClr val="00d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333520" y="2217600"/>
              <a:ext cx="30240" cy="3318120"/>
            </a:xfrm>
            <a:solidFill>
              <a:srgbClr val="00e1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895480" y="2021040"/>
              <a:ext cx="33480" cy="3514680"/>
            </a:xfrm>
            <a:solidFill>
              <a:srgbClr val="00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336760" y="1701720"/>
              <a:ext cx="65160" cy="3834000"/>
            </a:xfrm>
            <a:solidFill>
              <a:srgbClr val="00fff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386080" y="1603440"/>
              <a:ext cx="33120" cy="3932280"/>
            </a:xfrm>
            <a:solidFill>
              <a:srgbClr val="00f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406600" y="1501920"/>
              <a:ext cx="96840" cy="4033800"/>
            </a:xfrm>
            <a:solidFill>
              <a:srgbClr val="00ff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14600" y="1371600"/>
              <a:ext cx="31680" cy="4164120"/>
            </a:xfrm>
            <a:solidFill>
              <a:srgbClr val="00ff5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487600" y="1403280"/>
              <a:ext cx="74520" cy="4132440"/>
            </a:xfrm>
            <a:solidFill>
              <a:srgbClr val="00ff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52760" y="1413000"/>
              <a:ext cx="30240" cy="4122720"/>
            </a:xfrm>
            <a:solidFill>
              <a:srgbClr val="00ff3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70040" y="1407960"/>
              <a:ext cx="33480" cy="4127760"/>
            </a:xfrm>
            <a:solidFill>
              <a:srgbClr val="00ff2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87680" y="1406520"/>
              <a:ext cx="33120" cy="4129200"/>
            </a:xfrm>
            <a:solidFill>
              <a:srgbClr val="00ff1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608200" y="1403280"/>
              <a:ext cx="31680" cy="4132440"/>
            </a:xfrm>
            <a:solidFill>
              <a:srgbClr val="00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625840" y="1403280"/>
              <a:ext cx="31680" cy="4132440"/>
            </a:xfrm>
            <a:solidFill>
              <a:srgbClr val="15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646360" y="1403280"/>
              <a:ext cx="31680" cy="4132440"/>
            </a:xfrm>
            <a:solidFill>
              <a:srgbClr val="26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662200" y="1424160"/>
              <a:ext cx="31680" cy="4111560"/>
            </a:xfrm>
            <a:solidFill>
              <a:srgbClr val="3c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679840" y="1452600"/>
              <a:ext cx="33120" cy="4083120"/>
            </a:xfrm>
            <a:solidFill>
              <a:srgbClr val="4d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698920" y="1482840"/>
              <a:ext cx="33120" cy="4052880"/>
            </a:xfrm>
            <a:solidFill>
              <a:srgbClr val="62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14760" y="1500120"/>
              <a:ext cx="33120" cy="4035600"/>
            </a:xfrm>
            <a:solidFill>
              <a:srgbClr val="73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738520" y="1494000"/>
              <a:ext cx="31680" cy="4041720"/>
            </a:xfrm>
            <a:solidFill>
              <a:srgbClr val="88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54360" y="1482840"/>
              <a:ext cx="31680" cy="4052880"/>
            </a:xfrm>
            <a:solidFill>
              <a:srgbClr val="99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771640" y="1476360"/>
              <a:ext cx="32040" cy="4059360"/>
            </a:xfrm>
            <a:solidFill>
              <a:srgbClr val="ae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790720" y="1471680"/>
              <a:ext cx="31680" cy="4064040"/>
            </a:xfrm>
            <a:solidFill>
              <a:srgbClr val="b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09800" y="1471680"/>
              <a:ext cx="33480" cy="4064040"/>
            </a:xfrm>
            <a:solidFill>
              <a:srgbClr val="d5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827440" y="1471680"/>
              <a:ext cx="30240" cy="4064040"/>
            </a:xfrm>
            <a:solidFill>
              <a:srgbClr val="e6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846520" y="1482840"/>
              <a:ext cx="33120" cy="4052880"/>
            </a:xfrm>
            <a:solidFill>
              <a:srgbClr val="f7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863800" y="1501920"/>
              <a:ext cx="30240" cy="4033800"/>
            </a:xfrm>
            <a:solidFill>
              <a:srgbClr val="fff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881440" y="1519200"/>
              <a:ext cx="33120" cy="4016520"/>
            </a:xfrm>
            <a:solidFill>
              <a:srgbClr val="ffe1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01960" y="1531800"/>
              <a:ext cx="28440" cy="4003920"/>
            </a:xfr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916360" y="1547640"/>
              <a:ext cx="33120" cy="3988080"/>
            </a:xfrm>
            <a:solidFill>
              <a:srgbClr val="ffbb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938320" y="1749600"/>
              <a:ext cx="30240" cy="3786120"/>
            </a:xfrm>
            <a:solidFill>
              <a:srgbClr val="ffa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952720" y="2122560"/>
              <a:ext cx="33480" cy="3413160"/>
            </a:xfrm>
            <a:solidFill>
              <a:srgbClr val="ff95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975040" y="1720800"/>
              <a:ext cx="30240" cy="3814920"/>
            </a:xfrm>
            <a:solidFill>
              <a:srgbClr val="ff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989440" y="1720800"/>
              <a:ext cx="33120" cy="3814920"/>
            </a:xfrm>
            <a:solidFill>
              <a:srgbClr val="ff6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009960" y="1724040"/>
              <a:ext cx="31680" cy="3811680"/>
            </a:xfrm>
            <a:solidFill>
              <a:srgbClr val="ff5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029040" y="1736640"/>
              <a:ext cx="31680" cy="3799080"/>
            </a:xfrm>
            <a:solidFill>
              <a:srgbClr val="ff48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046320" y="1747800"/>
              <a:ext cx="31680" cy="3787920"/>
            </a:xfr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062160" y="2003400"/>
              <a:ext cx="32040" cy="3532320"/>
            </a:xfrm>
            <a:solidFill>
              <a:srgbClr val="ff2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081240" y="2003400"/>
              <a:ext cx="31680" cy="3532320"/>
            </a:xfrm>
            <a:solidFill>
              <a:srgbClr val="ff0d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100320" y="2004840"/>
              <a:ext cx="33480" cy="3530880"/>
            </a:xfr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119400" y="2022480"/>
              <a:ext cx="33480" cy="3513240"/>
            </a:xfr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141720" y="3467160"/>
              <a:ext cx="41040" cy="2068560"/>
            </a:xfr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2644920" y="5545080"/>
            <a:ext cx="144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046320" y="5545080"/>
            <a:ext cx="180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182760" y="5545080"/>
            <a:ext cx="1800" cy="108000"/>
          </a:xfr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452760" y="5545080"/>
            <a:ext cx="180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584520" y="5545080"/>
            <a:ext cx="1800" cy="103320"/>
          </a:xfr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3850920" y="5545080"/>
            <a:ext cx="468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90960" y="5545080"/>
            <a:ext cx="1440" cy="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776680" y="5545080"/>
            <a:ext cx="144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911320" y="5545080"/>
            <a:ext cx="180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313080" y="5545080"/>
            <a:ext cx="180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638600" y="5545080"/>
            <a:ext cx="180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045040" y="5545080"/>
            <a:ext cx="180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446800" y="5545080"/>
            <a:ext cx="144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583240" y="5545080"/>
            <a:ext cx="1440" cy="108000"/>
          </a:xfr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853240" y="5545080"/>
            <a:ext cx="144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02280" y="5545080"/>
            <a:ext cx="1800" cy="103320"/>
          </a:xfr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16560" y="5545080"/>
            <a:ext cx="144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773600" y="5545080"/>
            <a:ext cx="144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176800" y="5545080"/>
            <a:ext cx="180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311800" y="5545080"/>
            <a:ext cx="144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713560" y="5545080"/>
            <a:ext cx="144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264360" y="5545080"/>
            <a:ext cx="144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6530760" y="5545080"/>
            <a:ext cx="468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670800" y="5545080"/>
            <a:ext cx="144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072200" y="5545080"/>
            <a:ext cx="180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209000" y="5545080"/>
            <a:ext cx="1440" cy="108000"/>
          </a:xfr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141960" y="5545080"/>
            <a:ext cx="180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399360" y="5545080"/>
            <a:ext cx="144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802560" y="5545080"/>
            <a:ext cx="144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937200" y="5545080"/>
            <a:ext cx="180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981080" y="5537160"/>
            <a:ext cx="556272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990800" y="1673280"/>
            <a:ext cx="5065560" cy="3857400"/>
          </a:xfr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566600" y="1557360"/>
            <a:ext cx="382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Float incoloro: Mucha luz, mucho c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371240" y="1351080"/>
            <a:ext cx="52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541160" y="5281560"/>
            <a:ext cx="295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428480" y="3265560"/>
            <a:ext cx="410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827360" y="5694480"/>
            <a:ext cx="5620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ffff"/>
                </a:solidFill>
                <a:latin typeface="Times New Roman"/>
              </a:rPr>
              <a:t>280 380        780        1000</a:t>
            </a:r>
            <a:r>
              <a:rPr b="1" lang="es-ES" sz="16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ffff"/>
                </a:solidFill>
                <a:latin typeface="Times New Roman"/>
              </a:rPr>
              <a:t>2000</a:t>
            </a:r>
            <a:r>
              <a:rPr b="1" lang="es-ES" sz="16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ffff"/>
                </a:solidFill>
                <a:latin typeface="Times New Roman"/>
              </a:rPr>
              <a:t>2500 2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996920" y="3006720"/>
            <a:ext cx="5472360" cy="2525760"/>
          </a:xfrm>
          <a:noFill/>
          <a:ln w="255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494600" y="4653000"/>
            <a:ext cx="3269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Float incoloro con capa selectiv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Mucha luz, poco c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004840" y="5545080"/>
            <a:ext cx="180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238480" y="5553000"/>
            <a:ext cx="144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2504880" y="5553000"/>
            <a:ext cx="468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644920" y="5553000"/>
            <a:ext cx="144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116080" y="5551560"/>
            <a:ext cx="180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373480" y="5548320"/>
            <a:ext cx="144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776680" y="5549760"/>
            <a:ext cx="1440" cy="1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001960" y="5551560"/>
            <a:ext cx="144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127400" y="5545080"/>
            <a:ext cx="1800" cy="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905360" y="5545080"/>
            <a:ext cx="144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719520" y="5545080"/>
            <a:ext cx="144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260960" y="5545080"/>
            <a:ext cx="1440" cy="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371840" y="5545080"/>
            <a:ext cx="1800" cy="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1981080" y="1293840"/>
            <a:ext cx="1800" cy="4270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rot="16200000">
            <a:off x="-570600" y="3312360"/>
            <a:ext cx="342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Times New Roman"/>
              </a:rPr>
              <a:t>Transmisión energé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257800" y="6019920"/>
            <a:ext cx="274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ccecff"/>
                </a:solidFill>
                <a:latin typeface="Times New Roman"/>
              </a:rPr>
              <a:t>Longitud de Onda [nm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838080" y="76320"/>
            <a:ext cx="815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Nuevo concepto importante ...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Arial"/>
              </a:rPr>
              <a:t>La Sele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579840" y="3200400"/>
            <a:ext cx="2133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ffff"/>
                </a:solidFill>
                <a:latin typeface="Times New Roman"/>
              </a:rPr>
              <a:t>Selectividad </a:t>
            </a:r>
            <a:r>
              <a:rPr b="0" lang="es-ES" sz="2400" spc="-1" strike="noStrike">
                <a:solidFill>
                  <a:srgbClr val="00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486400" y="2971800"/>
            <a:ext cx="274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Times New Roman"/>
              </a:rPr>
              <a:t>Transmisión de Lu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638680" y="3429000"/>
            <a:ext cx="2362320" cy="1440"/>
          </a:xfrm>
          <a:prstGeom prst="line">
            <a:avLst/>
          </a:prstGeom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180040" y="3505320"/>
            <a:ext cx="3352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Times New Roman"/>
              </a:rPr>
              <a:t>Factor S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8001000" y="3200400"/>
            <a:ext cx="83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ffff"/>
                </a:solidFill>
                <a:latin typeface="Times New Roman"/>
              </a:rPr>
              <a:t>&lt;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352680" y="2832120"/>
            <a:ext cx="547380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99640" y="1896840"/>
            <a:ext cx="7318440" cy="26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b7e7ff"/>
                </a:solidFill>
                <a:latin typeface="Arial"/>
              </a:rPr>
              <a:t>LOS CRISTALES</a:t>
            </a:r>
            <a:br>
              <a:rPr sz="4400"/>
            </a:br>
            <a:r>
              <a:rPr b="0" lang="es-ES" sz="4400" spc="-1" strike="noStrike">
                <a:solidFill>
                  <a:srgbClr val="b7e7ff"/>
                </a:solidFill>
                <a:latin typeface="Arial"/>
              </a:rPr>
              <a:t>DE CONTROL SOLA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26560" y="9000"/>
            <a:ext cx="8153640" cy="179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TRES FORMAS DE CONTROL SOLAR</a:t>
            </a:r>
            <a:br>
              <a:rPr sz="2800"/>
            </a:b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1) Absorber la energía</a:t>
            </a:r>
            <a:br>
              <a:rPr sz="2800"/>
            </a:b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2) Reflejar la energía</a:t>
            </a:r>
            <a:br>
              <a:rPr sz="2800"/>
            </a:b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3) Filtrar la energía (los rayos infra-rojo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"/>
          <p:cNvSpPr/>
          <p:nvPr/>
        </p:nvSpPr>
        <p:spPr>
          <a:xfrm>
            <a:off x="4040280" y="2133720"/>
            <a:ext cx="839520" cy="326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248abe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332000" y="3429000"/>
            <a:ext cx="18064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flexión Energética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354320" y="4630680"/>
            <a:ext cx="1499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62a08"/>
                </a:solidFill>
                <a:latin typeface="Arial"/>
              </a:rPr>
              <a:t>Energía </a:t>
            </a:r>
            <a:br>
              <a:rPr sz="2000"/>
            </a:br>
            <a:r>
              <a:rPr b="0" lang="es-ES" sz="2000" spc="-1" strike="noStrike">
                <a:solidFill>
                  <a:srgbClr val="f62a08"/>
                </a:solidFill>
                <a:latin typeface="Arial"/>
              </a:rPr>
              <a:t>Reirrad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010200" y="2205000"/>
            <a:ext cx="15699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Transm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de Ener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Directa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(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675400" y="4630680"/>
            <a:ext cx="24019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62a08"/>
                </a:solidFill>
                <a:latin typeface="Arial"/>
              </a:rPr>
              <a:t>Energía </a:t>
            </a:r>
            <a:br>
              <a:rPr sz="2000"/>
            </a:br>
            <a:r>
              <a:rPr b="0" lang="es-ES" sz="2000" spc="-1" strike="noStrike">
                <a:solidFill>
                  <a:srgbClr val="f62a08"/>
                </a:solidFill>
                <a:latin typeface="Arial"/>
              </a:rPr>
              <a:t>Reirrad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521080" y="2416320"/>
            <a:ext cx="3544920" cy="2538360"/>
          </a:xfr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932360" y="3429000"/>
            <a:ext cx="15843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62a08"/>
                </a:solidFill>
                <a:latin typeface="Arial"/>
              </a:rPr>
              <a:t>Ab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62a08"/>
                </a:solidFill>
                <a:latin typeface="Arial"/>
              </a:rPr>
              <a:t>Energética </a:t>
            </a:r>
            <a:br>
              <a:rPr sz="2000"/>
            </a:br>
            <a:r>
              <a:rPr b="0" lang="es-ES" sz="2000" spc="-1" strike="noStrike">
                <a:solidFill>
                  <a:srgbClr val="f62a08"/>
                </a:solidFill>
                <a:latin typeface="Arial"/>
              </a:rPr>
              <a:t>(A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7523280" y="2205000"/>
            <a:ext cx="1616040" cy="3125880"/>
            <a:chOff x="7523280" y="2205000"/>
            <a:chExt cx="1616040" cy="3125880"/>
          </a:xfrm>
        </p:grpSpPr>
        <p:sp>
          <p:nvSpPr>
            <p:cNvPr id="758" name=""/>
            <p:cNvSpPr/>
            <p:nvPr/>
          </p:nvSpPr>
          <p:spPr>
            <a:xfrm>
              <a:off x="8026560" y="3178080"/>
              <a:ext cx="1112760" cy="118620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ffcc00"/>
                  </a:solidFill>
                  <a:latin typeface="Arial"/>
                </a:rPr>
                <a:t>Factor</a:t>
              </a:r>
              <a:br>
                <a:rPr sz="2400"/>
              </a:br>
              <a:r>
                <a:rPr b="1" lang="es-ES" sz="2400" spc="-1" strike="noStrike">
                  <a:solidFill>
                    <a:srgbClr val="ffcc00"/>
                  </a:solidFill>
                  <a:latin typeface="Arial"/>
                </a:rPr>
                <a:t>Solar</a:t>
              </a:r>
              <a:br>
                <a:rPr sz="2400"/>
              </a:br>
              <a:r>
                <a:rPr b="1" lang="es-ES" sz="2400" spc="-1" strike="noStrike">
                  <a:solidFill>
                    <a:srgbClr val="ffcc00"/>
                  </a:solidFill>
                  <a:latin typeface="Arial"/>
                </a:rPr>
                <a:t>(F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9" name=""/>
            <p:cNvGrpSpPr/>
            <p:nvPr/>
          </p:nvGrpSpPr>
          <p:grpSpPr>
            <a:xfrm>
              <a:off x="7523280" y="2205000"/>
              <a:ext cx="536040" cy="3125880"/>
              <a:chOff x="7523280" y="2205000"/>
              <a:chExt cx="536040" cy="3125880"/>
            </a:xfrm>
          </p:grpSpPr>
          <p:sp>
            <p:nvSpPr>
              <p:cNvPr id="760" name=""/>
              <p:cNvSpPr/>
              <p:nvPr/>
            </p:nvSpPr>
            <p:spPr>
              <a:xfrm>
                <a:off x="7677000" y="2205000"/>
                <a:ext cx="1800" cy="3124080"/>
              </a:xfrm>
              <a:prstGeom prst="line">
                <a:avLst/>
              </a:prstGeom>
              <a:ln w="507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7523280" y="2205000"/>
                <a:ext cx="155520" cy="1800"/>
              </a:xfrm>
              <a:prstGeom prst="line">
                <a:avLst/>
              </a:prstGeom>
              <a:ln w="507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7523280" y="5329080"/>
                <a:ext cx="155520" cy="1800"/>
              </a:xfrm>
              <a:prstGeom prst="line">
                <a:avLst/>
              </a:prstGeom>
              <a:ln w="507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7675200" y="3728880"/>
                <a:ext cx="384120" cy="1800"/>
              </a:xfrm>
              <a:prstGeom prst="line">
                <a:avLst/>
              </a:prstGeom>
              <a:ln w="50760">
                <a:solidFill>
                  <a:srgbClr val="ffcc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1045800" y="5661000"/>
            <a:ext cx="7558560" cy="603360"/>
            <a:chOff x="1045800" y="5661000"/>
            <a:chExt cx="7558560" cy="603360"/>
          </a:xfrm>
        </p:grpSpPr>
        <p:sp>
          <p:nvSpPr>
            <p:cNvPr id="765" name=""/>
            <p:cNvSpPr/>
            <p:nvPr/>
          </p:nvSpPr>
          <p:spPr>
            <a:xfrm>
              <a:off x="1045800" y="5745240"/>
              <a:ext cx="7463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ffcc00"/>
                  </a:solidFill>
                  <a:latin typeface="Arial"/>
                </a:rPr>
                <a:t>Ecuación energética:      1 = TED + AE + 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730760" y="5661000"/>
              <a:ext cx="3873600" cy="59688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 fill="hold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 fill="hold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1227240" y="1341360"/>
            <a:ext cx="7161120" cy="467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imes New Roman"/>
              </a:rPr>
              <a:t>Filosofía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00ffff"/>
                </a:solidFill>
                <a:latin typeface="Times New Roman"/>
              </a:rPr>
              <a:t>+</a:t>
            </a:r>
            <a:r>
              <a:rPr b="0" lang="es-E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ffff"/>
                </a:solidFill>
                <a:latin typeface="Times New Roman"/>
              </a:rPr>
              <a:t>Comod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00ffff"/>
                </a:solidFill>
                <a:latin typeface="Times New Roman"/>
              </a:rPr>
              <a:t>+ </a:t>
            </a:r>
            <a:r>
              <a:rPr b="0" lang="es-ES" sz="2400" spc="-1" strike="noStrike">
                <a:solidFill>
                  <a:srgbClr val="00ffff"/>
                </a:solidFill>
                <a:latin typeface="Times New Roman"/>
              </a:rPr>
              <a:t>Economí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imes New Roman"/>
              </a:rPr>
              <a:t>Los Cristales Antisola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imes New Roman"/>
              </a:rPr>
              <a:t>Algunas Defini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imes New Roman"/>
              </a:rPr>
              <a:t>El Float – El Vidrio Flotado – El Crist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imes New Roman"/>
              </a:rPr>
              <a:t>Los Cristales Pirolíticos reflectiv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imes New Roman"/>
              </a:rPr>
              <a:t>Los Cristales Piroliticos con filtro infrarroj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imes New Roman"/>
              </a:rPr>
              <a:t>Los Cristales de Baja Emisiv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imes New Roman"/>
              </a:rPr>
              <a:t>Los Cristales con Capa al Vacio de filtro infrarroj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imes New Roman"/>
              </a:rPr>
              <a:t>y baja emisividad (Low-E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837720" y="304920"/>
            <a:ext cx="81536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Conteni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7720" y="22320"/>
            <a:ext cx="815364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Tahoma"/>
              </a:rPr>
              <a:t>Control solar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¿Como disminuir el Factor Solar (FS)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1600200" y="1143000"/>
            <a:ext cx="5867280" cy="2279520"/>
            <a:chOff x="1600200" y="1143000"/>
            <a:chExt cx="5867280" cy="2279520"/>
          </a:xfrm>
        </p:grpSpPr>
        <p:sp>
          <p:nvSpPr>
            <p:cNvPr id="769" name=""/>
            <p:cNvSpPr/>
            <p:nvPr/>
          </p:nvSpPr>
          <p:spPr>
            <a:xfrm>
              <a:off x="3565440" y="2444760"/>
              <a:ext cx="441360" cy="977760"/>
            </a:xfrm>
            <a:prstGeom prst="rect">
              <a:avLst/>
            </a:prstGeom>
            <a:gradFill rotWithShape="0">
              <a:gsLst>
                <a:gs pos="0">
                  <a:srgbClr val="b6cad1"/>
                </a:gs>
                <a:gs pos="50000">
                  <a:srgbClr val="33cccc"/>
                </a:gs>
                <a:gs pos="100000">
                  <a:srgbClr val="b6cad1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257720" y="2444760"/>
              <a:ext cx="436680" cy="977760"/>
            </a:xfrm>
            <a:prstGeom prst="rect">
              <a:avLst/>
            </a:prstGeom>
            <a:gradFill rotWithShape="0">
              <a:gsLst>
                <a:gs pos="0">
                  <a:srgbClr val="b6cad1"/>
                </a:gs>
                <a:gs pos="50000">
                  <a:srgbClr val="ffcc00"/>
                </a:gs>
                <a:gs pos="100000">
                  <a:srgbClr val="b6cad1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943520" y="2444760"/>
              <a:ext cx="442800" cy="977760"/>
            </a:xfrm>
            <a:prstGeom prst="rect">
              <a:avLst/>
            </a:prstGeom>
            <a:gradFill rotWithShape="0">
              <a:gsLst>
                <a:gs pos="0">
                  <a:srgbClr val="b6cad1"/>
                </a:gs>
                <a:gs pos="50000">
                  <a:srgbClr val="cc9900"/>
                </a:gs>
                <a:gs pos="100000">
                  <a:srgbClr val="b6cad1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635800" y="2444760"/>
              <a:ext cx="442800" cy="977760"/>
            </a:xfrm>
            <a:prstGeom prst="rect">
              <a:avLst/>
            </a:prstGeom>
            <a:gradFill rotWithShape="0">
              <a:gsLst>
                <a:gs pos="0">
                  <a:srgbClr val="b6cad1"/>
                </a:gs>
                <a:gs pos="50000">
                  <a:srgbClr val="010199"/>
                </a:gs>
                <a:gs pos="100000">
                  <a:srgbClr val="b6cad1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600200" y="1143000"/>
              <a:ext cx="58672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2400" spc="-1" strike="noStrike">
                  <a:solidFill>
                    <a:srgbClr val="00ffff"/>
                  </a:solidFill>
                  <a:latin typeface="Arial"/>
                </a:rPr>
                <a:t>Modificar la composición del cristal</a:t>
              </a:r>
              <a:br>
                <a:rPr sz="2600"/>
              </a:br>
              <a:r>
                <a:rPr b="0" lang="es-ES" sz="1800" spc="-1" strike="noStrike">
                  <a:solidFill>
                    <a:srgbClr val="00ffff"/>
                  </a:solidFill>
                  <a:latin typeface="Arial"/>
                </a:rPr>
                <a:t>para aumentar la absorción energética (A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s-ES" sz="2000" spc="-1" strike="noStrike">
                  <a:solidFill>
                    <a:srgbClr val="ffcc00"/>
                  </a:solidFill>
                  <a:latin typeface="Arial"/>
                  <a:ea typeface="SimSun"/>
                </a:rPr>
                <a:t>Vidrio flotado de col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4" name=""/>
          <p:cNvSpPr/>
          <p:nvPr/>
        </p:nvSpPr>
        <p:spPr>
          <a:xfrm>
            <a:off x="1600200" y="3581280"/>
            <a:ext cx="73152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ffff"/>
                </a:solidFill>
                <a:latin typeface="Arial"/>
              </a:rPr>
              <a:t>Aplicar una capa metálica</a:t>
            </a:r>
            <a:br>
              <a:rPr sz="2200"/>
            </a:b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para cambiar la reflexión (RE), la absorción (AE) y/o la emis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000" spc="-1" strike="noStrike">
                <a:solidFill>
                  <a:srgbClr val="ffcc00"/>
                </a:solidFill>
                <a:latin typeface="Arial"/>
                <a:ea typeface="SimSun"/>
              </a:rPr>
              <a:t>Capas pirolíticas (aplicadas en calie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292929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  <a:ea typeface="SimSun"/>
              </a:rPr>
              <a:t> </a:t>
            </a:r>
            <a:r>
              <a:rPr b="0" lang="es-ES" sz="1800" spc="-1" strike="noStrike">
                <a:solidFill>
                  <a:srgbClr val="00ffff"/>
                </a:solidFill>
                <a:latin typeface="Arial"/>
                <a:ea typeface="SimSun"/>
              </a:rPr>
              <a:t>Capa reflectiva metá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292929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  <a:ea typeface="SimSun"/>
              </a:rPr>
              <a:t> </a:t>
            </a:r>
            <a:r>
              <a:rPr b="0" lang="es-ES" sz="1800" spc="-1" strike="noStrike">
                <a:solidFill>
                  <a:srgbClr val="00ffff"/>
                </a:solidFill>
                <a:latin typeface="Arial"/>
                <a:ea typeface="SimSun"/>
              </a:rPr>
              <a:t>Capa no reflectiva, con filtro para radiación infrarroj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000" spc="-1" strike="noStrike">
                <a:solidFill>
                  <a:srgbClr val="ffcc00"/>
                </a:solidFill>
                <a:latin typeface="Arial"/>
                <a:ea typeface="SimSun"/>
              </a:rPr>
              <a:t>Capas al Vacío (aplicadas en Magnetr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292929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  <a:ea typeface="SimSun"/>
              </a:rPr>
              <a:t> </a:t>
            </a:r>
            <a:r>
              <a:rPr b="0" lang="es-ES" sz="1800" spc="-1" strike="noStrike">
                <a:solidFill>
                  <a:srgbClr val="00ffff"/>
                </a:solidFill>
                <a:latin typeface="Arial"/>
                <a:ea typeface="SimSun"/>
              </a:rPr>
              <a:t>Capa reflectiva metálica absorb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292929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  <a:ea typeface="SimSun"/>
              </a:rPr>
              <a:t> </a:t>
            </a:r>
            <a:r>
              <a:rPr b="0" lang="es-ES" sz="1800" spc="-1" strike="noStrike">
                <a:solidFill>
                  <a:srgbClr val="00ffff"/>
                </a:solidFill>
                <a:latin typeface="Arial"/>
                <a:ea typeface="SimSun"/>
              </a:rPr>
              <a:t>Capa reflectiva o no, con filtro para radiación infrarro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 fill="hold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dur="indefinite" fill="hold">
                      <p:stCondLst>
                        <p:cond delay="indefinite"/>
                      </p:stCondLst>
                      <p:childTnLst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 fill="hold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2590920" y="762120"/>
            <a:ext cx="419076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187280" y="2514600"/>
            <a:ext cx="658512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EL VIDRIO FLOT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ahoma"/>
              </a:rPr>
              <a:t>Alias “El Floa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ahoma"/>
              </a:rPr>
              <a:t>Alias “El Cristal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/>
          </p:nvPr>
        </p:nvSpPr>
        <p:spPr>
          <a:xfrm>
            <a:off x="219240" y="484200"/>
            <a:ext cx="257328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66699"/>
                </a:solidFill>
                <a:latin typeface="Arial"/>
              </a:rPr>
              <a:t>Are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66699"/>
                </a:solidFill>
                <a:latin typeface="Arial"/>
              </a:rPr>
              <a:t>(70 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174760" y="484200"/>
            <a:ext cx="1543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66699"/>
                </a:solidFill>
                <a:latin typeface="Arial"/>
              </a:rPr>
              <a:t>Fundentes</a:t>
            </a:r>
            <a:br>
              <a:rPr sz="1800"/>
            </a:br>
            <a:r>
              <a:rPr b="0" lang="es-ES" sz="1800" spc="-1" strike="noStrike">
                <a:solidFill>
                  <a:srgbClr val="666699"/>
                </a:solidFill>
                <a:latin typeface="Arial"/>
              </a:rPr>
              <a:t>(15 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676680" y="484200"/>
            <a:ext cx="1886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66699"/>
                </a:solidFill>
                <a:latin typeface="Arial"/>
              </a:rPr>
              <a:t>Estabilizadores</a:t>
            </a:r>
            <a:br>
              <a:rPr sz="1800"/>
            </a:br>
            <a:r>
              <a:rPr b="0" lang="es-ES" sz="1800" spc="-1" strike="noStrike">
                <a:solidFill>
                  <a:srgbClr val="666699"/>
                </a:solidFill>
                <a:latin typeface="Arial"/>
              </a:rPr>
              <a:t>(15 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890360" y="1671480"/>
            <a:ext cx="6278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666699"/>
                </a:solidFill>
                <a:latin typeface="Arial"/>
              </a:rPr>
              <a:t>Sod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232080" y="1671480"/>
            <a:ext cx="10652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666699"/>
                </a:solidFill>
                <a:latin typeface="Arial"/>
              </a:rPr>
              <a:t>Limeston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666699"/>
                </a:solidFill>
                <a:latin typeface="Arial"/>
              </a:rPr>
              <a:t>Dolomi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666699"/>
                </a:solidFill>
                <a:latin typeface="Arial"/>
              </a:rPr>
              <a:t>Feldspat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804000" y="4084560"/>
            <a:ext cx="876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666699"/>
                </a:solidFill>
                <a:latin typeface="Arial"/>
              </a:rPr>
              <a:t>H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314360" y="1679400"/>
            <a:ext cx="55800" cy="63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515960" y="1830240"/>
            <a:ext cx="55800" cy="63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389240" y="1989000"/>
            <a:ext cx="53640" cy="63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355760" y="2290680"/>
            <a:ext cx="5724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407960" y="2133720"/>
            <a:ext cx="572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477800" y="2251080"/>
            <a:ext cx="5580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536840" y="1568520"/>
            <a:ext cx="5544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278000" y="1844640"/>
            <a:ext cx="554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380960" y="1838160"/>
            <a:ext cx="55800" cy="63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573200" y="1944720"/>
            <a:ext cx="554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263600" y="1560600"/>
            <a:ext cx="5724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428840" y="1512720"/>
            <a:ext cx="54000" cy="63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465200" y="1703520"/>
            <a:ext cx="54000" cy="648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587600" y="1703520"/>
            <a:ext cx="55440" cy="648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573200" y="1461960"/>
            <a:ext cx="5544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363680" y="1420920"/>
            <a:ext cx="554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225440" y="1346040"/>
            <a:ext cx="5724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450800" y="1330200"/>
            <a:ext cx="54000" cy="63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314360" y="1290600"/>
            <a:ext cx="5580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598760" y="1278000"/>
            <a:ext cx="5688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400040" y="2373480"/>
            <a:ext cx="54000" cy="648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400040" y="2522520"/>
            <a:ext cx="5400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465200" y="1968480"/>
            <a:ext cx="5400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457280" y="1238400"/>
            <a:ext cx="554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204920" y="1314360"/>
            <a:ext cx="57240" cy="63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174680" y="1619280"/>
            <a:ext cx="5580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096920" y="1438200"/>
            <a:ext cx="5400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225440" y="1460520"/>
            <a:ext cx="5724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096920" y="1171440"/>
            <a:ext cx="5400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200240" y="1163520"/>
            <a:ext cx="54000" cy="63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050840" y="1314360"/>
            <a:ext cx="55800" cy="63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219320" y="1701720"/>
            <a:ext cx="56880" cy="63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894040" y="2127240"/>
            <a:ext cx="572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870280" y="2259000"/>
            <a:ext cx="554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901960" y="2346480"/>
            <a:ext cx="554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879640" y="2425680"/>
            <a:ext cx="572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922480" y="2525760"/>
            <a:ext cx="558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936880" y="2244600"/>
            <a:ext cx="540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074600" y="1555920"/>
            <a:ext cx="572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768760" y="1601640"/>
            <a:ext cx="5544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741760" y="1735200"/>
            <a:ext cx="554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774880" y="1819440"/>
            <a:ext cx="55800" cy="6480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754360" y="1900080"/>
            <a:ext cx="5544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793960" y="2000160"/>
            <a:ext cx="554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809800" y="1719360"/>
            <a:ext cx="540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438800" y="2127240"/>
            <a:ext cx="554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414680" y="2259000"/>
            <a:ext cx="558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446720" y="2346480"/>
            <a:ext cx="554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425840" y="2425680"/>
            <a:ext cx="558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467240" y="2525760"/>
            <a:ext cx="554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478400" y="2244600"/>
            <a:ext cx="572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974880" y="2666880"/>
            <a:ext cx="441000" cy="511200"/>
          </a:xfrm>
          <a:prstGeom prst="ellipse">
            <a:avLst/>
          </a:prstGeom>
          <a:solidFill>
            <a:srgbClr val="7f7f7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974880" y="2666880"/>
            <a:ext cx="441000" cy="511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085760" y="2797200"/>
            <a:ext cx="216000" cy="250920"/>
          </a:xfrm>
          <a:prstGeom prst="ellipse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824360" y="2666880"/>
            <a:ext cx="441360" cy="511200"/>
          </a:xfrm>
          <a:prstGeom prst="ellipse">
            <a:avLst/>
          </a:prstGeom>
          <a:solidFill>
            <a:srgbClr val="7f7f7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824360" y="2666880"/>
            <a:ext cx="441360" cy="511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937040" y="2797200"/>
            <a:ext cx="216000" cy="250920"/>
          </a:xfrm>
          <a:prstGeom prst="ellipse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192320" y="2665440"/>
            <a:ext cx="3817800" cy="27000"/>
          </a:xfrm>
          <a:solidFill>
            <a:srgbClr val="ffffff"/>
          </a:solidFill>
          <a:ln w="12600">
            <a:solidFill>
              <a:srgbClr val="1919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225440" y="3176640"/>
            <a:ext cx="37594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264280" y="3300480"/>
            <a:ext cx="328320" cy="758880"/>
          </a:xfrm>
          <a:noFill/>
          <a:ln w="255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918040" y="3300480"/>
            <a:ext cx="327240" cy="758880"/>
          </a:xfrm>
          <a:noFill/>
          <a:ln w="255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135840" y="4689360"/>
            <a:ext cx="2509560" cy="505080"/>
          </a:xfr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372280" y="4057560"/>
            <a:ext cx="909360" cy="465120"/>
          </a:xfrm>
          <a:noFill/>
          <a:ln w="255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110040" y="2598840"/>
            <a:ext cx="554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159080" y="2590920"/>
            <a:ext cx="572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008600" y="2590920"/>
            <a:ext cx="5688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257640" y="2606760"/>
            <a:ext cx="572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984400" y="2048040"/>
            <a:ext cx="55800" cy="6480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592520" y="2598840"/>
            <a:ext cx="572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522680" y="2568600"/>
            <a:ext cx="5580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979880" y="2583000"/>
            <a:ext cx="5580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124600" y="2606760"/>
            <a:ext cx="554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243400" y="2716200"/>
            <a:ext cx="5724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202360" y="2606760"/>
            <a:ext cx="554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351400" y="3056040"/>
            <a:ext cx="5580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519880" y="3214800"/>
            <a:ext cx="554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430960" y="2935440"/>
            <a:ext cx="55440" cy="6480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446800" y="3282840"/>
            <a:ext cx="5544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664240" y="3400560"/>
            <a:ext cx="55440" cy="6480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969160" y="3214800"/>
            <a:ext cx="554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668920" y="3236760"/>
            <a:ext cx="55440" cy="63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897520" y="3414600"/>
            <a:ext cx="554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746680" y="3573360"/>
            <a:ext cx="558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591160" y="3505320"/>
            <a:ext cx="54000" cy="648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718240" y="3646440"/>
            <a:ext cx="54000" cy="63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759280" y="3324240"/>
            <a:ext cx="572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477040" y="3425760"/>
            <a:ext cx="5544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396040" y="3198960"/>
            <a:ext cx="5688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438880" y="3094200"/>
            <a:ext cx="5400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51400" y="2906640"/>
            <a:ext cx="558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529240" y="3365640"/>
            <a:ext cx="554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638680" y="3597120"/>
            <a:ext cx="572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657760" y="3716280"/>
            <a:ext cx="5400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786280" y="3738600"/>
            <a:ext cx="5580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668920" y="3852720"/>
            <a:ext cx="5544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719680" y="3778200"/>
            <a:ext cx="5400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781600" y="3905280"/>
            <a:ext cx="5400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664240" y="3986280"/>
            <a:ext cx="5544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783400" y="3557520"/>
            <a:ext cx="5400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722920" y="3456000"/>
            <a:ext cx="554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719680" y="4054320"/>
            <a:ext cx="540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703840" y="4195800"/>
            <a:ext cx="554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805360" y="4159080"/>
            <a:ext cx="5580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805360" y="4046400"/>
            <a:ext cx="558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856120" y="4127400"/>
            <a:ext cx="5580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992920" y="4181400"/>
            <a:ext cx="554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018120" y="4079880"/>
            <a:ext cx="572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099120" y="4181400"/>
            <a:ext cx="540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221520" y="4167360"/>
            <a:ext cx="56880" cy="648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305400" y="4267080"/>
            <a:ext cx="558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338880" y="4378320"/>
            <a:ext cx="554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272280" y="4127400"/>
            <a:ext cx="5544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80280" y="4235400"/>
            <a:ext cx="5400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456240" y="4302000"/>
            <a:ext cx="5400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462720" y="4410000"/>
            <a:ext cx="554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551640" y="4641840"/>
            <a:ext cx="554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562800" y="4924440"/>
            <a:ext cx="572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562800" y="4730760"/>
            <a:ext cx="572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578640" y="4449600"/>
            <a:ext cx="5724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615000" y="4575240"/>
            <a:ext cx="5580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465960" y="4559400"/>
            <a:ext cx="554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486480" y="4759200"/>
            <a:ext cx="572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603840" y="4781520"/>
            <a:ext cx="5580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027840" y="4562640"/>
            <a:ext cx="2617560" cy="758520"/>
          </a:xfr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356520" y="3552840"/>
            <a:ext cx="2288880" cy="506520"/>
          </a:xfr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572160" y="3932280"/>
            <a:ext cx="216000" cy="125280"/>
          </a:xfrm>
          <a:prstGeom prst="rect">
            <a:avLst/>
          </a:prstGeom>
          <a:solidFill>
            <a:srgbClr val="ffb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831000" y="3932280"/>
            <a:ext cx="217440" cy="125280"/>
          </a:xfrm>
          <a:prstGeom prst="rect">
            <a:avLst/>
          </a:prstGeom>
          <a:solidFill>
            <a:srgbClr val="ffb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089840" y="3932280"/>
            <a:ext cx="217440" cy="125280"/>
          </a:xfrm>
          <a:prstGeom prst="rect">
            <a:avLst/>
          </a:prstGeom>
          <a:solidFill>
            <a:srgbClr val="ffb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348680" y="3932280"/>
            <a:ext cx="218880" cy="125280"/>
          </a:xfrm>
          <a:prstGeom prst="rect">
            <a:avLst/>
          </a:prstGeom>
          <a:solidFill>
            <a:srgbClr val="ffb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607160" y="3932280"/>
            <a:ext cx="219240" cy="125280"/>
          </a:xfrm>
          <a:prstGeom prst="rect">
            <a:avLst/>
          </a:prstGeom>
          <a:solidFill>
            <a:srgbClr val="ffb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866000" y="3932280"/>
            <a:ext cx="217440" cy="125280"/>
          </a:xfrm>
          <a:prstGeom prst="rect">
            <a:avLst/>
          </a:prstGeom>
          <a:solidFill>
            <a:srgbClr val="ffb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521000" y="905040"/>
            <a:ext cx="620640" cy="1598400"/>
          </a:xfrm>
          <a:noFill/>
          <a:ln w="1260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22160" y="905040"/>
            <a:ext cx="621000" cy="1598400"/>
          </a:xfrm>
          <a:noFill/>
          <a:ln w="1260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989440" y="1198440"/>
            <a:ext cx="496800" cy="1281240"/>
          </a:xfrm>
          <a:noFill/>
          <a:ln w="1260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349360" y="1198440"/>
            <a:ext cx="495360" cy="1281240"/>
          </a:xfrm>
          <a:noFill/>
          <a:ln w="1260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551480" y="1198440"/>
            <a:ext cx="496800" cy="1281240"/>
          </a:xfrm>
          <a:noFill/>
          <a:ln w="1260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913200" y="1198440"/>
            <a:ext cx="493560" cy="1281240"/>
          </a:xfrm>
          <a:noFill/>
          <a:ln w="1260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822320" y="1271520"/>
            <a:ext cx="5580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646280" y="1576440"/>
            <a:ext cx="5544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714680" y="1393920"/>
            <a:ext cx="5544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808280" y="1420920"/>
            <a:ext cx="5400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714680" y="1131840"/>
            <a:ext cx="55440" cy="63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816200" y="1123920"/>
            <a:ext cx="554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670040" y="1271520"/>
            <a:ext cx="5400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692360" y="1658880"/>
            <a:ext cx="5400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693800" y="1512720"/>
            <a:ext cx="54000" cy="63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984400" y="2593800"/>
            <a:ext cx="558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598760" y="2598840"/>
            <a:ext cx="5688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749600" y="2606760"/>
            <a:ext cx="5688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477800" y="2593800"/>
            <a:ext cx="5580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000160" y="2598840"/>
            <a:ext cx="5580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151000" y="2606760"/>
            <a:ext cx="5400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876320" y="2593800"/>
            <a:ext cx="5580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289240" y="2598840"/>
            <a:ext cx="554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440080" y="2606760"/>
            <a:ext cx="554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689200" y="2598840"/>
            <a:ext cx="572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840040" y="2606760"/>
            <a:ext cx="572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568600" y="2593800"/>
            <a:ext cx="55440" cy="65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017880" y="2598840"/>
            <a:ext cx="554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68720" y="2606760"/>
            <a:ext cx="554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417840" y="2598840"/>
            <a:ext cx="554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567240" y="2606760"/>
            <a:ext cx="554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295800" y="2593800"/>
            <a:ext cx="540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672000" y="2598840"/>
            <a:ext cx="554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819600" y="2606760"/>
            <a:ext cx="572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432320" y="2590920"/>
            <a:ext cx="554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281480" y="2590920"/>
            <a:ext cx="554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756320" y="2590920"/>
            <a:ext cx="53640" cy="63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817720" y="1739880"/>
            <a:ext cx="572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040200" y="1735200"/>
            <a:ext cx="554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930400" y="1857240"/>
            <a:ext cx="558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060720" y="1882800"/>
            <a:ext cx="572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930400" y="1593720"/>
            <a:ext cx="5580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033720" y="1584360"/>
            <a:ext cx="554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886120" y="1735200"/>
            <a:ext cx="540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365720" y="1495440"/>
            <a:ext cx="5688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341960" y="1628640"/>
            <a:ext cx="5688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373640" y="1712880"/>
            <a:ext cx="554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352760" y="1795320"/>
            <a:ext cx="558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394160" y="1895400"/>
            <a:ext cx="554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408560" y="1612800"/>
            <a:ext cx="554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583160" y="1941480"/>
            <a:ext cx="554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416480" y="1635120"/>
            <a:ext cx="554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638600" y="1628640"/>
            <a:ext cx="558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529160" y="1754280"/>
            <a:ext cx="554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659480" y="1776240"/>
            <a:ext cx="5544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529160" y="1487520"/>
            <a:ext cx="5544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630680" y="1481040"/>
            <a:ext cx="5724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484520" y="1628640"/>
            <a:ext cx="558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317840" y="1860480"/>
            <a:ext cx="5580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299120" y="1941480"/>
            <a:ext cx="5544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338720" y="2043000"/>
            <a:ext cx="5544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257720" y="1579680"/>
            <a:ext cx="54000" cy="633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232160" y="1712880"/>
            <a:ext cx="54000" cy="651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529160" y="1852560"/>
            <a:ext cx="5544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505400" y="1989000"/>
            <a:ext cx="55440" cy="637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213920" y="5651640"/>
            <a:ext cx="4512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666699"/>
                </a:solidFill>
                <a:latin typeface="Arial"/>
              </a:rPr>
              <a:t>Cristal de color (bronce, gris, verde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224000" y="6108840"/>
            <a:ext cx="762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666699"/>
                </a:solidFill>
                <a:latin typeface="Arial"/>
              </a:rPr>
              <a:t>P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625000" y="5651640"/>
            <a:ext cx="242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666699"/>
                </a:solidFill>
                <a:latin typeface="Arial"/>
              </a:rPr>
              <a:t>: + óxidos metál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626080" y="6108840"/>
            <a:ext cx="1932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666699"/>
                </a:solidFill>
                <a:latin typeface="Arial"/>
              </a:rPr>
              <a:t>: 2.5 kg/m2/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077840" y="5776920"/>
            <a:ext cx="115920" cy="1303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077840" y="6216480"/>
            <a:ext cx="115920" cy="1303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5" name=""/>
          <p:cNvGraphicFramePr/>
          <p:nvPr/>
        </p:nvGraphicFramePr>
        <p:xfrm>
          <a:off x="7543800" y="304920"/>
          <a:ext cx="11145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304920"/>
                    <a:ext cx="11145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395280" y="139320"/>
            <a:ext cx="8137440" cy="13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Los cristales coloreados en la mas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1855800" y="4827600"/>
            <a:ext cx="5686560" cy="13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Baja reflex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Alta absorción de energí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Bronce – Gris – Verde – Azul - Ros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9" name=""/>
          <p:cNvSpPr/>
          <p:nvPr/>
        </p:nvSpPr>
        <p:spPr>
          <a:xfrm>
            <a:off x="4651200" y="2755800"/>
            <a:ext cx="169920" cy="1884600"/>
          </a:xfrm>
          <a:solidFill>
            <a:srgbClr val="bfff7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533760" y="4238640"/>
            <a:ext cx="2909880" cy="168120"/>
          </a:xfrm>
          <a:noFill/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598920" y="831960"/>
            <a:ext cx="1440" cy="95040"/>
          </a:xfrm>
          <a:prstGeom prst="line">
            <a:avLst/>
          </a:prstGeom>
          <a:ln w="12600">
            <a:solidFill>
              <a:srgbClr val="fff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41520" y="4262400"/>
            <a:ext cx="255600" cy="125280"/>
          </a:xfr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033800" y="2887560"/>
            <a:ext cx="1554120" cy="963720"/>
          </a:xfr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660920" y="3240000"/>
            <a:ext cx="147600" cy="378000"/>
          </a:xfr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6288120" y="3705120"/>
            <a:ext cx="690480" cy="971640"/>
            <a:chOff x="6288120" y="3705120"/>
            <a:chExt cx="690480" cy="971640"/>
          </a:xfrm>
        </p:grpSpPr>
        <p:sp>
          <p:nvSpPr>
            <p:cNvPr id="996" name=""/>
            <p:cNvSpPr/>
            <p:nvPr/>
          </p:nvSpPr>
          <p:spPr>
            <a:xfrm>
              <a:off x="6648480" y="4419720"/>
              <a:ext cx="330120" cy="66600"/>
            </a:xfrm>
            <a:solidFill>
              <a:srgbClr val="ffcc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615000" y="3705120"/>
              <a:ext cx="354240" cy="714600"/>
            </a:xfr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840360" y="3765600"/>
              <a:ext cx="39960" cy="590400"/>
            </a:xfrm>
            <a:solidFill>
              <a:srgbClr val="bc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699240" y="3765600"/>
              <a:ext cx="38160" cy="590400"/>
            </a:xfrm>
            <a:solidFill>
              <a:srgbClr val="bc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500880" y="3765600"/>
              <a:ext cx="357120" cy="718920"/>
            </a:xfr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732720" y="3828960"/>
              <a:ext cx="41040" cy="588960"/>
            </a:xfrm>
            <a:solidFill>
              <a:srgbClr val="bc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591240" y="3828960"/>
              <a:ext cx="39600" cy="588960"/>
            </a:xfrm>
            <a:solidFill>
              <a:srgbClr val="bc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394320" y="3828960"/>
              <a:ext cx="354240" cy="717480"/>
            </a:xfr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624720" y="3895560"/>
              <a:ext cx="41040" cy="588960"/>
            </a:xfrm>
            <a:solidFill>
              <a:srgbClr val="bc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477120" y="3895560"/>
              <a:ext cx="39600" cy="588960"/>
            </a:xfrm>
            <a:solidFill>
              <a:srgbClr val="bc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288120" y="3895560"/>
              <a:ext cx="353880" cy="714600"/>
            </a:xfr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513480" y="3957480"/>
              <a:ext cx="39600" cy="588960"/>
            </a:xfrm>
            <a:solidFill>
              <a:srgbClr val="bc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370560" y="3957480"/>
              <a:ext cx="41400" cy="588960"/>
            </a:xfrm>
            <a:solidFill>
              <a:srgbClr val="bc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431040" y="4492800"/>
              <a:ext cx="63360" cy="53640"/>
            </a:xfrm>
            <a:solidFill>
              <a:srgbClr val="ede9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410160" y="3922560"/>
              <a:ext cx="105120" cy="87480"/>
            </a:xfrm>
            <a:solidFill>
              <a:srgbClr val="2525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431040" y="3938760"/>
              <a:ext cx="63360" cy="55440"/>
            </a:xfrm>
            <a:solidFill>
              <a:srgbClr val="6f6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305400" y="4610160"/>
              <a:ext cx="330480" cy="66600"/>
            </a:xfrm>
            <a:solidFill>
              <a:srgbClr val="ffcc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446880" y="3951360"/>
              <a:ext cx="30240" cy="2520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"/>
          <p:cNvSpPr/>
          <p:nvPr/>
        </p:nvSpPr>
        <p:spPr>
          <a:xfrm rot="16200000">
            <a:off x="360" y="3351960"/>
            <a:ext cx="2133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Times New Roman"/>
              </a:rPr>
              <a:t>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019920" y="5791320"/>
            <a:ext cx="2209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ccecff"/>
                </a:solidFill>
                <a:latin typeface="Times New Roman"/>
              </a:rPr>
              <a:t>Longitud de O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38080" y="76320"/>
            <a:ext cx="815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El Cristal flotado coloreado en la 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La Selectividad de los Col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2117880" y="1523880"/>
            <a:ext cx="1064880" cy="4164120"/>
            <a:chOff x="2117880" y="1523880"/>
            <a:chExt cx="1064880" cy="4164120"/>
          </a:xfrm>
        </p:grpSpPr>
        <p:sp>
          <p:nvSpPr>
            <p:cNvPr id="1018" name=""/>
            <p:cNvSpPr/>
            <p:nvPr/>
          </p:nvSpPr>
          <p:spPr>
            <a:xfrm>
              <a:off x="2117880" y="3809880"/>
              <a:ext cx="96840" cy="1878120"/>
            </a:xfrm>
            <a:solidFill>
              <a:srgbClr val="004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206800" y="3701880"/>
              <a:ext cx="31680" cy="1986120"/>
            </a:xfrm>
            <a:solidFill>
              <a:srgbClr val="005e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224080" y="3576600"/>
              <a:ext cx="31680" cy="2111400"/>
            </a:xfrm>
            <a:solidFill>
              <a:srgbClr val="006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241720" y="3062160"/>
              <a:ext cx="31680" cy="2625840"/>
            </a:xfrm>
            <a:solidFill>
              <a:srgbClr val="0084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260440" y="2994120"/>
              <a:ext cx="32040" cy="2693880"/>
            </a:xfrm>
            <a:solidFill>
              <a:srgbClr val="00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279520" y="2901960"/>
              <a:ext cx="33480" cy="2786040"/>
            </a:xfrm>
            <a:solidFill>
              <a:srgbClr val="00aa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297160" y="2627280"/>
              <a:ext cx="30240" cy="3060720"/>
            </a:xfrm>
            <a:solidFill>
              <a:srgbClr val="00bb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314440" y="2471760"/>
              <a:ext cx="33480" cy="3216240"/>
            </a:xfrm>
            <a:solidFill>
              <a:srgbClr val="00d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333520" y="2370240"/>
              <a:ext cx="30240" cy="3317760"/>
            </a:xfrm>
            <a:solidFill>
              <a:srgbClr val="00e1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895480" y="2173320"/>
              <a:ext cx="33480" cy="3514680"/>
            </a:xfrm>
            <a:solidFill>
              <a:srgbClr val="00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336760" y="1854360"/>
              <a:ext cx="65160" cy="3833640"/>
            </a:xfrm>
            <a:solidFill>
              <a:srgbClr val="00fff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386080" y="1755720"/>
              <a:ext cx="33120" cy="3932280"/>
            </a:xfrm>
            <a:solidFill>
              <a:srgbClr val="00f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406600" y="1654200"/>
              <a:ext cx="96840" cy="4033800"/>
            </a:xfrm>
            <a:solidFill>
              <a:srgbClr val="00ff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514600" y="1523880"/>
              <a:ext cx="31680" cy="4164120"/>
            </a:xfrm>
            <a:solidFill>
              <a:srgbClr val="00ff5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487600" y="1555920"/>
              <a:ext cx="74520" cy="4132080"/>
            </a:xfrm>
            <a:solidFill>
              <a:srgbClr val="00ff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552760" y="1565280"/>
              <a:ext cx="30240" cy="4122720"/>
            </a:xfrm>
            <a:solidFill>
              <a:srgbClr val="00ff3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570040" y="1560600"/>
              <a:ext cx="33480" cy="4127400"/>
            </a:xfrm>
            <a:solidFill>
              <a:srgbClr val="00ff2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587680" y="1558800"/>
              <a:ext cx="33120" cy="4129200"/>
            </a:xfrm>
            <a:solidFill>
              <a:srgbClr val="00ff1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608200" y="1555920"/>
              <a:ext cx="31680" cy="4132080"/>
            </a:xfrm>
            <a:solidFill>
              <a:srgbClr val="00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625840" y="1555920"/>
              <a:ext cx="31680" cy="4132080"/>
            </a:xfrm>
            <a:solidFill>
              <a:srgbClr val="15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646360" y="1555920"/>
              <a:ext cx="31680" cy="4132080"/>
            </a:xfrm>
            <a:solidFill>
              <a:srgbClr val="26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662200" y="1576440"/>
              <a:ext cx="31680" cy="4111560"/>
            </a:xfrm>
            <a:solidFill>
              <a:srgbClr val="3c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679840" y="1604880"/>
              <a:ext cx="33120" cy="4083120"/>
            </a:xfrm>
            <a:solidFill>
              <a:srgbClr val="4d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698920" y="1635120"/>
              <a:ext cx="33120" cy="4052880"/>
            </a:xfrm>
            <a:solidFill>
              <a:srgbClr val="62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714760" y="1652760"/>
              <a:ext cx="33120" cy="4035240"/>
            </a:xfrm>
            <a:solidFill>
              <a:srgbClr val="73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738520" y="1646280"/>
              <a:ext cx="31680" cy="4041720"/>
            </a:xfrm>
            <a:solidFill>
              <a:srgbClr val="88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54360" y="1635120"/>
              <a:ext cx="31680" cy="4052880"/>
            </a:xfrm>
            <a:solidFill>
              <a:srgbClr val="99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71640" y="1628640"/>
              <a:ext cx="32040" cy="4059360"/>
            </a:xfrm>
            <a:solidFill>
              <a:srgbClr val="ae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790720" y="1623960"/>
              <a:ext cx="31680" cy="4064040"/>
            </a:xfrm>
            <a:solidFill>
              <a:srgbClr val="b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809800" y="1623960"/>
              <a:ext cx="33480" cy="4064040"/>
            </a:xfrm>
            <a:solidFill>
              <a:srgbClr val="d5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827440" y="1623960"/>
              <a:ext cx="30240" cy="4064040"/>
            </a:xfrm>
            <a:solidFill>
              <a:srgbClr val="e6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846520" y="1635120"/>
              <a:ext cx="33120" cy="4052880"/>
            </a:xfrm>
            <a:solidFill>
              <a:srgbClr val="f7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863800" y="1654200"/>
              <a:ext cx="30240" cy="4033800"/>
            </a:xfrm>
            <a:solidFill>
              <a:srgbClr val="fff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881440" y="1671480"/>
              <a:ext cx="33120" cy="4016520"/>
            </a:xfrm>
            <a:solidFill>
              <a:srgbClr val="ffe1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901960" y="1684440"/>
              <a:ext cx="28440" cy="4003560"/>
            </a:xfr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916360" y="1700280"/>
              <a:ext cx="33120" cy="3987720"/>
            </a:xfrm>
            <a:solidFill>
              <a:srgbClr val="ffbb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938320" y="1901880"/>
              <a:ext cx="30240" cy="3786120"/>
            </a:xfrm>
            <a:solidFill>
              <a:srgbClr val="ffa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952720" y="2274840"/>
              <a:ext cx="33480" cy="3413160"/>
            </a:xfrm>
            <a:solidFill>
              <a:srgbClr val="ff95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975040" y="1873080"/>
              <a:ext cx="30240" cy="3814920"/>
            </a:xfrm>
            <a:solidFill>
              <a:srgbClr val="ff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989440" y="1873080"/>
              <a:ext cx="33120" cy="3814920"/>
            </a:xfrm>
            <a:solidFill>
              <a:srgbClr val="ff6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009960" y="1876320"/>
              <a:ext cx="31680" cy="3811680"/>
            </a:xfrm>
            <a:solidFill>
              <a:srgbClr val="ff5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029040" y="1889280"/>
              <a:ext cx="31680" cy="3798720"/>
            </a:xfrm>
            <a:solidFill>
              <a:srgbClr val="ff48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046320" y="1900080"/>
              <a:ext cx="31680" cy="3787920"/>
            </a:xfr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062160" y="2155680"/>
              <a:ext cx="32040" cy="3532320"/>
            </a:xfrm>
            <a:solidFill>
              <a:srgbClr val="ff2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081240" y="2155680"/>
              <a:ext cx="31680" cy="3532320"/>
            </a:xfrm>
            <a:solidFill>
              <a:srgbClr val="ff0d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100320" y="2157480"/>
              <a:ext cx="33480" cy="3530520"/>
            </a:xfr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119400" y="2174760"/>
              <a:ext cx="33480" cy="3513240"/>
            </a:xfr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141720" y="3619440"/>
              <a:ext cx="41040" cy="2068560"/>
            </a:xfr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>
            <a:off x="1314000" y="1503360"/>
            <a:ext cx="52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471320" y="5433840"/>
            <a:ext cx="295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365120" y="3417840"/>
            <a:ext cx="410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994280" y="1514520"/>
            <a:ext cx="25380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Float incoloro 6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L = 89 % / FS = 85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Selectividad =  89/85 =</a:t>
            </a:r>
            <a:r>
              <a:rPr b="1" lang="es-ES" sz="1600" spc="-1" strike="noStrike">
                <a:solidFill>
                  <a:srgbClr val="ffcc00"/>
                </a:solidFill>
                <a:latin typeface="Times New Roman"/>
              </a:rPr>
              <a:t> 1,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994280" y="2505240"/>
            <a:ext cx="253836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c0c0c0"/>
                </a:solidFill>
                <a:latin typeface="Times New Roman"/>
              </a:rPr>
              <a:t>Float gris 6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c0c0c0"/>
                </a:solidFill>
                <a:latin typeface="Times New Roman"/>
              </a:rPr>
              <a:t>TL = 43 % / FS = 58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0c0c0"/>
                </a:solidFill>
                <a:latin typeface="Times New Roman"/>
              </a:rPr>
              <a:t>Selectividad =  43/58 = </a:t>
            </a:r>
            <a:r>
              <a:rPr b="1" lang="es-ES" sz="1600" spc="-1" strike="noStrike">
                <a:solidFill>
                  <a:srgbClr val="ffcc00"/>
                </a:solidFill>
                <a:latin typeface="Times New Roman"/>
              </a:rPr>
              <a:t>0,7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954680" y="3429000"/>
            <a:ext cx="253836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45ff45"/>
                </a:solidFill>
                <a:latin typeface="Times New Roman"/>
              </a:rPr>
              <a:t>Float verde 6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45ff45"/>
                </a:solidFill>
                <a:latin typeface="Times New Roman"/>
              </a:rPr>
              <a:t>TL = 73 % / FS = 56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45ff45"/>
                </a:solidFill>
                <a:latin typeface="Times New Roman"/>
              </a:rPr>
              <a:t>Selectividad =  73/56 =</a:t>
            </a:r>
            <a:r>
              <a:rPr b="1" lang="es-ES" sz="1600" spc="-1" strike="noStrike">
                <a:solidFill>
                  <a:srgbClr val="00c6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ffcc00"/>
                </a:solidFill>
                <a:latin typeface="Times New Roman"/>
              </a:rPr>
              <a:t>1,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828800" y="1447920"/>
            <a:ext cx="1440" cy="434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828800" y="5791320"/>
            <a:ext cx="5715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954680" y="4495680"/>
            <a:ext cx="253836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ccff"/>
                </a:solidFill>
                <a:latin typeface="Times New Roman"/>
              </a:rPr>
              <a:t>Float azul oscuro 6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ccff"/>
                </a:solidFill>
                <a:latin typeface="Times New Roman"/>
              </a:rPr>
              <a:t>TL = 33 % / FS = 4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ccff"/>
                </a:solidFill>
                <a:latin typeface="Times New Roman"/>
              </a:rPr>
              <a:t>Selectividad =  33/40 = </a:t>
            </a:r>
            <a:r>
              <a:rPr b="1" lang="es-ES" sz="1600" spc="-1" strike="noStrike">
                <a:solidFill>
                  <a:srgbClr val="ffcc00"/>
                </a:solidFill>
                <a:latin typeface="Times New Roman"/>
              </a:rPr>
              <a:t>0,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"/>
          <p:cNvSpPr/>
          <p:nvPr/>
        </p:nvSpPr>
        <p:spPr>
          <a:xfrm>
            <a:off x="2590920" y="762120"/>
            <a:ext cx="419076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116000" y="2708280"/>
            <a:ext cx="665640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LOS CRIST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PIROLIT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REFLECTIV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PYROL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5114880" y="3990960"/>
            <a:ext cx="1620720" cy="10620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021280" y="4098960"/>
            <a:ext cx="1717560" cy="1440"/>
          </a:xfrm>
          <a:prstGeom prst="line">
            <a:avLst/>
          </a:prstGeom>
          <a:ln w="255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50720" y="2708280"/>
            <a:ext cx="287640" cy="642960"/>
          </a:xfr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020600" y="2708280"/>
            <a:ext cx="287640" cy="642960"/>
          </a:xfr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197000" y="3987720"/>
            <a:ext cx="3736800" cy="434880"/>
          </a:xfr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225440" y="3992400"/>
            <a:ext cx="545004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46120" y="3349800"/>
            <a:ext cx="857160" cy="537840"/>
          </a:xfrm>
          <a:noFill/>
          <a:ln w="255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28480" y="2502000"/>
            <a:ext cx="4608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73200" y="2635200"/>
            <a:ext cx="46080" cy="525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96880" y="2395440"/>
            <a:ext cx="44640" cy="493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11280" y="2690640"/>
            <a:ext cx="46080" cy="493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97040" y="2792520"/>
            <a:ext cx="4608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068480" y="2635200"/>
            <a:ext cx="42840" cy="525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803160" y="2654280"/>
            <a:ext cx="46080" cy="525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004760" y="2803680"/>
            <a:ext cx="46080" cy="5220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873000" y="2936880"/>
            <a:ext cx="4788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38360" y="2882880"/>
            <a:ext cx="4428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844560" y="3000240"/>
            <a:ext cx="47520" cy="525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885960" y="2725560"/>
            <a:ext cx="46080" cy="525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46200" y="2811600"/>
            <a:ext cx="4608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65200" y="2619360"/>
            <a:ext cx="4752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01560" y="2527200"/>
            <a:ext cx="44640" cy="525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745320" y="3994200"/>
            <a:ext cx="1674720" cy="1440"/>
          </a:xfrm>
          <a:prstGeom prst="line">
            <a:avLst/>
          </a:prstGeom>
          <a:ln w="255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28480" y="2371680"/>
            <a:ext cx="46080" cy="525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92280" y="2762280"/>
            <a:ext cx="4428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77960" y="2957400"/>
            <a:ext cx="46080" cy="525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93800" y="3059280"/>
            <a:ext cx="44280" cy="5220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906480" y="3078000"/>
            <a:ext cx="46080" cy="525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803160" y="3174840"/>
            <a:ext cx="46080" cy="525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851040" y="3111480"/>
            <a:ext cx="44280" cy="493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903240" y="3216240"/>
            <a:ext cx="44640" cy="525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97040" y="3289320"/>
            <a:ext cx="4608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912960" y="2925720"/>
            <a:ext cx="4572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861840" y="2838600"/>
            <a:ext cx="46080" cy="489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851040" y="3346560"/>
            <a:ext cx="4428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35200" y="3465360"/>
            <a:ext cx="47520" cy="511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922320" y="3436920"/>
            <a:ext cx="4752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922320" y="3340080"/>
            <a:ext cx="47520" cy="525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969840" y="3409920"/>
            <a:ext cx="46080" cy="525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087560" y="3454560"/>
            <a:ext cx="4608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112760" y="3367080"/>
            <a:ext cx="4608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177920" y="3454560"/>
            <a:ext cx="4752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287360" y="3552840"/>
            <a:ext cx="4464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1362240" y="3633840"/>
            <a:ext cx="4572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389240" y="3727440"/>
            <a:ext cx="45720" cy="525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333440" y="3517920"/>
            <a:ext cx="44640" cy="5220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422360" y="3606840"/>
            <a:ext cx="46080" cy="5220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1492200" y="3664080"/>
            <a:ext cx="4608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498680" y="3753000"/>
            <a:ext cx="44280" cy="5220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576440" y="3952800"/>
            <a:ext cx="42840" cy="525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589040" y="4194000"/>
            <a:ext cx="46080" cy="511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589040" y="4030560"/>
            <a:ext cx="4608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598760" y="3792600"/>
            <a:ext cx="45720" cy="5220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631880" y="3894120"/>
            <a:ext cx="46080" cy="525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501920" y="3882960"/>
            <a:ext cx="4428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517760" y="4054320"/>
            <a:ext cx="46080" cy="4932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619280" y="4073400"/>
            <a:ext cx="46080" cy="50760"/>
          </a:xfrm>
          <a:prstGeom prst="ellipse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116000" y="3886200"/>
            <a:ext cx="4000680" cy="642960"/>
          </a:xfr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403280" y="3025800"/>
            <a:ext cx="3619440" cy="539640"/>
          </a:xfr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593720" y="3349800"/>
            <a:ext cx="190800" cy="106200"/>
          </a:xfrm>
          <a:prstGeom prst="rect">
            <a:avLst/>
          </a:prstGeom>
          <a:solidFill>
            <a:srgbClr val="ffb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819440" y="3349800"/>
            <a:ext cx="191880" cy="106200"/>
          </a:xfrm>
          <a:prstGeom prst="rect">
            <a:avLst/>
          </a:prstGeom>
          <a:solidFill>
            <a:srgbClr val="ffb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046240" y="3349800"/>
            <a:ext cx="190440" cy="106200"/>
          </a:xfrm>
          <a:prstGeom prst="rect">
            <a:avLst/>
          </a:prstGeom>
          <a:solidFill>
            <a:srgbClr val="ffb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268360" y="3349800"/>
            <a:ext cx="192240" cy="106200"/>
          </a:xfrm>
          <a:prstGeom prst="rect">
            <a:avLst/>
          </a:prstGeom>
          <a:solidFill>
            <a:srgbClr val="ffb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498760" y="3349800"/>
            <a:ext cx="187200" cy="106200"/>
          </a:xfrm>
          <a:prstGeom prst="rect">
            <a:avLst/>
          </a:prstGeom>
          <a:solidFill>
            <a:srgbClr val="ffb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2725560" y="3349800"/>
            <a:ext cx="189000" cy="106200"/>
          </a:xfrm>
          <a:prstGeom prst="rect">
            <a:avLst/>
          </a:prstGeom>
          <a:solidFill>
            <a:srgbClr val="ffb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6742080" y="3989160"/>
            <a:ext cx="1800" cy="114120"/>
          </a:xfrm>
          <a:prstGeom prst="line">
            <a:avLst/>
          </a:prstGeom>
          <a:ln w="1260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114880" y="3025800"/>
            <a:ext cx="2384640" cy="539640"/>
          </a:xfr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448400" y="3519360"/>
            <a:ext cx="1800" cy="254160"/>
          </a:xfrm>
          <a:prstGeom prst="line">
            <a:avLst/>
          </a:prstGeom>
          <a:ln w="1260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581800" y="3897360"/>
            <a:ext cx="71280" cy="79200"/>
          </a:xfrm>
          <a:prstGeom prst="ellipse">
            <a:avLst/>
          </a:pr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711840" y="3881520"/>
            <a:ext cx="430200" cy="110880"/>
          </a:xfrm>
          <a:noFill/>
          <a:ln w="25560">
            <a:solidFill>
              <a:srgbClr val="7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464600" y="3882960"/>
            <a:ext cx="314280" cy="47520"/>
          </a:xfrm>
          <a:noFill/>
          <a:ln w="25560">
            <a:solidFill>
              <a:srgbClr val="7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778880" y="3925800"/>
            <a:ext cx="618840" cy="1800"/>
          </a:xfrm>
          <a:prstGeom prst="line">
            <a:avLst/>
          </a:prstGeom>
          <a:ln w="25560">
            <a:solidFill>
              <a:srgbClr val="7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397480" y="3992400"/>
            <a:ext cx="252360" cy="1800"/>
          </a:xfrm>
          <a:prstGeom prst="line">
            <a:avLst/>
          </a:prstGeom>
          <a:ln w="25560">
            <a:solidFill>
              <a:srgbClr val="ff7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654520" y="3992400"/>
            <a:ext cx="241560" cy="1800"/>
          </a:xfrm>
          <a:prstGeom prst="line">
            <a:avLst/>
          </a:prstGeom>
          <a:ln w="25560">
            <a:solidFill>
              <a:srgbClr val="ffb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896080" y="3992400"/>
            <a:ext cx="257040" cy="18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154560" y="3992400"/>
            <a:ext cx="544680" cy="1800"/>
          </a:xfrm>
          <a:prstGeom prst="line">
            <a:avLst/>
          </a:prstGeom>
          <a:ln w="25560">
            <a:solidFill>
              <a:srgbClr val="7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845320" y="3897360"/>
            <a:ext cx="68040" cy="79200"/>
          </a:xfrm>
          <a:prstGeom prst="ellipse">
            <a:avLst/>
          </a:pr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105600" y="3897360"/>
            <a:ext cx="69840" cy="79200"/>
          </a:xfrm>
          <a:prstGeom prst="ellipse">
            <a:avLst/>
          </a:pr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367320" y="3897360"/>
            <a:ext cx="69840" cy="79200"/>
          </a:xfrm>
          <a:prstGeom prst="ellipse">
            <a:avLst/>
          </a:pr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973920" y="3894120"/>
            <a:ext cx="95040" cy="109440"/>
          </a:xfrm>
          <a:prstGeom prst="ellipse">
            <a:avLst/>
          </a:pr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143840" y="3886200"/>
            <a:ext cx="317520" cy="1440"/>
          </a:xfrm>
          <a:prstGeom prst="line">
            <a:avLst/>
          </a:prstGeom>
          <a:ln w="25560">
            <a:solidFill>
              <a:srgbClr val="7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616880" y="3924360"/>
            <a:ext cx="47520" cy="54000"/>
          </a:xfrm>
          <a:prstGeom prst="ellipse">
            <a:avLst/>
          </a:pr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761240" y="3924360"/>
            <a:ext cx="49320" cy="54000"/>
          </a:xfrm>
          <a:prstGeom prst="ellipse">
            <a:avLst/>
          </a:pr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907400" y="3924360"/>
            <a:ext cx="49320" cy="54000"/>
          </a:xfrm>
          <a:prstGeom prst="ellipse">
            <a:avLst/>
          </a:pr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8055000" y="3924360"/>
            <a:ext cx="47520" cy="54000"/>
          </a:xfrm>
          <a:prstGeom prst="ellipse">
            <a:avLst/>
          </a:pr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8190000" y="3916440"/>
            <a:ext cx="55440" cy="60120"/>
          </a:xfrm>
          <a:prstGeom prst="ellipse">
            <a:avLst/>
          </a:pr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8353440" y="3916440"/>
            <a:ext cx="54000" cy="60120"/>
          </a:xfrm>
          <a:prstGeom prst="ellipse">
            <a:avLst/>
          </a:pr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7182000" y="3894120"/>
            <a:ext cx="96840" cy="109440"/>
          </a:xfrm>
          <a:prstGeom prst="ellipse">
            <a:avLst/>
          </a:pr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386480" y="3894120"/>
            <a:ext cx="100080" cy="109440"/>
          </a:xfrm>
          <a:prstGeom prst="ellipse">
            <a:avLst/>
          </a:pr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956720" y="3022560"/>
            <a:ext cx="87120" cy="115920"/>
          </a:xfrm>
          <a:prstGeom prst="rect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7732800" y="1954080"/>
            <a:ext cx="517320" cy="671760"/>
          </a:xfr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9" name="" descr=""/>
          <p:cNvPicPr/>
          <p:nvPr/>
        </p:nvPicPr>
        <p:blipFill>
          <a:blip r:embed="rId1"/>
          <a:stretch/>
        </p:blipFill>
        <p:spPr>
          <a:xfrm>
            <a:off x="7897680" y="1387440"/>
            <a:ext cx="211320" cy="698400"/>
          </a:xfrm>
          <a:prstGeom prst="rect">
            <a:avLst/>
          </a:prstGeom>
          <a:ln w="0">
            <a:noFill/>
          </a:ln>
        </p:spPr>
      </p:pic>
      <p:sp>
        <p:nvSpPr>
          <p:cNvPr id="1170" name=""/>
          <p:cNvSpPr/>
          <p:nvPr/>
        </p:nvSpPr>
        <p:spPr>
          <a:xfrm>
            <a:off x="7854840" y="3421080"/>
            <a:ext cx="2556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7905600" y="3341520"/>
            <a:ext cx="27000" cy="3204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7977240" y="3222720"/>
            <a:ext cx="2700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8083440" y="3341520"/>
            <a:ext cx="27000" cy="3204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994520" y="3402000"/>
            <a:ext cx="2556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994520" y="3321000"/>
            <a:ext cx="2556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8047080" y="3262320"/>
            <a:ext cx="2844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8188200" y="3498840"/>
            <a:ext cx="2880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8066160" y="3598920"/>
            <a:ext cx="2844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8083440" y="3498840"/>
            <a:ext cx="2700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959600" y="3559320"/>
            <a:ext cx="2880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7872480" y="3757680"/>
            <a:ext cx="2700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7854840" y="3638520"/>
            <a:ext cx="2556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7834320" y="3559320"/>
            <a:ext cx="2844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781760" y="3657600"/>
            <a:ext cx="2880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781760" y="3797280"/>
            <a:ext cx="2880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959600" y="3797280"/>
            <a:ext cx="2880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7924680" y="3699000"/>
            <a:ext cx="2700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7905600" y="3498840"/>
            <a:ext cx="2700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8013600" y="3678120"/>
            <a:ext cx="28800" cy="3204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8118360" y="3778200"/>
            <a:ext cx="2880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8172360" y="3678120"/>
            <a:ext cx="27000" cy="3204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8294760" y="3757680"/>
            <a:ext cx="2844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8207280" y="3836880"/>
            <a:ext cx="2880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8031240" y="3855960"/>
            <a:ext cx="2700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8240760" y="3598920"/>
            <a:ext cx="2844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7994520" y="3519360"/>
            <a:ext cx="25560" cy="3204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8066160" y="3421080"/>
            <a:ext cx="2844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8134200" y="3440160"/>
            <a:ext cx="2880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7994520" y="3162240"/>
            <a:ext cx="25560" cy="3024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7886880" y="3873600"/>
            <a:ext cx="31680" cy="38160"/>
          </a:xfrm>
          <a:prstGeom prst="ellipse">
            <a:avLst/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889760" y="3876840"/>
            <a:ext cx="27000" cy="31680"/>
          </a:xfrm>
          <a:prstGeom prst="ellipse">
            <a:avLst/>
          </a:prstGeom>
          <a:solidFill>
            <a:srgbClr val="4c4c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153040" y="3490920"/>
            <a:ext cx="144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114800" y="1066680"/>
            <a:ext cx="340992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1400" spc="-1" strike="noStrike">
                <a:solidFill>
                  <a:srgbClr val="666699"/>
                </a:solidFill>
                <a:latin typeface="Tahoma"/>
              </a:rPr>
              <a:t>CAPA DE ÓXIDOS METÁLICOS DEPOSITADA SOBRE FLOAT CALIENTE A LA SALIDA DEL HO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1400" spc="-1" strike="noStrike">
                <a:solidFill>
                  <a:srgbClr val="666699"/>
                </a:solidFill>
                <a:latin typeface="Tahoma"/>
              </a:rPr>
              <a:t>PARA AUMENTAR LA REFLEXIÓN ENERGÉTICA (R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4" name=""/>
          <p:cNvGraphicFramePr/>
          <p:nvPr/>
        </p:nvGraphicFramePr>
        <p:xfrm>
          <a:off x="7620120" y="5791320"/>
          <a:ext cx="1114200" cy="70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0120" y="5791320"/>
                    <a:ext cx="111420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/>
          <p:nvPr/>
        </p:nvSpPr>
        <p:spPr>
          <a:xfrm>
            <a:off x="1219320" y="228600"/>
            <a:ext cx="748332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afd00"/>
                </a:solidFill>
                <a:latin typeface="Tahoma"/>
              </a:rPr>
              <a:t>LOS CRISTALES PIROLÍTICOS REFLE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219320" y="4572000"/>
            <a:ext cx="6954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91960" indent="-290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91960"/>
                <a:tab algn="l" pos="1206360"/>
                <a:tab algn="l" pos="2120760"/>
                <a:tab algn="l" pos="3035160"/>
                <a:tab algn="l" pos="3949560"/>
                <a:tab algn="l" pos="4863960"/>
                <a:tab algn="l" pos="5778360"/>
                <a:tab algn="l" pos="6692760"/>
                <a:tab algn="l" pos="7607160"/>
                <a:tab algn="l" pos="8521560"/>
                <a:tab algn="l" pos="9435960"/>
                <a:tab algn="l" pos="10350360"/>
                <a:tab algn="l" pos="1078236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Tahoma"/>
              </a:rPr>
              <a:t>LA CAPA METÁLICA PUEDE SER COLOCADA H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0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91960"/>
                <a:tab algn="l" pos="1206360"/>
                <a:tab algn="l" pos="2120760"/>
                <a:tab algn="l" pos="3035160"/>
                <a:tab algn="l" pos="3949560"/>
                <a:tab algn="l" pos="4863960"/>
                <a:tab algn="l" pos="5778360"/>
                <a:tab algn="l" pos="6692760"/>
                <a:tab algn="l" pos="7607160"/>
                <a:tab algn="l" pos="8521560"/>
                <a:tab algn="l" pos="9435960"/>
                <a:tab algn="l" pos="1035036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0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91960"/>
                <a:tab algn="l" pos="1206360"/>
                <a:tab algn="l" pos="2120760"/>
                <a:tab algn="l" pos="3035160"/>
                <a:tab algn="l" pos="3949560"/>
                <a:tab algn="l" pos="4863960"/>
                <a:tab algn="l" pos="5778360"/>
                <a:tab algn="l" pos="6692760"/>
                <a:tab algn="l" pos="7607160"/>
                <a:tab algn="l" pos="8521560"/>
                <a:tab algn="l" pos="9435960"/>
                <a:tab algn="l" pos="10350360"/>
                <a:tab algn="l" pos="1078236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Tahoma"/>
              </a:rPr>
              <a:t>EL INTERIOR (CARA #2)  : EL REFLEJO TOMA 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0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91960"/>
                <a:tab algn="l" pos="1206360"/>
                <a:tab algn="l" pos="2120760"/>
                <a:tab algn="l" pos="3035160"/>
                <a:tab algn="l" pos="3949560"/>
                <a:tab algn="l" pos="4863960"/>
                <a:tab algn="l" pos="5778360"/>
                <a:tab algn="l" pos="6692760"/>
                <a:tab algn="l" pos="7607160"/>
                <a:tab algn="l" pos="8521560"/>
                <a:tab algn="l" pos="9435960"/>
                <a:tab algn="l" pos="10350360"/>
                <a:tab algn="l" pos="1078236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Tahoma"/>
              </a:rPr>
              <a:t>EL EXTERIOR (CARA #1) :  EL REFLEJO ES ESPEJ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237200" y="1825560"/>
            <a:ext cx="150480" cy="2152800"/>
          </a:xfrm>
          <a:solidFill>
            <a:srgbClr val="bfff7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895480" y="1905120"/>
            <a:ext cx="1486080" cy="414360"/>
          </a:xfrm>
          <a:prstGeom prst="line">
            <a:avLst/>
          </a:prstGeom>
          <a:ln w="25560">
            <a:solidFill>
              <a:srgbClr val="f62a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276720" y="2514600"/>
            <a:ext cx="223560" cy="142920"/>
          </a:xfrm>
          <a:solidFill>
            <a:srgbClr val="f62a08"/>
          </a:solidFill>
          <a:ln w="9360">
            <a:solidFill>
              <a:srgbClr val="f62a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3503160" y="2286000"/>
            <a:ext cx="917640" cy="304920"/>
          </a:xfrm>
          <a:prstGeom prst="line">
            <a:avLst/>
          </a:prstGeom>
          <a:ln w="25560">
            <a:solidFill>
              <a:srgbClr val="f62a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776840" y="1825560"/>
            <a:ext cx="147600" cy="2152800"/>
          </a:xfrm>
          <a:solidFill>
            <a:srgbClr val="bfff7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348080" y="1774800"/>
            <a:ext cx="383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cc00"/>
                </a:solidFill>
                <a:latin typeface="Arial"/>
              </a:rPr>
              <a:t>#2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4" name=""/>
          <p:cNvGraphicFramePr/>
          <p:nvPr/>
        </p:nvGraphicFramePr>
        <p:xfrm>
          <a:off x="5638680" y="2133720"/>
          <a:ext cx="1752840" cy="134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2133720"/>
                    <a:ext cx="175284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6" name=""/>
          <p:cNvSpPr/>
          <p:nvPr/>
        </p:nvSpPr>
        <p:spPr>
          <a:xfrm>
            <a:off x="2514600" y="3962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33cccc"/>
                </a:solidFill>
                <a:latin typeface="Arial"/>
              </a:rPr>
              <a:t>CARAS # </a:t>
            </a:r>
            <a:r>
              <a:rPr b="0" lang="es-MX" sz="2400" spc="-1" strike="noStrike">
                <a:solidFill>
                  <a:srgbClr val="33cccc"/>
                </a:solidFill>
                <a:latin typeface="Matisse ITC"/>
              </a:rPr>
              <a:t> </a:t>
            </a:r>
            <a:r>
              <a:rPr b="0" lang="es-MX" sz="2400" spc="-1" strike="noStrike">
                <a:solidFill>
                  <a:srgbClr val="33cccc"/>
                </a:solidFill>
                <a:latin typeface="Arial"/>
              </a:rPr>
              <a:t>1  2 3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819520" y="2895480"/>
            <a:ext cx="1485720" cy="414360"/>
          </a:xfrm>
          <a:prstGeom prst="line">
            <a:avLst/>
          </a:prstGeom>
          <a:ln w="25560">
            <a:solidFill>
              <a:srgbClr val="f62a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H="1">
            <a:off x="3350880" y="3276720"/>
            <a:ext cx="917640" cy="304560"/>
          </a:xfrm>
          <a:prstGeom prst="line">
            <a:avLst/>
          </a:prstGeom>
          <a:ln w="25560">
            <a:solidFill>
              <a:srgbClr val="f62a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200400" y="3505320"/>
            <a:ext cx="223920" cy="142920"/>
          </a:xfrm>
          <a:solidFill>
            <a:srgbClr val="f62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888000" y="35812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1400" spc="-1" strike="noStrike">
                <a:solidFill>
                  <a:srgbClr val="ffcc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"/>
          <p:cNvSpPr/>
          <p:nvPr/>
        </p:nvSpPr>
        <p:spPr>
          <a:xfrm rot="16200000">
            <a:off x="360" y="3351960"/>
            <a:ext cx="2133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Times New Roman"/>
              </a:rPr>
              <a:t>Trans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715000" y="5791320"/>
            <a:ext cx="2514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ccecff"/>
                </a:solidFill>
                <a:latin typeface="Times New Roman"/>
              </a:rPr>
              <a:t>Longitud de O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3" name=""/>
          <p:cNvGrpSpPr/>
          <p:nvPr/>
        </p:nvGrpSpPr>
        <p:grpSpPr>
          <a:xfrm>
            <a:off x="2117880" y="1523880"/>
            <a:ext cx="1064880" cy="4164120"/>
            <a:chOff x="2117880" y="1523880"/>
            <a:chExt cx="1064880" cy="4164120"/>
          </a:xfrm>
        </p:grpSpPr>
        <p:sp>
          <p:nvSpPr>
            <p:cNvPr id="1224" name=""/>
            <p:cNvSpPr/>
            <p:nvPr/>
          </p:nvSpPr>
          <p:spPr>
            <a:xfrm>
              <a:off x="2117880" y="3809880"/>
              <a:ext cx="96840" cy="1878120"/>
            </a:xfrm>
            <a:solidFill>
              <a:srgbClr val="004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206800" y="3701880"/>
              <a:ext cx="31680" cy="1986120"/>
            </a:xfrm>
            <a:solidFill>
              <a:srgbClr val="005e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224080" y="3576600"/>
              <a:ext cx="31680" cy="2111400"/>
            </a:xfrm>
            <a:solidFill>
              <a:srgbClr val="006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241720" y="3062160"/>
              <a:ext cx="31680" cy="2625840"/>
            </a:xfrm>
            <a:solidFill>
              <a:srgbClr val="0084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260440" y="2994120"/>
              <a:ext cx="32040" cy="2693880"/>
            </a:xfrm>
            <a:solidFill>
              <a:srgbClr val="00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279520" y="2901960"/>
              <a:ext cx="33480" cy="2786040"/>
            </a:xfrm>
            <a:solidFill>
              <a:srgbClr val="00aa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297160" y="2627280"/>
              <a:ext cx="30240" cy="3060720"/>
            </a:xfrm>
            <a:solidFill>
              <a:srgbClr val="00bb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314440" y="2471760"/>
              <a:ext cx="33480" cy="3216240"/>
            </a:xfrm>
            <a:solidFill>
              <a:srgbClr val="00d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333520" y="2370240"/>
              <a:ext cx="30240" cy="3317760"/>
            </a:xfrm>
            <a:solidFill>
              <a:srgbClr val="00e1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895480" y="2173320"/>
              <a:ext cx="33480" cy="3514680"/>
            </a:xfrm>
            <a:solidFill>
              <a:srgbClr val="00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336760" y="1854360"/>
              <a:ext cx="65160" cy="3833640"/>
            </a:xfrm>
            <a:solidFill>
              <a:srgbClr val="00fff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386080" y="1755720"/>
              <a:ext cx="33120" cy="3932280"/>
            </a:xfrm>
            <a:solidFill>
              <a:srgbClr val="00f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406600" y="1654200"/>
              <a:ext cx="96840" cy="4033800"/>
            </a:xfrm>
            <a:solidFill>
              <a:srgbClr val="00ff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514600" y="1523880"/>
              <a:ext cx="31680" cy="4164120"/>
            </a:xfrm>
            <a:solidFill>
              <a:srgbClr val="00ff5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487600" y="1555920"/>
              <a:ext cx="74520" cy="4132080"/>
            </a:xfrm>
            <a:solidFill>
              <a:srgbClr val="00ff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552760" y="1565280"/>
              <a:ext cx="30240" cy="4122720"/>
            </a:xfrm>
            <a:solidFill>
              <a:srgbClr val="00ff3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570040" y="1560600"/>
              <a:ext cx="33480" cy="4127400"/>
            </a:xfrm>
            <a:solidFill>
              <a:srgbClr val="00ff2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587680" y="1558800"/>
              <a:ext cx="33120" cy="4129200"/>
            </a:xfrm>
            <a:solidFill>
              <a:srgbClr val="00ff1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608200" y="1555920"/>
              <a:ext cx="31680" cy="4132080"/>
            </a:xfrm>
            <a:solidFill>
              <a:srgbClr val="00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625840" y="1555920"/>
              <a:ext cx="31680" cy="4132080"/>
            </a:xfrm>
            <a:solidFill>
              <a:srgbClr val="15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646360" y="1555920"/>
              <a:ext cx="31680" cy="4132080"/>
            </a:xfrm>
            <a:solidFill>
              <a:srgbClr val="26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662200" y="1576440"/>
              <a:ext cx="31680" cy="4111560"/>
            </a:xfrm>
            <a:solidFill>
              <a:srgbClr val="3c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679840" y="1604880"/>
              <a:ext cx="33120" cy="4083120"/>
            </a:xfrm>
            <a:solidFill>
              <a:srgbClr val="4d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698920" y="1635120"/>
              <a:ext cx="33120" cy="4052880"/>
            </a:xfrm>
            <a:solidFill>
              <a:srgbClr val="62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714760" y="1652760"/>
              <a:ext cx="33120" cy="4035240"/>
            </a:xfrm>
            <a:solidFill>
              <a:srgbClr val="73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738520" y="1646280"/>
              <a:ext cx="31680" cy="4041720"/>
            </a:xfrm>
            <a:solidFill>
              <a:srgbClr val="88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754360" y="1635120"/>
              <a:ext cx="31680" cy="4052880"/>
            </a:xfrm>
            <a:solidFill>
              <a:srgbClr val="99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771640" y="1628640"/>
              <a:ext cx="32040" cy="4059360"/>
            </a:xfrm>
            <a:solidFill>
              <a:srgbClr val="ae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790720" y="1623960"/>
              <a:ext cx="31680" cy="4064040"/>
            </a:xfrm>
            <a:solidFill>
              <a:srgbClr val="b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809800" y="1623960"/>
              <a:ext cx="33480" cy="4064040"/>
            </a:xfrm>
            <a:solidFill>
              <a:srgbClr val="d5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827440" y="1623960"/>
              <a:ext cx="30240" cy="4064040"/>
            </a:xfrm>
            <a:solidFill>
              <a:srgbClr val="e6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846520" y="1635120"/>
              <a:ext cx="33120" cy="4052880"/>
            </a:xfrm>
            <a:solidFill>
              <a:srgbClr val="f7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863800" y="1654200"/>
              <a:ext cx="30240" cy="4033800"/>
            </a:xfrm>
            <a:solidFill>
              <a:srgbClr val="fff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881440" y="1671480"/>
              <a:ext cx="33120" cy="4016520"/>
            </a:xfrm>
            <a:solidFill>
              <a:srgbClr val="ffe1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901960" y="1684440"/>
              <a:ext cx="28440" cy="4003560"/>
            </a:xfr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916360" y="1700280"/>
              <a:ext cx="33120" cy="3987720"/>
            </a:xfrm>
            <a:solidFill>
              <a:srgbClr val="ffbb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938320" y="1901880"/>
              <a:ext cx="30240" cy="3786120"/>
            </a:xfrm>
            <a:solidFill>
              <a:srgbClr val="ffa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952720" y="2274840"/>
              <a:ext cx="33480" cy="3413160"/>
            </a:xfrm>
            <a:solidFill>
              <a:srgbClr val="ff95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975040" y="1873080"/>
              <a:ext cx="30240" cy="3814920"/>
            </a:xfrm>
            <a:solidFill>
              <a:srgbClr val="ff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989440" y="1873080"/>
              <a:ext cx="33120" cy="3814920"/>
            </a:xfrm>
            <a:solidFill>
              <a:srgbClr val="ff6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009960" y="1876320"/>
              <a:ext cx="31680" cy="3811680"/>
            </a:xfrm>
            <a:solidFill>
              <a:srgbClr val="ff5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029040" y="1889280"/>
              <a:ext cx="31680" cy="3798720"/>
            </a:xfrm>
            <a:solidFill>
              <a:srgbClr val="ff48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046320" y="1900080"/>
              <a:ext cx="31680" cy="3787920"/>
            </a:xfr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062160" y="2155680"/>
              <a:ext cx="32040" cy="3532320"/>
            </a:xfrm>
            <a:solidFill>
              <a:srgbClr val="ff2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081240" y="2155680"/>
              <a:ext cx="31680" cy="3532320"/>
            </a:xfrm>
            <a:solidFill>
              <a:srgbClr val="ff0d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100320" y="2157480"/>
              <a:ext cx="33480" cy="3530520"/>
            </a:xfr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119400" y="2174760"/>
              <a:ext cx="33480" cy="3513240"/>
            </a:xfr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141720" y="3619440"/>
              <a:ext cx="41040" cy="2068560"/>
            </a:xfr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2" name=""/>
          <p:cNvSpPr/>
          <p:nvPr/>
        </p:nvSpPr>
        <p:spPr>
          <a:xfrm>
            <a:off x="1314000" y="1503360"/>
            <a:ext cx="52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471320" y="5433840"/>
            <a:ext cx="295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365120" y="3417840"/>
            <a:ext cx="410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375160" y="1565280"/>
            <a:ext cx="24879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45ff45"/>
                </a:solidFill>
                <a:latin typeface="Times New Roman"/>
              </a:rPr>
              <a:t>Float verde 6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45ff45"/>
                </a:solidFill>
                <a:latin typeface="Times New Roman"/>
              </a:rPr>
              <a:t>Selectividad = 73/56 = 1,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329800" y="2286000"/>
            <a:ext cx="29311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45ff45"/>
                </a:solidFill>
                <a:latin typeface="Times New Roman"/>
              </a:rPr>
              <a:t>Pirolítico tipo 1 s/verde 6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45ff45"/>
                </a:solidFill>
                <a:latin typeface="Times New Roman"/>
              </a:rPr>
              <a:t>Selectividad =  31/34 = 0,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838080" y="76320"/>
            <a:ext cx="815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LOS CRISTALES PIROLITICOS</a:t>
            </a:r>
            <a:br>
              <a:rPr sz="2800"/>
            </a:b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La Selectividad de las Capas Pirolíticas reflec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905120" y="1447920"/>
            <a:ext cx="1440" cy="434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905120" y="5791320"/>
            <a:ext cx="6095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5342040" y="2971800"/>
            <a:ext cx="337644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45ff45"/>
                </a:solidFill>
                <a:latin typeface="Times New Roman"/>
              </a:rPr>
              <a:t>Pirolítico tipo 2 s/verde 6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45ff45"/>
                </a:solidFill>
                <a:latin typeface="Times New Roman"/>
              </a:rPr>
              <a:t>Selectividad =  54/44 =1,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cc00"/>
                </a:solidFill>
                <a:latin typeface="Times New Roman"/>
              </a:rPr>
              <a:t>La capa metálica reflectiva modifi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cc00"/>
                </a:solidFill>
                <a:latin typeface="Times New Roman"/>
              </a:rPr>
              <a:t>La Transmisión de Luz (TL) y 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cc00"/>
                </a:solidFill>
                <a:latin typeface="Times New Roman"/>
              </a:rPr>
              <a:t>Factor Solar (FS) y por end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cc00"/>
                </a:solidFill>
                <a:latin typeface="Times New Roman"/>
              </a:rPr>
              <a:t>la sele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/>
          <p:nvPr/>
        </p:nvSpPr>
        <p:spPr>
          <a:xfrm>
            <a:off x="2590920" y="762120"/>
            <a:ext cx="419076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116000" y="2708280"/>
            <a:ext cx="665640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LOS CRIST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PIROLIT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CON FILTRO INFRARRO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289080"/>
            <a:ext cx="815328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Tahoma"/>
              </a:rPr>
              <a:t>Filosofía General: 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Conf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"/>
          <p:cNvSpPr/>
          <p:nvPr/>
        </p:nvSpPr>
        <p:spPr>
          <a:xfrm>
            <a:off x="1066680" y="1447920"/>
            <a:ext cx="7543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00ffff"/>
                </a:solidFill>
                <a:latin typeface="Times New Roman"/>
              </a:rPr>
              <a:t>Sensación térmica estable y homogé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1" lang="es-ES" sz="1400" spc="-1" strike="noStrike">
                <a:solidFill>
                  <a:srgbClr val="00ffff"/>
                </a:solidFill>
                <a:latin typeface="Times New Roman"/>
              </a:rPr>
              <a:t>No se puede tener los pies fríos y la cabeza calien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1" lang="es-ES" sz="1400" spc="-1" strike="noStrike">
                <a:solidFill>
                  <a:srgbClr val="00ffff"/>
                </a:solidFill>
                <a:latin typeface="Times New Roman"/>
              </a:rPr>
              <a:t>y decir que en promedio uno está cómodo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00ffff"/>
                </a:solidFill>
                <a:latin typeface="Times New Roman"/>
              </a:rPr>
              <a:t>Buena iluminación natu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1" lang="es-ES" sz="1400" spc="-1" strike="noStrike">
                <a:solidFill>
                  <a:srgbClr val="00ffff"/>
                </a:solidFill>
                <a:latin typeface="Times New Roman"/>
              </a:rPr>
              <a:t>Mejora el ánimo y la productividad”</a:t>
            </a:r>
            <a:r>
              <a:rPr b="1" lang="es-ES" sz="12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00ffff"/>
                </a:solidFill>
                <a:latin typeface="Times New Roman"/>
              </a:rPr>
              <a:t>Control del encandilamien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1" lang="es-ES" sz="1400" spc="-1" strike="noStrike">
                <a:solidFill>
                  <a:srgbClr val="00ffff"/>
                </a:solidFill>
                <a:latin typeface="Times New Roman"/>
              </a:rPr>
              <a:t>Sin cortinas ni anteojo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00ffff"/>
                </a:solidFill>
                <a:latin typeface="Times New Roman"/>
              </a:rPr>
              <a:t>Estética interi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00ffff"/>
                </a:solidFill>
                <a:latin typeface="Times New Roman"/>
              </a:rPr>
              <a:t>Bajo nivel de rui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s-ES" sz="2200" spc="-1" strike="noStrike">
                <a:solidFill>
                  <a:srgbClr val="ffcc00"/>
                </a:solidFill>
                <a:latin typeface="Arial"/>
              </a:rPr>
              <a:t>El confort es un derecho, no un luj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"/>
          <p:cNvSpPr/>
          <p:nvPr/>
        </p:nvSpPr>
        <p:spPr>
          <a:xfrm>
            <a:off x="1219320" y="228600"/>
            <a:ext cx="748332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afd00"/>
                </a:solidFill>
                <a:latin typeface="Tahoma"/>
              </a:rPr>
              <a:t>LOS CRISTALES PIROLÍT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afd00"/>
                </a:solidFill>
                <a:latin typeface="Tahoma"/>
              </a:rPr>
              <a:t>CON FILTRO INFRARRO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1258920" y="4869000"/>
            <a:ext cx="69548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91960" indent="-290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91960"/>
                <a:tab algn="l" pos="1206360"/>
                <a:tab algn="l" pos="2120760"/>
                <a:tab algn="l" pos="3035160"/>
                <a:tab algn="l" pos="3949560"/>
                <a:tab algn="l" pos="4863960"/>
                <a:tab algn="l" pos="5778360"/>
                <a:tab algn="l" pos="6692760"/>
                <a:tab algn="l" pos="7607160"/>
                <a:tab algn="l" pos="8521560"/>
                <a:tab algn="l" pos="9435960"/>
                <a:tab algn="l" pos="10350360"/>
                <a:tab algn="l" pos="1078236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Tahoma"/>
              </a:rPr>
              <a:t>SE RECOMIENDA COLOCAR LA CAPA HACIA EL INTERI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0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91960"/>
                <a:tab algn="l" pos="1206360"/>
                <a:tab algn="l" pos="2120760"/>
                <a:tab algn="l" pos="3035160"/>
                <a:tab algn="l" pos="3949560"/>
                <a:tab algn="l" pos="4863960"/>
                <a:tab algn="l" pos="5778360"/>
                <a:tab algn="l" pos="6692760"/>
                <a:tab algn="l" pos="7607160"/>
                <a:tab algn="l" pos="8521560"/>
                <a:tab algn="l" pos="9435960"/>
                <a:tab algn="l" pos="10350360"/>
                <a:tab algn="l" pos="1078236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Tahoma"/>
              </a:rPr>
              <a:t>NO HAY DIFERENCIA DE ASPEC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0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91960"/>
                <a:tab algn="l" pos="1206360"/>
                <a:tab algn="l" pos="2120760"/>
                <a:tab algn="l" pos="3035160"/>
                <a:tab algn="l" pos="3949560"/>
                <a:tab algn="l" pos="4863960"/>
                <a:tab algn="l" pos="5778360"/>
                <a:tab algn="l" pos="6692760"/>
                <a:tab algn="l" pos="7607160"/>
                <a:tab algn="l" pos="8521560"/>
                <a:tab algn="l" pos="9435960"/>
                <a:tab algn="l" pos="10350360"/>
                <a:tab algn="l" pos="1078236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Tahoma"/>
              </a:rPr>
              <a:t>SE PUEDE APROVECHAR LA BAJA EMISIVIDAD DE ESAS CAP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0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91960"/>
                <a:tab algn="l" pos="1206360"/>
                <a:tab algn="l" pos="2120760"/>
                <a:tab algn="l" pos="3035160"/>
                <a:tab algn="l" pos="3949560"/>
                <a:tab algn="l" pos="4863960"/>
                <a:tab algn="l" pos="5778360"/>
                <a:tab algn="l" pos="6692760"/>
                <a:tab algn="l" pos="7607160"/>
                <a:tab algn="l" pos="8521560"/>
                <a:tab algn="l" pos="9435960"/>
                <a:tab algn="l" pos="1035036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237200" y="1825560"/>
            <a:ext cx="150480" cy="2152800"/>
          </a:xfrm>
          <a:solidFill>
            <a:srgbClr val="bfff7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895480" y="1905120"/>
            <a:ext cx="1486080" cy="414360"/>
          </a:xfrm>
          <a:prstGeom prst="line">
            <a:avLst/>
          </a:prstGeom>
          <a:ln w="25560">
            <a:solidFill>
              <a:srgbClr val="f62a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276720" y="2514600"/>
            <a:ext cx="223560" cy="142920"/>
          </a:xfrm>
          <a:solidFill>
            <a:srgbClr val="f62a08"/>
          </a:solidFill>
          <a:ln w="9360">
            <a:solidFill>
              <a:srgbClr val="f62a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H="1">
            <a:off x="3503160" y="2286000"/>
            <a:ext cx="917640" cy="304920"/>
          </a:xfrm>
          <a:prstGeom prst="line">
            <a:avLst/>
          </a:prstGeom>
          <a:ln w="25560">
            <a:solidFill>
              <a:srgbClr val="f62a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776840" y="1825560"/>
            <a:ext cx="147600" cy="2152800"/>
          </a:xfrm>
          <a:solidFill>
            <a:srgbClr val="bfff7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348080" y="1774800"/>
            <a:ext cx="383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cc00"/>
                </a:solidFill>
                <a:latin typeface="Arial"/>
              </a:rPr>
              <a:t>#2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1" name=""/>
          <p:cNvGraphicFramePr/>
          <p:nvPr/>
        </p:nvGraphicFramePr>
        <p:xfrm>
          <a:off x="5638680" y="2133720"/>
          <a:ext cx="1752840" cy="134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2133720"/>
                    <a:ext cx="175284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3" name=""/>
          <p:cNvSpPr/>
          <p:nvPr/>
        </p:nvSpPr>
        <p:spPr>
          <a:xfrm>
            <a:off x="2514600" y="3962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33cccc"/>
                </a:solidFill>
                <a:latin typeface="Arial"/>
              </a:rPr>
              <a:t>CARAS # </a:t>
            </a:r>
            <a:r>
              <a:rPr b="0" lang="es-MX" sz="2400" spc="-1" strike="noStrike">
                <a:solidFill>
                  <a:srgbClr val="33cccc"/>
                </a:solidFill>
                <a:latin typeface="Matisse ITC"/>
              </a:rPr>
              <a:t> </a:t>
            </a:r>
            <a:r>
              <a:rPr b="0" lang="es-MX" sz="2400" spc="-1" strike="noStrike">
                <a:solidFill>
                  <a:srgbClr val="33cccc"/>
                </a:solidFill>
                <a:latin typeface="Arial"/>
              </a:rPr>
              <a:t>1  2 3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"/>
          <p:cNvSpPr/>
          <p:nvPr/>
        </p:nvSpPr>
        <p:spPr>
          <a:xfrm>
            <a:off x="2590920" y="762120"/>
            <a:ext cx="419076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187280" y="1989000"/>
            <a:ext cx="65851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LOS CRISTALES C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CAPA DE BAJA  EMISIV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(LOW-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755640" y="152280"/>
            <a:ext cx="8236080" cy="12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Tahoma"/>
              </a:rPr>
              <a:t>Otra Definición...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LA BAJA EMISIV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7" name=""/>
          <p:cNvSpPr/>
          <p:nvPr/>
        </p:nvSpPr>
        <p:spPr>
          <a:xfrm>
            <a:off x="898560" y="1773360"/>
            <a:ext cx="770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cecff"/>
                </a:solidFill>
                <a:latin typeface="Arial"/>
              </a:rPr>
              <a:t>LA EMISIVIDAD ES UNA PROPIEDAD DE SUPERFICIE DE LOS MATERIALES QUE DEFINE LA CAPACIDAD DE EMITIR o ABSORBER RADI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cecff"/>
                </a:solidFill>
                <a:latin typeface="Arial"/>
              </a:rPr>
              <a:t>UN CUERPO OPACO TIENE UNA ABSORCIÓN Y UNA EMISIVIDAD ELEV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Arial"/>
              </a:rPr>
              <a:t>UNA CAPA DE BAJA EMISIVIDAD NO ABSORBE LA RADIACIÓN (INFRARROJA) Y LA DEVUELVE HACIA SU FUENTE DE ORI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/>
          </p:nvPr>
        </p:nvSpPr>
        <p:spPr>
          <a:xfrm>
            <a:off x="1771560" y="507600"/>
            <a:ext cx="211464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Tahoma"/>
              </a:rPr>
              <a:t>INVIER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9" name=""/>
          <p:cNvSpPr/>
          <p:nvPr/>
        </p:nvSpPr>
        <p:spPr>
          <a:xfrm>
            <a:off x="5983200" y="461880"/>
            <a:ext cx="157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VER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708120" y="1386000"/>
            <a:ext cx="135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Arial"/>
              </a:rPr>
              <a:t>EX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3123360" y="1371600"/>
            <a:ext cx="127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Arial"/>
              </a:rPr>
              <a:t>I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032440" y="1386000"/>
            <a:ext cx="135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Arial"/>
              </a:rPr>
              <a:t>EX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717680" y="1386000"/>
            <a:ext cx="127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Arial"/>
              </a:rPr>
              <a:t>I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672000" y="3006720"/>
            <a:ext cx="709560" cy="30240"/>
          </a:xfrm>
          <a:solidFill>
            <a:srgbClr val="ffaa7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711600" y="3038400"/>
            <a:ext cx="638280" cy="241200"/>
          </a:xfrm>
          <a:solidFill>
            <a:srgbClr val="cc4400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672000" y="2871720"/>
            <a:ext cx="709560" cy="136440"/>
          </a:xfrm>
          <a:solidFill>
            <a:srgbClr val="ad6900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624040" y="3989520"/>
            <a:ext cx="216000" cy="66600"/>
          </a:xfrm>
          <a:solidFill>
            <a:srgbClr val="6666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255760" y="2346480"/>
            <a:ext cx="371520" cy="1709640"/>
          </a:xfrm>
          <a:solidFill>
            <a:srgbClr val="bfff7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854440" y="2346480"/>
            <a:ext cx="369720" cy="1709640"/>
          </a:xfrm>
          <a:solidFill>
            <a:srgbClr val="bfff7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624040" y="2346480"/>
            <a:ext cx="216000" cy="64800"/>
          </a:xfrm>
          <a:solidFill>
            <a:srgbClr val="6666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840040" y="2346480"/>
            <a:ext cx="41400" cy="1709640"/>
          </a:xfrm>
          <a:solidFill>
            <a:srgbClr val="9f9f9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846840" y="4005360"/>
            <a:ext cx="216000" cy="66600"/>
          </a:xfrm>
          <a:solidFill>
            <a:srgbClr val="6666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846840" y="2360520"/>
            <a:ext cx="216000" cy="65160"/>
          </a:xfrm>
          <a:solidFill>
            <a:srgbClr val="6666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789600" y="2360520"/>
            <a:ext cx="57240" cy="1711440"/>
          </a:xfrm>
          <a:solidFill>
            <a:srgbClr val="ffff7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7062840" y="2360520"/>
            <a:ext cx="368280" cy="1711440"/>
          </a:xfrm>
          <a:solidFill>
            <a:srgbClr val="bfff7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6421320" y="2360520"/>
            <a:ext cx="370080" cy="1711440"/>
          </a:xfrm>
          <a:solidFill>
            <a:srgbClr val="bfff7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2887560" y="2459160"/>
            <a:ext cx="1447920" cy="114120"/>
          </a:xfrm>
          <a:noFill/>
          <a:ln w="12600">
            <a:solidFill>
              <a:srgbClr val="ff3f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280040" y="2516040"/>
            <a:ext cx="158760" cy="100080"/>
          </a:xfrm>
          <a:solidFill>
            <a:srgbClr val="f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H="1">
            <a:off x="4278240" y="2571840"/>
            <a:ext cx="6480" cy="1440"/>
          </a:xfrm>
          <a:prstGeom prst="line">
            <a:avLst/>
          </a:prstGeom>
          <a:ln w="12600">
            <a:solidFill>
              <a:srgbClr val="f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887560" y="3540240"/>
            <a:ext cx="1428840" cy="284040"/>
          </a:xfrm>
          <a:noFill/>
          <a:ln w="12600">
            <a:solidFill>
              <a:srgbClr val="ff3f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286160" y="3525840"/>
            <a:ext cx="160560" cy="100080"/>
          </a:xfrm>
          <a:solidFill>
            <a:srgbClr val="f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H="1">
            <a:off x="4284360" y="3581280"/>
            <a:ext cx="4680" cy="1800"/>
          </a:xfrm>
          <a:prstGeom prst="line">
            <a:avLst/>
          </a:prstGeom>
          <a:ln w="12600">
            <a:solidFill>
              <a:srgbClr val="f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871720" y="3819600"/>
            <a:ext cx="790560" cy="365040"/>
          </a:xfrm>
          <a:noFill/>
          <a:ln w="12600">
            <a:solidFill>
              <a:srgbClr val="ff3f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509840" y="2516040"/>
            <a:ext cx="1868400" cy="454320"/>
          </a:xfr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344760" y="2900520"/>
            <a:ext cx="166680" cy="107640"/>
          </a:xfr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flipH="1" flipV="1">
            <a:off x="3357360" y="2950920"/>
            <a:ext cx="28440" cy="12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646600" y="2496960"/>
            <a:ext cx="1132200" cy="338400"/>
          </a:xfr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572000" y="838080"/>
            <a:ext cx="1440" cy="419112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697280" y="3425760"/>
            <a:ext cx="555840" cy="258840"/>
          </a:xfrm>
          <a:solidFill>
            <a:srgbClr val="3ff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079960" y="3402000"/>
            <a:ext cx="858960" cy="339840"/>
          </a:xfr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973760" y="3797280"/>
            <a:ext cx="965160" cy="351000"/>
          </a:xfr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302080" y="3770280"/>
            <a:ext cx="638280" cy="119160"/>
          </a:xfrm>
          <a:solidFill>
            <a:srgbClr val="3ff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018040" y="3635280"/>
            <a:ext cx="920880" cy="162000"/>
          </a:xfrm>
          <a:solidFill>
            <a:srgbClr val="9ff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695840" y="3579840"/>
            <a:ext cx="525600" cy="447480"/>
          </a:xfr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099040" y="3794040"/>
            <a:ext cx="117360" cy="57240"/>
          </a:xfr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987800" y="3830760"/>
            <a:ext cx="49320" cy="44280"/>
          </a:xfr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772160" y="3770280"/>
            <a:ext cx="109440" cy="87480"/>
          </a:xfr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067360" y="3551400"/>
            <a:ext cx="92160" cy="215640"/>
          </a:xfr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883040" y="3433680"/>
            <a:ext cx="177840" cy="419040"/>
          </a:xfr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853160" y="3533760"/>
            <a:ext cx="104760" cy="146160"/>
          </a:xfr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695840" y="3471840"/>
            <a:ext cx="236520" cy="273240"/>
          </a:xfr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067360" y="3579840"/>
            <a:ext cx="30240" cy="165240"/>
          </a:xfr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099040" y="3494160"/>
            <a:ext cx="100080" cy="57240"/>
          </a:xfrm>
          <a:solidFill>
            <a:srgbClr val="7ff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468760" y="3494160"/>
            <a:ext cx="154080" cy="63360"/>
          </a:xfrm>
          <a:solidFill>
            <a:srgbClr val="3ff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853160" y="3533760"/>
            <a:ext cx="114120" cy="157320"/>
          </a:xfrm>
          <a:noFill/>
          <a:ln w="1260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067360" y="3579840"/>
            <a:ext cx="39600" cy="176040"/>
          </a:xfrm>
          <a:noFill/>
          <a:ln w="1260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818240" y="3494160"/>
            <a:ext cx="66600" cy="55440"/>
          </a:xfrm>
          <a:solidFill>
            <a:srgbClr val="7ff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594400" y="3424320"/>
            <a:ext cx="353880" cy="218880"/>
          </a:xfrm>
          <a:noFill/>
          <a:ln w="1260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556240" y="3490920"/>
            <a:ext cx="104760" cy="84240"/>
          </a:xfrm>
          <a:noFill/>
          <a:ln w="1260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5213520" y="3494160"/>
            <a:ext cx="303120" cy="135000"/>
          </a:xfrm>
          <a:noFill/>
          <a:ln w="1260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797360" y="3719520"/>
            <a:ext cx="152640" cy="36360"/>
          </a:xfrm>
          <a:solidFill>
            <a:srgbClr val="3ff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5068800" y="3760920"/>
            <a:ext cx="130320" cy="33120"/>
          </a:xfrm>
          <a:solidFill>
            <a:srgbClr val="3ff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051520" y="3811680"/>
            <a:ext cx="96840" cy="66600"/>
          </a:xfrm>
          <a:solidFill>
            <a:srgbClr val="3ff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175360" y="3710160"/>
            <a:ext cx="765000" cy="88560"/>
          </a:xfrm>
          <a:solidFill>
            <a:srgbClr val="3ff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695840" y="3884760"/>
            <a:ext cx="426960" cy="133200"/>
          </a:xfr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933800" y="3562200"/>
            <a:ext cx="24120" cy="103320"/>
          </a:xfr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876920" y="3540240"/>
            <a:ext cx="23760" cy="64800"/>
          </a:xfr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699080" y="3343320"/>
            <a:ext cx="139680" cy="584280"/>
          </a:xfr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759200" y="3878280"/>
            <a:ext cx="52560" cy="34920"/>
          </a:xfr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751280" y="3813120"/>
            <a:ext cx="104760" cy="68400"/>
          </a:xfrm>
          <a:solidFill>
            <a:srgbClr val="3ff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4721400" y="3691080"/>
            <a:ext cx="77760" cy="230040"/>
          </a:xfr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762440" y="3502080"/>
            <a:ext cx="33480" cy="182520"/>
          </a:xfr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890960" y="3819600"/>
            <a:ext cx="76320" cy="27000"/>
          </a:xfr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967280" y="3784680"/>
            <a:ext cx="68400" cy="39600"/>
          </a:xfr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987800" y="3603600"/>
            <a:ext cx="25560" cy="106560"/>
          </a:xfr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994280" y="3724200"/>
            <a:ext cx="23760" cy="54000"/>
          </a:xfr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749840" y="3913200"/>
            <a:ext cx="290520" cy="73080"/>
          </a:xfrm>
          <a:noFill/>
          <a:ln w="1260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762440" y="3898800"/>
            <a:ext cx="54000" cy="27000"/>
          </a:xfr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781520" y="3830760"/>
            <a:ext cx="241200" cy="61920"/>
          </a:xfrm>
          <a:noFill/>
          <a:ln w="1260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987800" y="3859200"/>
            <a:ext cx="131760" cy="39600"/>
          </a:xfrm>
          <a:noFill/>
          <a:ln w="1260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843440" y="3765600"/>
            <a:ext cx="95400" cy="39600"/>
          </a:xfr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843440" y="3765600"/>
            <a:ext cx="95400" cy="39600"/>
          </a:xfr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383080" y="4041720"/>
            <a:ext cx="198720" cy="119160"/>
          </a:xfrm>
          <a:solidFill>
            <a:srgbClr val="3f3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151600" y="3997440"/>
            <a:ext cx="158760" cy="83880"/>
          </a:xfrm>
          <a:solidFill>
            <a:srgbClr val="3f3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381640" y="3755880"/>
            <a:ext cx="557280" cy="65160"/>
          </a:xfr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5421240" y="3778200"/>
            <a:ext cx="452520" cy="60480"/>
          </a:xfrm>
          <a:solidFill>
            <a:srgbClr val="9ff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884840" y="4073400"/>
            <a:ext cx="77760" cy="27000"/>
          </a:xfrm>
          <a:solidFill>
            <a:srgbClr val="ff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927680" y="4043520"/>
            <a:ext cx="42840" cy="27000"/>
          </a:xfrm>
          <a:solidFill>
            <a:srgbClr val="ff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978440" y="4013280"/>
            <a:ext cx="41400" cy="48960"/>
          </a:xfrm>
          <a:solidFill>
            <a:srgbClr val="ff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984920" y="3936960"/>
            <a:ext cx="36360" cy="58680"/>
          </a:xfrm>
          <a:solidFill>
            <a:srgbClr val="ff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4657680" y="3944880"/>
            <a:ext cx="61920" cy="88920"/>
          </a:xfrm>
          <a:solidFill>
            <a:srgbClr val="ff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4662360" y="3867120"/>
            <a:ext cx="63720" cy="130320"/>
          </a:xfrm>
          <a:solidFill>
            <a:srgbClr val="ff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916520" y="3873600"/>
            <a:ext cx="38160" cy="93600"/>
          </a:xfrm>
          <a:solidFill>
            <a:srgbClr val="ff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956120" y="3862440"/>
            <a:ext cx="33480" cy="73080"/>
          </a:xfrm>
          <a:solidFill>
            <a:srgbClr val="ff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749840" y="3836880"/>
            <a:ext cx="55440" cy="57240"/>
          </a:xfrm>
          <a:solidFill>
            <a:srgbClr val="ff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770360" y="3862440"/>
            <a:ext cx="58680" cy="119160"/>
          </a:xfrm>
          <a:solidFill>
            <a:srgbClr val="ff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718160" y="3890880"/>
            <a:ext cx="50760" cy="90720"/>
          </a:xfrm>
          <a:solidFill>
            <a:srgbClr val="ff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784760" y="3994200"/>
            <a:ext cx="103320" cy="39600"/>
          </a:xfrm>
          <a:solidFill>
            <a:srgbClr val="ff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818240" y="3876840"/>
            <a:ext cx="26640" cy="72720"/>
          </a:xfrm>
          <a:solidFill>
            <a:srgbClr val="ff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836960" y="3841920"/>
            <a:ext cx="55800" cy="56880"/>
          </a:xfrm>
          <a:solidFill>
            <a:srgbClr val="ff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851360" y="3914640"/>
            <a:ext cx="55440" cy="82800"/>
          </a:xfrm>
          <a:solidFill>
            <a:srgbClr val="ff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794120" y="3867120"/>
            <a:ext cx="50760" cy="117360"/>
          </a:xfrm>
          <a:noFill/>
          <a:ln w="12600">
            <a:solidFill>
              <a:srgbClr val="ff00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5145120" y="3375000"/>
            <a:ext cx="1630440" cy="466920"/>
          </a:xfrm>
          <a:noFill/>
          <a:ln w="12600">
            <a:solidFill>
              <a:srgbClr val="ff3f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089760" y="3436920"/>
            <a:ext cx="677880" cy="312840"/>
          </a:xfrm>
          <a:noFill/>
          <a:ln w="12600">
            <a:solidFill>
              <a:srgbClr val="ff3f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039000" y="3726000"/>
            <a:ext cx="80640" cy="88920"/>
          </a:xfrm>
          <a:solidFill>
            <a:srgbClr val="f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2887560" y="2516040"/>
            <a:ext cx="1254240" cy="424080"/>
          </a:xfrm>
          <a:noFill/>
          <a:ln w="12600">
            <a:solidFill>
              <a:srgbClr val="ff3f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588080" y="2971800"/>
            <a:ext cx="155880" cy="100080"/>
          </a:xfr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777000" y="2808360"/>
            <a:ext cx="838080" cy="231840"/>
          </a:xfr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111720" y="2825640"/>
            <a:ext cx="671760" cy="209520"/>
          </a:xfr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5965920" y="2949480"/>
            <a:ext cx="171360" cy="138240"/>
          </a:xfr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1" name=""/>
          <p:cNvGrpSpPr/>
          <p:nvPr/>
        </p:nvGrpSpPr>
        <p:grpSpPr>
          <a:xfrm>
            <a:off x="3670200" y="4114800"/>
            <a:ext cx="530280" cy="966960"/>
            <a:chOff x="3670200" y="4114800"/>
            <a:chExt cx="530280" cy="966960"/>
          </a:xfrm>
        </p:grpSpPr>
        <p:sp>
          <p:nvSpPr>
            <p:cNvPr id="1402" name=""/>
            <p:cNvSpPr/>
            <p:nvPr/>
          </p:nvSpPr>
          <p:spPr>
            <a:xfrm>
              <a:off x="3946680" y="4824360"/>
              <a:ext cx="253800" cy="66600"/>
            </a:xfrm>
            <a:solidFill>
              <a:srgbClr val="00009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921120" y="4114800"/>
              <a:ext cx="271440" cy="709560"/>
            </a:xfr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094280" y="4175280"/>
              <a:ext cx="31680" cy="587160"/>
            </a:xfrm>
            <a:solidFill>
              <a:srgbClr val="bc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986280" y="4175280"/>
              <a:ext cx="30240" cy="587160"/>
            </a:xfrm>
            <a:solidFill>
              <a:srgbClr val="bc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833640" y="4175280"/>
              <a:ext cx="273240" cy="714240"/>
            </a:xfr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011480" y="4238640"/>
              <a:ext cx="32040" cy="585720"/>
            </a:xfrm>
            <a:solidFill>
              <a:srgbClr val="bc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902040" y="4238640"/>
              <a:ext cx="31680" cy="585720"/>
            </a:xfrm>
            <a:solidFill>
              <a:srgbClr val="bc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751200" y="4238640"/>
              <a:ext cx="271440" cy="712800"/>
            </a:xfr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929040" y="4303800"/>
              <a:ext cx="31680" cy="585720"/>
            </a:xfrm>
            <a:solidFill>
              <a:srgbClr val="bc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3814920" y="4303800"/>
              <a:ext cx="31680" cy="585720"/>
            </a:xfrm>
            <a:solidFill>
              <a:srgbClr val="bc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670200" y="4303800"/>
              <a:ext cx="271440" cy="709560"/>
            </a:xfr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843360" y="4365720"/>
              <a:ext cx="31680" cy="585720"/>
            </a:xfrm>
            <a:solidFill>
              <a:srgbClr val="bc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733920" y="4365720"/>
              <a:ext cx="31680" cy="585720"/>
            </a:xfrm>
            <a:solidFill>
              <a:srgbClr val="bc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780000" y="4897440"/>
              <a:ext cx="48960" cy="54000"/>
            </a:xfrm>
            <a:solidFill>
              <a:srgbClr val="ede9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763800" y="4330800"/>
              <a:ext cx="81000" cy="87120"/>
            </a:xfrm>
            <a:solidFill>
              <a:srgbClr val="2525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780000" y="4346640"/>
              <a:ext cx="48960" cy="55440"/>
            </a:xfrm>
            <a:solidFill>
              <a:srgbClr val="6f6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684600" y="5014800"/>
              <a:ext cx="254160" cy="66960"/>
            </a:xfrm>
            <a:solidFill>
              <a:srgbClr val="00009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792600" y="4359240"/>
              <a:ext cx="22320" cy="2556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0" name=""/>
          <p:cNvSpPr/>
          <p:nvPr/>
        </p:nvSpPr>
        <p:spPr>
          <a:xfrm>
            <a:off x="712800" y="5138640"/>
            <a:ext cx="696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Los cristales de baja emisividad reflejan el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(rayos infrarrojos) hacia el lado mas cal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"/>
          <p:cNvSpPr/>
          <p:nvPr/>
        </p:nvSpPr>
        <p:spPr>
          <a:xfrm rot="16200000">
            <a:off x="360" y="3351960"/>
            <a:ext cx="2133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Times New Roman"/>
              </a:rPr>
              <a:t>Trans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5791320" y="5791320"/>
            <a:ext cx="2438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ccecff"/>
                </a:solidFill>
                <a:latin typeface="Times New Roman"/>
              </a:rPr>
              <a:t>Longitud de O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3" name=""/>
          <p:cNvGrpSpPr/>
          <p:nvPr/>
        </p:nvGrpSpPr>
        <p:grpSpPr>
          <a:xfrm>
            <a:off x="2117880" y="1523880"/>
            <a:ext cx="1064880" cy="4164120"/>
            <a:chOff x="2117880" y="1523880"/>
            <a:chExt cx="1064880" cy="4164120"/>
          </a:xfrm>
        </p:grpSpPr>
        <p:sp>
          <p:nvSpPr>
            <p:cNvPr id="1424" name=""/>
            <p:cNvSpPr/>
            <p:nvPr/>
          </p:nvSpPr>
          <p:spPr>
            <a:xfrm>
              <a:off x="2117880" y="3809880"/>
              <a:ext cx="96840" cy="1878120"/>
            </a:xfrm>
            <a:solidFill>
              <a:srgbClr val="004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206800" y="3701880"/>
              <a:ext cx="31680" cy="1986120"/>
            </a:xfrm>
            <a:solidFill>
              <a:srgbClr val="005e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224080" y="3576600"/>
              <a:ext cx="31680" cy="2111400"/>
            </a:xfrm>
            <a:solidFill>
              <a:srgbClr val="006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241720" y="3062160"/>
              <a:ext cx="31680" cy="2625840"/>
            </a:xfrm>
            <a:solidFill>
              <a:srgbClr val="0084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260440" y="2994120"/>
              <a:ext cx="32040" cy="2693880"/>
            </a:xfrm>
            <a:solidFill>
              <a:srgbClr val="00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279520" y="2901960"/>
              <a:ext cx="33480" cy="2786040"/>
            </a:xfrm>
            <a:solidFill>
              <a:srgbClr val="00aa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297160" y="2627280"/>
              <a:ext cx="30240" cy="3060720"/>
            </a:xfrm>
            <a:solidFill>
              <a:srgbClr val="00bb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314440" y="2471760"/>
              <a:ext cx="33480" cy="3216240"/>
            </a:xfrm>
            <a:solidFill>
              <a:srgbClr val="00d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333520" y="2370240"/>
              <a:ext cx="30240" cy="3317760"/>
            </a:xfrm>
            <a:solidFill>
              <a:srgbClr val="00e1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895480" y="2173320"/>
              <a:ext cx="33480" cy="3514680"/>
            </a:xfrm>
            <a:solidFill>
              <a:srgbClr val="00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336760" y="1854360"/>
              <a:ext cx="65160" cy="3833640"/>
            </a:xfrm>
            <a:solidFill>
              <a:srgbClr val="00fff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386080" y="1755720"/>
              <a:ext cx="33120" cy="3932280"/>
            </a:xfrm>
            <a:solidFill>
              <a:srgbClr val="00f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406600" y="1654200"/>
              <a:ext cx="96840" cy="4033800"/>
            </a:xfrm>
            <a:solidFill>
              <a:srgbClr val="00ff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514600" y="1523880"/>
              <a:ext cx="31680" cy="4164120"/>
            </a:xfrm>
            <a:solidFill>
              <a:srgbClr val="00ff5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487600" y="1555920"/>
              <a:ext cx="74520" cy="4132080"/>
            </a:xfrm>
            <a:solidFill>
              <a:srgbClr val="00ff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552760" y="1565280"/>
              <a:ext cx="30240" cy="4122720"/>
            </a:xfrm>
            <a:solidFill>
              <a:srgbClr val="00ff3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570040" y="1560600"/>
              <a:ext cx="33480" cy="4127400"/>
            </a:xfrm>
            <a:solidFill>
              <a:srgbClr val="00ff2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587680" y="1558800"/>
              <a:ext cx="33120" cy="4129200"/>
            </a:xfrm>
            <a:solidFill>
              <a:srgbClr val="00ff1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608200" y="1555920"/>
              <a:ext cx="31680" cy="4132080"/>
            </a:xfrm>
            <a:solidFill>
              <a:srgbClr val="00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625840" y="1555920"/>
              <a:ext cx="31680" cy="4132080"/>
            </a:xfrm>
            <a:solidFill>
              <a:srgbClr val="15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646360" y="1555920"/>
              <a:ext cx="31680" cy="4132080"/>
            </a:xfrm>
            <a:solidFill>
              <a:srgbClr val="26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662200" y="1576440"/>
              <a:ext cx="31680" cy="4111560"/>
            </a:xfrm>
            <a:solidFill>
              <a:srgbClr val="3c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679840" y="1604880"/>
              <a:ext cx="33120" cy="4083120"/>
            </a:xfrm>
            <a:solidFill>
              <a:srgbClr val="4d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698920" y="1635120"/>
              <a:ext cx="33120" cy="4052880"/>
            </a:xfrm>
            <a:solidFill>
              <a:srgbClr val="62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714760" y="1652760"/>
              <a:ext cx="33120" cy="4035240"/>
            </a:xfrm>
            <a:solidFill>
              <a:srgbClr val="73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738520" y="1646280"/>
              <a:ext cx="31680" cy="4041720"/>
            </a:xfrm>
            <a:solidFill>
              <a:srgbClr val="88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754360" y="1635120"/>
              <a:ext cx="31680" cy="4052880"/>
            </a:xfrm>
            <a:solidFill>
              <a:srgbClr val="99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2771640" y="1628640"/>
              <a:ext cx="32040" cy="4059360"/>
            </a:xfrm>
            <a:solidFill>
              <a:srgbClr val="ae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790720" y="1623960"/>
              <a:ext cx="31680" cy="4064040"/>
            </a:xfrm>
            <a:solidFill>
              <a:srgbClr val="b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809800" y="1623960"/>
              <a:ext cx="33480" cy="4064040"/>
            </a:xfrm>
            <a:solidFill>
              <a:srgbClr val="d5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827440" y="1623960"/>
              <a:ext cx="30240" cy="4064040"/>
            </a:xfrm>
            <a:solidFill>
              <a:srgbClr val="e6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846520" y="1635120"/>
              <a:ext cx="33120" cy="4052880"/>
            </a:xfrm>
            <a:solidFill>
              <a:srgbClr val="f7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863800" y="1654200"/>
              <a:ext cx="30240" cy="4033800"/>
            </a:xfrm>
            <a:solidFill>
              <a:srgbClr val="fff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2881440" y="1671480"/>
              <a:ext cx="33120" cy="4016520"/>
            </a:xfrm>
            <a:solidFill>
              <a:srgbClr val="ffe1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901960" y="1684440"/>
              <a:ext cx="28440" cy="4003560"/>
            </a:xfr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916360" y="1700280"/>
              <a:ext cx="33120" cy="3987720"/>
            </a:xfrm>
            <a:solidFill>
              <a:srgbClr val="ffbb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938320" y="1901880"/>
              <a:ext cx="30240" cy="3786120"/>
            </a:xfrm>
            <a:solidFill>
              <a:srgbClr val="ffa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2952720" y="2274840"/>
              <a:ext cx="33480" cy="3413160"/>
            </a:xfrm>
            <a:solidFill>
              <a:srgbClr val="ff95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975040" y="1873080"/>
              <a:ext cx="30240" cy="3814920"/>
            </a:xfrm>
            <a:solidFill>
              <a:srgbClr val="ff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989440" y="1873080"/>
              <a:ext cx="33120" cy="3814920"/>
            </a:xfrm>
            <a:solidFill>
              <a:srgbClr val="ff6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009960" y="1876320"/>
              <a:ext cx="31680" cy="3811680"/>
            </a:xfrm>
            <a:solidFill>
              <a:srgbClr val="ff5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029040" y="1889280"/>
              <a:ext cx="31680" cy="3798720"/>
            </a:xfrm>
            <a:solidFill>
              <a:srgbClr val="ff48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046320" y="1900080"/>
              <a:ext cx="31680" cy="3787920"/>
            </a:xfr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062160" y="2155680"/>
              <a:ext cx="32040" cy="3532320"/>
            </a:xfrm>
            <a:solidFill>
              <a:srgbClr val="ff2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081240" y="2155680"/>
              <a:ext cx="31680" cy="3532320"/>
            </a:xfrm>
            <a:solidFill>
              <a:srgbClr val="ff0d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100320" y="2157480"/>
              <a:ext cx="33480" cy="3530520"/>
            </a:xfr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119400" y="2174760"/>
              <a:ext cx="33480" cy="3513240"/>
            </a:xfr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3141720" y="3619440"/>
              <a:ext cx="41040" cy="2068560"/>
            </a:xfr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2" name=""/>
          <p:cNvSpPr/>
          <p:nvPr/>
        </p:nvSpPr>
        <p:spPr>
          <a:xfrm>
            <a:off x="1314000" y="1503360"/>
            <a:ext cx="52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1471320" y="5433840"/>
            <a:ext cx="295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1365120" y="3417840"/>
            <a:ext cx="410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5437440" y="2637000"/>
            <a:ext cx="2440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45ff45"/>
                </a:solidFill>
                <a:latin typeface="Times New Roman"/>
              </a:rPr>
              <a:t>Float verde 6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45ff45"/>
                </a:solidFill>
                <a:latin typeface="Times New Roman"/>
              </a:rPr>
              <a:t>Selectividad = 73/56 = </a:t>
            </a:r>
            <a:r>
              <a:rPr b="0" lang="es-ES" sz="1600" spc="-1" strike="noStrike">
                <a:solidFill>
                  <a:srgbClr val="ffcc00"/>
                </a:solidFill>
                <a:latin typeface="Times New Roman"/>
              </a:rPr>
              <a:t>1,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838080" y="76320"/>
            <a:ext cx="815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os Cristales Pirolíticos con filtro infrarrojo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Arial"/>
              </a:rPr>
              <a:t>Sele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905120" y="1447920"/>
            <a:ext cx="1440" cy="434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905120" y="5791320"/>
            <a:ext cx="6095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444640" y="3573360"/>
            <a:ext cx="376812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45ff45"/>
                </a:solidFill>
                <a:latin typeface="Times New Roman"/>
              </a:rPr>
              <a:t>Pirolítico Low-e s/verde 6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45ff45"/>
                </a:solidFill>
                <a:latin typeface="Times New Roman"/>
              </a:rPr>
              <a:t>Selectividad =  55/42 = </a:t>
            </a:r>
            <a:r>
              <a:rPr b="0" lang="es-ES" sz="1600" spc="-1" strike="noStrike">
                <a:solidFill>
                  <a:srgbClr val="ffcc00"/>
                </a:solidFill>
                <a:latin typeface="Times New Roman"/>
              </a:rPr>
              <a:t>1,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Times New Roman"/>
              </a:rPr>
              <a:t>La Transmisión Luminosa y el Factor Sol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Times New Roman"/>
              </a:rPr>
              <a:t>Bajan parejo y no se altera la selectivid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Times New Roman"/>
              </a:rPr>
              <a:t>Incluso se mejo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"/>
          <p:cNvSpPr/>
          <p:nvPr/>
        </p:nvSpPr>
        <p:spPr>
          <a:xfrm>
            <a:off x="2590920" y="762120"/>
            <a:ext cx="419076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1187280" y="1989000"/>
            <a:ext cx="65851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LOS CRISTALES C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CAPA AL VACÍO CON FILTRO INFRARROJO 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DE BAJA  EMISIV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(LOW-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1208160" y="126720"/>
            <a:ext cx="7337520" cy="15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CRISTALES CON CAPA 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 VACÍO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AGNETRON (Fuera de líne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829800" y="2697120"/>
            <a:ext cx="216396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Cátodos (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09800" y="3075120"/>
            <a:ext cx="2430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Gas ionizado (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910200" y="2295360"/>
            <a:ext cx="118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Im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911640" y="4264200"/>
            <a:ext cx="911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C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912000" y="4721400"/>
            <a:ext cx="1047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Cris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841760" y="3916440"/>
            <a:ext cx="74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6912000" y="3218040"/>
            <a:ext cx="12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An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760920" y="2548080"/>
            <a:ext cx="1861920" cy="517320"/>
          </a:xfrm>
          <a:solidFill>
            <a:srgbClr val="2ae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3994200" y="2460600"/>
            <a:ext cx="460440" cy="79560"/>
          </a:xfrm>
          <a:solidFill>
            <a:srgbClr val="2525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4927680" y="2460600"/>
            <a:ext cx="461880" cy="79560"/>
          </a:xfrm>
          <a:solidFill>
            <a:srgbClr val="2525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760920" y="4475160"/>
            <a:ext cx="1861920" cy="517680"/>
          </a:xfrm>
          <a:solidFill>
            <a:srgbClr val="a3f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3687840" y="4476600"/>
            <a:ext cx="69840" cy="517680"/>
          </a:xfrm>
          <a:solidFill>
            <a:srgbClr val="a3f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5565600" y="4476600"/>
            <a:ext cx="133560" cy="517680"/>
          </a:xfrm>
          <a:solidFill>
            <a:srgbClr val="a3f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5199120" y="302580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276880" y="3112920"/>
            <a:ext cx="74520" cy="860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5430960" y="3025800"/>
            <a:ext cx="7596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5276880" y="2938320"/>
            <a:ext cx="745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353200" y="2852640"/>
            <a:ext cx="7596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5041800" y="293832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886280" y="3025800"/>
            <a:ext cx="745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5041800" y="302580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587920" y="3025800"/>
            <a:ext cx="745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5430960" y="2938320"/>
            <a:ext cx="7596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5353200" y="3025800"/>
            <a:ext cx="7596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119560" y="3112920"/>
            <a:ext cx="76320" cy="860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119560" y="293832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730760" y="302580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576680" y="3025800"/>
            <a:ext cx="745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4654440" y="3112920"/>
            <a:ext cx="76320" cy="860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419720" y="3025800"/>
            <a:ext cx="7596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498920" y="3112920"/>
            <a:ext cx="76320" cy="860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730760" y="328788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808520" y="3112920"/>
            <a:ext cx="76320" cy="860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4886280" y="3287880"/>
            <a:ext cx="745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4730760" y="355284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4576680" y="3902040"/>
            <a:ext cx="745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264200" y="4165560"/>
            <a:ext cx="745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4498920" y="425304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4419720" y="4076640"/>
            <a:ext cx="7596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4808520" y="407664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4886280" y="3727440"/>
            <a:ext cx="745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4730760" y="416556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4730760" y="381492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5041800" y="399096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5276880" y="4253040"/>
            <a:ext cx="745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5041800" y="425304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3951360" y="4341960"/>
            <a:ext cx="7596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4108320" y="434196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4341960" y="4341960"/>
            <a:ext cx="7596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4186080" y="434196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4576680" y="4341960"/>
            <a:ext cx="745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808520" y="442908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4808520" y="434196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962600" y="4429080"/>
            <a:ext cx="7596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886280" y="4429080"/>
            <a:ext cx="745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4654440" y="442908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730760" y="442908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4576680" y="4429080"/>
            <a:ext cx="745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498920" y="442908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341960" y="4429080"/>
            <a:ext cx="7596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186080" y="442908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108320" y="442908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3951360" y="4429080"/>
            <a:ext cx="7596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875040" y="442908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797280" y="442908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030560" y="442908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264200" y="4429080"/>
            <a:ext cx="745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5041800" y="442908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5119560" y="442908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276880" y="4429080"/>
            <a:ext cx="745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5353200" y="4341960"/>
            <a:ext cx="7596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5353200" y="4429080"/>
            <a:ext cx="7596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430960" y="4429080"/>
            <a:ext cx="7596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5510160" y="442908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5199120" y="442908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276880" y="3727440"/>
            <a:ext cx="745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5041800" y="381492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962600" y="3552840"/>
            <a:ext cx="7596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5119560" y="3376440"/>
            <a:ext cx="76320" cy="860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5119560" y="407664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4962600" y="4165560"/>
            <a:ext cx="7596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4886280" y="3902040"/>
            <a:ext cx="745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576680" y="4076640"/>
            <a:ext cx="745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419720" y="3814920"/>
            <a:ext cx="7596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4498920" y="372744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4886280" y="3376440"/>
            <a:ext cx="74520" cy="860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4886280" y="2938320"/>
            <a:ext cx="745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4962600" y="3112920"/>
            <a:ext cx="75960" cy="860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5041800" y="328788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5276880" y="3287880"/>
            <a:ext cx="745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5119560" y="355284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5199120" y="381492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5199120" y="399096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419720" y="3639960"/>
            <a:ext cx="7596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186080" y="372744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264200" y="3902040"/>
            <a:ext cx="745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576680" y="3552840"/>
            <a:ext cx="745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962600" y="3025800"/>
            <a:ext cx="7596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4962600" y="2938320"/>
            <a:ext cx="7596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041800" y="2852640"/>
            <a:ext cx="76320" cy="842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4808520" y="302580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5430960" y="3112920"/>
            <a:ext cx="75960" cy="8604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353200" y="3287880"/>
            <a:ext cx="7596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5119560" y="3287880"/>
            <a:ext cx="76320" cy="85680"/>
          </a:xfrm>
          <a:solidFill>
            <a:srgbClr val="3d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3070080" y="2120760"/>
            <a:ext cx="289080" cy="317520"/>
          </a:xfrm>
          <a:custGeom>
            <a:avLst/>
            <a:gdLst>
              <a:gd name="textAreaLeft" fmla="*/ 0 w 289080"/>
              <a:gd name="textAreaRight" fmla="*/ 289080 w 289080"/>
              <a:gd name="textAreaTop" fmla="*/ 0 h 317520"/>
              <a:gd name="textAreaBottom" fmla="*/ 158760 h 317520"/>
            </a:gdLst>
            <a:ahLst/>
            <a:rect l="textAreaLeft" t="textAreaTop" r="textAreaRight" b="textAreaBottom"/>
            <a:pathLst>
              <a:path stroke="0" w="21600" h="21600">
                <a:moveTo>
                  <a:pt x="21600" y="10800"/>
                </a:moveTo>
                <a:arcTo wR="10800" hR="10800" stAng="0" swAng="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0"/>
              </a:path>
            </a:pathLst>
          </a:custGeom>
          <a:noFill/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065400" y="2781360"/>
            <a:ext cx="298440" cy="333360"/>
          </a:xfrm>
          <a:prstGeom prst="ellipse">
            <a:avLst/>
          </a:prstGeom>
          <a:noFill/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6019920" y="2792520"/>
            <a:ext cx="298440" cy="333360"/>
          </a:xfrm>
          <a:prstGeom prst="ellipse">
            <a:avLst/>
          </a:prstGeom>
          <a:noFill/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2749680" y="1930320"/>
            <a:ext cx="3876480" cy="3225960"/>
          </a:xfrm>
          <a:prstGeom prst="rect">
            <a:avLst/>
          </a:prstGeom>
          <a:noFill/>
          <a:ln w="255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2606760" y="3308400"/>
            <a:ext cx="887400" cy="144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573280" y="4159080"/>
            <a:ext cx="503280" cy="180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611440" y="2654280"/>
            <a:ext cx="1130400" cy="144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2679840" y="2279520"/>
            <a:ext cx="390240" cy="180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flipH="1">
            <a:off x="3349440" y="2279520"/>
            <a:ext cx="1344600" cy="180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>
            <a:off x="4692240" y="2276640"/>
            <a:ext cx="4680" cy="25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3211560" y="1687680"/>
            <a:ext cx="1440" cy="109368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791240" y="2374920"/>
            <a:ext cx="114120" cy="144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2727360" y="2741760"/>
            <a:ext cx="355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666699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3587760" y="31179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666699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3641760" y="3178080"/>
            <a:ext cx="147600" cy="163440"/>
          </a:xfrm>
          <a:prstGeom prst="ellipse">
            <a:avLst/>
          </a:prstGeom>
          <a:noFill/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3819600" y="32068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666699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3873600" y="3267000"/>
            <a:ext cx="145800" cy="163440"/>
          </a:xfrm>
          <a:prstGeom prst="ellipse">
            <a:avLst/>
          </a:prstGeom>
          <a:noFill/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103640" y="30862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666699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57640" y="3146400"/>
            <a:ext cx="146160" cy="163440"/>
          </a:xfrm>
          <a:prstGeom prst="ellipse">
            <a:avLst/>
          </a:prstGeom>
          <a:noFill/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4243680" y="32446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666699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4297320" y="3311640"/>
            <a:ext cx="146160" cy="163440"/>
          </a:xfrm>
          <a:prstGeom prst="ellipse">
            <a:avLst/>
          </a:prstGeom>
          <a:noFill/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4044960" y="34034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666699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4098960" y="3457440"/>
            <a:ext cx="147600" cy="163800"/>
          </a:xfrm>
          <a:prstGeom prst="ellipse">
            <a:avLst/>
          </a:prstGeom>
          <a:noFill/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6168960" y="1681200"/>
            <a:ext cx="1800" cy="109368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5411880" y="2495520"/>
            <a:ext cx="1377720" cy="144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311880" y="2735280"/>
            <a:ext cx="355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666699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337440" y="3097080"/>
            <a:ext cx="452160" cy="28764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5654520" y="4457880"/>
            <a:ext cx="1197000" cy="144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749920" y="4883040"/>
            <a:ext cx="1101600" cy="180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1355400" y="5370480"/>
            <a:ext cx="71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1800" spc="-1" strike="noStrike">
                <a:solidFill>
                  <a:srgbClr val="666699"/>
                </a:solidFill>
                <a:latin typeface="Arial"/>
              </a:rPr>
              <a:t>CAPAS SECUENCIALES DE METALES PUROS (Ti, Zn, Au, Ag, 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1800" spc="-1" strike="noStrike">
                <a:solidFill>
                  <a:srgbClr val="666699"/>
                </a:solidFill>
                <a:latin typeface="Arial"/>
              </a:rPr>
              <a:t>REFLEXIÓN Y ABSORCIÓN VARIABLES CON O SIN LOW-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1800" spc="-1" strike="noStrike">
                <a:solidFill>
                  <a:srgbClr val="666699"/>
                </a:solidFill>
                <a:latin typeface="Arial"/>
              </a:rPr>
              <a:t>CAPA MAS DELIC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7" name=""/>
          <p:cNvGraphicFramePr/>
          <p:nvPr/>
        </p:nvGraphicFramePr>
        <p:xfrm>
          <a:off x="7620120" y="228600"/>
          <a:ext cx="111420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228600"/>
                    <a:ext cx="111420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"/>
          <p:cNvSpPr/>
          <p:nvPr/>
        </p:nvSpPr>
        <p:spPr>
          <a:xfrm>
            <a:off x="971640" y="189000"/>
            <a:ext cx="748332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000" spc="-1" strike="noStrike">
                <a:solidFill>
                  <a:srgbClr val="fafd00"/>
                </a:solidFill>
                <a:latin typeface="Tahoma"/>
              </a:rPr>
              <a:t>CRISTALES CON CAPA AL VACÍ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000" spc="-1" strike="noStrike">
                <a:solidFill>
                  <a:srgbClr val="fafd00"/>
                </a:solidFill>
                <a:latin typeface="Tahoma"/>
              </a:rPr>
              <a:t>CON FILTRO INFRARROJO 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000" spc="-1" strike="noStrike">
                <a:solidFill>
                  <a:srgbClr val="fafd00"/>
                </a:solidFill>
                <a:latin typeface="Tahoma"/>
              </a:rPr>
              <a:t>DE BAJA EMISIVIDA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1230480" y="4572000"/>
            <a:ext cx="6954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4176720" y="2421000"/>
            <a:ext cx="150840" cy="2158920"/>
          </a:xfrm>
          <a:solidFill>
            <a:srgbClr val="bfff7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2835360" y="3191040"/>
            <a:ext cx="1485720" cy="415800"/>
          </a:xfrm>
          <a:prstGeom prst="line">
            <a:avLst/>
          </a:prstGeom>
          <a:ln w="25560">
            <a:solidFill>
              <a:srgbClr val="f62a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292560" y="3878280"/>
            <a:ext cx="223920" cy="142920"/>
          </a:xfrm>
          <a:solidFill>
            <a:srgbClr val="f62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 flipH="1">
            <a:off x="3443040" y="3648240"/>
            <a:ext cx="917640" cy="306360"/>
          </a:xfrm>
          <a:prstGeom prst="line">
            <a:avLst/>
          </a:prstGeom>
          <a:ln w="25560">
            <a:solidFill>
              <a:srgbClr val="f62a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4716360" y="2421000"/>
            <a:ext cx="147600" cy="2158920"/>
          </a:xfrm>
          <a:solidFill>
            <a:srgbClr val="bfff7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4287600" y="2374920"/>
            <a:ext cx="383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cc00"/>
                </a:solidFill>
                <a:latin typeface="Arial"/>
              </a:rPr>
              <a:t>#2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7" name=""/>
          <p:cNvGraphicFramePr/>
          <p:nvPr/>
        </p:nvGraphicFramePr>
        <p:xfrm>
          <a:off x="5578560" y="2730600"/>
          <a:ext cx="1752480" cy="13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78560" y="2730600"/>
                    <a:ext cx="175248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9" name=""/>
          <p:cNvSpPr/>
          <p:nvPr/>
        </p:nvSpPr>
        <p:spPr>
          <a:xfrm>
            <a:off x="2454120" y="45626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RAS # </a:t>
            </a:r>
            <a:r>
              <a:rPr b="0" lang="es-MX" sz="2400" spc="-1" strike="noStrike">
                <a:solidFill>
                  <a:srgbClr val="000000"/>
                </a:solidFill>
                <a:latin typeface="Matisse ITC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1  2 3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1187280" y="5229360"/>
            <a:ext cx="715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Tahoma"/>
              </a:rPr>
              <a:t>PERMITEN COMBINAR Y OPTIMIZAR LAS 3 FORMAS DE CONTROLAR LA ENERGIA SOLAR: REFLEXIÓN, ABSORCIÓN, FILTRO INFRARRO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"/>
          <p:cNvSpPr/>
          <p:nvPr/>
        </p:nvSpPr>
        <p:spPr>
          <a:xfrm rot="16200000">
            <a:off x="360" y="3351960"/>
            <a:ext cx="2133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Times New Roman"/>
              </a:rPr>
              <a:t>Trans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6019920" y="5791320"/>
            <a:ext cx="2209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ccecff"/>
                </a:solidFill>
                <a:latin typeface="Times New Roman"/>
              </a:rPr>
              <a:t>Longitud de O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3" name=""/>
          <p:cNvGrpSpPr/>
          <p:nvPr/>
        </p:nvGrpSpPr>
        <p:grpSpPr>
          <a:xfrm>
            <a:off x="2117880" y="1523880"/>
            <a:ext cx="1064880" cy="4164120"/>
            <a:chOff x="2117880" y="1523880"/>
            <a:chExt cx="1064880" cy="4164120"/>
          </a:xfrm>
        </p:grpSpPr>
        <p:sp>
          <p:nvSpPr>
            <p:cNvPr id="1634" name=""/>
            <p:cNvSpPr/>
            <p:nvPr/>
          </p:nvSpPr>
          <p:spPr>
            <a:xfrm>
              <a:off x="2117880" y="3809880"/>
              <a:ext cx="96840" cy="1878120"/>
            </a:xfrm>
            <a:solidFill>
              <a:srgbClr val="004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206800" y="3701880"/>
              <a:ext cx="31680" cy="1986120"/>
            </a:xfrm>
            <a:solidFill>
              <a:srgbClr val="005e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224080" y="3576600"/>
              <a:ext cx="31680" cy="2111400"/>
            </a:xfrm>
            <a:solidFill>
              <a:srgbClr val="006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241720" y="3062160"/>
              <a:ext cx="31680" cy="2625840"/>
            </a:xfrm>
            <a:solidFill>
              <a:srgbClr val="0084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260440" y="2994120"/>
              <a:ext cx="32040" cy="2693880"/>
            </a:xfrm>
            <a:solidFill>
              <a:srgbClr val="00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279520" y="2901960"/>
              <a:ext cx="33480" cy="2786040"/>
            </a:xfrm>
            <a:solidFill>
              <a:srgbClr val="00aa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297160" y="2627280"/>
              <a:ext cx="30240" cy="3060720"/>
            </a:xfrm>
            <a:solidFill>
              <a:srgbClr val="00bb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314440" y="2471760"/>
              <a:ext cx="33480" cy="3216240"/>
            </a:xfrm>
            <a:solidFill>
              <a:srgbClr val="00d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333520" y="2370240"/>
              <a:ext cx="30240" cy="3317760"/>
            </a:xfrm>
            <a:solidFill>
              <a:srgbClr val="00e1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895480" y="2173320"/>
              <a:ext cx="33480" cy="3514680"/>
            </a:xfrm>
            <a:solidFill>
              <a:srgbClr val="00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336760" y="1854360"/>
              <a:ext cx="65160" cy="3833640"/>
            </a:xfrm>
            <a:solidFill>
              <a:srgbClr val="00fff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386080" y="1755720"/>
              <a:ext cx="33120" cy="3932280"/>
            </a:xfrm>
            <a:solidFill>
              <a:srgbClr val="00f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406600" y="1654200"/>
              <a:ext cx="96840" cy="4033800"/>
            </a:xfrm>
            <a:solidFill>
              <a:srgbClr val="00ff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514600" y="1523880"/>
              <a:ext cx="31680" cy="4164120"/>
            </a:xfrm>
            <a:solidFill>
              <a:srgbClr val="00ff5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487600" y="1555920"/>
              <a:ext cx="74520" cy="4132080"/>
            </a:xfrm>
            <a:solidFill>
              <a:srgbClr val="00ff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552760" y="1565280"/>
              <a:ext cx="30240" cy="4122720"/>
            </a:xfrm>
            <a:solidFill>
              <a:srgbClr val="00ff3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570040" y="1560600"/>
              <a:ext cx="33480" cy="4127400"/>
            </a:xfrm>
            <a:solidFill>
              <a:srgbClr val="00ff2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587680" y="1558800"/>
              <a:ext cx="33120" cy="4129200"/>
            </a:xfrm>
            <a:solidFill>
              <a:srgbClr val="00ff1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608200" y="1555920"/>
              <a:ext cx="31680" cy="4132080"/>
            </a:xfrm>
            <a:solidFill>
              <a:srgbClr val="00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625840" y="1555920"/>
              <a:ext cx="31680" cy="4132080"/>
            </a:xfrm>
            <a:solidFill>
              <a:srgbClr val="15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646360" y="1555920"/>
              <a:ext cx="31680" cy="4132080"/>
            </a:xfrm>
            <a:solidFill>
              <a:srgbClr val="26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662200" y="1576440"/>
              <a:ext cx="31680" cy="4111560"/>
            </a:xfrm>
            <a:solidFill>
              <a:srgbClr val="3c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679840" y="1604880"/>
              <a:ext cx="33120" cy="4083120"/>
            </a:xfrm>
            <a:solidFill>
              <a:srgbClr val="4d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698920" y="1635120"/>
              <a:ext cx="33120" cy="4052880"/>
            </a:xfrm>
            <a:solidFill>
              <a:srgbClr val="62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714760" y="1652760"/>
              <a:ext cx="33120" cy="4035240"/>
            </a:xfrm>
            <a:solidFill>
              <a:srgbClr val="73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738520" y="1646280"/>
              <a:ext cx="31680" cy="4041720"/>
            </a:xfrm>
            <a:solidFill>
              <a:srgbClr val="88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754360" y="1635120"/>
              <a:ext cx="31680" cy="4052880"/>
            </a:xfrm>
            <a:solidFill>
              <a:srgbClr val="99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771640" y="1628640"/>
              <a:ext cx="32040" cy="4059360"/>
            </a:xfrm>
            <a:solidFill>
              <a:srgbClr val="ae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790720" y="1623960"/>
              <a:ext cx="31680" cy="4064040"/>
            </a:xfrm>
            <a:solidFill>
              <a:srgbClr val="b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809800" y="1623960"/>
              <a:ext cx="33480" cy="4064040"/>
            </a:xfrm>
            <a:solidFill>
              <a:srgbClr val="d5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827440" y="1623960"/>
              <a:ext cx="30240" cy="4064040"/>
            </a:xfrm>
            <a:solidFill>
              <a:srgbClr val="e6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846520" y="1635120"/>
              <a:ext cx="33120" cy="4052880"/>
            </a:xfrm>
            <a:solidFill>
              <a:srgbClr val="f7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863800" y="1654200"/>
              <a:ext cx="30240" cy="4033800"/>
            </a:xfrm>
            <a:solidFill>
              <a:srgbClr val="fff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881440" y="1671480"/>
              <a:ext cx="33120" cy="4016520"/>
            </a:xfrm>
            <a:solidFill>
              <a:srgbClr val="ffe1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901960" y="1684440"/>
              <a:ext cx="28440" cy="4003560"/>
            </a:xfr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916360" y="1700280"/>
              <a:ext cx="33120" cy="3987720"/>
            </a:xfrm>
            <a:solidFill>
              <a:srgbClr val="ffbb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938320" y="1901880"/>
              <a:ext cx="30240" cy="3786120"/>
            </a:xfrm>
            <a:solidFill>
              <a:srgbClr val="ffa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2952720" y="2274840"/>
              <a:ext cx="33480" cy="3413160"/>
            </a:xfrm>
            <a:solidFill>
              <a:srgbClr val="ff95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975040" y="1873080"/>
              <a:ext cx="30240" cy="3814920"/>
            </a:xfrm>
            <a:solidFill>
              <a:srgbClr val="ff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2989440" y="1873080"/>
              <a:ext cx="33120" cy="3814920"/>
            </a:xfrm>
            <a:solidFill>
              <a:srgbClr val="ff6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3009960" y="1876320"/>
              <a:ext cx="31680" cy="3811680"/>
            </a:xfrm>
            <a:solidFill>
              <a:srgbClr val="ff5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3029040" y="1889280"/>
              <a:ext cx="31680" cy="3798720"/>
            </a:xfrm>
            <a:solidFill>
              <a:srgbClr val="ff48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3046320" y="1900080"/>
              <a:ext cx="31680" cy="3787920"/>
            </a:xfr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062160" y="2155680"/>
              <a:ext cx="32040" cy="3532320"/>
            </a:xfrm>
            <a:solidFill>
              <a:srgbClr val="ff2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3081240" y="2155680"/>
              <a:ext cx="31680" cy="3532320"/>
            </a:xfrm>
            <a:solidFill>
              <a:srgbClr val="ff0d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3100320" y="2157480"/>
              <a:ext cx="33480" cy="3530520"/>
            </a:xfr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119400" y="2174760"/>
              <a:ext cx="33480" cy="3513240"/>
            </a:xfr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141720" y="3619440"/>
              <a:ext cx="41040" cy="2068560"/>
            </a:xfr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2" name=""/>
          <p:cNvSpPr/>
          <p:nvPr/>
        </p:nvSpPr>
        <p:spPr>
          <a:xfrm>
            <a:off x="1314000" y="1503360"/>
            <a:ext cx="52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471320" y="5433840"/>
            <a:ext cx="295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1365120" y="3417840"/>
            <a:ext cx="410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412240" y="1600200"/>
            <a:ext cx="2440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45ff45"/>
                </a:solidFill>
                <a:latin typeface="Times New Roman"/>
              </a:rPr>
              <a:t>Float verde 6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45ff45"/>
                </a:solidFill>
                <a:latin typeface="Times New Roman"/>
              </a:rPr>
              <a:t>Selectividad = 73/56 = </a:t>
            </a:r>
            <a:r>
              <a:rPr b="0" lang="es-ES" sz="1600" spc="-1" strike="noStrike">
                <a:solidFill>
                  <a:srgbClr val="ffcc00"/>
                </a:solidFill>
                <a:latin typeface="Times New Roman"/>
              </a:rPr>
              <a:t>1,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826920" y="76320"/>
            <a:ext cx="816480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Los Cristales de Capa al Vacío con filt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Infrarrojo y baja emisividad (Low-e)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Sele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1905120" y="1447920"/>
            <a:ext cx="1440" cy="434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1905120" y="5791320"/>
            <a:ext cx="6095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407200" y="2286000"/>
            <a:ext cx="2995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45ff45"/>
                </a:solidFill>
                <a:latin typeface="Times New Roman"/>
              </a:rPr>
              <a:t>Pirolítico Low-e s/verde 6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45ff45"/>
                </a:solidFill>
                <a:latin typeface="Times New Roman"/>
              </a:rPr>
              <a:t>Selectividad =  55/42 = </a:t>
            </a:r>
            <a:r>
              <a:rPr b="0" lang="es-ES" sz="1600" spc="-1" strike="noStrike">
                <a:solidFill>
                  <a:srgbClr val="ffcc00"/>
                </a:solidFill>
                <a:latin typeface="Times New Roman"/>
              </a:rPr>
              <a:t>1,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438880" y="3068640"/>
            <a:ext cx="2534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45ff45"/>
                </a:solidFill>
                <a:latin typeface="Times New Roman"/>
              </a:rPr>
              <a:t>Capa Low-e Antiso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45ff45"/>
                </a:solidFill>
                <a:latin typeface="Times New Roman"/>
              </a:rPr>
              <a:t>s/verde DVH 6/12/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45ff45"/>
                </a:solidFill>
                <a:latin typeface="Times New Roman"/>
              </a:rPr>
              <a:t>Selectividad =  55/28 = </a:t>
            </a:r>
            <a:r>
              <a:rPr b="1" lang="es-ES" sz="1600" spc="-1" strike="noStrike">
                <a:solidFill>
                  <a:srgbClr val="ffcc00"/>
                </a:solidFill>
                <a:latin typeface="Times New Roman"/>
              </a:rPr>
              <a:t>1,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5483880" y="4098960"/>
            <a:ext cx="3350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Times New Roman"/>
              </a:rPr>
              <a:t>La capa al vacío permite mante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Times New Roman"/>
              </a:rPr>
              <a:t>la misma Transmisión de Luz 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Times New Roman"/>
              </a:rPr>
              <a:t>el cristal pirolítico baja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Times New Roman"/>
              </a:rPr>
              <a:t>sustancialmente el Factor So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Times New Roman"/>
              </a:rPr>
              <a:t>y mejorando la Selectiv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30355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En resumen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3" name=""/>
          <p:cNvSpPr/>
          <p:nvPr/>
        </p:nvSpPr>
        <p:spPr>
          <a:xfrm>
            <a:off x="2743200" y="838080"/>
            <a:ext cx="42670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Cristales de Control S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914400" y="1523880"/>
            <a:ext cx="380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Tahoma"/>
              </a:rPr>
              <a:t>Capas Pirolí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4952880" y="1523880"/>
            <a:ext cx="381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Tahoma"/>
              </a:rPr>
              <a:t>Capas al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3844800" cy="327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Tahoma"/>
              </a:rPr>
              <a:t>Prestaciones variadas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ccecff"/>
                </a:solidFill>
                <a:latin typeface="Tahoma"/>
              </a:rPr>
              <a:t>Varias capas disponib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ccecff"/>
                </a:solidFill>
                <a:latin typeface="Tahoma"/>
              </a:rPr>
              <a:t>Bastante espejados (cara #1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i="1" lang="es-ES" sz="1800" spc="-1" strike="noStrike">
                <a:solidFill>
                  <a:srgbClr val="ccecff"/>
                </a:solidFill>
                <a:latin typeface="Tahoma"/>
              </a:rPr>
              <a:t>Muy absorbentes (cara #2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i="1" lang="es-ES" sz="1800" spc="-1" strike="noStrike">
                <a:solidFill>
                  <a:srgbClr val="ccecff"/>
                </a:solidFill>
                <a:latin typeface="Tahoma"/>
              </a:rPr>
              <a:t>Color del sustrato (float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i="1" lang="es-ES" sz="1800" spc="-1" strike="noStrike">
                <a:solidFill>
                  <a:srgbClr val="ccecff"/>
                </a:solidFill>
                <a:latin typeface="Tahoma"/>
              </a:rPr>
              <a:t>Selectividad limita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ccecff"/>
                </a:solidFill>
                <a:latin typeface="Tahoma"/>
              </a:rPr>
              <a:t>...per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ccecff"/>
                </a:solidFill>
                <a:latin typeface="Tahoma"/>
              </a:rPr>
              <a:t>Económicos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ccecff"/>
                </a:solidFill>
                <a:latin typeface="Tahoma"/>
              </a:rPr>
              <a:t>Fáciles de proce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7" name=""/>
          <p:cNvSpPr/>
          <p:nvPr/>
        </p:nvSpPr>
        <p:spPr>
          <a:xfrm>
            <a:off x="5003640" y="1989000"/>
            <a:ext cx="388476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18587a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ccecff"/>
                </a:solidFill>
                <a:latin typeface="Tahoma"/>
              </a:rPr>
              <a:t>Prestaciones alta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ccecff"/>
                </a:solidFill>
                <a:latin typeface="Tahoma"/>
                <a:ea typeface="SimSun"/>
              </a:rPr>
              <a:t>De alta a baja reflex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ccecff"/>
                </a:solidFill>
                <a:latin typeface="Tahoma"/>
                <a:ea typeface="SimSun"/>
              </a:rPr>
              <a:t>Colores variados (cap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ccecff"/>
                </a:solidFill>
                <a:latin typeface="Tahoma"/>
                <a:ea typeface="SimSun"/>
              </a:rPr>
              <a:t>Con o sin Low-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ccecff"/>
                </a:solidFill>
                <a:latin typeface="Tahoma"/>
                <a:ea typeface="SimSun"/>
              </a:rPr>
              <a:t>Alta selectividad dispon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ccecff"/>
                </a:solidFill>
                <a:latin typeface="Tahoma"/>
                <a:ea typeface="SimSun"/>
              </a:rPr>
              <a:t>Alta rentabilidad en el 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ccecff"/>
                </a:solidFill>
                <a:latin typeface="Tahoma"/>
              </a:rPr>
              <a:t>…</a:t>
            </a:r>
            <a:r>
              <a:rPr b="1" lang="es-ES" sz="1800" spc="-1" strike="noStrike">
                <a:solidFill>
                  <a:srgbClr val="ccecff"/>
                </a:solidFill>
                <a:latin typeface="Tahoma"/>
              </a:rPr>
              <a:t>p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ccecff"/>
                </a:solidFill>
                <a:latin typeface="Tahoma"/>
                <a:ea typeface="SimSun"/>
              </a:rPr>
              <a:t>Inversión inicial mas al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ccecff"/>
                </a:solidFill>
                <a:latin typeface="Tahoma"/>
                <a:ea typeface="SimSun"/>
              </a:rPr>
              <a:t>Manejo un poco más comple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844560" y="1454040"/>
            <a:ext cx="4025880" cy="387360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4959360" y="1454040"/>
            <a:ext cx="4025880" cy="387360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844560" y="768240"/>
            <a:ext cx="8140680" cy="59688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1143000" y="5486400"/>
            <a:ext cx="7391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Los cristales de altas prestaciones son más rentables porque permiten optimizar todos los aspectos del clima inter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 fill="hold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60480"/>
            <a:ext cx="815364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Tahoma"/>
              </a:rPr>
              <a:t>Filosofía General:</a:t>
            </a:r>
            <a:r>
              <a:rPr b="0" i="1" lang="es-ES" sz="2800" spc="-1" strike="noStrike">
                <a:solidFill>
                  <a:srgbClr val="18587a"/>
                </a:solidFill>
                <a:latin typeface="Tahoma"/>
              </a:rPr>
              <a:t> 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Econom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1600200" y="1295280"/>
            <a:ext cx="58672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3" marL="1371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1430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1430000"/>
              </a:tabLst>
            </a:pPr>
            <a:r>
              <a:rPr b="1" lang="es-ES" sz="2200" spc="-1" strike="noStrike">
                <a:solidFill>
                  <a:srgbClr val="00ffff"/>
                </a:solidFill>
                <a:latin typeface="Times New Roman"/>
              </a:rPr>
              <a:t>Tendencia a reducir los Gastos Operat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1430000"/>
              </a:tabLst>
            </a:pPr>
            <a:r>
              <a:rPr b="0" lang="es-ES" sz="2200" spc="-1" strike="noStrike">
                <a:solidFill>
                  <a:srgbClr val="00ffff"/>
                </a:solidFill>
                <a:latin typeface="Times New Roman"/>
              </a:rPr>
              <a:t>Aprovechar la</a:t>
            </a:r>
            <a:r>
              <a:rPr b="1" lang="es-ES" sz="2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00ffff"/>
                </a:solidFill>
                <a:latin typeface="Times New Roman"/>
              </a:rPr>
              <a:t> iluminación natu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1430000"/>
              </a:tabLst>
            </a:pPr>
            <a:r>
              <a:rPr b="0" lang="es-ES" sz="2200" spc="-1" strike="noStrike">
                <a:solidFill>
                  <a:srgbClr val="00ffff"/>
                </a:solidFill>
                <a:latin typeface="Times New Roman"/>
              </a:rPr>
              <a:t>Controlar la energía solar incid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1430000"/>
              </a:tabLst>
            </a:pPr>
            <a:r>
              <a:rPr b="0" lang="es-ES" sz="2200" spc="-1" strike="noStrike">
                <a:solidFill>
                  <a:srgbClr val="00ffff"/>
                </a:solidFill>
                <a:latin typeface="Times New Roman"/>
              </a:rPr>
              <a:t>Aislar térmicam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1430000"/>
              </a:tabLst>
            </a:pPr>
            <a:r>
              <a:rPr b="0" lang="es-ES" sz="2200" spc="-1" strike="noStrike">
                <a:solidFill>
                  <a:srgbClr val="00ffff"/>
                </a:solidFill>
                <a:latin typeface="Times New Roman"/>
              </a:rPr>
              <a:t>Mantener las prestaciones en el tie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1430000"/>
              </a:tabLst>
            </a:pPr>
            <a:r>
              <a:rPr b="0" lang="es-ES" sz="2200" spc="-1" strike="noStrike">
                <a:solidFill>
                  <a:srgbClr val="00ffff"/>
                </a:solidFill>
                <a:latin typeface="Times New Roman"/>
              </a:rPr>
              <a:t>Aumentar la superficie aprovechable (UF/m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1430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14300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imes New Roman"/>
              </a:rPr>
              <a:t>Los Gastos Operativos suelen aumentar    </a:t>
            </a:r>
            <a:r>
              <a:rPr b="1" lang="es-ES" sz="22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" sz="2200" spc="-1" strike="noStrike">
                <a:solidFill>
                  <a:srgbClr val="ffcc00"/>
                </a:solidFill>
                <a:latin typeface="Times New Roman"/>
              </a:rPr>
              <a:t>   durante toda la vida útil del edifi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837720" y="60480"/>
            <a:ext cx="815364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Tahoma"/>
              </a:rPr>
              <a:t>Torre Titanium La Portada: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Una selección ópt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3" name=""/>
          <p:cNvSpPr/>
          <p:nvPr/>
        </p:nvSpPr>
        <p:spPr>
          <a:xfrm>
            <a:off x="5040360" y="1600200"/>
            <a:ext cx="33415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Antisolar Low-e sobre float incoloro 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200"/>
            </a:b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TL : 50 %, RL : 19 %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FS : 28 %, Valor-U : 1,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electividad : 1,7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4" name=""/>
          <p:cNvGraphicFramePr/>
          <p:nvPr/>
        </p:nvGraphicFramePr>
        <p:xfrm>
          <a:off x="7467480" y="304920"/>
          <a:ext cx="1114560" cy="70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67480" y="304920"/>
                    <a:ext cx="11145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06" name="" descr=""/>
          <p:cNvPicPr/>
          <p:nvPr/>
        </p:nvPicPr>
        <p:blipFill>
          <a:blip r:embed="rId4"/>
          <a:stretch/>
        </p:blipFill>
        <p:spPr>
          <a:xfrm>
            <a:off x="539640" y="1260360"/>
            <a:ext cx="3886200" cy="4794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837720" y="60480"/>
            <a:ext cx="815364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Tahoma"/>
              </a:rPr>
              <a:t>Edificio Apoquindo Magdalena: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Una selección ópt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8" name=""/>
          <p:cNvSpPr/>
          <p:nvPr/>
        </p:nvSpPr>
        <p:spPr>
          <a:xfrm>
            <a:off x="1260360" y="1600200"/>
            <a:ext cx="712152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Antisolar Low-e sobre float incoloro :TL : 40 %, RL : 16 %, FS : 21 %, Valor-U : 1,4  Selectividad : 1,9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9" name=""/>
          <p:cNvGraphicFramePr/>
          <p:nvPr/>
        </p:nvGraphicFramePr>
        <p:xfrm>
          <a:off x="7467480" y="304920"/>
          <a:ext cx="1114560" cy="70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67480" y="304920"/>
                    <a:ext cx="11145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11" name="" descr=""/>
          <p:cNvPicPr/>
          <p:nvPr/>
        </p:nvPicPr>
        <p:blipFill>
          <a:blip r:embed="rId4"/>
          <a:stretch/>
        </p:blipFill>
        <p:spPr>
          <a:xfrm>
            <a:off x="1312920" y="2340000"/>
            <a:ext cx="6788160" cy="3862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539640" y="2492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Creación de espacios y 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clima interio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ahoma"/>
              </a:rPr>
              <a:t>El clima interior no puede ser ni </a:t>
            </a:r>
            <a:br>
              <a:rPr sz="3600"/>
            </a:br>
            <a:r>
              <a:rPr b="0" lang="es-ES" sz="3600" spc="-1" strike="noStrike">
                <a:solidFill>
                  <a:srgbClr val="ffff00"/>
                </a:solidFill>
                <a:latin typeface="Tahoma"/>
              </a:rPr>
              <a:t>demasiado caluroso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4" name="" descr=""/>
          <p:cNvPicPr/>
          <p:nvPr/>
        </p:nvPicPr>
        <p:blipFill>
          <a:blip r:embed="rId2"/>
          <a:stretch/>
        </p:blipFill>
        <p:spPr>
          <a:xfrm>
            <a:off x="2819520" y="1905120"/>
            <a:ext cx="301932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ahoma"/>
              </a:rPr>
              <a:t>ni demasiado frío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6" name="" descr=""/>
          <p:cNvPicPr/>
          <p:nvPr/>
        </p:nvPicPr>
        <p:blipFill>
          <a:blip r:embed="rId2"/>
          <a:stretch/>
        </p:blipFill>
        <p:spPr>
          <a:xfrm>
            <a:off x="3222720" y="1905120"/>
            <a:ext cx="26971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ahoma"/>
              </a:rPr>
              <a:t>La luz no puede ser ni muy intensa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8" name="" descr=""/>
          <p:cNvPicPr/>
          <p:nvPr/>
        </p:nvPicPr>
        <p:blipFill>
          <a:blip r:embed="rId2"/>
          <a:stretch/>
        </p:blipFill>
        <p:spPr>
          <a:xfrm>
            <a:off x="2157480" y="2357280"/>
            <a:ext cx="4829040" cy="321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ahoma"/>
              </a:rPr>
              <a:t>Ni muy controlada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0" name="" descr=""/>
          <p:cNvPicPr/>
          <p:nvPr/>
        </p:nvPicPr>
        <p:blipFill>
          <a:blip r:embed="rId2"/>
          <a:stretch/>
        </p:blipFill>
        <p:spPr>
          <a:xfrm>
            <a:off x="2955960" y="1905120"/>
            <a:ext cx="32320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ahoma"/>
              </a:rPr>
              <a:t>Todo es cosa de equilibrio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2" name="" descr=""/>
          <p:cNvPicPr/>
          <p:nvPr/>
        </p:nvPicPr>
        <p:blipFill>
          <a:blip r:embed="rId2"/>
          <a:stretch/>
        </p:blipFill>
        <p:spPr>
          <a:xfrm>
            <a:off x="2867040" y="1905120"/>
            <a:ext cx="34084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ahoma"/>
              </a:rPr>
              <a:t>Definición de espacio y de clim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El clima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exterior</a:t>
            </a: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 es conoci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El recorrido del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sol</a:t>
            </a: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 durante el año es conoci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Los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materiales</a:t>
            </a: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 son conoci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La temperatura interior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ideal</a:t>
            </a: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 es conocida con una mínima toleranc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Es mas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barato</a:t>
            </a: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 calentar que enfri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ahoma"/>
              </a:rPr>
              <a:t>Definición de espacio y de clim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La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Transmisión de Luz</a:t>
            </a: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 permite saber qué porcentaje de la luz exterior entrará al interior del espaci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4440" indent="-33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El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oriente</a:t>
            </a: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 y el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poniente</a:t>
            </a: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 son las ubicaciones mas expuestas por el ángulo del sol sobre la fach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4440" indent="-33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El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norte</a:t>
            </a: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 y el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sur</a:t>
            </a: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 reciben la luz solar de forma indirecta (luminosidad ambiental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838080" y="76320"/>
            <a:ext cx="815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Gastos de energía de un edificio de oficina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Arial"/>
              </a:rPr>
              <a:t>La situación europ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86160" y="990720"/>
            <a:ext cx="4722480" cy="5277600"/>
            <a:chOff x="686160" y="990720"/>
            <a:chExt cx="4722480" cy="5277600"/>
          </a:xfrm>
        </p:grpSpPr>
        <p:sp>
          <p:nvSpPr>
            <p:cNvPr id="289" name=""/>
            <p:cNvSpPr/>
            <p:nvPr/>
          </p:nvSpPr>
          <p:spPr>
            <a:xfrm>
              <a:off x="4242240" y="5614920"/>
              <a:ext cx="1166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00"/>
                  </a:solidFill>
                  <a:latin typeface="Times New Roman"/>
                </a:rPr>
                <a:t>Ilumin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673360" y="5592600"/>
              <a:ext cx="1327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00ccff"/>
                  </a:solidFill>
                  <a:latin typeface="Times New Roman"/>
                </a:rPr>
                <a:t>Enfriami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32040" y="6019920"/>
              <a:ext cx="195480" cy="126720"/>
            </a:xfrm>
            <a:prstGeom prst="rect">
              <a:avLst/>
            </a:prstGeom>
            <a:solidFill>
              <a:srgbClr val="cc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94400" y="5932440"/>
              <a:ext cx="63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00ffff"/>
                  </a:solidFill>
                  <a:latin typeface="Times New Roman"/>
                </a:rPr>
                <a:t>Otr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508040" y="6018120"/>
              <a:ext cx="190440" cy="1285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668600" y="5932440"/>
              <a:ext cx="1245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00ffff"/>
                  </a:solidFill>
                  <a:latin typeface="Times New Roman"/>
                </a:rPr>
                <a:t>Instalacio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62240" y="5700600"/>
              <a:ext cx="192240" cy="1270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96960" y="5700600"/>
              <a:ext cx="190800" cy="1270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30240" y="5700600"/>
              <a:ext cx="192240" cy="1270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108800" y="5614920"/>
              <a:ext cx="1154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62a08"/>
                  </a:solidFill>
                  <a:latin typeface="Times New Roman"/>
                </a:rPr>
                <a:t>Calefac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836640" y="5006520"/>
              <a:ext cx="144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30160" y="990720"/>
              <a:ext cx="1800" cy="406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807840" y="5059440"/>
              <a:ext cx="50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807840" y="3703680"/>
              <a:ext cx="50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807840" y="2346480"/>
              <a:ext cx="50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807840" y="990720"/>
              <a:ext cx="50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686160" y="519912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8720" y="4111560"/>
              <a:ext cx="654120" cy="542880"/>
            </a:xfr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28720" y="2754360"/>
              <a:ext cx="701640" cy="544320"/>
            </a:xfr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28720" y="1398600"/>
              <a:ext cx="828720" cy="542880"/>
            </a:xfr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476360" y="4111560"/>
              <a:ext cx="74520" cy="542880"/>
            </a:xfrm>
            <a:solidFill>
              <a:srgbClr val="33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27120" y="2754360"/>
              <a:ext cx="709560" cy="544320"/>
            </a:xfrm>
            <a:solidFill>
              <a:srgbClr val="33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657440" y="1398600"/>
              <a:ext cx="828720" cy="542880"/>
            </a:xfrm>
            <a:solidFill>
              <a:srgbClr val="33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49440" y="4111560"/>
              <a:ext cx="452520" cy="542880"/>
            </a:xfr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35240" y="2754360"/>
              <a:ext cx="530280" cy="544320"/>
            </a:xfr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82920" y="1398600"/>
              <a:ext cx="636480" cy="542880"/>
            </a:xfr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00160" y="4111560"/>
              <a:ext cx="115920" cy="542880"/>
            </a:xfr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765520" y="2754360"/>
              <a:ext cx="225360" cy="544320"/>
            </a:xfr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119400" y="1398600"/>
              <a:ext cx="905040" cy="542880"/>
            </a:xfr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08160" y="4111560"/>
              <a:ext cx="39600" cy="542880"/>
            </a:xfrm>
            <a:solidFill>
              <a:srgbClr val="cc99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89440" y="2754360"/>
              <a:ext cx="52200" cy="544320"/>
            </a:xfrm>
            <a:solidFill>
              <a:srgbClr val="cc99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22640" y="1398600"/>
              <a:ext cx="252360" cy="542880"/>
            </a:xfrm>
            <a:solidFill>
              <a:srgbClr val="cc99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28720" y="5059440"/>
              <a:ext cx="3502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828720" y="5006520"/>
              <a:ext cx="144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1327320" y="5006520"/>
              <a:ext cx="144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1825560" y="5006520"/>
              <a:ext cx="180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2325600" y="5006520"/>
              <a:ext cx="180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828880" y="5006520"/>
              <a:ext cx="180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3330720" y="5006520"/>
              <a:ext cx="144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3827520" y="5006520"/>
              <a:ext cx="144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4330800" y="5006520"/>
              <a:ext cx="144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04960" y="505944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04960" y="370368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04960" y="234648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04960" y="99072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144800" y="519912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26760" y="5199120"/>
              <a:ext cx="337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00ffff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040" y="5199120"/>
              <a:ext cx="337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00ffff"/>
                  </a:solidFill>
                  <a:latin typeface="Times New Roman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531880" y="5199120"/>
              <a:ext cx="337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00ffff"/>
                  </a:solidFill>
                  <a:latin typeface="Times New Roman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30120" y="5199120"/>
              <a:ext cx="337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00ffff"/>
                  </a:solidFill>
                  <a:latin typeface="Times New Roman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528720" y="5199120"/>
              <a:ext cx="337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00ffff"/>
                  </a:solidFill>
                  <a:latin typeface="Times New Roman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28760" y="5199120"/>
              <a:ext cx="337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00ffff"/>
                  </a:solidFill>
                  <a:latin typeface="Times New Roman"/>
                </a:rPr>
                <a:t>3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592360" y="3962520"/>
              <a:ext cx="17794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00ffff"/>
                  </a:solidFill>
                  <a:latin typeface="Times New Roman"/>
                </a:rPr>
                <a:t>Cuenta de luz</a:t>
              </a:r>
              <a:br>
                <a:rPr sz="1600"/>
              </a:br>
              <a:r>
                <a:rPr b="0" lang="es-ES" sz="1600" spc="-1" strike="noStrike">
                  <a:solidFill>
                    <a:srgbClr val="00ffff"/>
                  </a:solidFill>
                  <a:latin typeface="Times New Roman"/>
                </a:rPr>
                <a:t>Euro/m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9640" y="990720"/>
              <a:ext cx="3973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s-ES" sz="1600" spc="-1" strike="noStrike">
                  <a:solidFill>
                    <a:srgbClr val="00ffff"/>
                  </a:solidFill>
                  <a:latin typeface="Times New Roman"/>
                </a:rPr>
                <a:t>Climatización de un edifico de prestig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9640" y="2362320"/>
              <a:ext cx="375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s-ES" sz="1600" spc="-1" strike="noStrike">
                  <a:solidFill>
                    <a:srgbClr val="00ffff"/>
                  </a:solidFill>
                  <a:latin typeface="Times New Roman"/>
                </a:rPr>
                <a:t>Climatización de un edificio estánd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9640" y="3733920"/>
              <a:ext cx="2743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s-ES" sz="1600" spc="-1" strike="noStrike">
                  <a:solidFill>
                    <a:srgbClr val="00ffff"/>
                  </a:solidFill>
                  <a:latin typeface="Times New Roman"/>
                </a:rPr>
                <a:t>Planta lib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00280" y="2209680"/>
            <a:ext cx="2361960" cy="2719440"/>
            <a:chOff x="800280" y="2209680"/>
            <a:chExt cx="2361960" cy="2719440"/>
          </a:xfrm>
        </p:grpSpPr>
        <p:sp>
          <p:nvSpPr>
            <p:cNvPr id="346" name=""/>
            <p:cNvSpPr/>
            <p:nvPr/>
          </p:nvSpPr>
          <p:spPr>
            <a:xfrm>
              <a:off x="800280" y="2209680"/>
              <a:ext cx="2361960" cy="180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00280" y="3568680"/>
              <a:ext cx="2019240" cy="144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00280" y="4927680"/>
              <a:ext cx="1180800" cy="144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4724280" y="1143000"/>
            <a:ext cx="4343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imes New Roman"/>
              </a:rPr>
              <a:t>La piel exterior del edificio puede afectar de 70 a 90 % el gasto de energ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24280" y="2514600"/>
            <a:ext cx="43434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imes New Roman"/>
              </a:rPr>
              <a:t>El cristal debería tener preferentemente las características siguient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00ffff"/>
                </a:solidFill>
                <a:latin typeface="Times New Roman"/>
                <a:ea typeface="SimSun"/>
              </a:rPr>
              <a:t>Baja entrada de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00ffff"/>
                </a:solidFill>
                <a:latin typeface="Times New Roman"/>
                <a:ea typeface="SimSun"/>
              </a:rPr>
              <a:t>Alta transmisión de lu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00ffff"/>
                </a:solidFill>
                <a:latin typeface="Times New Roman"/>
                <a:ea typeface="SimSun"/>
              </a:rPr>
              <a:t>Buena aislación tér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ahoma"/>
              </a:rPr>
              <a:t>Definición de espacio y de clim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ccecff"/>
                </a:solidFill>
                <a:latin typeface="Tahoma"/>
              </a:rPr>
              <a:t>El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Factor Solar</a:t>
            </a:r>
            <a:r>
              <a:rPr b="0" lang="es-ES" sz="2800" spc="-1" strike="noStrike">
                <a:solidFill>
                  <a:srgbClr val="ccecff"/>
                </a:solidFill>
                <a:latin typeface="Tahoma"/>
              </a:rPr>
              <a:t> (o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Coeficiente de Sombra</a:t>
            </a:r>
            <a:r>
              <a:rPr b="0" lang="es-ES" sz="2800" spc="-1" strike="noStrike">
                <a:solidFill>
                  <a:srgbClr val="ccecff"/>
                </a:solidFill>
                <a:latin typeface="Tahoma"/>
              </a:rPr>
              <a:t>) permite saber qué porcentaje de la Energía exterior incidente entrará al interior del espac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ccecff"/>
                </a:solidFill>
                <a:latin typeface="Tahoma"/>
              </a:rPr>
              <a:t>El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oriente</a:t>
            </a:r>
            <a:r>
              <a:rPr b="0" lang="es-ES" sz="2800" spc="-1" strike="noStrike">
                <a:solidFill>
                  <a:srgbClr val="ccecff"/>
                </a:solidFill>
                <a:latin typeface="Tahoma"/>
              </a:rPr>
              <a:t> y el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poniente</a:t>
            </a:r>
            <a:r>
              <a:rPr b="0" lang="es-ES" sz="2800" spc="-1" strike="noStrike">
                <a:solidFill>
                  <a:srgbClr val="ccecff"/>
                </a:solidFill>
                <a:latin typeface="Tahoma"/>
              </a:rPr>
              <a:t> son las ubicaciones mas expuestas por el ángulo del sol sobre la fachada vertic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ccecff"/>
                </a:solidFill>
                <a:latin typeface="Tahoma"/>
              </a:rPr>
              <a:t>El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norte</a:t>
            </a:r>
            <a:r>
              <a:rPr b="0" lang="es-ES" sz="2800" spc="-1" strike="noStrike">
                <a:solidFill>
                  <a:srgbClr val="ccecff"/>
                </a:solidFill>
                <a:latin typeface="Tahoma"/>
              </a:rPr>
              <a:t> y el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sur</a:t>
            </a:r>
            <a:r>
              <a:rPr b="0" lang="es-ES" sz="2800" spc="-1" strike="noStrike">
                <a:solidFill>
                  <a:srgbClr val="ccecff"/>
                </a:solidFill>
                <a:latin typeface="Tahoma"/>
              </a:rPr>
              <a:t> reciben la Energía solar de forma indirecta (calor ambiental), particularmente en vera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ahoma"/>
              </a:rPr>
              <a:t>Definición de espacio y de clim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El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Valor-U</a:t>
            </a: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 (expresado en W/m2.ºK) permite saber qué cantidad de Energía se intercambiará entre el interior y el exterior del espaci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Dado que depende mayormente de la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Temperatura</a:t>
            </a:r>
            <a:r>
              <a:rPr b="0" lang="es-ES" sz="3200" spc="-1" strike="noStrike">
                <a:solidFill>
                  <a:srgbClr val="ccecff"/>
                </a:solidFill>
                <a:latin typeface="Tahoma"/>
              </a:rPr>
              <a:t> exterior, la orientación no es relevante de modo que toda la fachada está implicada por igu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¿Como controlar el clima interior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dealmente, mirar el sol nor-poniente en verano y evaluar un nivel de molestia visual aceptab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 la misma posición, evaluar un filtro que caliente moderadamente la piel o un objeto opac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3" name="" descr=""/>
          <p:cNvPicPr/>
          <p:nvPr/>
        </p:nvPicPr>
        <p:blipFill>
          <a:blip r:embed="rId2"/>
          <a:stretch/>
        </p:blipFill>
        <p:spPr>
          <a:xfrm>
            <a:off x="1816200" y="1905120"/>
            <a:ext cx="1319040" cy="1981080"/>
          </a:xfrm>
          <a:prstGeom prst="rect">
            <a:avLst/>
          </a:prstGeom>
          <a:ln w="0">
            <a:noFill/>
          </a:ln>
        </p:spPr>
      </p:pic>
      <p:pic>
        <p:nvPicPr>
          <p:cNvPr id="1734" name="" descr=""/>
          <p:cNvPicPr/>
          <p:nvPr/>
        </p:nvPicPr>
        <p:blipFill>
          <a:blip r:embed="rId3"/>
          <a:stretch/>
        </p:blipFill>
        <p:spPr>
          <a:xfrm>
            <a:off x="1674720" y="4038480"/>
            <a:ext cx="160200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¿Como controlar el clima interior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0" y="1916280"/>
            <a:ext cx="4038480" cy="54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 Santiago y en la Zona Central, partimos del supuesto que la 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Luz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es 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abundante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todo el añ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 pesar de las 4 estaciones del año, los rayos solares siempre tienen una 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intensidad alt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7" name="" descr=""/>
          <p:cNvPicPr/>
          <p:nvPr/>
        </p:nvPicPr>
        <p:blipFill>
          <a:blip r:embed="rId2"/>
          <a:stretch/>
        </p:blipFill>
        <p:spPr>
          <a:xfrm>
            <a:off x="1816200" y="1905120"/>
            <a:ext cx="1319040" cy="1981080"/>
          </a:xfrm>
          <a:prstGeom prst="rect">
            <a:avLst/>
          </a:prstGeom>
          <a:ln w="0">
            <a:noFill/>
          </a:ln>
        </p:spPr>
      </p:pic>
      <p:pic>
        <p:nvPicPr>
          <p:cNvPr id="1738" name="" descr=""/>
          <p:cNvPicPr/>
          <p:nvPr/>
        </p:nvPicPr>
        <p:blipFill>
          <a:blip r:embed="rId3"/>
          <a:stretch/>
        </p:blipFill>
        <p:spPr>
          <a:xfrm>
            <a:off x="1674720" y="4038480"/>
            <a:ext cx="160200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¿Como controlar el clima interior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0" y="1916280"/>
            <a:ext cx="403848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Una luz demasiado intensa significa usar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proteccion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solares exteriores o interiores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adicional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n relación al calor: Enfriar es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3 VEC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mas caro que calent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1" name="" descr=""/>
          <p:cNvPicPr/>
          <p:nvPr/>
        </p:nvPicPr>
        <p:blipFill>
          <a:blip r:embed="rId2"/>
          <a:stretch/>
        </p:blipFill>
        <p:spPr>
          <a:xfrm>
            <a:off x="1816200" y="1905120"/>
            <a:ext cx="1319040" cy="1981080"/>
          </a:xfrm>
          <a:prstGeom prst="rect">
            <a:avLst/>
          </a:prstGeom>
          <a:ln w="0">
            <a:noFill/>
          </a:ln>
        </p:spPr>
      </p:pic>
      <p:pic>
        <p:nvPicPr>
          <p:cNvPr id="1742" name="" descr=""/>
          <p:cNvPicPr/>
          <p:nvPr/>
        </p:nvPicPr>
        <p:blipFill>
          <a:blip r:embed="rId3"/>
          <a:stretch/>
        </p:blipFill>
        <p:spPr>
          <a:xfrm>
            <a:off x="1674720" y="4038480"/>
            <a:ext cx="160200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La ruta </a:t>
            </a:r>
            <a:r>
              <a:rPr b="0" lang="es-ES" sz="4000" spc="-1" strike="noStrike">
                <a:solidFill>
                  <a:srgbClr val="45ff45"/>
                </a:solidFill>
                <a:latin typeface="Tahoma"/>
              </a:rPr>
              <a:t>lógica</a:t>
            </a: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 para elaborar el clim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0" y="1915920"/>
            <a:ext cx="4038480" cy="47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terminar la T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terminar el FS (o Sh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Valor-U &lt; 2,1 W/m2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l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flex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sto del cris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5" name="" descr=""/>
          <p:cNvPicPr/>
          <p:nvPr/>
        </p:nvPicPr>
        <p:blipFill>
          <a:blip r:embed="rId2"/>
          <a:stretch/>
        </p:blipFill>
        <p:spPr>
          <a:xfrm>
            <a:off x="1816200" y="1905120"/>
            <a:ext cx="1319040" cy="1981080"/>
          </a:xfrm>
          <a:prstGeom prst="rect">
            <a:avLst/>
          </a:prstGeom>
          <a:ln w="0">
            <a:noFill/>
          </a:ln>
        </p:spPr>
      </p:pic>
      <p:pic>
        <p:nvPicPr>
          <p:cNvPr id="1746" name="" descr=""/>
          <p:cNvPicPr/>
          <p:nvPr/>
        </p:nvPicPr>
        <p:blipFill>
          <a:blip r:embed="rId3"/>
          <a:stretch/>
        </p:blipFill>
        <p:spPr>
          <a:xfrm>
            <a:off x="1674720" y="4038480"/>
            <a:ext cx="160200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La ruta </a:t>
            </a:r>
            <a:r>
              <a:rPr b="0" lang="es-ES" sz="4000" spc="-1" strike="noStrike">
                <a:solidFill>
                  <a:srgbClr val="f62a08"/>
                </a:solidFill>
                <a:latin typeface="Tahoma"/>
              </a:rPr>
              <a:t>equivocada</a:t>
            </a: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 para elaborar el clima interio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0" y="1915920"/>
            <a:ext cx="4038480" cy="54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sto del cris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flexión exter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l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Valor U (low-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terminar la T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terminar el F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9" name="" descr=""/>
          <p:cNvPicPr/>
          <p:nvPr/>
        </p:nvPicPr>
        <p:blipFill>
          <a:blip r:embed="rId2"/>
          <a:stretch/>
        </p:blipFill>
        <p:spPr>
          <a:xfrm>
            <a:off x="1816200" y="1905120"/>
            <a:ext cx="1319040" cy="1981080"/>
          </a:xfrm>
          <a:prstGeom prst="rect">
            <a:avLst/>
          </a:prstGeom>
          <a:ln w="0">
            <a:noFill/>
          </a:ln>
        </p:spPr>
      </p:pic>
      <p:pic>
        <p:nvPicPr>
          <p:cNvPr id="1750" name="" descr=""/>
          <p:cNvPicPr/>
          <p:nvPr/>
        </p:nvPicPr>
        <p:blipFill>
          <a:blip r:embed="rId3"/>
          <a:stretch/>
        </p:blipFill>
        <p:spPr>
          <a:xfrm>
            <a:off x="1674720" y="4038480"/>
            <a:ext cx="160200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Caso : Torre de cristal</a:t>
            </a:r>
            <a:br>
              <a:rPr sz="4000"/>
            </a:br>
            <a:r>
              <a:rPr b="0" lang="es-ES" sz="4000" spc="-1" strike="noStrike">
                <a:solidFill>
                  <a:srgbClr val="ffcc00"/>
                </a:solidFill>
                <a:latin typeface="Tahoma"/>
              </a:rPr>
              <a:t>Por la ruta lógica</a:t>
            </a: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60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bundante luz </a:t>
            </a:r>
            <a:r>
              <a:rPr b="0" lang="es-E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uerte exposición </a:t>
            </a:r>
            <a:r>
              <a:rPr b="0" lang="es-E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uro-cortina </a:t>
            </a:r>
            <a:r>
              <a:rPr b="0" lang="es-E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lor neutro </a:t>
            </a:r>
            <a:r>
              <a:rPr b="0" lang="es-E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Baja reflexión </a:t>
            </a:r>
            <a:r>
              <a:rPr b="0" lang="es-E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sto </a:t>
            </a:r>
            <a:r>
              <a:rPr b="0" lang="es-E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SimSun"/>
              </a:rPr>
              <a:t>TL más baja (&lt; 50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SimSun"/>
              </a:rPr>
              <a:t>FS más bajo (&lt; 25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SimSun"/>
              </a:rPr>
              <a:t>Valor U bajo (&lt; 2.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SimSun"/>
              </a:rPr>
              <a:t>Capa sobre vidrio incolo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SimSun"/>
              </a:rPr>
              <a:t>Filtro infrarro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SimSun"/>
              </a:rPr>
              <a:t>Optimizar comodidad + ahorro energé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Caso : Torre de cristal</a:t>
            </a:r>
            <a:br>
              <a:rPr sz="4000"/>
            </a:br>
            <a:r>
              <a:rPr b="0" lang="es-ES" sz="4000" spc="-1" strike="noStrike">
                <a:solidFill>
                  <a:srgbClr val="ffcc00"/>
                </a:solidFill>
                <a:latin typeface="Tahoma"/>
              </a:rPr>
              <a:t>Por la ruta equivocada</a:t>
            </a: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62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sto bajo </a:t>
            </a:r>
            <a:r>
              <a:rPr b="0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flexión baja </a:t>
            </a:r>
            <a:r>
              <a:rPr b="0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lor neutro </a:t>
            </a:r>
            <a:r>
              <a:rPr b="0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uro-cortina </a:t>
            </a:r>
            <a:r>
              <a:rPr b="0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ransmisión de Luz </a:t>
            </a:r>
            <a:r>
              <a:rPr b="0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actor Solar </a:t>
            </a:r>
            <a:r>
              <a:rPr b="0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SimSun"/>
              </a:rPr>
              <a:t>Decisión anti-económ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4000" indent="-3240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SimSun"/>
              </a:rPr>
              <a:t>Cristal absorbente o filtro infrarroj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4000" indent="-3240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SimSun"/>
              </a:rPr>
              <a:t>Cristal poco selectivo con capa sobre vidrio incolo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4000" indent="-3240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SimSun"/>
              </a:rPr>
              <a:t>Valor-U intermed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4000" indent="-3240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SimSun"/>
              </a:rPr>
              <a:t>Alta debido al float incolor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4000" indent="-3240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SimSun"/>
              </a:rPr>
              <a:t>Elevado debido a la poca selectiv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ahoma"/>
              </a:rPr>
              <a:t>Comparación de las rut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or la ruta 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lógic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, el proyecto toma en cuenta la comodidad de los usuarios tanto a nivel de iluminación como de percepción de la sensación térmica.  El costo del cristal es compensado por la menor capacidad y menor uso de la climatización o de cortinaj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0840" indent="-330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or la ruta 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equivocad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, la ilusión del bajo costo inicial se ve transformada en la realidad de un clima interior desagradable, muy costoso de controlar artificialmente y lo peor de todo, determinado por el resto de la vida útil del edific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0840" indent="-330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62a08"/>
                </a:solidFill>
                <a:latin typeface="Tahoma"/>
              </a:rPr>
              <a:t>La responsabilidad es 100 por ciento del arquitecto porque todos los factores son CONOCI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60480"/>
            <a:ext cx="815364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Tahoma"/>
              </a:rPr>
              <a:t>Objetivos de Fondo:</a:t>
            </a:r>
            <a:r>
              <a:rPr b="0" i="1" lang="es-ES" sz="2800" spc="-1" strike="noStrike">
                <a:solidFill>
                  <a:srgbClr val="18587a"/>
                </a:solidFill>
                <a:latin typeface="Tahoma"/>
              </a:rPr>
              <a:t> 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La Ecolo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>
            <a:off x="2362320" y="1523880"/>
            <a:ext cx="47242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200" spc="-1" strike="noStrike">
                <a:solidFill>
                  <a:srgbClr val="00ffff"/>
                </a:solidFill>
                <a:latin typeface="Arial"/>
              </a:rPr>
              <a:t>Es una preocupación glob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200" spc="-1" strike="noStrike">
                <a:solidFill>
                  <a:srgbClr val="00ffff"/>
                </a:solidFill>
                <a:latin typeface="Arial"/>
              </a:rPr>
              <a:t>Es una responsabilidad mo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200" spc="-1" strike="noStrike">
                <a:solidFill>
                  <a:srgbClr val="00ffff"/>
                </a:solidFill>
                <a:latin typeface="Arial"/>
              </a:rPr>
              <a:t>Es un desafío profes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200" spc="-1" strike="noStrike">
                <a:solidFill>
                  <a:srgbClr val="00ffff"/>
                </a:solidFill>
                <a:latin typeface="Arial"/>
              </a:rPr>
              <a:t>Las viviendas y los edificios se proyectan para varios deceni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Arial"/>
              </a:rPr>
              <a:t>La incidencia de una decisión económica debe mirarse en el largo plaz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es-ES" sz="1400" spc="-1" strike="noStrike">
                <a:solidFill>
                  <a:srgbClr val="ffcc00"/>
                </a:solidFill>
                <a:latin typeface="Arial"/>
              </a:rPr>
              <a:t>La eterna vuelta de Nietzsch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"/>
          <p:cNvSpPr/>
          <p:nvPr/>
        </p:nvSpPr>
        <p:spPr>
          <a:xfrm>
            <a:off x="2590920" y="762120"/>
            <a:ext cx="419076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1219320" y="2514600"/>
            <a:ext cx="6553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¿ Pregunta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1" name=""/>
          <p:cNvGraphicFramePr/>
          <p:nvPr/>
        </p:nvGraphicFramePr>
        <p:xfrm>
          <a:off x="3276720" y="3505320"/>
          <a:ext cx="2590560" cy="162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3505320"/>
                    <a:ext cx="259056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3" name=""/>
          <p:cNvSpPr/>
          <p:nvPr/>
        </p:nvSpPr>
        <p:spPr>
          <a:xfrm>
            <a:off x="2670120" y="5334120"/>
            <a:ext cx="387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www.mirabel.c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522160"/>
            <a:ext cx="82296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El Sol : La variable princip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"/>
          <p:cNvGrpSpPr/>
          <p:nvPr/>
        </p:nvGrpSpPr>
        <p:grpSpPr>
          <a:xfrm>
            <a:off x="0" y="0"/>
            <a:ext cx="3235320" cy="3314880"/>
            <a:chOff x="0" y="0"/>
            <a:chExt cx="3235320" cy="3314880"/>
          </a:xfrm>
        </p:grpSpPr>
        <p:sp>
          <p:nvSpPr>
            <p:cNvPr id="355" name=""/>
            <p:cNvSpPr/>
            <p:nvPr/>
          </p:nvSpPr>
          <p:spPr>
            <a:xfrm>
              <a:off x="1236600" y="1162080"/>
              <a:ext cx="793800" cy="892080"/>
            </a:xfrm>
            <a:solidFill>
              <a:srgbClr val="ffd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31880" y="2077920"/>
              <a:ext cx="1800" cy="57168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31880" y="3182760"/>
              <a:ext cx="1800" cy="13212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1527120" y="2035080"/>
              <a:ext cx="25560" cy="51120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1316160" y="2060640"/>
              <a:ext cx="209520" cy="60156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1147320" y="2859120"/>
              <a:ext cx="149400" cy="37620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22200" y="2373480"/>
              <a:ext cx="92160" cy="21888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57200" y="2035080"/>
              <a:ext cx="108000" cy="25092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1142640" y="1998720"/>
              <a:ext cx="274680" cy="33480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833400" y="2494080"/>
              <a:ext cx="263520" cy="31428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44480" y="2492280"/>
              <a:ext cx="123840" cy="15876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39960" y="1954080"/>
              <a:ext cx="411120" cy="47160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654120" y="1908000"/>
              <a:ext cx="681120" cy="50976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4920" y="2525760"/>
              <a:ext cx="101520" cy="6984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9520" y="2397240"/>
              <a:ext cx="135000" cy="9504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453960" y="1803240"/>
              <a:ext cx="811440" cy="54792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57240" y="1763640"/>
              <a:ext cx="309600" cy="13968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49160" y="1925640"/>
              <a:ext cx="150840" cy="5868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843120" y="1676520"/>
              <a:ext cx="377640" cy="12528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876240" y="1623960"/>
              <a:ext cx="378000" cy="180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604800" y="1631880"/>
              <a:ext cx="177840" cy="180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85920" y="1459080"/>
              <a:ext cx="174600" cy="2700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5160" y="1492200"/>
              <a:ext cx="528840" cy="4140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 flipV="1">
              <a:off x="331560" y="1139400"/>
              <a:ext cx="936360" cy="35100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129960" y="1049040"/>
              <a:ext cx="177480" cy="9036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0" y="1006560"/>
              <a:ext cx="73080" cy="3312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63640" y="1206360"/>
              <a:ext cx="393840" cy="19368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flipV="1">
              <a:off x="785520" y="987120"/>
              <a:ext cx="530280" cy="39348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 flipV="1">
              <a:off x="639360" y="878040"/>
              <a:ext cx="150840" cy="11880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 flipV="1">
              <a:off x="477720" y="755280"/>
              <a:ext cx="146160" cy="11916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57160" y="852480"/>
              <a:ext cx="84240" cy="7776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036800" y="1030320"/>
              <a:ext cx="280800" cy="26496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>
              <a:off x="1056960" y="907920"/>
              <a:ext cx="323640" cy="39384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281240" y="974880"/>
              <a:ext cx="122040" cy="24264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1373040" y="968400"/>
              <a:ext cx="113040" cy="25560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1295280" y="779400"/>
              <a:ext cx="69840" cy="13968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366920" y="411120"/>
              <a:ext cx="57240" cy="27792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46120" y="789120"/>
              <a:ext cx="92160" cy="38556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1468440" y="388800"/>
              <a:ext cx="123840" cy="79704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>
              <a:off x="1415880" y="117000"/>
              <a:ext cx="52560" cy="23508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631880" y="0"/>
              <a:ext cx="1800" cy="11448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31880" y="231840"/>
              <a:ext cx="1800" cy="23472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31880" y="603360"/>
              <a:ext cx="1800" cy="53964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1704960" y="352080"/>
              <a:ext cx="52560" cy="83340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778040" y="74520"/>
              <a:ext cx="28440" cy="21924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857240" y="727200"/>
              <a:ext cx="36720" cy="9504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743120" y="892080"/>
              <a:ext cx="87120" cy="28440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1820880" y="573120"/>
              <a:ext cx="225360" cy="65088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98720" y="873000"/>
              <a:ext cx="54000" cy="9216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857240" y="1025640"/>
              <a:ext cx="111240" cy="20628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1900080" y="950400"/>
              <a:ext cx="166680" cy="32724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11560" y="765000"/>
              <a:ext cx="80640" cy="9072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25640" y="911160"/>
              <a:ext cx="334800" cy="39204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60560" y="1106640"/>
              <a:ext cx="255600" cy="24588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316240" y="887400"/>
              <a:ext cx="160200" cy="14760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76400" y="1074600"/>
              <a:ext cx="498600" cy="33336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2025720" y="1262160"/>
              <a:ext cx="398520" cy="21096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548080" y="1127160"/>
              <a:ext cx="220680" cy="10008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47960" y="1049400"/>
              <a:ext cx="115920" cy="5400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060720" y="938160"/>
              <a:ext cx="174600" cy="8892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2009520" y="1407960"/>
              <a:ext cx="757080" cy="10188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31840" y="1554120"/>
              <a:ext cx="293760" cy="2700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flipV="1">
              <a:off x="2010960" y="1614600"/>
              <a:ext cx="731880" cy="7128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044800" y="1700280"/>
              <a:ext cx="471240" cy="4104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flipV="1">
              <a:off x="1990440" y="1736280"/>
              <a:ext cx="638280" cy="26028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11320" y="1835280"/>
              <a:ext cx="577800" cy="29664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711520" y="2212920"/>
              <a:ext cx="31680" cy="972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900520" y="2328840"/>
              <a:ext cx="155520" cy="5868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 flipV="1">
              <a:off x="1945800" y="1833480"/>
              <a:ext cx="220680" cy="17640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959120" y="1920960"/>
              <a:ext cx="252360" cy="22860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flipV="1">
              <a:off x="1881000" y="1918800"/>
              <a:ext cx="285480" cy="35244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865160" y="2011320"/>
              <a:ext cx="400320" cy="72396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70240" y="2889360"/>
              <a:ext cx="46080" cy="10296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1779480" y="1998360"/>
              <a:ext cx="198720" cy="43812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768320" y="2060640"/>
              <a:ext cx="86040" cy="43020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871640" y="2558880"/>
              <a:ext cx="50760" cy="206640"/>
            </a:xfrm>
            <a:noFill/>
            <a:ln w="12600">
              <a:solidFill>
                <a:srgbClr val="ffd4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1682280" y="2030400"/>
              <a:ext cx="111240" cy="582480"/>
            </a:xfrm>
            <a:prstGeom prst="line">
              <a:avLst/>
            </a:prstGeom>
            <a:ln w="12600">
              <a:solidFill>
                <a:srgbClr val="ffd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2050920" y="2924280"/>
            <a:ext cx="719280" cy="712800"/>
          </a:xfrm>
          <a:solidFill>
            <a:srgbClr val="ffcc00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435640" y="2924280"/>
            <a:ext cx="718920" cy="712800"/>
          </a:xfrm>
          <a:solidFill>
            <a:srgbClr val="ffcc00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2627280" y="3933720"/>
            <a:ext cx="10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LU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056280" y="388152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Times New Roman"/>
              </a:rPr>
              <a:t>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211360" y="4581360"/>
            <a:ext cx="3609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Energía directa (ondas cort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219640" y="5084640"/>
            <a:ext cx="3924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62a08"/>
                </a:solidFill>
                <a:latin typeface="Arial"/>
              </a:rPr>
              <a:t>Energía indirecta (ondas larg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4716360" y="5587560"/>
            <a:ext cx="576360" cy="506520"/>
          </a:xfrm>
          <a:prstGeom prst="line">
            <a:avLst/>
          </a:prstGeom>
          <a:ln w="38160">
            <a:solidFill>
              <a:srgbClr val="f62a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 flipV="1">
            <a:off x="4209840" y="5587560"/>
            <a:ext cx="507960" cy="5065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7720" y="60480"/>
            <a:ext cx="815364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Tahoma"/>
              </a:rPr>
              <a:t>Algunas definiciones...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La radiación so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"/>
          <p:cNvSpPr/>
          <p:nvPr/>
        </p:nvSpPr>
        <p:spPr>
          <a:xfrm>
            <a:off x="1592280" y="3346560"/>
            <a:ext cx="112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47840" y="564984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195560" y="4417920"/>
            <a:ext cx="439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ffff"/>
                </a:solidFill>
                <a:latin typeface="Times New Roman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195560" y="3186000"/>
            <a:ext cx="439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ffff"/>
                </a:solidFill>
                <a:latin typeface="Times New Roman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155600" y="1967040"/>
            <a:ext cx="439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24120" y="1144440"/>
            <a:ext cx="1139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Intensidad</a:t>
            </a:r>
            <a:br>
              <a:rPr sz="1800"/>
            </a:br>
            <a:r>
              <a:rPr b="0" i="1" lang="es-ES" sz="1800" spc="-1" strike="noStrike">
                <a:solidFill>
                  <a:srgbClr val="ccecff"/>
                </a:solidFill>
                <a:latin typeface="Times New Roman"/>
              </a:rPr>
              <a:t>W/m2.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007400" y="5334120"/>
            <a:ext cx="1802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Longitud de onda</a:t>
            </a:r>
            <a:br>
              <a:rPr sz="1800"/>
            </a:b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     </a:t>
            </a:r>
            <a:r>
              <a:rPr b="0" i="1" lang="es-ES" sz="1800" spc="-1" strike="noStrike">
                <a:solidFill>
                  <a:srgbClr val="ccecff"/>
                </a:solidFill>
                <a:latin typeface="Times New Roman"/>
              </a:rPr>
              <a:t>µ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521000" y="594216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637080" y="5942160"/>
            <a:ext cx="439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ffff"/>
                </a:solidFill>
                <a:latin typeface="Times New Roman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741920" y="5942160"/>
            <a:ext cx="439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ffff"/>
                </a:solidFill>
                <a:latin typeface="Times New Roman"/>
              </a:rPr>
              <a:t>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803920" y="5942160"/>
            <a:ext cx="439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ffff"/>
                </a:solidFill>
                <a:latin typeface="Times New Roman"/>
              </a:rPr>
              <a:t>2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593720" y="1968480"/>
            <a:ext cx="155880" cy="176400"/>
          </a:xfr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 rot="10800000">
            <a:off x="972720" y="1054440"/>
            <a:ext cx="5792760" cy="4745160"/>
          </a:xfr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328840" y="2763720"/>
            <a:ext cx="4473720" cy="3057480"/>
          </a:xfrm>
          <a:noFill/>
          <a:ln w="12600">
            <a:solidFill>
              <a:srgbClr val="1816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205760" y="5745240"/>
            <a:ext cx="158760" cy="176040"/>
          </a:xfr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flipV="1">
            <a:off x="1595160" y="5805360"/>
            <a:ext cx="563724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1668600" y="2112840"/>
            <a:ext cx="1440" cy="379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596960" y="4584600"/>
            <a:ext cx="112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1901880" y="5820840"/>
            <a:ext cx="1440" cy="8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2244600" y="1981080"/>
            <a:ext cx="1425960" cy="4421160"/>
            <a:chOff x="2244600" y="1981080"/>
            <a:chExt cx="1425960" cy="4421160"/>
          </a:xfrm>
        </p:grpSpPr>
        <p:grpSp>
          <p:nvGrpSpPr>
            <p:cNvPr id="462" name=""/>
            <p:cNvGrpSpPr/>
            <p:nvPr/>
          </p:nvGrpSpPr>
          <p:grpSpPr>
            <a:xfrm>
              <a:off x="2244600" y="2763720"/>
              <a:ext cx="1425960" cy="3638520"/>
              <a:chOff x="2244600" y="2763720"/>
              <a:chExt cx="1425960" cy="3638520"/>
            </a:xfrm>
          </p:grpSpPr>
          <p:sp>
            <p:nvSpPr>
              <p:cNvPr id="463" name=""/>
              <p:cNvSpPr/>
              <p:nvPr/>
            </p:nvSpPr>
            <p:spPr>
              <a:xfrm>
                <a:off x="2244600" y="5942160"/>
                <a:ext cx="5418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s-ES" sz="1600" spc="-1" strike="noStrike">
                    <a:solidFill>
                      <a:srgbClr val="00ffff"/>
                    </a:solidFill>
                    <a:latin typeface="Times New Roman"/>
                  </a:rPr>
                  <a:t>0.3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128760" y="5942160"/>
                <a:ext cx="5418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s-ES" sz="1600" spc="-1" strike="noStrike">
                    <a:solidFill>
                      <a:srgbClr val="00ffff"/>
                    </a:solidFill>
                    <a:latin typeface="Times New Roman"/>
                  </a:rPr>
                  <a:t>0.7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5" name=""/>
              <p:cNvGrpSpPr/>
              <p:nvPr/>
            </p:nvGrpSpPr>
            <p:grpSpPr>
              <a:xfrm>
                <a:off x="2481120" y="2763720"/>
                <a:ext cx="946440" cy="3638520"/>
                <a:chOff x="2481120" y="2763720"/>
                <a:chExt cx="946440" cy="363852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2482920" y="4460760"/>
                  <a:ext cx="81000" cy="1351080"/>
                </a:xfrm>
                <a:solidFill>
                  <a:srgbClr val="004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2556000" y="4381560"/>
                  <a:ext cx="27000" cy="1430280"/>
                </a:xfrm>
                <a:solidFill>
                  <a:srgbClr val="005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2571840" y="4290840"/>
                  <a:ext cx="27000" cy="1521000"/>
                </a:xfrm>
                <a:solidFill>
                  <a:srgbClr val="006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2585880" y="3919680"/>
                  <a:ext cx="27000" cy="1892160"/>
                </a:xfrm>
                <a:solidFill>
                  <a:srgbClr val="008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602080" y="3871800"/>
                  <a:ext cx="27000" cy="1940040"/>
                </a:xfrm>
                <a:solidFill>
                  <a:srgbClr val="009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2617920" y="3805200"/>
                  <a:ext cx="27000" cy="2006640"/>
                </a:xfrm>
                <a:solidFill>
                  <a:srgbClr val="00aa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2631960" y="3608280"/>
                  <a:ext cx="27000" cy="2203560"/>
                </a:xfrm>
                <a:solidFill>
                  <a:srgbClr val="00b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647800" y="3495600"/>
                  <a:ext cx="27000" cy="2316240"/>
                </a:xfrm>
                <a:solidFill>
                  <a:srgbClr val="00d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2662200" y="3421080"/>
                  <a:ext cx="82440" cy="2390760"/>
                </a:xfrm>
                <a:solidFill>
                  <a:srgbClr val="00e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3133800" y="3279600"/>
                  <a:ext cx="27000" cy="2532240"/>
                </a:xfrm>
                <a:solidFill>
                  <a:srgbClr val="00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2693880" y="3051000"/>
                  <a:ext cx="27000" cy="2760840"/>
                </a:xfrm>
                <a:solidFill>
                  <a:srgbClr val="00ff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708280" y="2979720"/>
                  <a:ext cx="27000" cy="2832120"/>
                </a:xfrm>
                <a:solidFill>
                  <a:srgbClr val="00ff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724120" y="2906640"/>
                  <a:ext cx="38160" cy="2905200"/>
                </a:xfrm>
                <a:solidFill>
                  <a:srgbClr val="00ff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2754360" y="2763720"/>
                  <a:ext cx="27000" cy="3048120"/>
                </a:xfrm>
                <a:solidFill>
                  <a:srgbClr val="00ff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770200" y="2763720"/>
                  <a:ext cx="27000" cy="3048120"/>
                </a:xfrm>
                <a:solidFill>
                  <a:srgbClr val="00ff9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784600" y="2765520"/>
                  <a:ext cx="27000" cy="3046320"/>
                </a:xfrm>
                <a:solidFill>
                  <a:srgbClr val="00ff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2800440" y="2789280"/>
                  <a:ext cx="27000" cy="3022560"/>
                </a:xfrm>
                <a:solidFill>
                  <a:srgbClr val="00ff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2814480" y="2813040"/>
                  <a:ext cx="27000" cy="2998800"/>
                </a:xfrm>
                <a:solidFill>
                  <a:srgbClr val="00ff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2830680" y="2835360"/>
                  <a:ext cx="27000" cy="2976480"/>
                </a:xfrm>
                <a:solidFill>
                  <a:srgbClr val="00ff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2846520" y="2843280"/>
                  <a:ext cx="27000" cy="2968560"/>
                </a:xfrm>
                <a:solidFill>
                  <a:srgbClr val="00ff3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2862360" y="2840040"/>
                  <a:ext cx="27000" cy="2971800"/>
                </a:xfrm>
                <a:solidFill>
                  <a:srgbClr val="00ff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2876400" y="2838600"/>
                  <a:ext cx="27000" cy="2973240"/>
                </a:xfrm>
                <a:solidFill>
                  <a:srgbClr val="00ff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2892600" y="2835360"/>
                  <a:ext cx="26640" cy="2976480"/>
                </a:xfr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2906640" y="2835360"/>
                  <a:ext cx="27000" cy="2976480"/>
                </a:xfrm>
                <a:solidFill>
                  <a:srgbClr val="15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2924280" y="2835360"/>
                  <a:ext cx="27000" cy="2976480"/>
                </a:xfrm>
                <a:solidFill>
                  <a:srgbClr val="26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938320" y="2852640"/>
                  <a:ext cx="27000" cy="2959200"/>
                </a:xfrm>
                <a:solidFill>
                  <a:srgbClr val="3c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2952720" y="2871720"/>
                  <a:ext cx="27000" cy="2940120"/>
                </a:xfrm>
                <a:solidFill>
                  <a:srgbClr val="4d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968560" y="2894040"/>
                  <a:ext cx="27000" cy="2917800"/>
                </a:xfrm>
                <a:solidFill>
                  <a:srgbClr val="62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2982960" y="2905200"/>
                  <a:ext cx="27000" cy="2906640"/>
                </a:xfrm>
                <a:solidFill>
                  <a:srgbClr val="73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3000240" y="2900520"/>
                  <a:ext cx="27000" cy="2911320"/>
                </a:xfrm>
                <a:solidFill>
                  <a:srgbClr val="88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014640" y="2894040"/>
                  <a:ext cx="27000" cy="2917800"/>
                </a:xfrm>
                <a:solidFill>
                  <a:srgbClr val="99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3029040" y="2889360"/>
                  <a:ext cx="27000" cy="2922480"/>
                </a:xfrm>
                <a:solidFill>
                  <a:srgbClr val="ae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044880" y="2884320"/>
                  <a:ext cx="27000" cy="2927520"/>
                </a:xfrm>
                <a:solidFill>
                  <a:srgbClr val="b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060720" y="2884320"/>
                  <a:ext cx="27000" cy="2927520"/>
                </a:xfrm>
                <a:solidFill>
                  <a:srgbClr val="d5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075120" y="2884320"/>
                  <a:ext cx="27000" cy="2927520"/>
                </a:xfrm>
                <a:solidFill>
                  <a:srgbClr val="e6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092400" y="2894040"/>
                  <a:ext cx="27000" cy="2917800"/>
                </a:xfrm>
                <a:solidFill>
                  <a:srgbClr val="f7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3105000" y="2906640"/>
                  <a:ext cx="27000" cy="2905200"/>
                </a:xfrm>
                <a:solidFill>
                  <a:srgbClr val="ff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121200" y="2919240"/>
                  <a:ext cx="26640" cy="2892600"/>
                </a:xfr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3137040" y="2928960"/>
                  <a:ext cx="27000" cy="2882880"/>
                </a:xfr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3151080" y="2941560"/>
                  <a:ext cx="27000" cy="2870280"/>
                </a:xfrm>
                <a:solidFill>
                  <a:srgbClr val="ffb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3168720" y="3084480"/>
                  <a:ext cx="27000" cy="2727360"/>
                </a:xfrm>
                <a:solidFill>
                  <a:srgbClr val="ff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181320" y="3355920"/>
                  <a:ext cx="27000" cy="2455920"/>
                </a:xfrm>
                <a:solidFill>
                  <a:srgbClr val="ff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198960" y="3062160"/>
                  <a:ext cx="27000" cy="2749680"/>
                </a:xfr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3213000" y="3062160"/>
                  <a:ext cx="27000" cy="2749680"/>
                </a:xfrm>
                <a:solidFill>
                  <a:srgbClr val="ff6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3228840" y="3065400"/>
                  <a:ext cx="27000" cy="2746440"/>
                </a:xfrm>
                <a:solidFill>
                  <a:srgbClr val="ff5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3244680" y="3075120"/>
                  <a:ext cx="27000" cy="2736720"/>
                </a:xfrm>
                <a:solidFill>
                  <a:srgbClr val="ff4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3259080" y="3083040"/>
                  <a:ext cx="27000" cy="2728800"/>
                </a:xfr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273480" y="3265560"/>
                  <a:ext cx="27000" cy="2546280"/>
                </a:xfrm>
                <a:solidFill>
                  <a:srgbClr val="ff2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289320" y="3265560"/>
                  <a:ext cx="27000" cy="2546280"/>
                </a:xfrm>
                <a:solidFill>
                  <a:srgbClr val="ff0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305160" y="3267000"/>
                  <a:ext cx="27000" cy="2544840"/>
                </a:xfr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3321000" y="3281400"/>
                  <a:ext cx="27000" cy="2530440"/>
                </a:xfr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338640" y="4321080"/>
                  <a:ext cx="34920" cy="1490760"/>
                </a:xfr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481120" y="2763720"/>
                  <a:ext cx="890640" cy="3057480"/>
                </a:xfrm>
                <a:noFill/>
                <a:ln w="12600">
                  <a:solidFill>
                    <a:srgbClr val="18161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V="1">
                  <a:off x="2482920" y="4392360"/>
                  <a:ext cx="1440" cy="1958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flipV="1">
                  <a:off x="2533680" y="5820840"/>
                  <a:ext cx="1440" cy="8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flipV="1">
                  <a:off x="2800440" y="5823000"/>
                  <a:ext cx="1440" cy="85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flipV="1">
                  <a:off x="3006720" y="5818320"/>
                  <a:ext cx="1440" cy="85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flipV="1">
                  <a:off x="3218040" y="5823000"/>
                  <a:ext cx="1440" cy="85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flipV="1">
                  <a:off x="3425760" y="5823000"/>
                  <a:ext cx="1800" cy="85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flipV="1">
                  <a:off x="3365640" y="4392720"/>
                  <a:ext cx="6120" cy="200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6" name=""/>
            <p:cNvGrpSpPr/>
            <p:nvPr/>
          </p:nvGrpSpPr>
          <p:grpSpPr>
            <a:xfrm>
              <a:off x="2438280" y="1981080"/>
              <a:ext cx="916200" cy="838440"/>
              <a:chOff x="2438280" y="1981080"/>
              <a:chExt cx="916200" cy="838440"/>
            </a:xfrm>
          </p:grpSpPr>
          <p:sp>
            <p:nvSpPr>
              <p:cNvPr id="527" name=""/>
              <p:cNvSpPr/>
              <p:nvPr/>
            </p:nvSpPr>
            <p:spPr>
              <a:xfrm>
                <a:off x="2438280" y="2590920"/>
                <a:ext cx="914400" cy="1440"/>
              </a:xfrm>
              <a:prstGeom prst="line">
                <a:avLst/>
              </a:prstGeom>
              <a:ln w="25560">
                <a:solidFill>
                  <a:srgbClr val="248a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438280" y="2590920"/>
                <a:ext cx="1800" cy="228600"/>
              </a:xfrm>
              <a:prstGeom prst="line">
                <a:avLst/>
              </a:prstGeom>
              <a:ln w="25560">
                <a:solidFill>
                  <a:srgbClr val="248a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352680" y="2590920"/>
                <a:ext cx="1800" cy="228600"/>
              </a:xfrm>
              <a:prstGeom prst="line">
                <a:avLst/>
              </a:prstGeom>
              <a:ln w="25560">
                <a:solidFill>
                  <a:srgbClr val="248a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895480" y="2362320"/>
                <a:ext cx="1800" cy="228600"/>
              </a:xfrm>
              <a:prstGeom prst="line">
                <a:avLst/>
              </a:prstGeom>
              <a:ln w="25560">
                <a:solidFill>
                  <a:srgbClr val="248abe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514600" y="1981080"/>
                <a:ext cx="838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s-ES" sz="2000" spc="-1" strike="noStrike">
                    <a:solidFill>
                      <a:srgbClr val="00ffff"/>
                    </a:solidFill>
                    <a:latin typeface="Times New Roman"/>
                  </a:rPr>
                  <a:t>Luz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2" name=""/>
          <p:cNvGrpSpPr/>
          <p:nvPr/>
        </p:nvGrpSpPr>
        <p:grpSpPr>
          <a:xfrm>
            <a:off x="2286000" y="1143000"/>
            <a:ext cx="4573440" cy="1066680"/>
            <a:chOff x="2286000" y="1143000"/>
            <a:chExt cx="4573440" cy="1066680"/>
          </a:xfrm>
        </p:grpSpPr>
        <p:sp>
          <p:nvSpPr>
            <p:cNvPr id="533" name=""/>
            <p:cNvSpPr/>
            <p:nvPr/>
          </p:nvSpPr>
          <p:spPr>
            <a:xfrm>
              <a:off x="2286000" y="1905120"/>
              <a:ext cx="4572000" cy="144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286000" y="1905120"/>
              <a:ext cx="1440" cy="30456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858000" y="1905120"/>
              <a:ext cx="1440" cy="30456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495680" y="1600200"/>
              <a:ext cx="1800" cy="30492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076640" y="1143000"/>
              <a:ext cx="838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 flipV="1">
            <a:off x="2114640" y="5818320"/>
            <a:ext cx="1440" cy="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3635280" y="5823000"/>
            <a:ext cx="1800" cy="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3846600" y="5818320"/>
            <a:ext cx="1440" cy="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4944960" y="5823000"/>
            <a:ext cx="1800" cy="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6018120" y="5830920"/>
            <a:ext cx="1800" cy="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559560" y="5932440"/>
            <a:ext cx="538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ffff"/>
                </a:solidFill>
                <a:latin typeface="Times New Roman"/>
              </a:rPr>
              <a:t>2.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038480" y="1066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imes New Roman"/>
              </a:rPr>
              <a:t>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 fill="hold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 fill="hold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 fill="hold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 fill="hold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3" dur="1" fill="hold"/>
                                  <p:tgtEl>
                                    <p:spTgt spid="4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1T20:58:19Z</dcterms:created>
  <dc:creator> Serge Martin</dc:creator>
  <dc:description/>
  <dc:language>en-US</dc:language>
  <cp:lastModifiedBy>alain</cp:lastModifiedBy>
  <cp:lastPrinted>2000-11-30T11:43:37Z</cp:lastPrinted>
  <dcterms:modified xsi:type="dcterms:W3CDTF">2008-05-06T14:04:23Z</dcterms:modified>
  <cp:revision>220</cp:revision>
  <dc:subject/>
  <dc:title>PHOTO-VENT project Development of PV-powered smart  natural ventilation devices  EC DG XII JOULE contract JOR3-CT98-0204</dc:title>
</cp:coreProperties>
</file>