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6624720" cy="9810720"/>
          </a:xfrm>
          <a:custGeom>
            <a:avLst/>
            <a:gdLst>
              <a:gd name="textAreaLeft" fmla="*/ 360 w 6624720"/>
              <a:gd name="textAreaRight" fmla="*/ 6624360 w 6624720"/>
              <a:gd name="textAreaTop" fmla="*/ 360 h 9810720"/>
              <a:gd name="textAreaBottom" fmla="*/ 9810360 h 9810720"/>
            </a:gdLst>
            <a:ahLst/>
            <a:rect l="textAreaLeft" t="textAreaTop" r="textAreaRight" b="textAreaBottom"/>
            <a:pathLst>
              <a:path w="21600" h="31987">
                <a:moveTo>
                  <a:pt x="5" y="0"/>
                </a:moveTo>
                <a:arcTo wR="5" hR="5" stAng="16200000" swAng="-5400000"/>
                <a:lnTo>
                  <a:pt x="0" y="31982"/>
                </a:lnTo>
                <a:arcTo wR="5" hR="5" stAng="10800000" swAng="-5400000"/>
                <a:lnTo>
                  <a:pt x="21595" y="3198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684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9"/>
          </p:nvPr>
        </p:nvSpPr>
        <p:spPr>
          <a:xfrm>
            <a:off x="3753000" y="0"/>
            <a:ext cx="28684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20"/>
          </p:nvPr>
        </p:nvSpPr>
        <p:spPr>
          <a:xfrm>
            <a:off x="0" y="9318600"/>
            <a:ext cx="28684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21"/>
          </p:nvPr>
        </p:nvSpPr>
        <p:spPr>
          <a:xfrm>
            <a:off x="3753000" y="9318600"/>
            <a:ext cx="28684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402E2-2203-41CB-AA2F-96309B350599}" type="slidenum"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Img"/>
          </p:nvPr>
        </p:nvSpPr>
        <p:spPr>
          <a:xfrm>
            <a:off x="555120" y="783720"/>
            <a:ext cx="5327640" cy="399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body"/>
          </p:nvPr>
        </p:nvSpPr>
        <p:spPr>
          <a:xfrm>
            <a:off x="847800" y="5035320"/>
            <a:ext cx="474192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/>
          <p:nvPr/>
        </p:nvSpPr>
        <p:spPr>
          <a:xfrm>
            <a:off x="3753000" y="931860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A9440-CDF3-44D4-9C01-19390CBC9588}" type="slidenum"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0" y="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753000" y="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025640" y="858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847800" y="5035320"/>
            <a:ext cx="474336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3753000" y="931860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81654-1A64-4762-B872-09B9BC555DDD}" type="slidenum"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0" y="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753000" y="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025640" y="858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847800" y="5035320"/>
            <a:ext cx="474336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/>
          <p:nvPr/>
        </p:nvSpPr>
        <p:spPr>
          <a:xfrm>
            <a:off x="3753000" y="931860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70A72-7E30-4A75-88E4-702E58C3D6A5}" type="slidenum"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0" y="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753000" y="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025640" y="858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847800" y="5035320"/>
            <a:ext cx="474336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5B0D-2DC9-40B8-B1A3-9530F313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7056-0FD6-4B19-BFB6-374A7316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409E-E868-4489-B11F-239C9FF2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8727-A970-4698-BB13-4796633B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6031-B9B2-47A4-993C-9530C4EF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995F-4BB0-469A-99FC-E9C5A484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D2FB-F8A7-417B-A53A-3619A773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9FFC-A87F-4646-96BC-A053DC98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0391-FEAE-4F0D-B712-F68AC0C1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2BFF-9351-47C3-9F08-9CC79CF0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BB04-0397-4A8C-8AF6-4EDDAF5D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8A8F-CFC6-4385-88BB-67796FC7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FE40-93D3-4AF8-A1C0-CA4DE7A8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D455-8801-44E4-98CE-A3287144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1C7E-C777-4415-845A-96F11B6A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AA24-E1FF-48A9-A53C-ADAF2461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2130-13BC-4A7F-8DA8-C68BC6E0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90CA-B899-4D6F-8C64-322F7D2D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0900-6716-4DF1-9015-38E1AA13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DA08-45E7-4A77-88F7-BC1FCF4B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C801-19C6-4FC0-8CF5-915FCB36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7071-86E1-40AF-9D71-F298E69D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5A56D-1A99-4065-AB5C-124F409E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1A7E-104D-4F29-A45D-8FFA73CA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2664-50DC-4CFB-8B4F-2DED1A0D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1AFCA-211D-4D15-ABA0-E1E1612D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3554-5650-488C-96F2-E9D8672E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301C-A425-428A-B63A-8E59397B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6507-4D59-4423-A04D-CA4F477B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7824-CA6F-44B6-9B2A-B6B5A1D9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E8BE2-CAD1-4D7D-B627-06717786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11BCE-A480-4457-B0C9-4F93ACB9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F462C5-4611-4ED4-8E79-AF5C2F0A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3D630-F3C1-4B68-A3E2-5F5C2DE6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21111-F2F6-4249-89A6-76541B56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D79876-3136-47E8-8742-384E5F23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1452F-E0D4-49DE-9305-A8076E07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24BD29-DC01-40D6-8D38-EE31FB4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8D080-A86A-4F16-91EB-2BE62465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5AB9C-0DD6-4496-A983-26D9889D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17491-8EEA-4CFC-8BA6-E9D2EC19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5628A-A6B4-4CA9-A961-8FA3C401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84DB38-CA53-4BDA-90AF-F0C929B6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6B7D1-1848-495E-9F00-6F3E65CC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D323-A889-41FF-8D22-F5237875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6079A-9DD6-4097-A95F-C2720CFE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A3A64-FDB5-42EC-8C89-2BE0EC16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23170-60EC-4067-827A-137B5A5C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96B67-ED0A-459F-BFEB-C530B262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5D505-E863-4EAF-88B3-6D7FA46F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84A14-2337-43F4-80BC-DAABF5F6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D706F-F58A-481B-BACF-BC8470E5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BDDAA-B511-4861-8E1D-290A285A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D933B-65BC-460F-9D2B-BA972613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DC85E-ED52-43C9-8225-7310876E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A29B-524D-4DDF-9EDB-59CF9D86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0DBD-B36C-43F6-8B7A-07A3469D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2C017-21B3-4D49-B120-640760B2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F07AE-BE89-400C-808B-4D0FA816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EB7EC-4D6B-4266-B870-9ABE95B6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6F9E5-61FA-4F44-9D47-D7CAB5DD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0D6A9-AACC-4346-9243-9F61993C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08FD8-250F-4AD6-8D08-A66AAEB0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932E-098D-4F65-92D6-FB31D57F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63EEB-1198-4E34-BCBF-FA3E5578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615EB-B6F3-4BBE-B1A8-5F88D3AB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3CD4-15E9-41C1-A7E6-8B5275AF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1FDB6-02AF-4FC0-83CA-A8E7585B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BB5FE-61AB-49D0-A95A-5026E861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5D117-37D4-44E1-81BF-AE3B9376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3F8C-A915-4D37-87B4-3C0FFD14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5012-979C-47C9-8473-56B9539E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A8F251-1414-4033-816B-1BC9FC794B0D}" type="slidenum"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C5CBE0-EA91-441B-AD76-B1F9BF004410}" type="slidenum">
              <a:rPr b="0" lang="es-ES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FE2555-6979-4554-928F-BE4D82D4ED05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F58794-EA2D-4A39-B46A-343AEF1708CA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4E9C4-0107-497C-90EA-CB92DEC2D9EC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6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7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755DC-7B15-47B7-9C01-B8976DFE4B89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153280" cy="35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emi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ol del cristal en la cre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 clima interior y eficiencia energé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4724280"/>
            <a:ext cx="60642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ccff"/>
                </a:solidFill>
                <a:latin typeface="Arial"/>
              </a:rPr>
              <a:t>Alain J. Kaczorow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400" spc="-1" strike="noStrike">
                <a:solidFill>
                  <a:srgbClr val="00ccff"/>
                </a:solidFill>
                <a:latin typeface="Arial"/>
              </a:rPr>
              <a:t>AGENTE DEL GRUPO AGC PARA CHILE Y ARGENT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657600" y="1143000"/>
          <a:ext cx="161928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1143000"/>
                    <a:ext cx="16192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0620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Transmisión de Luz :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T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4979880"/>
            <a:ext cx="2438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Arial"/>
              </a:rPr>
              <a:t>Reflexión de Luz (R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64160" y="5727600"/>
            <a:ext cx="215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Absorción de Lu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59320" y="1865160"/>
            <a:ext cx="839880" cy="361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48ab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92360" y="2733840"/>
            <a:ext cx="3990960" cy="2309760"/>
          </a:xfr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30840" y="4446720"/>
            <a:ext cx="2284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Arial"/>
              </a:rPr>
              <a:t>Transmisión de Luz</a:t>
            </a:r>
            <a:br>
              <a:rPr sz="2400"/>
            </a:br>
            <a:r>
              <a:rPr b="1" lang="es-ES" sz="2400" spc="-1" strike="noStrike">
                <a:solidFill>
                  <a:srgbClr val="00ffff"/>
                </a:solidFill>
                <a:latin typeface="Arial"/>
              </a:rPr>
              <a:t>(T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10620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El Factor Solar :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4040280" y="1789200"/>
            <a:ext cx="839520" cy="361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48ab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3454560"/>
            <a:ext cx="18068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Reflexión Energética</a:t>
            </a:r>
            <a:br>
              <a:rPr sz="2000"/>
            </a:b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(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54320" y="4564080"/>
            <a:ext cx="1499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Reirrad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58080" y="2290680"/>
            <a:ext cx="1569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Trans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irecta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75400" y="4564080"/>
            <a:ext cx="2401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Reirrad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21080" y="2147760"/>
            <a:ext cx="3544920" cy="2806920"/>
          </a:xfr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59280" y="3429000"/>
            <a:ext cx="246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Ab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Energética </a:t>
            </a:r>
            <a:br>
              <a:rPr sz="2000"/>
            </a:b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(A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567560" y="2209680"/>
            <a:ext cx="1616040" cy="3125880"/>
            <a:chOff x="7567560" y="2209680"/>
            <a:chExt cx="1616040" cy="3125880"/>
          </a:xfrm>
        </p:grpSpPr>
        <p:sp>
          <p:nvSpPr>
            <p:cNvPr id="560" name=""/>
            <p:cNvSpPr/>
            <p:nvPr/>
          </p:nvSpPr>
          <p:spPr>
            <a:xfrm>
              <a:off x="8070840" y="3182760"/>
              <a:ext cx="1112760" cy="1186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Factor</a:t>
              </a:r>
              <a:br>
                <a:rPr sz="2400"/>
              </a:b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Solar</a:t>
              </a:r>
              <a:br>
                <a:rPr sz="2400"/>
              </a:b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(F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567560" y="2209680"/>
              <a:ext cx="536760" cy="3125880"/>
              <a:chOff x="7567560" y="2209680"/>
              <a:chExt cx="536760" cy="3125880"/>
            </a:xfrm>
          </p:grpSpPr>
          <p:sp>
            <p:nvSpPr>
              <p:cNvPr id="562" name=""/>
              <p:cNvSpPr/>
              <p:nvPr/>
            </p:nvSpPr>
            <p:spPr>
              <a:xfrm>
                <a:off x="7721640" y="2209680"/>
                <a:ext cx="1440" cy="312444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7567560" y="2209680"/>
                <a:ext cx="155520" cy="180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7567560" y="5334120"/>
                <a:ext cx="155520" cy="144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7719840" y="3733920"/>
                <a:ext cx="384480" cy="144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6" name=""/>
          <p:cNvGrpSpPr/>
          <p:nvPr/>
        </p:nvGrpSpPr>
        <p:grpSpPr>
          <a:xfrm>
            <a:off x="1045800" y="5661000"/>
            <a:ext cx="7558560" cy="603360"/>
            <a:chOff x="1045800" y="5661000"/>
            <a:chExt cx="7558560" cy="603360"/>
          </a:xfrm>
        </p:grpSpPr>
        <p:sp>
          <p:nvSpPr>
            <p:cNvPr id="567" name=""/>
            <p:cNvSpPr/>
            <p:nvPr/>
          </p:nvSpPr>
          <p:spPr>
            <a:xfrm>
              <a:off x="1045800" y="5745240"/>
              <a:ext cx="746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ffcc00"/>
                  </a:solidFill>
                  <a:latin typeface="Arial"/>
                </a:rPr>
                <a:t>Ecuación energética:      1 = TED + AE + 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30760" y="5661000"/>
              <a:ext cx="3873600" cy="59688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 fill="hold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El Coeficiente de Sombra (Shading coefici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"/>
          <p:cNvSpPr/>
          <p:nvPr/>
        </p:nvSpPr>
        <p:spPr>
          <a:xfrm>
            <a:off x="901800" y="1335240"/>
            <a:ext cx="77976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EL FACTOR SOLAR (FS) DE UN CRISTAL INCOL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DE 3 mm DE ESPESOR = 87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LA RELACION DEL FACTOR SOLAR DE CUALQU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CRISTAL A ESE CRISTAL DE REFER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SE EXPRESA COM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 u="sng">
                <a:solidFill>
                  <a:srgbClr val="ffcc00"/>
                </a:solidFill>
                <a:uFillTx/>
                <a:latin typeface="Arial"/>
              </a:rPr>
              <a:t>FACTOR SOLAR</a:t>
            </a: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0,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ESO ES EL </a:t>
            </a: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COEFICIENTE DE SOMBRA</a:t>
            </a: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 (Sha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ffff"/>
                </a:solidFill>
                <a:latin typeface="Arial"/>
              </a:rPr>
              <a:t>NO TIENE UNIDADES (ES UNA RELACÍ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ffff"/>
                </a:solidFill>
                <a:latin typeface="Arial"/>
              </a:rPr>
              <a:t>SE USA EN CALCULOS DE CLIMAT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324480" y="1371600"/>
            <a:ext cx="21337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</a:rPr>
              <a:t>Temperatura interior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1" i="1" lang="es-ES" sz="2400" spc="-1" strike="noStrike" baseline="-25000">
                <a:solidFill>
                  <a:srgbClr val="00ffff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90720" y="1219320"/>
            <a:ext cx="213336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</a:rPr>
              <a:t>Temperatura exterior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1" i="1" lang="es-ES" sz="2400" spc="-1" strike="noStrike" baseline="-25000">
                <a:solidFill>
                  <a:srgbClr val="00ffff"/>
                </a:solidFill>
                <a:latin typeface="Times New Roman"/>
              </a:rPr>
              <a:t>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5942160" y="3498840"/>
            <a:ext cx="2085480" cy="306000"/>
            <a:chOff x="5942160" y="3498840"/>
            <a:chExt cx="2085480" cy="306000"/>
          </a:xfrm>
        </p:grpSpPr>
        <p:sp>
          <p:nvSpPr>
            <p:cNvPr id="574" name=""/>
            <p:cNvSpPr/>
            <p:nvPr/>
          </p:nvSpPr>
          <p:spPr>
            <a:xfrm>
              <a:off x="6181560" y="3498840"/>
              <a:ext cx="244800" cy="304920"/>
            </a:xfrm>
            <a:custGeom>
              <a:avLst/>
              <a:gdLst>
                <a:gd name="textAreaLeft" fmla="*/ 122400 w 244800"/>
                <a:gd name="textAreaRight" fmla="*/ 244800 w 24480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0800000">
              <a:off x="641160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18336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0800000">
              <a:off x="597672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95960" y="3498840"/>
              <a:ext cx="244800" cy="304920"/>
            </a:xfrm>
            <a:custGeom>
              <a:avLst/>
              <a:gdLst>
                <a:gd name="textAreaLeft" fmla="*/ 122400 w 244800"/>
                <a:gd name="textAreaRight" fmla="*/ 244800 w 24480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0800000">
              <a:off x="732600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9776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0800000">
              <a:off x="689112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38760" y="3498840"/>
              <a:ext cx="244800" cy="304920"/>
            </a:xfrm>
            <a:custGeom>
              <a:avLst/>
              <a:gdLst>
                <a:gd name="textAreaLeft" fmla="*/ 122400 w 244800"/>
                <a:gd name="textAreaRight" fmla="*/ 244800 w 24480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0800000">
              <a:off x="686880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4056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0800000">
              <a:off x="643392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53160" y="3498840"/>
              <a:ext cx="244800" cy="304920"/>
            </a:xfrm>
            <a:custGeom>
              <a:avLst/>
              <a:gdLst>
                <a:gd name="textAreaLeft" fmla="*/ 122400 w 244800"/>
                <a:gd name="textAreaRight" fmla="*/ 244800 w 24480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0800000">
              <a:off x="778320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5496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0800000">
              <a:off x="734832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942160" y="3498840"/>
              <a:ext cx="155520" cy="1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522440" y="3498840"/>
            <a:ext cx="2085480" cy="306000"/>
            <a:chOff x="1522440" y="3498840"/>
            <a:chExt cx="2085480" cy="306000"/>
          </a:xfrm>
        </p:grpSpPr>
        <p:sp>
          <p:nvSpPr>
            <p:cNvPr id="592" name=""/>
            <p:cNvSpPr/>
            <p:nvPr/>
          </p:nvSpPr>
          <p:spPr>
            <a:xfrm>
              <a:off x="1762200" y="349884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0800000">
              <a:off x="199188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6364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0800000">
              <a:off x="155700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76600" y="349884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0800000">
              <a:off x="290628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7804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0800000">
              <a:off x="247140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19400" y="349884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0800000">
              <a:off x="244908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22084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0800000">
              <a:off x="201420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33800" y="349884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0800000">
              <a:off x="336348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3524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0800000">
              <a:off x="292860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522440" y="3498840"/>
              <a:ext cx="155520" cy="1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614920" y="2403360"/>
            <a:ext cx="1074960" cy="2500560"/>
            <a:chOff x="5614920" y="2403360"/>
            <a:chExt cx="1074960" cy="2500560"/>
          </a:xfrm>
        </p:grpSpPr>
        <p:sp>
          <p:nvSpPr>
            <p:cNvPr id="610" name=""/>
            <p:cNvSpPr/>
            <p:nvPr/>
          </p:nvSpPr>
          <p:spPr>
            <a:xfrm>
              <a:off x="5614920" y="2465280"/>
              <a:ext cx="1067040" cy="2438640"/>
            </a:xfrm>
            <a:custGeom>
              <a:avLst/>
              <a:gdLst>
                <a:gd name="textAreaLeft" fmla="*/ 0 w 1067040"/>
                <a:gd name="textAreaRight" fmla="*/ 533520 w 1067040"/>
                <a:gd name="textAreaTop" fmla="*/ 0 h 2438640"/>
                <a:gd name="textAreaBottom" fmla="*/ 1219320 h 24386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0800000">
              <a:off x="5638680" y="2403360"/>
              <a:ext cx="1051200" cy="2438640"/>
            </a:xfrm>
            <a:custGeom>
              <a:avLst/>
              <a:gdLst>
                <a:gd name="textAreaLeft" fmla="*/ 515880 w 1051200"/>
                <a:gd name="textAreaRight" fmla="*/ 1051200 w 1051200"/>
                <a:gd name="textAreaTop" fmla="*/ 0 h 2438640"/>
                <a:gd name="textAreaBottom" fmla="*/ 1219320 h 24386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0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921040" y="2400480"/>
            <a:ext cx="1093320" cy="2503440"/>
            <a:chOff x="2921040" y="2400480"/>
            <a:chExt cx="1093320" cy="2503440"/>
          </a:xfrm>
        </p:grpSpPr>
        <p:sp>
          <p:nvSpPr>
            <p:cNvPr id="613" name=""/>
            <p:cNvSpPr/>
            <p:nvPr/>
          </p:nvSpPr>
          <p:spPr>
            <a:xfrm>
              <a:off x="2921040" y="2400480"/>
              <a:ext cx="1066680" cy="2438280"/>
            </a:xfrm>
            <a:custGeom>
              <a:avLst/>
              <a:gdLst>
                <a:gd name="textAreaLeft" fmla="*/ 533160 w 1066680"/>
                <a:gd name="textAreaRight" fmla="*/ 1066680 w 1066680"/>
                <a:gd name="textAreaTop" fmla="*/ 1218960 h 2438280"/>
                <a:gd name="textAreaBottom" fmla="*/ 2438280 h 24382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0800000">
              <a:off x="2947680" y="2465280"/>
              <a:ext cx="1066680" cy="2438640"/>
            </a:xfrm>
            <a:custGeom>
              <a:avLst/>
              <a:gdLst>
                <a:gd name="textAreaLeft" fmla="*/ 0 w 1066680"/>
                <a:gd name="textAreaRight" fmla="*/ 533160 w 1066680"/>
                <a:gd name="textAreaTop" fmla="*/ 1219320 h 2438640"/>
                <a:gd name="textAreaBottom" fmla="*/ 2438640 h 24386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4197240" y="1835280"/>
            <a:ext cx="1206720" cy="341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48ab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537160" y="4559400"/>
            <a:ext cx="2666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Convección </a:t>
            </a:r>
            <a:br>
              <a:rPr sz="1800"/>
            </a:br>
            <a:r>
              <a:rPr b="0" lang="es-ES" sz="1400" spc="-1" strike="noStrike">
                <a:solidFill>
                  <a:srgbClr val="00ffff"/>
                </a:solidFill>
                <a:latin typeface="Times New Roman"/>
              </a:rPr>
              <a:t>(y condu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22960" y="3111480"/>
            <a:ext cx="15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Rad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3280" y="4025880"/>
            <a:ext cx="15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7240" y="3352680"/>
            <a:ext cx="1206720" cy="596880"/>
          </a:xfrm>
          <a:prstGeom prst="leftArrow">
            <a:avLst>
              <a:gd name="adj1" fmla="val 50000"/>
              <a:gd name="adj2" fmla="val 6084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692360" y="5516640"/>
            <a:ext cx="6478560" cy="930240"/>
            <a:chOff x="1692360" y="5516640"/>
            <a:chExt cx="6478560" cy="930240"/>
          </a:xfrm>
        </p:grpSpPr>
        <p:sp>
          <p:nvSpPr>
            <p:cNvPr id="621" name=""/>
            <p:cNvSpPr/>
            <p:nvPr/>
          </p:nvSpPr>
          <p:spPr>
            <a:xfrm>
              <a:off x="1692360" y="5745240"/>
              <a:ext cx="2133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ffcc00"/>
                  </a:solidFill>
                  <a:latin typeface="Times New Roman"/>
                </a:rPr>
                <a:t>Valor-U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79800" y="5516640"/>
              <a:ext cx="2133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35280" y="5973840"/>
              <a:ext cx="282096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68520" y="6049800"/>
              <a:ext cx="3354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37200" y="5745240"/>
              <a:ext cx="2133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2000" spc="-1" strike="noStrike">
                  <a:solidFill>
                    <a:srgbClr val="ffcc00"/>
                  </a:solidFill>
                  <a:latin typeface="Times New Roman"/>
                </a:rPr>
                <a:t>          </a:t>
              </a:r>
              <a:r>
                <a:rPr b="0" i="1" lang="es-ES" sz="2000" spc="-1" strike="noStrike">
                  <a:solidFill>
                    <a:srgbClr val="ffcc00"/>
                  </a:solidFill>
                  <a:latin typeface="Times New Roman"/>
                </a:rPr>
                <a:t>(W/m2.∆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1727280" y="3111480"/>
            <a:ext cx="15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Rad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46040" y="4559400"/>
            <a:ext cx="2667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Convección </a:t>
            </a:r>
            <a:br>
              <a:rPr sz="1800"/>
            </a:br>
            <a:r>
              <a:rPr b="0" lang="es-ES" sz="1400" spc="-1" strike="noStrike">
                <a:solidFill>
                  <a:srgbClr val="00ffff"/>
                </a:solidFill>
                <a:latin typeface="Times New Roman"/>
              </a:rPr>
              <a:t>(y condu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13644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El Valor-U (no depende del sol...)</a:t>
            </a:r>
            <a:r>
              <a:rPr b="0" i="1" lang="es-ES" sz="2800" spc="-1" strike="noStrike">
                <a:solidFill>
                  <a:srgbClr val="18587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3653280" y="551664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</a:t>
            </a:r>
            <a:r>
              <a:rPr b="0" lang="es-ES" sz="1800" spc="-1" strike="noStrike">
                <a:solidFill>
                  <a:srgbClr val="f62a08"/>
                </a:solidFill>
                <a:latin typeface="Tahoma"/>
              </a:rPr>
              <a:t>calor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empre vi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36640" y="596412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l punto caliente al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 fill="hold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149560" y="1557000"/>
            <a:ext cx="576720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TL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   : Transmisión de Lu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: Reflexión de Lu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FS 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: Factor Sol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CS (ShC)</a:t>
            </a: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 : Coeficiente de Sombra (Shading Coef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62a08"/>
                </a:solidFill>
                <a:latin typeface="Tahoma"/>
              </a:rPr>
              <a:t>Valor-U   </a:t>
            </a:r>
            <a:r>
              <a:rPr b="0" lang="es-ES" sz="2800" spc="-1" strike="noStrike">
                <a:solidFill>
                  <a:srgbClr val="f62a08"/>
                </a:solidFill>
                <a:latin typeface="Tahoma"/>
              </a:rPr>
              <a:t> : Valor-U (o Valor-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Tahoma"/>
              </a:rPr>
              <a:t>Parámetros esté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ahoma"/>
              </a:rPr>
              <a:t>Color en reflexión, en transm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Tahoma"/>
              </a:rPr>
              <a:t>Aspectos del ‘Procesamiento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00ffff"/>
                </a:solidFill>
                <a:latin typeface="Tahoma"/>
              </a:rPr>
              <a:t>Tratamiento térmico, serigrafía,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En resumen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Parámetros claves para caracterizar un crista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2123640" y="1995120"/>
            <a:ext cx="5767560" cy="422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00ffff"/>
                </a:solidFill>
                <a:latin typeface="Tahoma"/>
              </a:rPr>
              <a:t>¿ Factor Solar o Valor-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Ganancia Relativa de Calor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ahoma"/>
              </a:rPr>
              <a:t>(RHG Relative Heat Ga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= ([630 W x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ShC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] + [8ºC x </a:t>
            </a:r>
            <a:r>
              <a:rPr b="0" lang="es-ES" sz="2400" spc="-1" strike="noStrike">
                <a:solidFill>
                  <a:srgbClr val="f62a08"/>
                </a:solidFill>
                <a:latin typeface="Tahoma"/>
              </a:rPr>
              <a:t>Valor U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]) expresado en W/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00ffff"/>
                </a:solidFill>
                <a:uFillTx/>
                <a:latin typeface="Tahoma"/>
              </a:rPr>
              <a:t>Ejempl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ShC = 0,40  Valor-U = 5,5  RHG = 296 W/m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ShC = 0,25  Valor-U = 5,5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RHG = 201 W/m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ShC = 0,40  Valor-U = 2,8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RHG = 274 W/m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ShC = 0,25  Valor-U = 2,8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RHG = 180 W/m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Discusión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Parámetros claves para caracterizar y comparar un crista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2123640" y="1995120"/>
            <a:ext cx="5767560" cy="42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00ffff"/>
                </a:solidFill>
                <a:latin typeface="Tahoma"/>
              </a:rPr>
              <a:t>¿ Alta transmisión de Luz o Factor Solar baj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23ff23"/>
                </a:solidFill>
                <a:latin typeface="Tahoma"/>
              </a:rPr>
              <a:t>* La luz se puede controlar con corti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ff0000"/>
                </a:solidFill>
                <a:latin typeface="Tahoma"/>
              </a:rPr>
              <a:t>* El calor que entró por el vidrio NO se puede controlar a posteri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Discusión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Parámetros claves para caracterizar y comparar un crista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2117880" y="1371600"/>
            <a:ext cx="1064880" cy="4164120"/>
            <a:chOff x="2117880" y="1371600"/>
            <a:chExt cx="1064880" cy="4164120"/>
          </a:xfrm>
        </p:grpSpPr>
        <p:sp>
          <p:nvSpPr>
            <p:cNvPr id="638" name=""/>
            <p:cNvSpPr/>
            <p:nvPr/>
          </p:nvSpPr>
          <p:spPr>
            <a:xfrm>
              <a:off x="2117880" y="365760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06800" y="354960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24080" y="342432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41720" y="290988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60440" y="2841480"/>
              <a:ext cx="32040" cy="269424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79520" y="274968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97160" y="247500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14440" y="231948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333520" y="2217600"/>
              <a:ext cx="30240" cy="331812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95480" y="202104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36760" y="1701720"/>
              <a:ext cx="65160" cy="383400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86080" y="160344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06600" y="150192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14600" y="137160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87600" y="1403280"/>
              <a:ext cx="74520" cy="413244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52760" y="141300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70040" y="1407960"/>
              <a:ext cx="33480" cy="412776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87680" y="140652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08200" y="1403280"/>
              <a:ext cx="31680" cy="413244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25840" y="1403280"/>
              <a:ext cx="31680" cy="413244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46360" y="1403280"/>
              <a:ext cx="31680" cy="413244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62200" y="142416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79840" y="145260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98920" y="148284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4760" y="1500120"/>
              <a:ext cx="33120" cy="403560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38520" y="149400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54360" y="148284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71640" y="147636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790720" y="147168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09800" y="147168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27440" y="147168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846520" y="148284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63800" y="150192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81440" y="151920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01960" y="1531800"/>
              <a:ext cx="28440" cy="400392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16360" y="1547640"/>
              <a:ext cx="33120" cy="398808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938320" y="174960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952720" y="212256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5040" y="172080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89440" y="172080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960" y="172404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29040" y="1736640"/>
              <a:ext cx="31680" cy="379908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46320" y="174780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62160" y="200340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081240" y="200340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00320" y="2004840"/>
              <a:ext cx="33480" cy="353088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19400" y="202248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141720" y="346716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644920" y="5545080"/>
            <a:ext cx="14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46320" y="5545080"/>
            <a:ext cx="18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82760" y="5545080"/>
            <a:ext cx="1800" cy="10800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52760" y="5545080"/>
            <a:ext cx="18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4520" y="5545080"/>
            <a:ext cx="1800" cy="10332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850920" y="5545080"/>
            <a:ext cx="468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90960" y="5545080"/>
            <a:ext cx="144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7668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11320" y="554508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13080" y="554508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38600" y="5545080"/>
            <a:ext cx="18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045040" y="5545080"/>
            <a:ext cx="180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46800" y="554508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83240" y="5545080"/>
            <a:ext cx="1440" cy="10800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853240" y="554508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02280" y="5545080"/>
            <a:ext cx="1800" cy="10332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16560" y="55450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7360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176800" y="554508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1180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356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264360" y="55450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6530760" y="5545080"/>
            <a:ext cx="468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670800" y="5545080"/>
            <a:ext cx="14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72200" y="5545080"/>
            <a:ext cx="18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09000" y="5545080"/>
            <a:ext cx="1440" cy="10800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41960" y="5545080"/>
            <a:ext cx="18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39936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0256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937200" y="554508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981080" y="5537160"/>
            <a:ext cx="55627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90800" y="1673280"/>
            <a:ext cx="5065560" cy="3857400"/>
          </a:xfr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566600" y="1557360"/>
            <a:ext cx="382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loat incoloro: Mucha luz, mucho c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371240" y="135108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41160" y="528156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428480" y="326556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27360" y="5694480"/>
            <a:ext cx="56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280 380        780        1000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2000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2500 2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96920" y="3006720"/>
            <a:ext cx="5472360" cy="2525760"/>
          </a:xfrm>
          <a:noFill/>
          <a:ln w="255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494600" y="4653000"/>
            <a:ext cx="326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loat incoloro con capa selectiv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Mucha luz, poco c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04840" y="5545080"/>
            <a:ext cx="18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38480" y="555300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504880" y="5553000"/>
            <a:ext cx="468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44920" y="5553000"/>
            <a:ext cx="14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116080" y="5551560"/>
            <a:ext cx="180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73480" y="554832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776680" y="5549760"/>
            <a:ext cx="144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01960" y="55515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127400" y="5545080"/>
            <a:ext cx="180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05360" y="55450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719520" y="554508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60960" y="5545080"/>
            <a:ext cx="144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371840" y="5545080"/>
            <a:ext cx="180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981080" y="1293840"/>
            <a:ext cx="1800" cy="427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-570600" y="3312360"/>
            <a:ext cx="342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ión energ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57800" y="601992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 [n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Nuevo concepto importante 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La Sel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79840" y="320040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Times New Roman"/>
              </a:rPr>
              <a:t>Selectividad </a:t>
            </a: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86400" y="297180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Times New Roman"/>
              </a:rPr>
              <a:t>Transmisión de Lu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638680" y="3429000"/>
            <a:ext cx="2362320" cy="144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80040" y="3505320"/>
            <a:ext cx="335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Times New Roman"/>
              </a:rPr>
              <a:t>Factor S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001000" y="3200400"/>
            <a:ext cx="83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Times New Roman"/>
              </a:rPr>
              <a:t>&lt;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52680" y="2832120"/>
            <a:ext cx="54738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99640" y="1896840"/>
            <a:ext cx="731844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LOS CRISTALES</a:t>
            </a:r>
            <a:br>
              <a:rPr sz="4400"/>
            </a:b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DE CONTROL SOLA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6560" y="9000"/>
            <a:ext cx="8153640" cy="17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TRES FORMAS DE CONTROL SOLAR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1) Absorber la energía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2) Reflejar la energía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3) Filtrar la energía (los rayos infra-roj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4040280" y="2133720"/>
            <a:ext cx="839520" cy="326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48ab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332000" y="3429000"/>
            <a:ext cx="18064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lexión Energética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54320" y="4630680"/>
            <a:ext cx="1499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Reirrad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10200" y="2205000"/>
            <a:ext cx="1569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Trans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irecta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675400" y="4630680"/>
            <a:ext cx="2401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Reirrad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21080" y="2416320"/>
            <a:ext cx="3544920" cy="2538360"/>
          </a:xfr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932360" y="3429000"/>
            <a:ext cx="1584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Ab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étic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(A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7523280" y="2205000"/>
            <a:ext cx="1616040" cy="3125880"/>
            <a:chOff x="7523280" y="2205000"/>
            <a:chExt cx="1616040" cy="3125880"/>
          </a:xfrm>
        </p:grpSpPr>
        <p:sp>
          <p:nvSpPr>
            <p:cNvPr id="758" name=""/>
            <p:cNvSpPr/>
            <p:nvPr/>
          </p:nvSpPr>
          <p:spPr>
            <a:xfrm>
              <a:off x="8026560" y="3178080"/>
              <a:ext cx="1112760" cy="1186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Factor</a:t>
              </a:r>
              <a:br>
                <a:rPr sz="2400"/>
              </a:b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Solar</a:t>
              </a:r>
              <a:br>
                <a:rPr sz="2400"/>
              </a:b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(F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7523280" y="2205000"/>
              <a:ext cx="536040" cy="3125880"/>
              <a:chOff x="7523280" y="2205000"/>
              <a:chExt cx="536040" cy="3125880"/>
            </a:xfrm>
          </p:grpSpPr>
          <p:sp>
            <p:nvSpPr>
              <p:cNvPr id="760" name=""/>
              <p:cNvSpPr/>
              <p:nvPr/>
            </p:nvSpPr>
            <p:spPr>
              <a:xfrm>
                <a:off x="7677000" y="2205000"/>
                <a:ext cx="1800" cy="312408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523280" y="2205000"/>
                <a:ext cx="155520" cy="180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523280" y="5329080"/>
                <a:ext cx="155520" cy="180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675200" y="3728880"/>
                <a:ext cx="384120" cy="180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1045800" y="5661000"/>
            <a:ext cx="7558560" cy="603360"/>
            <a:chOff x="1045800" y="5661000"/>
            <a:chExt cx="7558560" cy="603360"/>
          </a:xfrm>
        </p:grpSpPr>
        <p:sp>
          <p:nvSpPr>
            <p:cNvPr id="765" name=""/>
            <p:cNvSpPr/>
            <p:nvPr/>
          </p:nvSpPr>
          <p:spPr>
            <a:xfrm>
              <a:off x="1045800" y="5745240"/>
              <a:ext cx="746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ffcc00"/>
                  </a:solidFill>
                  <a:latin typeface="Arial"/>
                </a:rPr>
                <a:t>Ecuación energética:      1 = TED + AE + 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30760" y="5661000"/>
              <a:ext cx="3873600" cy="59688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 fill="hold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 fill="hold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227240" y="1341360"/>
            <a:ext cx="716112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Filosofía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Comod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</a:rPr>
              <a:t>+ </a:t>
            </a: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Econom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Los Cristales Antiso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Algunas Defini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El Float – El Vidrio Flotado – El Cris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os Cristales Pirolíticos reflec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os Cristales Piroliticos con filtro infrarro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os Cristales de Baja Emisiv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os Cristales con Capa al Vacio de filtro infrarroj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y baja emisividad (Low-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92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2232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Control solar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¿Como disminuir el Factor Solar (FS)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600200" y="1143000"/>
            <a:ext cx="5867280" cy="2279520"/>
            <a:chOff x="1600200" y="1143000"/>
            <a:chExt cx="5867280" cy="2279520"/>
          </a:xfrm>
        </p:grpSpPr>
        <p:sp>
          <p:nvSpPr>
            <p:cNvPr id="769" name=""/>
            <p:cNvSpPr/>
            <p:nvPr/>
          </p:nvSpPr>
          <p:spPr>
            <a:xfrm>
              <a:off x="3565440" y="2444760"/>
              <a:ext cx="441360" cy="977760"/>
            </a:xfrm>
            <a:prstGeom prst="rect">
              <a:avLst/>
            </a:prstGeom>
            <a:gradFill rotWithShape="0">
              <a:gsLst>
                <a:gs pos="0">
                  <a:srgbClr val="b6cad1"/>
                </a:gs>
                <a:gs pos="50000">
                  <a:srgbClr val="33cccc"/>
                </a:gs>
                <a:gs pos="100000">
                  <a:srgbClr val="b6cad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57720" y="2444760"/>
              <a:ext cx="436680" cy="977760"/>
            </a:xfrm>
            <a:prstGeom prst="rect">
              <a:avLst/>
            </a:prstGeom>
            <a:gradFill rotWithShape="0">
              <a:gsLst>
                <a:gs pos="0">
                  <a:srgbClr val="b6cad1"/>
                </a:gs>
                <a:gs pos="50000">
                  <a:srgbClr val="ffcc00"/>
                </a:gs>
                <a:gs pos="100000">
                  <a:srgbClr val="b6cad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43520" y="2444760"/>
              <a:ext cx="442800" cy="977760"/>
            </a:xfrm>
            <a:prstGeom prst="rect">
              <a:avLst/>
            </a:prstGeom>
            <a:gradFill rotWithShape="0">
              <a:gsLst>
                <a:gs pos="0">
                  <a:srgbClr val="b6cad1"/>
                </a:gs>
                <a:gs pos="50000">
                  <a:srgbClr val="cc9900"/>
                </a:gs>
                <a:gs pos="100000">
                  <a:srgbClr val="b6cad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35800" y="2444760"/>
              <a:ext cx="442800" cy="977760"/>
            </a:xfrm>
            <a:prstGeom prst="rect">
              <a:avLst/>
            </a:prstGeom>
            <a:gradFill rotWithShape="0">
              <a:gsLst>
                <a:gs pos="0">
                  <a:srgbClr val="b6cad1"/>
                </a:gs>
                <a:gs pos="50000">
                  <a:srgbClr val="010199"/>
                </a:gs>
                <a:gs pos="100000">
                  <a:srgbClr val="b6cad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600200" y="1143000"/>
              <a:ext cx="5867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2400" spc="-1" strike="noStrike">
                  <a:solidFill>
                    <a:srgbClr val="00ffff"/>
                  </a:solidFill>
                  <a:latin typeface="Arial"/>
                </a:rPr>
                <a:t>Modificar la composición del cristal</a:t>
              </a:r>
              <a:br>
                <a:rPr sz="2600"/>
              </a:br>
              <a:r>
                <a:rPr b="0" lang="es-ES" sz="1800" spc="-1" strike="noStrike">
                  <a:solidFill>
                    <a:srgbClr val="00ffff"/>
                  </a:solidFill>
                  <a:latin typeface="Arial"/>
                </a:rPr>
                <a:t>para aumentar la absorción energética (A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2000" spc="-1" strike="noStrike">
                  <a:solidFill>
                    <a:srgbClr val="ffcc00"/>
                  </a:solidFill>
                  <a:latin typeface="Arial"/>
                  <a:ea typeface="SimSun"/>
                </a:rPr>
                <a:t>Vidrio flotado de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1600200" y="3581280"/>
            <a:ext cx="7315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Arial"/>
              </a:rPr>
              <a:t>Aplicar una capa metálica</a:t>
            </a:r>
            <a:br>
              <a:rPr sz="2200"/>
            </a:b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para cambiar la reflexión (RE), la absorción (AE) y/o la emis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cc00"/>
                </a:solidFill>
                <a:latin typeface="Arial"/>
                <a:ea typeface="SimSun"/>
              </a:rPr>
              <a:t>Capas pirolíticas (aplicadas en cali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 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Capa reflectiva metá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 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Capa no reflectiva, con filtro para radiación infrarro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cc00"/>
                </a:solidFill>
                <a:latin typeface="Arial"/>
                <a:ea typeface="SimSun"/>
              </a:rPr>
              <a:t>Capas al Vacío (aplicadas en Magne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 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Capa reflectiva metálica ab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 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Capa reflectiva o no, con filtro para radiación infrarro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 fill="hold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 fill="hold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187280" y="2514600"/>
            <a:ext cx="65851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EL VIDRIO FLOT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Alias “El Floa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Alias “El Crista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219240" y="484200"/>
            <a:ext cx="25732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Ar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(70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174760" y="484200"/>
            <a:ext cx="1543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Fundentes</a:t>
            </a:r>
            <a:br>
              <a:rPr sz="1800"/>
            </a:b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(1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676680" y="484200"/>
            <a:ext cx="188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Estabilizadores</a:t>
            </a:r>
            <a:br>
              <a:rPr sz="1800"/>
            </a:b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(1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890360" y="1671480"/>
            <a:ext cx="6278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666699"/>
                </a:solidFill>
                <a:latin typeface="Arial"/>
              </a:rPr>
              <a:t>So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32080" y="1671480"/>
            <a:ext cx="10652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666699"/>
                </a:solidFill>
                <a:latin typeface="Arial"/>
              </a:rPr>
              <a:t>Limest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666699"/>
                </a:solidFill>
                <a:latin typeface="Arial"/>
              </a:rPr>
              <a:t>Dolom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666699"/>
                </a:solidFill>
                <a:latin typeface="Arial"/>
              </a:rPr>
              <a:t>Feldspa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04000" y="4084560"/>
            <a:ext cx="876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H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14360" y="1679400"/>
            <a:ext cx="558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15960" y="1830240"/>
            <a:ext cx="558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89240" y="1989000"/>
            <a:ext cx="5364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355760" y="229068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07960" y="213372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477800" y="225108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36840" y="156852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278000" y="18446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380960" y="1838160"/>
            <a:ext cx="558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73200" y="194472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263600" y="156060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28840" y="151272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65200" y="1703520"/>
            <a:ext cx="5400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87600" y="1703520"/>
            <a:ext cx="5544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73200" y="146196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63680" y="142092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25440" y="134604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450800" y="133020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314360" y="1290600"/>
            <a:ext cx="558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98760" y="1278000"/>
            <a:ext cx="5688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400040" y="2373480"/>
            <a:ext cx="5400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00040" y="252252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465200" y="196848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457280" y="123840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04920" y="1314360"/>
            <a:ext cx="5724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174680" y="1619280"/>
            <a:ext cx="558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96920" y="143820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225440" y="146052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096920" y="117144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200240" y="116352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050840" y="1314360"/>
            <a:ext cx="558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219320" y="1701720"/>
            <a:ext cx="5688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94040" y="212724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70280" y="22590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01960" y="234648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79640" y="242568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22480" y="252576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36880" y="224460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074600" y="155592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768760" y="160164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1760" y="17352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774880" y="1819440"/>
            <a:ext cx="55800" cy="648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54360" y="190008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793960" y="200016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09800" y="171936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38800" y="212724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4680" y="225900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46720" y="234648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25840" y="242568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67240" y="252576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78400" y="224460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74880" y="2666880"/>
            <a:ext cx="441000" cy="5112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974880" y="2666880"/>
            <a:ext cx="441000" cy="511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085760" y="2797200"/>
            <a:ext cx="216000" cy="250920"/>
          </a:xfrm>
          <a:prstGeom prst="ellipse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24360" y="2666880"/>
            <a:ext cx="441360" cy="5112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24360" y="2666880"/>
            <a:ext cx="441360" cy="511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937040" y="2797200"/>
            <a:ext cx="216000" cy="250920"/>
          </a:xfrm>
          <a:prstGeom prst="ellipse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92320" y="2665440"/>
            <a:ext cx="3817800" cy="27000"/>
          </a:xfrm>
          <a:solidFill>
            <a:srgbClr val="ffffff"/>
          </a:solidFill>
          <a:ln w="12600">
            <a:solidFill>
              <a:srgbClr val="1919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25440" y="3176640"/>
            <a:ext cx="3759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264280" y="3300480"/>
            <a:ext cx="328320" cy="758880"/>
          </a:xfrm>
          <a:noFill/>
          <a:ln w="255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18040" y="3300480"/>
            <a:ext cx="327240" cy="758880"/>
          </a:xfrm>
          <a:noFill/>
          <a:ln w="255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35840" y="4689360"/>
            <a:ext cx="2509560" cy="505080"/>
          </a:xfr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372280" y="4057560"/>
            <a:ext cx="909360" cy="465120"/>
          </a:xfrm>
          <a:noFill/>
          <a:ln w="255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10040" y="259884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59080" y="259092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08600" y="2590920"/>
            <a:ext cx="5688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57640" y="260676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984400" y="2048040"/>
            <a:ext cx="55800" cy="648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92520" y="259884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522680" y="256860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979880" y="258300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124600" y="260676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243400" y="271620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202360" y="260676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51400" y="305604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519880" y="321480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430960" y="2935440"/>
            <a:ext cx="55440" cy="648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46800" y="328284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664240" y="3400560"/>
            <a:ext cx="55440" cy="648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969160" y="321480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668920" y="3236760"/>
            <a:ext cx="5544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97520" y="34146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46680" y="357336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591160" y="3505320"/>
            <a:ext cx="5400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18240" y="364644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59280" y="332424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477040" y="342576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96040" y="3198960"/>
            <a:ext cx="5688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438880" y="309420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51400" y="290664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529240" y="336564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38680" y="359712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57760" y="3716280"/>
            <a:ext cx="540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86280" y="373860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668920" y="385272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719680" y="3778200"/>
            <a:ext cx="540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781600" y="3905280"/>
            <a:ext cx="540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664240" y="398628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783400" y="3557520"/>
            <a:ext cx="540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22920" y="345600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19680" y="405432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703840" y="419580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05360" y="415908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05360" y="404640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56120" y="4127400"/>
            <a:ext cx="558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92920" y="41814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18120" y="407988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099120" y="418140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221520" y="4167360"/>
            <a:ext cx="5688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05400" y="426708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338880" y="437832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272280" y="412740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80280" y="423540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456240" y="4302000"/>
            <a:ext cx="540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462720" y="44100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51640" y="46418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562800" y="492444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562800" y="473076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578640" y="444960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615000" y="457524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65960" y="455940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486480" y="475920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603840" y="478152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27840" y="4562640"/>
            <a:ext cx="2617560" cy="75852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356520" y="3552840"/>
            <a:ext cx="2288880" cy="50652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72160" y="3932280"/>
            <a:ext cx="21600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31000" y="3932280"/>
            <a:ext cx="21744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089840" y="3932280"/>
            <a:ext cx="21744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48680" y="3932280"/>
            <a:ext cx="21888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607160" y="3932280"/>
            <a:ext cx="21924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866000" y="3932280"/>
            <a:ext cx="21744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521000" y="905040"/>
            <a:ext cx="620640" cy="159840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2160" y="905040"/>
            <a:ext cx="621000" cy="159840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989440" y="1198440"/>
            <a:ext cx="496800" cy="128124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349360" y="1198440"/>
            <a:ext cx="495360" cy="128124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51480" y="1198440"/>
            <a:ext cx="496800" cy="128124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13200" y="1198440"/>
            <a:ext cx="493560" cy="128124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22320" y="127152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46280" y="157644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14680" y="139392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808280" y="142092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14680" y="1131840"/>
            <a:ext cx="5544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816200" y="112392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70040" y="127152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92360" y="165888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93800" y="151272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984400" y="259380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598760" y="2598840"/>
            <a:ext cx="5688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49600" y="2606760"/>
            <a:ext cx="5688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77800" y="259380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00160" y="2598840"/>
            <a:ext cx="558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151000" y="260676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876320" y="259380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9240" y="25988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40080" y="260676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689200" y="259884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840040" y="260676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568600" y="259380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017880" y="259884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68720" y="260676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417840" y="25988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67240" y="260676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295800" y="259380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72000" y="25988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19600" y="260676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32320" y="259092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281480" y="259092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756320" y="2590920"/>
            <a:ext cx="536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17720" y="173988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040200" y="17352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30400" y="185724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060720" y="188280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930400" y="1593720"/>
            <a:ext cx="558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033720" y="158436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86120" y="173520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365720" y="1495440"/>
            <a:ext cx="5688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341960" y="1628640"/>
            <a:ext cx="5688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373640" y="171288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52760" y="179532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94160" y="18954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408560" y="16128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583160" y="194148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416480" y="163512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638600" y="162864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29160" y="175428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659480" y="177624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29160" y="148752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630680" y="1481040"/>
            <a:ext cx="572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484520" y="162864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17840" y="1860480"/>
            <a:ext cx="558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99120" y="194148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338720" y="204300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57720" y="1579680"/>
            <a:ext cx="540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232160" y="171288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529160" y="185256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05400" y="198900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13920" y="5651640"/>
            <a:ext cx="451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Cristal de color (bronce, gris, verde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24000" y="610884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625000" y="5651640"/>
            <a:ext cx="242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: + óxidos metá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26080" y="6108840"/>
            <a:ext cx="193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: 2.5 kg/m2/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077840" y="5776920"/>
            <a:ext cx="115920" cy="1303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077840" y="6216480"/>
            <a:ext cx="115920" cy="1303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7543800" y="304920"/>
          <a:ext cx="11145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04920"/>
                    <a:ext cx="11145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95280" y="139320"/>
            <a:ext cx="8137440" cy="13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Los cristales coloreados en la ma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855800" y="4827600"/>
            <a:ext cx="568656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Baja reflex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Alta absorción de ener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Bronce – Gris – Verde – Azul - Ros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>
            <a:off x="4651200" y="2755800"/>
            <a:ext cx="169920" cy="18846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33760" y="4238640"/>
            <a:ext cx="2909880" cy="168120"/>
          </a:xfr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598920" y="831960"/>
            <a:ext cx="1440" cy="95040"/>
          </a:xfrm>
          <a:prstGeom prst="line">
            <a:avLst/>
          </a:prstGeom>
          <a:ln w="12600">
            <a:solidFill>
              <a:srgbClr val="fff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1520" y="4262400"/>
            <a:ext cx="255600" cy="125280"/>
          </a:xfr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033800" y="2887560"/>
            <a:ext cx="1554120" cy="963720"/>
          </a:xfr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660920" y="3240000"/>
            <a:ext cx="147600" cy="378000"/>
          </a:xfr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288120" y="3705120"/>
            <a:ext cx="690480" cy="971640"/>
            <a:chOff x="6288120" y="3705120"/>
            <a:chExt cx="690480" cy="971640"/>
          </a:xfrm>
        </p:grpSpPr>
        <p:sp>
          <p:nvSpPr>
            <p:cNvPr id="996" name=""/>
            <p:cNvSpPr/>
            <p:nvPr/>
          </p:nvSpPr>
          <p:spPr>
            <a:xfrm>
              <a:off x="6648480" y="4419720"/>
              <a:ext cx="330120" cy="66600"/>
            </a:xfrm>
            <a:solidFill>
              <a:srgbClr val="ffcc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615000" y="3705120"/>
              <a:ext cx="354240" cy="71460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840360" y="3765600"/>
              <a:ext cx="39960" cy="59040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99240" y="3765600"/>
              <a:ext cx="38160" cy="59040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500880" y="3765600"/>
              <a:ext cx="357120" cy="71892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32720" y="3828960"/>
              <a:ext cx="4104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591240" y="3828960"/>
              <a:ext cx="3960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94320" y="3828960"/>
              <a:ext cx="354240" cy="71748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24720" y="3895560"/>
              <a:ext cx="4104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477120" y="3895560"/>
              <a:ext cx="3960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288120" y="3895560"/>
              <a:ext cx="353880" cy="71460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13480" y="3957480"/>
              <a:ext cx="3960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370560" y="3957480"/>
              <a:ext cx="4140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431040" y="4492800"/>
              <a:ext cx="63360" cy="53640"/>
            </a:xfrm>
            <a:solidFill>
              <a:srgbClr val="ede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410160" y="3922560"/>
              <a:ext cx="105120" cy="87480"/>
            </a:xfrm>
            <a:solidFill>
              <a:srgbClr val="252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431040" y="3938760"/>
              <a:ext cx="63360" cy="55440"/>
            </a:xfrm>
            <a:solidFill>
              <a:srgbClr val="6f6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305400" y="4610160"/>
              <a:ext cx="330480" cy="66600"/>
            </a:xfrm>
            <a:solidFill>
              <a:srgbClr val="ffcc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46880" y="3951360"/>
              <a:ext cx="30240" cy="2520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 rot="16200000">
            <a:off x="360" y="335196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019920" y="579132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l Cristal flotado coloreado en la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Selectividad de los Co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117880" y="1523880"/>
            <a:ext cx="1064880" cy="4164120"/>
            <a:chOff x="2117880" y="1523880"/>
            <a:chExt cx="1064880" cy="4164120"/>
          </a:xfrm>
        </p:grpSpPr>
        <p:sp>
          <p:nvSpPr>
            <p:cNvPr id="1018" name=""/>
            <p:cNvSpPr/>
            <p:nvPr/>
          </p:nvSpPr>
          <p:spPr>
            <a:xfrm>
              <a:off x="2117880" y="380988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206800" y="370188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224080" y="357660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241720" y="306216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60440" y="2994120"/>
              <a:ext cx="32040" cy="269388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79520" y="290196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297160" y="262728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14440" y="247176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33520" y="2370240"/>
              <a:ext cx="30240" cy="331776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95480" y="217332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36760" y="1854360"/>
              <a:ext cx="65160" cy="383364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6080" y="175572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406600" y="165420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152388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487600" y="1555920"/>
              <a:ext cx="74520" cy="413208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552760" y="156528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0040" y="1560600"/>
              <a:ext cx="33480" cy="412740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87680" y="155880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08200" y="1555920"/>
              <a:ext cx="31680" cy="413208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25840" y="1555920"/>
              <a:ext cx="31680" cy="413208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46360" y="1555920"/>
              <a:ext cx="31680" cy="413208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62200" y="157644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679840" y="160488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698920" y="163512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14760" y="1652760"/>
              <a:ext cx="33120" cy="403524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38520" y="164628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54360" y="163512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71640" y="162864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90720" y="162396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09800" y="162396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27440" y="162396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46520" y="163512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63800" y="165420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881440" y="167148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01960" y="1684440"/>
              <a:ext cx="28440" cy="400356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16360" y="1700280"/>
              <a:ext cx="33120" cy="398772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938320" y="190188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952720" y="227484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75040" y="187308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989440" y="187308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009960" y="187632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029040" y="1889280"/>
              <a:ext cx="31680" cy="379872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046320" y="190008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062160" y="215568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081240" y="215568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100320" y="2157480"/>
              <a:ext cx="33480" cy="353052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119400" y="217476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141720" y="361944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314000" y="150336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71320" y="543384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365120" y="341784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994280" y="1514520"/>
            <a:ext cx="2538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loat incoloro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L = 89 % / FS = 8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lectividad =  89/85 =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 1,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994280" y="2505240"/>
            <a:ext cx="253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0c0c0"/>
                </a:solidFill>
                <a:latin typeface="Times New Roman"/>
              </a:rPr>
              <a:t>Float gris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0c0c0"/>
                </a:solidFill>
                <a:latin typeface="Times New Roman"/>
              </a:rPr>
              <a:t>TL = 43 % / FS = 58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c0c0"/>
                </a:solidFill>
                <a:latin typeface="Times New Roman"/>
              </a:rPr>
              <a:t>Selectividad =  43/58 = 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0,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954680" y="3429000"/>
            <a:ext cx="253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Float 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TL = 73 % / FS = 56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 73/56 =</a:t>
            </a:r>
            <a:r>
              <a:rPr b="1" lang="es-ES" sz="16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1,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1447920"/>
            <a:ext cx="144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828800" y="5791320"/>
            <a:ext cx="571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954680" y="4495680"/>
            <a:ext cx="253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ccff"/>
                </a:solidFill>
                <a:latin typeface="Times New Roman"/>
              </a:rPr>
              <a:t>Float azul oscuro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ccff"/>
                </a:solidFill>
                <a:latin typeface="Times New Roman"/>
              </a:rPr>
              <a:t>TL = 33 % / FS = 4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ccff"/>
                </a:solidFill>
                <a:latin typeface="Times New Roman"/>
              </a:rPr>
              <a:t>Selectividad =  33/40 = 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0,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16000" y="2708280"/>
            <a:ext cx="66564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LOS CRIS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PIROLI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REFLEC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YROL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14880" y="3990960"/>
            <a:ext cx="1620720" cy="10620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1280" y="4098960"/>
            <a:ext cx="1717560" cy="1440"/>
          </a:xfrm>
          <a:prstGeom prst="line">
            <a:avLst/>
          </a:prstGeom>
          <a:ln w="255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50720" y="2708280"/>
            <a:ext cx="287640" cy="642960"/>
          </a:xfr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020600" y="2708280"/>
            <a:ext cx="287640" cy="642960"/>
          </a:xfr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197000" y="3987720"/>
            <a:ext cx="3736800" cy="434880"/>
          </a:xfr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225440" y="3992400"/>
            <a:ext cx="545004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46120" y="3349800"/>
            <a:ext cx="857160" cy="537840"/>
          </a:xfrm>
          <a:noFill/>
          <a:ln w="255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8480" y="250200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73200" y="263520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96880" y="2395440"/>
            <a:ext cx="44640" cy="493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2690640"/>
            <a:ext cx="46080" cy="493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97040" y="279252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068480" y="2635200"/>
            <a:ext cx="4284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3160" y="265428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004760" y="2803680"/>
            <a:ext cx="4608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73000" y="2936880"/>
            <a:ext cx="478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38360" y="2882880"/>
            <a:ext cx="442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44560" y="3000240"/>
            <a:ext cx="4752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85960" y="272556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46200" y="281160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65200" y="2619360"/>
            <a:ext cx="475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01560" y="2527200"/>
            <a:ext cx="4464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745320" y="3994200"/>
            <a:ext cx="1674720" cy="1440"/>
          </a:xfrm>
          <a:prstGeom prst="line">
            <a:avLst/>
          </a:prstGeom>
          <a:ln w="255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28480" y="237168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2280" y="2762280"/>
            <a:ext cx="442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77960" y="295740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93800" y="3059280"/>
            <a:ext cx="4428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906480" y="307800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03160" y="317484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851040" y="3111480"/>
            <a:ext cx="44280" cy="493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903240" y="3216240"/>
            <a:ext cx="4464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97040" y="328932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12960" y="2925720"/>
            <a:ext cx="457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61840" y="2838600"/>
            <a:ext cx="46080" cy="489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51040" y="3346560"/>
            <a:ext cx="442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35200" y="3465360"/>
            <a:ext cx="47520" cy="511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922320" y="3436920"/>
            <a:ext cx="475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922320" y="3340080"/>
            <a:ext cx="4752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969840" y="340992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087560" y="345456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112760" y="336708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177920" y="3454560"/>
            <a:ext cx="475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287360" y="3552840"/>
            <a:ext cx="4464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362240" y="3633840"/>
            <a:ext cx="457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389240" y="3727440"/>
            <a:ext cx="4572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333440" y="3517920"/>
            <a:ext cx="4464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22360" y="3606840"/>
            <a:ext cx="4608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492200" y="366408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498680" y="3753000"/>
            <a:ext cx="4428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576440" y="3952800"/>
            <a:ext cx="4284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589040" y="4194000"/>
            <a:ext cx="46080" cy="511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89040" y="403056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598760" y="3792600"/>
            <a:ext cx="4572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631880" y="389412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501920" y="3882960"/>
            <a:ext cx="442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17760" y="4054320"/>
            <a:ext cx="46080" cy="493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19280" y="407340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116000" y="3886200"/>
            <a:ext cx="4000680" cy="64296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403280" y="3025800"/>
            <a:ext cx="3619440" cy="53964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593720" y="3349800"/>
            <a:ext cx="19080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819440" y="3349800"/>
            <a:ext cx="19188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046240" y="3349800"/>
            <a:ext cx="19044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268360" y="3349800"/>
            <a:ext cx="19224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498760" y="3349800"/>
            <a:ext cx="18720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725560" y="3349800"/>
            <a:ext cx="18900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6742080" y="3989160"/>
            <a:ext cx="1800" cy="114120"/>
          </a:xfrm>
          <a:prstGeom prst="line">
            <a:avLst/>
          </a:prstGeom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14880" y="3025800"/>
            <a:ext cx="2384640" cy="53964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448400" y="3519360"/>
            <a:ext cx="1800" cy="254160"/>
          </a:xfrm>
          <a:prstGeom prst="line">
            <a:avLst/>
          </a:prstGeom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581800" y="3897360"/>
            <a:ext cx="71280" cy="792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711840" y="3881520"/>
            <a:ext cx="430200" cy="110880"/>
          </a:xfrm>
          <a:noFill/>
          <a:ln w="255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464600" y="3882960"/>
            <a:ext cx="314280" cy="47520"/>
          </a:xfrm>
          <a:noFill/>
          <a:ln w="255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778880" y="3925800"/>
            <a:ext cx="618840" cy="1800"/>
          </a:xfrm>
          <a:prstGeom prst="line">
            <a:avLst/>
          </a:prstGeom>
          <a:ln w="25560">
            <a:solidFill>
              <a:srgbClr val="7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97480" y="3992400"/>
            <a:ext cx="252360" cy="1800"/>
          </a:xfrm>
          <a:prstGeom prst="line">
            <a:avLst/>
          </a:prstGeom>
          <a:ln w="25560">
            <a:solidFill>
              <a:srgbClr val="f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654520" y="3992400"/>
            <a:ext cx="241560" cy="1800"/>
          </a:xfrm>
          <a:prstGeom prst="line">
            <a:avLst/>
          </a:prstGeom>
          <a:ln w="25560">
            <a:solidFill>
              <a:srgbClr val="ffb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896080" y="3992400"/>
            <a:ext cx="2570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154560" y="3992400"/>
            <a:ext cx="544680" cy="1800"/>
          </a:xfrm>
          <a:prstGeom prst="line">
            <a:avLst/>
          </a:prstGeom>
          <a:ln w="25560">
            <a:solidFill>
              <a:srgbClr val="7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845320" y="3897360"/>
            <a:ext cx="68040" cy="792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105600" y="3897360"/>
            <a:ext cx="69840" cy="792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367320" y="3897360"/>
            <a:ext cx="69840" cy="792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973920" y="3894120"/>
            <a:ext cx="95040" cy="10944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143840" y="3886200"/>
            <a:ext cx="317520" cy="1440"/>
          </a:xfrm>
          <a:prstGeom prst="line">
            <a:avLst/>
          </a:prstGeom>
          <a:ln w="25560">
            <a:solidFill>
              <a:srgbClr val="7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616880" y="3924360"/>
            <a:ext cx="47520" cy="540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761240" y="3924360"/>
            <a:ext cx="49320" cy="540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907400" y="3924360"/>
            <a:ext cx="49320" cy="540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055000" y="3924360"/>
            <a:ext cx="47520" cy="540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190000" y="3916440"/>
            <a:ext cx="55440" cy="6012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353440" y="3916440"/>
            <a:ext cx="54000" cy="6012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182000" y="3894120"/>
            <a:ext cx="96840" cy="10944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386480" y="3894120"/>
            <a:ext cx="100080" cy="10944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956720" y="3022560"/>
            <a:ext cx="87120" cy="115920"/>
          </a:xfrm>
          <a:prstGeom prst="rect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732800" y="1954080"/>
            <a:ext cx="517320" cy="671760"/>
          </a:xfr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7897680" y="1387440"/>
            <a:ext cx="211320" cy="69840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7854840" y="3421080"/>
            <a:ext cx="2556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905600" y="3341520"/>
            <a:ext cx="2700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977240" y="322272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083440" y="3341520"/>
            <a:ext cx="2700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994520" y="3402000"/>
            <a:ext cx="2556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994520" y="3321000"/>
            <a:ext cx="2556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047080" y="326232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8188200" y="349884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8066160" y="359892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8083440" y="349884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959600" y="355932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872480" y="375768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854840" y="3638520"/>
            <a:ext cx="2556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834320" y="355932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781760" y="365760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781760" y="379728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959600" y="379728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924680" y="369900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905600" y="349884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013600" y="3678120"/>
            <a:ext cx="2880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118360" y="377820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172360" y="3678120"/>
            <a:ext cx="2700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8294760" y="375768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8207280" y="383688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8031240" y="385596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8240760" y="359892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994520" y="3519360"/>
            <a:ext cx="2556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8066160" y="342108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134200" y="344016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994520" y="3162240"/>
            <a:ext cx="25560" cy="302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86880" y="3873600"/>
            <a:ext cx="31680" cy="38160"/>
          </a:xfrm>
          <a:prstGeom prst="ellipse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889760" y="387684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153040" y="3490920"/>
            <a:ext cx="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114800" y="1066680"/>
            <a:ext cx="34099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666699"/>
                </a:solidFill>
                <a:latin typeface="Tahoma"/>
              </a:rPr>
              <a:t>CAPA DE ÓXIDOS METÁLICOS DEPOSITADA SOBRE FLOAT CALIENTE A LA SALIDA DEL H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666699"/>
                </a:solidFill>
                <a:latin typeface="Tahoma"/>
              </a:rPr>
              <a:t>PARA AUMENTAR LA REFLEXIÓN ENERGÉTICA (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4" name=""/>
          <p:cNvGraphicFramePr/>
          <p:nvPr/>
        </p:nvGraphicFramePr>
        <p:xfrm>
          <a:off x="7620120" y="5791320"/>
          <a:ext cx="111420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5791320"/>
                    <a:ext cx="11142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1219320" y="228600"/>
            <a:ext cx="74833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ahoma"/>
              </a:rPr>
              <a:t>LOS CRISTALES PIROLÍTICOS REFLE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219320" y="4572000"/>
            <a:ext cx="695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LA CAPA METÁLICA PUEDE SER COLOCADA H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EL INTERIOR (CARA #2)  : EL REFLEJO TOMA 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EL EXTERIOR (CARA #1) :  EL REFLEJO ES ESPEJ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237200" y="1825560"/>
            <a:ext cx="150480" cy="21528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895480" y="1905120"/>
            <a:ext cx="1486080" cy="4143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76720" y="2514600"/>
            <a:ext cx="223560" cy="142920"/>
          </a:xfrm>
          <a:solidFill>
            <a:srgbClr val="f62a08"/>
          </a:solidFill>
          <a:ln w="9360">
            <a:solidFill>
              <a:srgbClr val="f62a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503160" y="2286000"/>
            <a:ext cx="917640" cy="30492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776840" y="1825560"/>
            <a:ext cx="147600" cy="21528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348080" y="1774800"/>
            <a:ext cx="383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"/>
              </a:rPr>
              <a:t>#2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4" name=""/>
          <p:cNvGraphicFramePr/>
          <p:nvPr/>
        </p:nvGraphicFramePr>
        <p:xfrm>
          <a:off x="5638680" y="2133720"/>
          <a:ext cx="1752840" cy="13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133720"/>
                    <a:ext cx="17528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6" name=""/>
          <p:cNvSpPr/>
          <p:nvPr/>
        </p:nvSpPr>
        <p:spPr>
          <a:xfrm>
            <a:off x="25146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33cccc"/>
                </a:solidFill>
                <a:latin typeface="Arial"/>
              </a:rPr>
              <a:t>CARAS # </a:t>
            </a:r>
            <a:r>
              <a:rPr b="0" lang="es-MX" sz="2400" spc="-1" strike="noStrike">
                <a:solidFill>
                  <a:srgbClr val="33cccc"/>
                </a:solidFill>
                <a:latin typeface="Matisse ITC"/>
              </a:rPr>
              <a:t> </a:t>
            </a:r>
            <a:r>
              <a:rPr b="0" lang="es-MX" sz="2400" spc="-1" strike="noStrike">
                <a:solidFill>
                  <a:srgbClr val="33cccc"/>
                </a:solidFill>
                <a:latin typeface="Arial"/>
              </a:rPr>
              <a:t>1  2 3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819520" y="2895480"/>
            <a:ext cx="1485720" cy="4143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350880" y="3276720"/>
            <a:ext cx="917640" cy="3045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00400" y="3505320"/>
            <a:ext cx="223920" cy="142920"/>
          </a:xfrm>
          <a:solidFill>
            <a:srgbClr val="f62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88000" y="3581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ffcc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 rot="16200000">
            <a:off x="360" y="335196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15000" y="5791320"/>
            <a:ext cx="251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2117880" y="1523880"/>
            <a:ext cx="1064880" cy="4164120"/>
            <a:chOff x="2117880" y="1523880"/>
            <a:chExt cx="1064880" cy="4164120"/>
          </a:xfrm>
        </p:grpSpPr>
        <p:sp>
          <p:nvSpPr>
            <p:cNvPr id="1224" name=""/>
            <p:cNvSpPr/>
            <p:nvPr/>
          </p:nvSpPr>
          <p:spPr>
            <a:xfrm>
              <a:off x="2117880" y="380988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206800" y="370188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4080" y="357660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41720" y="306216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260440" y="2994120"/>
              <a:ext cx="32040" cy="269388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279520" y="290196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297160" y="262728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314440" y="247176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333520" y="2370240"/>
              <a:ext cx="30240" cy="331776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895480" y="217332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336760" y="1854360"/>
              <a:ext cx="65160" cy="383364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386080" y="175572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06600" y="165420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514600" y="152388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87600" y="1555920"/>
              <a:ext cx="74520" cy="413208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552760" y="156528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70040" y="1560600"/>
              <a:ext cx="33480" cy="412740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87680" y="155880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608200" y="1555920"/>
              <a:ext cx="31680" cy="413208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25840" y="1555920"/>
              <a:ext cx="31680" cy="413208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646360" y="1555920"/>
              <a:ext cx="31680" cy="413208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62200" y="157644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79840" y="160488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98920" y="163512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714760" y="1652760"/>
              <a:ext cx="33120" cy="403524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738520" y="164628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754360" y="163512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71640" y="162864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90720" y="162396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09800" y="162396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27440" y="162396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46520" y="163512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863800" y="165420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881440" y="167148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01960" y="1684440"/>
              <a:ext cx="28440" cy="400356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916360" y="1700280"/>
              <a:ext cx="33120" cy="398772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938320" y="190188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952720" y="227484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975040" y="187308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89440" y="187308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009960" y="187632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029040" y="1889280"/>
              <a:ext cx="31680" cy="379872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46320" y="190008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062160" y="215568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081240" y="215568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00320" y="2157480"/>
              <a:ext cx="33480" cy="353052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119400" y="217476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141720" y="361944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1314000" y="150336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471320" y="543384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65120" y="341784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375160" y="1565280"/>
            <a:ext cx="2487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Float 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73/56 = 1,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329800" y="2286000"/>
            <a:ext cx="2931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Pirolítico tipo 1 s/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 31/34 = 0,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CRISTALES PIROLITICOS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La Selectividad de las Capas Pirolíticas reflec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905120" y="1447920"/>
            <a:ext cx="144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5791320"/>
            <a:ext cx="609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342040" y="2971800"/>
            <a:ext cx="337644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Pirolítico tipo 2 s/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 54/44 =1,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La capa metálica reflectiva modif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La Transmisión de Luz (TL) y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Factor Solar (FS) y por end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la sele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116000" y="2708280"/>
            <a:ext cx="66564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LOS CRIS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PIROLI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ON FILTRO INFRARRO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289080"/>
            <a:ext cx="815328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Filosofía General: 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Con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144792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Sensación térmica estable y homogé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No se puede tener los pies fríos y la cabeza cali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y decir que en promedio uno está cómo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Buena iluminación natu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Mejora el ánimo y la productividad”</a:t>
            </a:r>
            <a:r>
              <a:rPr b="1" lang="es-ES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Control del encandilami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Sin cortinas ni anteojo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Estética inter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Bajo nivel de ru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El confort es un derecho, no un luj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1219320" y="228600"/>
            <a:ext cx="74833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ahoma"/>
              </a:rPr>
              <a:t>LOS CRISTALES PIROLÍ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ahoma"/>
              </a:rPr>
              <a:t>CON FILTRO INFRARRO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258920" y="4869000"/>
            <a:ext cx="69548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SE RECOMIENDA COLOCAR LA CAPA HACIA EL IN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NO HAY DIFERENCIA DE ASPE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SE PUEDE APROVECHAR LA BAJA EMISIVIDAD DE ESAS CAP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37200" y="1825560"/>
            <a:ext cx="150480" cy="21528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95480" y="1905120"/>
            <a:ext cx="1486080" cy="4143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276720" y="2514600"/>
            <a:ext cx="223560" cy="142920"/>
          </a:xfrm>
          <a:solidFill>
            <a:srgbClr val="f62a08"/>
          </a:solidFill>
          <a:ln w="9360">
            <a:solidFill>
              <a:srgbClr val="f62a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3503160" y="2286000"/>
            <a:ext cx="917640" cy="30492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776840" y="1825560"/>
            <a:ext cx="147600" cy="21528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48080" y="1774800"/>
            <a:ext cx="383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"/>
              </a:rPr>
              <a:t>#2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1" name=""/>
          <p:cNvGraphicFramePr/>
          <p:nvPr/>
        </p:nvGraphicFramePr>
        <p:xfrm>
          <a:off x="5638680" y="2133720"/>
          <a:ext cx="1752840" cy="13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133720"/>
                    <a:ext cx="17528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3" name=""/>
          <p:cNvSpPr/>
          <p:nvPr/>
        </p:nvSpPr>
        <p:spPr>
          <a:xfrm>
            <a:off x="25146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33cccc"/>
                </a:solidFill>
                <a:latin typeface="Arial"/>
              </a:rPr>
              <a:t>CARAS # </a:t>
            </a:r>
            <a:r>
              <a:rPr b="0" lang="es-MX" sz="2400" spc="-1" strike="noStrike">
                <a:solidFill>
                  <a:srgbClr val="33cccc"/>
                </a:solidFill>
                <a:latin typeface="Matisse ITC"/>
              </a:rPr>
              <a:t> </a:t>
            </a:r>
            <a:r>
              <a:rPr b="0" lang="es-MX" sz="2400" spc="-1" strike="noStrike">
                <a:solidFill>
                  <a:srgbClr val="33cccc"/>
                </a:solidFill>
                <a:latin typeface="Arial"/>
              </a:rPr>
              <a:t>1  2 3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187280" y="1989000"/>
            <a:ext cx="6585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LOS CRISTALES C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PA DE BAJA  EMISIV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(LOW-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755640" y="152280"/>
            <a:ext cx="8236080" cy="12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Otra Definición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BAJA EMIS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"/>
          <p:cNvSpPr/>
          <p:nvPr/>
        </p:nvSpPr>
        <p:spPr>
          <a:xfrm>
            <a:off x="898560" y="1773360"/>
            <a:ext cx="770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cecff"/>
                </a:solidFill>
                <a:latin typeface="Arial"/>
              </a:rPr>
              <a:t>LA EMISIVIDAD ES UNA PROPIEDAD DE SUPERFICIE DE LOS MATERIALES QUE DEFINE LA CAPACIDAD DE EMITIR o ABSORBER RAD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cecff"/>
                </a:solidFill>
                <a:latin typeface="Arial"/>
              </a:rPr>
              <a:t>UN CUERPO OPACO TIENE UNA ABSORCIÓN Y UNA EMISIVIDAD ELE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UNA CAPA DE BAJA EMISIVIDAD NO ABSORBE LA RADIACIÓN (INFRARROJA) Y LA DEVUELVE HACIA SU FUENTE DE ORI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/>
          </p:nvPr>
        </p:nvSpPr>
        <p:spPr>
          <a:xfrm>
            <a:off x="1771560" y="507600"/>
            <a:ext cx="211464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INVIER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"/>
          <p:cNvSpPr/>
          <p:nvPr/>
        </p:nvSpPr>
        <p:spPr>
          <a:xfrm>
            <a:off x="5983200" y="461880"/>
            <a:ext cx="157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VE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08120" y="1386000"/>
            <a:ext cx="135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123360" y="1371600"/>
            <a:ext cx="127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032440" y="1386000"/>
            <a:ext cx="135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717680" y="1386000"/>
            <a:ext cx="127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672000" y="3006720"/>
            <a:ext cx="709560" cy="30240"/>
          </a:xfrm>
          <a:solidFill>
            <a:srgbClr val="ffaa7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711600" y="3038400"/>
            <a:ext cx="638280" cy="241200"/>
          </a:xfrm>
          <a:solidFill>
            <a:srgbClr val="cc44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672000" y="2871720"/>
            <a:ext cx="709560" cy="136440"/>
          </a:xfrm>
          <a:solidFill>
            <a:srgbClr val="ad69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624040" y="3989520"/>
            <a:ext cx="216000" cy="66600"/>
          </a:xfrm>
          <a:solidFill>
            <a:srgbClr val="6666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255760" y="2346480"/>
            <a:ext cx="371520" cy="170964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854440" y="2346480"/>
            <a:ext cx="369720" cy="170964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624040" y="2346480"/>
            <a:ext cx="216000" cy="64800"/>
          </a:xfrm>
          <a:solidFill>
            <a:srgbClr val="6666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840040" y="2346480"/>
            <a:ext cx="41400" cy="1709640"/>
          </a:xfrm>
          <a:solidFill>
            <a:srgbClr val="9f9f9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46840" y="4005360"/>
            <a:ext cx="216000" cy="66600"/>
          </a:xfrm>
          <a:solidFill>
            <a:srgbClr val="6666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46840" y="2360520"/>
            <a:ext cx="216000" cy="65160"/>
          </a:xfrm>
          <a:solidFill>
            <a:srgbClr val="6666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789600" y="2360520"/>
            <a:ext cx="57240" cy="1711440"/>
          </a:xfrm>
          <a:solidFill>
            <a:srgbClr val="f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062840" y="2360520"/>
            <a:ext cx="368280" cy="171144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421320" y="2360520"/>
            <a:ext cx="370080" cy="171144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887560" y="2459160"/>
            <a:ext cx="1447920" cy="11412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280040" y="2516040"/>
            <a:ext cx="158760" cy="100080"/>
          </a:xfrm>
          <a:solidFill>
            <a:srgbClr val="f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4278240" y="2571840"/>
            <a:ext cx="6480" cy="1440"/>
          </a:xfrm>
          <a:prstGeom prst="line">
            <a:avLst/>
          </a:prstGeom>
          <a:ln w="12600">
            <a:solidFill>
              <a:srgbClr val="f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887560" y="3540240"/>
            <a:ext cx="1428840" cy="28404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286160" y="3525840"/>
            <a:ext cx="160560" cy="100080"/>
          </a:xfrm>
          <a:solidFill>
            <a:srgbClr val="f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4284360" y="3581280"/>
            <a:ext cx="4680" cy="1800"/>
          </a:xfrm>
          <a:prstGeom prst="line">
            <a:avLst/>
          </a:prstGeom>
          <a:ln w="12600">
            <a:solidFill>
              <a:srgbClr val="f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871720" y="3819600"/>
            <a:ext cx="790560" cy="36504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509840" y="2516040"/>
            <a:ext cx="1868400" cy="454320"/>
          </a:xfr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344760" y="2900520"/>
            <a:ext cx="166680" cy="107640"/>
          </a:xfr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3357360" y="2950920"/>
            <a:ext cx="28440" cy="12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646600" y="2496960"/>
            <a:ext cx="1132200" cy="338400"/>
          </a:xfr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572000" y="838080"/>
            <a:ext cx="1440" cy="41911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697280" y="3425760"/>
            <a:ext cx="555840" cy="25884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079960" y="3402000"/>
            <a:ext cx="858960" cy="33984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73760" y="3797280"/>
            <a:ext cx="965160" cy="3510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02080" y="3770280"/>
            <a:ext cx="638280" cy="11916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018040" y="3635280"/>
            <a:ext cx="920880" cy="162000"/>
          </a:xfrm>
          <a:solidFill>
            <a:srgbClr val="9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695840" y="3579840"/>
            <a:ext cx="525600" cy="447480"/>
          </a:xfr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099040" y="3794040"/>
            <a:ext cx="117360" cy="57240"/>
          </a:xfr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987800" y="3830760"/>
            <a:ext cx="49320" cy="44280"/>
          </a:xfr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772160" y="3770280"/>
            <a:ext cx="109440" cy="87480"/>
          </a:xfr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67360" y="3551400"/>
            <a:ext cx="92160" cy="215640"/>
          </a:xfr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83040" y="3433680"/>
            <a:ext cx="177840" cy="419040"/>
          </a:xfr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853160" y="3533760"/>
            <a:ext cx="104760" cy="146160"/>
          </a:xfr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95840" y="3471840"/>
            <a:ext cx="236520" cy="27324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067360" y="3579840"/>
            <a:ext cx="30240" cy="165240"/>
          </a:xfr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099040" y="3494160"/>
            <a:ext cx="100080" cy="57240"/>
          </a:xfrm>
          <a:solidFill>
            <a:srgbClr val="7f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468760" y="3494160"/>
            <a:ext cx="154080" cy="6336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853160" y="3533760"/>
            <a:ext cx="114120" cy="157320"/>
          </a:xfrm>
          <a:noFill/>
          <a:ln w="1260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067360" y="3579840"/>
            <a:ext cx="39600" cy="176040"/>
          </a:xfrm>
          <a:noFill/>
          <a:ln w="1260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18240" y="3494160"/>
            <a:ext cx="66600" cy="55440"/>
          </a:xfrm>
          <a:solidFill>
            <a:srgbClr val="7f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594400" y="3424320"/>
            <a:ext cx="353880" cy="218880"/>
          </a:xfrm>
          <a:noFill/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556240" y="3490920"/>
            <a:ext cx="104760" cy="84240"/>
          </a:xfrm>
          <a:noFill/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213520" y="3494160"/>
            <a:ext cx="303120" cy="135000"/>
          </a:xfrm>
          <a:noFill/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797360" y="3719520"/>
            <a:ext cx="152640" cy="3636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068800" y="3760920"/>
            <a:ext cx="130320" cy="3312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51520" y="3811680"/>
            <a:ext cx="96840" cy="6660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175360" y="3710160"/>
            <a:ext cx="765000" cy="8856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95840" y="3884760"/>
            <a:ext cx="426960" cy="13320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33800" y="3562200"/>
            <a:ext cx="24120" cy="10332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876920" y="3540240"/>
            <a:ext cx="23760" cy="6480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99080" y="3343320"/>
            <a:ext cx="139680" cy="584280"/>
          </a:xfr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759200" y="3878280"/>
            <a:ext cx="52560" cy="34920"/>
          </a:xfr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751280" y="3813120"/>
            <a:ext cx="104760" cy="6840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721400" y="3691080"/>
            <a:ext cx="77760" cy="23004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62440" y="3502080"/>
            <a:ext cx="33480" cy="18252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890960" y="3819600"/>
            <a:ext cx="76320" cy="270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67280" y="3784680"/>
            <a:ext cx="68400" cy="396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987800" y="3603600"/>
            <a:ext cx="25560" cy="10656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994280" y="3724200"/>
            <a:ext cx="23760" cy="540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749840" y="3913200"/>
            <a:ext cx="290520" cy="73080"/>
          </a:xfrm>
          <a:noFill/>
          <a:ln w="1260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762440" y="3898800"/>
            <a:ext cx="54000" cy="270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781520" y="3830760"/>
            <a:ext cx="241200" cy="61920"/>
          </a:xfrm>
          <a:noFill/>
          <a:ln w="1260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987800" y="3859200"/>
            <a:ext cx="131760" cy="39600"/>
          </a:xfrm>
          <a:noFill/>
          <a:ln w="1260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843440" y="3765600"/>
            <a:ext cx="95400" cy="39600"/>
          </a:xfr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843440" y="3765600"/>
            <a:ext cx="95400" cy="3960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383080" y="4041720"/>
            <a:ext cx="198720" cy="119160"/>
          </a:xfrm>
          <a:solidFill>
            <a:srgbClr val="3f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151600" y="3997440"/>
            <a:ext cx="158760" cy="83880"/>
          </a:xfrm>
          <a:solidFill>
            <a:srgbClr val="3f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81640" y="3755880"/>
            <a:ext cx="557280" cy="65160"/>
          </a:xfr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421240" y="3778200"/>
            <a:ext cx="452520" cy="60480"/>
          </a:xfrm>
          <a:solidFill>
            <a:srgbClr val="9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884840" y="4073400"/>
            <a:ext cx="77760" cy="270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27680" y="4043520"/>
            <a:ext cx="42840" cy="270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78440" y="4013280"/>
            <a:ext cx="41400" cy="4896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984920" y="3936960"/>
            <a:ext cx="36360" cy="5868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657680" y="3944880"/>
            <a:ext cx="61920" cy="8892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662360" y="3867120"/>
            <a:ext cx="63720" cy="13032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16520" y="3873600"/>
            <a:ext cx="38160" cy="936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56120" y="3862440"/>
            <a:ext cx="33480" cy="7308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749840" y="3836880"/>
            <a:ext cx="55440" cy="5724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770360" y="3862440"/>
            <a:ext cx="58680" cy="11916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718160" y="3890880"/>
            <a:ext cx="50760" cy="9072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784760" y="3994200"/>
            <a:ext cx="103320" cy="396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818240" y="3876840"/>
            <a:ext cx="26640" cy="7272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36960" y="3841920"/>
            <a:ext cx="55800" cy="5688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51360" y="3914640"/>
            <a:ext cx="55440" cy="828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94120" y="3867120"/>
            <a:ext cx="50760" cy="117360"/>
          </a:xfrm>
          <a:noFill/>
          <a:ln w="12600">
            <a:solidFill>
              <a:srgbClr val="ff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145120" y="3375000"/>
            <a:ext cx="1630440" cy="46692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89760" y="3436920"/>
            <a:ext cx="677880" cy="31284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9000" y="3726000"/>
            <a:ext cx="80640" cy="88920"/>
          </a:xfrm>
          <a:solidFill>
            <a:srgbClr val="f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887560" y="2516040"/>
            <a:ext cx="1254240" cy="42408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88080" y="2971800"/>
            <a:ext cx="155880" cy="100080"/>
          </a:xfr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777000" y="2808360"/>
            <a:ext cx="838080" cy="231840"/>
          </a:xfr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111720" y="2825640"/>
            <a:ext cx="671760" cy="209520"/>
          </a:xfr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965920" y="2949480"/>
            <a:ext cx="171360" cy="138240"/>
          </a:xfr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3670200" y="4114800"/>
            <a:ext cx="530280" cy="966960"/>
            <a:chOff x="3670200" y="4114800"/>
            <a:chExt cx="530280" cy="966960"/>
          </a:xfrm>
        </p:grpSpPr>
        <p:sp>
          <p:nvSpPr>
            <p:cNvPr id="1402" name=""/>
            <p:cNvSpPr/>
            <p:nvPr/>
          </p:nvSpPr>
          <p:spPr>
            <a:xfrm>
              <a:off x="3946680" y="4824360"/>
              <a:ext cx="253800" cy="66600"/>
            </a:xfrm>
            <a:solidFill>
              <a:srgbClr val="00009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21120" y="4114800"/>
              <a:ext cx="271440" cy="70956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094280" y="4175280"/>
              <a:ext cx="31680" cy="5871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86280" y="4175280"/>
              <a:ext cx="30240" cy="5871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33640" y="4175280"/>
              <a:ext cx="273240" cy="71424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011480" y="4238640"/>
              <a:ext cx="3204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902040" y="423864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51200" y="4238640"/>
              <a:ext cx="271440" cy="71280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929040" y="430380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814920" y="430380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670200" y="4303800"/>
              <a:ext cx="271440" cy="70956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843360" y="436572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733920" y="436572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780000" y="4897440"/>
              <a:ext cx="48960" cy="54000"/>
            </a:xfrm>
            <a:solidFill>
              <a:srgbClr val="ede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763800" y="4330800"/>
              <a:ext cx="81000" cy="87120"/>
            </a:xfrm>
            <a:solidFill>
              <a:srgbClr val="252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780000" y="4346640"/>
              <a:ext cx="48960" cy="55440"/>
            </a:xfrm>
            <a:solidFill>
              <a:srgbClr val="6f6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684600" y="5014800"/>
              <a:ext cx="254160" cy="66960"/>
            </a:xfrm>
            <a:solidFill>
              <a:srgbClr val="00009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792600" y="4359240"/>
              <a:ext cx="22320" cy="255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712800" y="5138640"/>
            <a:ext cx="69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Los cristales de baja emisividad reflejan el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(rayos infrarrojos) hacia el lado mas ca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/>
          <p:nvPr/>
        </p:nvSpPr>
        <p:spPr>
          <a:xfrm rot="16200000">
            <a:off x="360" y="335196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791320" y="5791320"/>
            <a:ext cx="243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2117880" y="1523880"/>
            <a:ext cx="1064880" cy="4164120"/>
            <a:chOff x="2117880" y="1523880"/>
            <a:chExt cx="1064880" cy="4164120"/>
          </a:xfrm>
        </p:grpSpPr>
        <p:sp>
          <p:nvSpPr>
            <p:cNvPr id="1424" name=""/>
            <p:cNvSpPr/>
            <p:nvPr/>
          </p:nvSpPr>
          <p:spPr>
            <a:xfrm>
              <a:off x="2117880" y="380988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206800" y="370188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224080" y="357660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241720" y="306216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60440" y="2994120"/>
              <a:ext cx="32040" cy="269388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79520" y="290196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297160" y="262728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14440" y="247176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333520" y="2370240"/>
              <a:ext cx="30240" cy="331776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895480" y="217332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336760" y="1854360"/>
              <a:ext cx="65160" cy="383364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86080" y="175572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406600" y="165420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514600" y="152388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487600" y="1555920"/>
              <a:ext cx="74520" cy="413208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552760" y="156528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570040" y="1560600"/>
              <a:ext cx="33480" cy="412740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587680" y="155880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608200" y="1555920"/>
              <a:ext cx="31680" cy="413208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625840" y="1555920"/>
              <a:ext cx="31680" cy="413208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646360" y="1555920"/>
              <a:ext cx="31680" cy="413208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662200" y="157644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679840" y="160488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98920" y="163512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714760" y="1652760"/>
              <a:ext cx="33120" cy="403524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738520" y="164628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754360" y="163512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771640" y="162864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90720" y="162396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9800" y="162396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827440" y="162396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46520" y="163512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63800" y="165420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881440" y="167148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901960" y="1684440"/>
              <a:ext cx="28440" cy="400356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916360" y="1700280"/>
              <a:ext cx="33120" cy="398772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938320" y="190188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952720" y="227484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975040" y="187308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989440" y="187308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009960" y="187632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029040" y="1889280"/>
              <a:ext cx="31680" cy="379872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46320" y="190008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62160" y="215568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081240" y="215568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100320" y="2157480"/>
              <a:ext cx="33480" cy="353052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119400" y="217476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141720" y="361944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1314000" y="150336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471320" y="543384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65120" y="341784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437440" y="2637000"/>
            <a:ext cx="2440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Float 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45ff45"/>
                </a:solidFill>
                <a:latin typeface="Times New Roman"/>
              </a:rPr>
              <a:t>Selectividad = 73/56 = </a:t>
            </a: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1,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Cristales Pirolíticos con filtro infrarrojo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Sel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905120" y="1447920"/>
            <a:ext cx="144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905120" y="5791320"/>
            <a:ext cx="609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444640" y="3573360"/>
            <a:ext cx="37681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Pirolítico Low-e s/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45ff45"/>
                </a:solidFill>
                <a:latin typeface="Times New Roman"/>
              </a:rPr>
              <a:t>Selectividad =  55/42 = </a:t>
            </a: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1,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La Transmisión Luminosa y el Factor So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Bajan parejo y no se altera la selectiv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Incluso se mejo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187280" y="1989000"/>
            <a:ext cx="6585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LOS CRISTALES C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PA AL VACÍO CON FILTRO INFRARROJO 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DE BAJA  EMISIV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(LOW-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208160" y="126720"/>
            <a:ext cx="733752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CRISTALES CON CAP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VACÍ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GNETRON (Fuera de lín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29800" y="2697120"/>
            <a:ext cx="216396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átodos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09800" y="3075120"/>
            <a:ext cx="243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Gas ionizado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10200" y="2295360"/>
            <a:ext cx="118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Im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911640" y="4264200"/>
            <a:ext cx="9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912000" y="4721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r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841760" y="391644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912000" y="32180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A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760920" y="2548080"/>
            <a:ext cx="1861920" cy="517320"/>
          </a:xfrm>
          <a:solidFill>
            <a:srgbClr val="2ae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994200" y="2460600"/>
            <a:ext cx="460440" cy="79560"/>
          </a:xfrm>
          <a:solidFill>
            <a:srgbClr val="252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927680" y="2460600"/>
            <a:ext cx="461880" cy="79560"/>
          </a:xfrm>
          <a:solidFill>
            <a:srgbClr val="252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760920" y="4475160"/>
            <a:ext cx="1861920" cy="517680"/>
          </a:xfrm>
          <a:solidFill>
            <a:srgbClr val="a3f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687840" y="4476600"/>
            <a:ext cx="69840" cy="517680"/>
          </a:xfrm>
          <a:solidFill>
            <a:srgbClr val="a3f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565600" y="4476600"/>
            <a:ext cx="133560" cy="517680"/>
          </a:xfrm>
          <a:solidFill>
            <a:srgbClr val="a3f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199120" y="302580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276880" y="3112920"/>
            <a:ext cx="745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430960" y="302580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276880" y="293832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353200" y="285264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041800" y="293832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886280" y="302580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041800" y="302580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587920" y="302580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430960" y="293832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353200" y="302580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119560" y="311292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119560" y="293832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730760" y="302580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6680" y="302580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654440" y="311292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419720" y="302580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498920" y="311292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730760" y="328788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808520" y="311292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886280" y="328788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730760" y="35528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576680" y="39020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264200" y="416556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498920" y="42530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419720" y="407664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808520" y="40766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886280" y="37274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730760" y="416556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730760" y="381492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041800" y="399096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276880" y="42530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041800" y="42530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951360" y="434196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108320" y="434196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341960" y="434196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186080" y="434196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576680" y="434196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80852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808520" y="434196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96260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886280" y="442908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65444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73076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576680" y="442908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49892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34196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18608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10832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95136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87504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79728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03056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264200" y="442908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04180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11956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276880" y="442908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353200" y="434196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35320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43096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51016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19912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276880" y="37274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041800" y="381492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62600" y="355284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119560" y="337644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119560" y="40766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962600" y="416556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86280" y="39020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576680" y="40766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419720" y="381492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498920" y="37274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86280" y="3376440"/>
            <a:ext cx="745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886280" y="293832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962600" y="3112920"/>
            <a:ext cx="7596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041800" y="328788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276880" y="328788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119560" y="35528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199120" y="381492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199120" y="399096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19720" y="363996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86080" y="37274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264200" y="39020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576680" y="35528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962600" y="302580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962600" y="293832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041800" y="285264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808520" y="302580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430960" y="3112920"/>
            <a:ext cx="7596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353200" y="328788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119560" y="328788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070080" y="2120760"/>
            <a:ext cx="289080" cy="317520"/>
          </a:xfrm>
          <a:custGeom>
            <a:avLst/>
            <a:gdLst>
              <a:gd name="textAreaLeft" fmla="*/ 0 w 289080"/>
              <a:gd name="textAreaRight" fmla="*/ 289080 w 289080"/>
              <a:gd name="textAreaTop" fmla="*/ 0 h 317520"/>
              <a:gd name="textAreaBottom" fmla="*/ 158760 h 31752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065400" y="2781360"/>
            <a:ext cx="298440" cy="33336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019920" y="2792520"/>
            <a:ext cx="298440" cy="33336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749680" y="1930320"/>
            <a:ext cx="3876480" cy="3225960"/>
          </a:xfrm>
          <a:prstGeom prst="rect">
            <a:avLst/>
          </a:prstGeom>
          <a:noFill/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606760" y="3308400"/>
            <a:ext cx="88740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573280" y="4159080"/>
            <a:ext cx="503280" cy="180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611440" y="2654280"/>
            <a:ext cx="113040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679840" y="2279520"/>
            <a:ext cx="390240" cy="180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3349440" y="2279520"/>
            <a:ext cx="1344600" cy="180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4692240" y="2276640"/>
            <a:ext cx="4680" cy="25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211560" y="1687680"/>
            <a:ext cx="1440" cy="109368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791240" y="2374920"/>
            <a:ext cx="11412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727360" y="274176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87760" y="31179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641760" y="3178080"/>
            <a:ext cx="147600" cy="16344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819600" y="3206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873600" y="3267000"/>
            <a:ext cx="145800" cy="16344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03640" y="30862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57640" y="3146400"/>
            <a:ext cx="146160" cy="16344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243680" y="3244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297320" y="3311640"/>
            <a:ext cx="146160" cy="16344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044960" y="3403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098960" y="3457440"/>
            <a:ext cx="147600" cy="16380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168960" y="1681200"/>
            <a:ext cx="1800" cy="109368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411880" y="2495520"/>
            <a:ext cx="137772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311880" y="273528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337440" y="3097080"/>
            <a:ext cx="452160" cy="2876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654520" y="4457880"/>
            <a:ext cx="119700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749920" y="4883040"/>
            <a:ext cx="1101600" cy="180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355400" y="5370480"/>
            <a:ext cx="71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666699"/>
                </a:solidFill>
                <a:latin typeface="Arial"/>
              </a:rPr>
              <a:t>CAPAS SECUENCIALES DE METALES PUROS (Ti, Zn, Au, Ag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666699"/>
                </a:solidFill>
                <a:latin typeface="Arial"/>
              </a:rPr>
              <a:t>REFLEXIÓN Y ABSORCIÓN VARIABLES CON O SIN LOW-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666699"/>
                </a:solidFill>
                <a:latin typeface="Arial"/>
              </a:rPr>
              <a:t>CAPA MAS DELIC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7" name=""/>
          <p:cNvGraphicFramePr/>
          <p:nvPr/>
        </p:nvGraphicFramePr>
        <p:xfrm>
          <a:off x="7620120" y="228600"/>
          <a:ext cx="111420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28600"/>
                    <a:ext cx="11142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971640" y="189000"/>
            <a:ext cx="748332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afd00"/>
                </a:solidFill>
                <a:latin typeface="Tahoma"/>
              </a:rPr>
              <a:t>CRISTALES CON CAPA AL VACÍ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afd00"/>
                </a:solidFill>
                <a:latin typeface="Tahoma"/>
              </a:rPr>
              <a:t>CON FILTRO INFRARROJO 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afd00"/>
                </a:solidFill>
                <a:latin typeface="Tahoma"/>
              </a:rPr>
              <a:t>DE BAJA EMISIV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230480" y="4572000"/>
            <a:ext cx="695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176720" y="2421000"/>
            <a:ext cx="150840" cy="215892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835360" y="3191040"/>
            <a:ext cx="1485720" cy="41580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292560" y="3878280"/>
            <a:ext cx="223920" cy="142920"/>
          </a:xfrm>
          <a:solidFill>
            <a:srgbClr val="f62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3443040" y="3648240"/>
            <a:ext cx="917640" cy="3063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716360" y="2421000"/>
            <a:ext cx="147600" cy="215892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287600" y="2374920"/>
            <a:ext cx="383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"/>
              </a:rPr>
              <a:t>#2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7" name=""/>
          <p:cNvGraphicFramePr/>
          <p:nvPr/>
        </p:nvGraphicFramePr>
        <p:xfrm>
          <a:off x="5578560" y="2730600"/>
          <a:ext cx="1752480" cy="13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78560" y="2730600"/>
                    <a:ext cx="17524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9" name=""/>
          <p:cNvSpPr/>
          <p:nvPr/>
        </p:nvSpPr>
        <p:spPr>
          <a:xfrm>
            <a:off x="2454120" y="4562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AS # </a:t>
            </a:r>
            <a:r>
              <a:rPr b="0" lang="es-MX" sz="2400" spc="-1" strike="noStrike">
                <a:solidFill>
                  <a:srgbClr val="000000"/>
                </a:solidFill>
                <a:latin typeface="Matisse ITC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  2 3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187280" y="5229360"/>
            <a:ext cx="71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PERMITEN COMBINAR Y OPTIMIZAR LAS 3 FORMAS DE CONTROLAR LA ENERGIA SOLAR: REFLEXIÓN, ABSORCIÓN, FILTRO INFRARRO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 rot="16200000">
            <a:off x="360" y="335196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019920" y="579132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2117880" y="1523880"/>
            <a:ext cx="1064880" cy="4164120"/>
            <a:chOff x="2117880" y="1523880"/>
            <a:chExt cx="1064880" cy="4164120"/>
          </a:xfrm>
        </p:grpSpPr>
        <p:sp>
          <p:nvSpPr>
            <p:cNvPr id="1634" name=""/>
            <p:cNvSpPr/>
            <p:nvPr/>
          </p:nvSpPr>
          <p:spPr>
            <a:xfrm>
              <a:off x="2117880" y="380988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206800" y="370188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224080" y="357660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241720" y="306216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260440" y="2994120"/>
              <a:ext cx="32040" cy="269388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279520" y="290196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297160" y="262728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314440" y="247176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333520" y="2370240"/>
              <a:ext cx="30240" cy="331776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95480" y="217332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336760" y="1854360"/>
              <a:ext cx="65160" cy="383364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86080" y="175572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406600" y="165420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514600" y="152388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487600" y="1555920"/>
              <a:ext cx="74520" cy="413208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552760" y="156528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570040" y="1560600"/>
              <a:ext cx="33480" cy="412740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587680" y="155880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608200" y="1555920"/>
              <a:ext cx="31680" cy="413208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625840" y="1555920"/>
              <a:ext cx="31680" cy="413208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646360" y="1555920"/>
              <a:ext cx="31680" cy="413208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662200" y="157644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679840" y="160488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698920" y="163512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714760" y="1652760"/>
              <a:ext cx="33120" cy="403524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738520" y="164628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54360" y="163512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71640" y="162864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790720" y="162396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09800" y="162396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827440" y="162396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846520" y="163512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863800" y="165420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881440" y="167148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901960" y="1684440"/>
              <a:ext cx="28440" cy="400356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916360" y="1700280"/>
              <a:ext cx="33120" cy="398772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938320" y="190188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952720" y="227484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975040" y="187308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989440" y="187308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009960" y="187632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029040" y="1889280"/>
              <a:ext cx="31680" cy="379872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046320" y="190008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62160" y="215568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081240" y="215568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100320" y="2157480"/>
              <a:ext cx="33480" cy="353052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119400" y="217476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141720" y="361944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2" name=""/>
          <p:cNvSpPr/>
          <p:nvPr/>
        </p:nvSpPr>
        <p:spPr>
          <a:xfrm>
            <a:off x="1314000" y="150336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471320" y="543384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365120" y="341784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412240" y="1600200"/>
            <a:ext cx="2440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Float 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45ff45"/>
                </a:solidFill>
                <a:latin typeface="Times New Roman"/>
              </a:rPr>
              <a:t>Selectividad = 73/56 = </a:t>
            </a: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1,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826920" y="76320"/>
            <a:ext cx="81648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Cristales de Capa al Vacío con filt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rarrojo y baja emisividad (Low-e)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Sel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905120" y="1447920"/>
            <a:ext cx="144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905120" y="5791320"/>
            <a:ext cx="609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407200" y="2286000"/>
            <a:ext cx="299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Pirolítico Low-e s/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45ff45"/>
                </a:solidFill>
                <a:latin typeface="Times New Roman"/>
              </a:rPr>
              <a:t>Selectividad =  55/42 = </a:t>
            </a: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1,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438880" y="3068640"/>
            <a:ext cx="2534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Capa Low-e Anti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s/verde DVH 6/12/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 55/28 = 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1,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483880" y="4098960"/>
            <a:ext cx="335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La capa al vacío permite mante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la misma Transmisión de Luz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el cristal pirolítico baj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sustancialmente el Factor S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y mejorando la Sele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30355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n resumen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3" name=""/>
          <p:cNvSpPr/>
          <p:nvPr/>
        </p:nvSpPr>
        <p:spPr>
          <a:xfrm>
            <a:off x="2743200" y="838080"/>
            <a:ext cx="4267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Cristales de Control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914400" y="1523880"/>
            <a:ext cx="380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Capas Pir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952880" y="1523880"/>
            <a:ext cx="381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Capas al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844800" cy="32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Prestaciones variadas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Varias capas disponi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Bastante espejados (cara #1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Muy absorbentes (cara #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Color del sustrato (floa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Selectividad limit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cecff"/>
                </a:solidFill>
                <a:latin typeface="Tahoma"/>
              </a:rPr>
              <a:t>...pe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Económico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Fáciles de proce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7" name=""/>
          <p:cNvSpPr/>
          <p:nvPr/>
        </p:nvSpPr>
        <p:spPr>
          <a:xfrm>
            <a:off x="5003640" y="1989000"/>
            <a:ext cx="38847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18587a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Prestaciones alta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De alta a baja refl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Colores variados (c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Con o sin Low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Alta selectividad 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Alta rentabilidad en 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cecff"/>
                </a:solidFill>
                <a:latin typeface="Tahoma"/>
              </a:rPr>
              <a:t>…</a:t>
            </a:r>
            <a:r>
              <a:rPr b="1" lang="es-ES" sz="1800" spc="-1" strike="noStrike">
                <a:solidFill>
                  <a:srgbClr val="ccecff"/>
                </a:solidFill>
                <a:latin typeface="Tahoma"/>
              </a:rPr>
              <a:t>p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Inversión inicial mas 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Manejo un poco más compl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844560" y="1454040"/>
            <a:ext cx="4025880" cy="38736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959360" y="1454040"/>
            <a:ext cx="4025880" cy="38736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44560" y="768240"/>
            <a:ext cx="8140680" cy="59688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143000" y="548640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Los cristales de altas prestaciones son más rentables porque permiten optimizar todos los aspectos del clima i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 fill="hold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Filosofía General:</a:t>
            </a:r>
            <a:r>
              <a:rPr b="0" i="1" lang="es-ES" sz="2800" spc="-1" strike="noStrike">
                <a:solidFill>
                  <a:srgbClr val="18587a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Econom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600200" y="1295280"/>
            <a:ext cx="586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3" marL="1371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Times New Roman"/>
              </a:rPr>
              <a:t>Tendencia a reducir los Gastos Opera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Aprovechar la</a:t>
            </a:r>
            <a:r>
              <a:rPr b="1" lang="es-ES" sz="2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 iluminación natu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Controlar la energía solar incid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Aislar térmica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Mantener las prestaciones en el 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Aumentar la superficie aprovechable (UF/m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imes New Roman"/>
              </a:rPr>
              <a:t>Los Gastos Operativos suelen aumentar    </a:t>
            </a:r>
            <a:r>
              <a:rPr b="1" lang="es-ES" sz="2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ffcc00"/>
                </a:solidFill>
                <a:latin typeface="Times New Roman"/>
              </a:rPr>
              <a:t>   durante toda la vida útil del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Torre Titanium La Portada: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Una selección ópt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3" name=""/>
          <p:cNvSpPr/>
          <p:nvPr/>
        </p:nvSpPr>
        <p:spPr>
          <a:xfrm>
            <a:off x="5040360" y="1600200"/>
            <a:ext cx="3341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Antisolar Low-e sobre float incoloro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L : 50 %, RL : 19 %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FS : 28 %, Valor-U : 1,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lectividad : 1,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4" name=""/>
          <p:cNvGraphicFramePr/>
          <p:nvPr/>
        </p:nvGraphicFramePr>
        <p:xfrm>
          <a:off x="7467480" y="304920"/>
          <a:ext cx="111456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67480" y="304920"/>
                    <a:ext cx="11145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6" name="" descr=""/>
          <p:cNvPicPr/>
          <p:nvPr/>
        </p:nvPicPr>
        <p:blipFill>
          <a:blip r:embed="rId4"/>
          <a:stretch/>
        </p:blipFill>
        <p:spPr>
          <a:xfrm>
            <a:off x="539640" y="1260360"/>
            <a:ext cx="3886200" cy="479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Edificio Apoquindo Magdalena: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Una selección ópt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8" name=""/>
          <p:cNvSpPr/>
          <p:nvPr/>
        </p:nvSpPr>
        <p:spPr>
          <a:xfrm>
            <a:off x="1260360" y="1600200"/>
            <a:ext cx="71215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Antisolar Low-e sobre float incoloro :TL : 40 %, RL : 16 %, FS : 21 %, Valor-U : 1,4  Selectividad : 1,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9" name=""/>
          <p:cNvGraphicFramePr/>
          <p:nvPr/>
        </p:nvGraphicFramePr>
        <p:xfrm>
          <a:off x="7467480" y="304920"/>
          <a:ext cx="111456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67480" y="304920"/>
                    <a:ext cx="11145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1" name="" descr=""/>
          <p:cNvPicPr/>
          <p:nvPr/>
        </p:nvPicPr>
        <p:blipFill>
          <a:blip r:embed="rId4"/>
          <a:stretch/>
        </p:blipFill>
        <p:spPr>
          <a:xfrm>
            <a:off x="1312920" y="2340000"/>
            <a:ext cx="6788160" cy="386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reación de espacios y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lima interi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El clima interior no puede ser ni </a:t>
            </a:r>
            <a:br>
              <a:rPr sz="3600"/>
            </a:b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demasiado caluroso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4" name="" descr=""/>
          <p:cNvPicPr/>
          <p:nvPr/>
        </p:nvPicPr>
        <p:blipFill>
          <a:blip r:embed="rId2"/>
          <a:stretch/>
        </p:blipFill>
        <p:spPr>
          <a:xfrm>
            <a:off x="2819520" y="1905120"/>
            <a:ext cx="30193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ni demasiado frío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6" name="" descr=""/>
          <p:cNvPicPr/>
          <p:nvPr/>
        </p:nvPicPr>
        <p:blipFill>
          <a:blip r:embed="rId2"/>
          <a:stretch/>
        </p:blipFill>
        <p:spPr>
          <a:xfrm>
            <a:off x="3222720" y="1905120"/>
            <a:ext cx="2697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La luz no puede ser ni muy intensa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2"/>
          <a:stretch/>
        </p:blipFill>
        <p:spPr>
          <a:xfrm>
            <a:off x="2157480" y="2357280"/>
            <a:ext cx="4829040" cy="32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Ni muy controlada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0" name="" descr=""/>
          <p:cNvPicPr/>
          <p:nvPr/>
        </p:nvPicPr>
        <p:blipFill>
          <a:blip r:embed="rId2"/>
          <a:stretch/>
        </p:blipFill>
        <p:spPr>
          <a:xfrm>
            <a:off x="2955960" y="1905120"/>
            <a:ext cx="32320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Todo es cosa de equilibrio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2" name="" descr=""/>
          <p:cNvPicPr/>
          <p:nvPr/>
        </p:nvPicPr>
        <p:blipFill>
          <a:blip r:embed="rId2"/>
          <a:stretch/>
        </p:blipFill>
        <p:spPr>
          <a:xfrm>
            <a:off x="2867040" y="1905120"/>
            <a:ext cx="3408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Definición de espacio y de cl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clima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xterior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es cono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recorrido d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ol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durante el año es cono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Los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materiales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son conoc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La temperatura interior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deal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es conocida con una mínima tolera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s mas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barato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calentar que enfri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Definición de espacio y de cl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La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Transmisión de Luz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permite saber qué porcentaje de la luz exterior entrará al interior del espac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oriente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y 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poniente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son las ubicaciones mas expuestas por el ángulo del sol sobre la fach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norte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y 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ur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reciben la luz solar de forma indirecta (luminosidad ambienta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Gastos de energía de un edificio de oficina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La situación europ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86160" y="990720"/>
            <a:ext cx="4722480" cy="5277600"/>
            <a:chOff x="686160" y="990720"/>
            <a:chExt cx="4722480" cy="5277600"/>
          </a:xfrm>
        </p:grpSpPr>
        <p:sp>
          <p:nvSpPr>
            <p:cNvPr id="289" name=""/>
            <p:cNvSpPr/>
            <p:nvPr/>
          </p:nvSpPr>
          <p:spPr>
            <a:xfrm>
              <a:off x="4242240" y="5614920"/>
              <a:ext cx="1166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00"/>
                  </a:solidFill>
                  <a:latin typeface="Times New Roman"/>
                </a:rPr>
                <a:t>Ilumin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73360" y="5592600"/>
              <a:ext cx="1327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ccff"/>
                  </a:solidFill>
                  <a:latin typeface="Times New Roman"/>
                </a:rPr>
                <a:t>Enfri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32040" y="6019920"/>
              <a:ext cx="195480" cy="126720"/>
            </a:xfrm>
            <a:prstGeom prst="rect">
              <a:avLst/>
            </a:prstGeom>
            <a:solidFill>
              <a:srgbClr val="cc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94400" y="593244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ffff"/>
                  </a:solidFill>
                  <a:latin typeface="Times New Roman"/>
                </a:rPr>
                <a:t>Ot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08040" y="6018120"/>
              <a:ext cx="190440" cy="128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68600" y="5932440"/>
              <a:ext cx="124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ffff"/>
                  </a:solidFill>
                  <a:latin typeface="Times New Roman"/>
                </a:rPr>
                <a:t>Instal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62240" y="5700600"/>
              <a:ext cx="192240" cy="127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96960" y="5700600"/>
              <a:ext cx="190800" cy="1270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30240" y="5700600"/>
              <a:ext cx="192240" cy="127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08800" y="5614920"/>
              <a:ext cx="1154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62a08"/>
                  </a:solidFill>
                  <a:latin typeface="Times New Roman"/>
                </a:rPr>
                <a:t>Calefa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83664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0160" y="990720"/>
              <a:ext cx="1800" cy="40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07840" y="5059440"/>
              <a:ext cx="5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7840" y="3703680"/>
              <a:ext cx="5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07840" y="2346480"/>
              <a:ext cx="5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07840" y="990720"/>
              <a:ext cx="5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86160" y="51991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8720" y="4111560"/>
              <a:ext cx="654120" cy="542880"/>
            </a:xfr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8720" y="2754360"/>
              <a:ext cx="701640" cy="544320"/>
            </a:xfr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720" y="1398600"/>
              <a:ext cx="828720" cy="542880"/>
            </a:xfr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76360" y="4111560"/>
              <a:ext cx="74520" cy="542880"/>
            </a:xfr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27120" y="2754360"/>
              <a:ext cx="709560" cy="544320"/>
            </a:xfr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57440" y="1398600"/>
              <a:ext cx="828720" cy="542880"/>
            </a:xfr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49440" y="4111560"/>
              <a:ext cx="452520" cy="542880"/>
            </a:xfr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35240" y="2754360"/>
              <a:ext cx="530280" cy="544320"/>
            </a:xfr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82920" y="1398600"/>
              <a:ext cx="636480" cy="542880"/>
            </a:xfr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00160" y="4111560"/>
              <a:ext cx="115920" cy="542880"/>
            </a:xfr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65520" y="2754360"/>
              <a:ext cx="225360" cy="544320"/>
            </a:xfr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19400" y="1398600"/>
              <a:ext cx="905040" cy="542880"/>
            </a:xfr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08160" y="4111560"/>
              <a:ext cx="39600" cy="542880"/>
            </a:xfrm>
            <a:solidFill>
              <a:srgbClr val="cc99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9440" y="2754360"/>
              <a:ext cx="52200" cy="544320"/>
            </a:xfrm>
            <a:solidFill>
              <a:srgbClr val="cc99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22640" y="1398600"/>
              <a:ext cx="252360" cy="542880"/>
            </a:xfrm>
            <a:solidFill>
              <a:srgbClr val="cc99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28720" y="5059440"/>
              <a:ext cx="350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2872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32732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825560" y="5006520"/>
              <a:ext cx="180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325600" y="5006520"/>
              <a:ext cx="180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828880" y="5006520"/>
              <a:ext cx="180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33072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82752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433080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4960" y="505944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4960" y="37036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4960" y="23464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4960" y="9907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44800" y="51991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2676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04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3188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3012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2872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2876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92360" y="3962520"/>
              <a:ext cx="1779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ffff"/>
                  </a:solidFill>
                  <a:latin typeface="Times New Roman"/>
                </a:rPr>
                <a:t>Cuenta de luz</a:t>
              </a:r>
              <a:br>
                <a:rPr sz="1600"/>
              </a:br>
              <a:r>
                <a:rPr b="0" lang="es-ES" sz="1600" spc="-1" strike="noStrike">
                  <a:solidFill>
                    <a:srgbClr val="00ffff"/>
                  </a:solidFill>
                  <a:latin typeface="Times New Roman"/>
                </a:rPr>
                <a:t>Euro/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9640" y="990720"/>
              <a:ext cx="3973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1600" spc="-1" strike="noStrike">
                  <a:solidFill>
                    <a:srgbClr val="00ffff"/>
                  </a:solidFill>
                  <a:latin typeface="Times New Roman"/>
                </a:rPr>
                <a:t>Climatización de un edifico de prestig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9640" y="2362320"/>
              <a:ext cx="375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1600" spc="-1" strike="noStrike">
                  <a:solidFill>
                    <a:srgbClr val="00ffff"/>
                  </a:solidFill>
                  <a:latin typeface="Times New Roman"/>
                </a:rPr>
                <a:t>Climatización de un edificio estánd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9640" y="3733920"/>
              <a:ext cx="2743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1600" spc="-1" strike="noStrike">
                  <a:solidFill>
                    <a:srgbClr val="00ffff"/>
                  </a:solidFill>
                  <a:latin typeface="Times New Roman"/>
                </a:rPr>
                <a:t>Planta li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00280" y="2209680"/>
            <a:ext cx="2361960" cy="2719440"/>
            <a:chOff x="800280" y="2209680"/>
            <a:chExt cx="2361960" cy="2719440"/>
          </a:xfrm>
        </p:grpSpPr>
        <p:sp>
          <p:nvSpPr>
            <p:cNvPr id="346" name=""/>
            <p:cNvSpPr/>
            <p:nvPr/>
          </p:nvSpPr>
          <p:spPr>
            <a:xfrm>
              <a:off x="800280" y="2209680"/>
              <a:ext cx="2361960" cy="18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0280" y="3568680"/>
              <a:ext cx="2019240" cy="14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0280" y="4927680"/>
              <a:ext cx="1180800" cy="14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724280" y="1143000"/>
            <a:ext cx="4343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a piel exterior del edificio puede afectar de 70 a 90 % el gasto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24280" y="2514600"/>
            <a:ext cx="4343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El cristal debería tener preferentemente las características siguien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  <a:ea typeface="SimSun"/>
              </a:rPr>
              <a:t>Baja entrad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  <a:ea typeface="SimSun"/>
              </a:rPr>
              <a:t>Alta transmisión de l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  <a:ea typeface="SimSun"/>
              </a:rPr>
              <a:t>Buena aislación tér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Definición de espacio y de cl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Factor Solar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(o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Coeficiente de Sombra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) permite saber qué porcentaje de la Energía exterior incidente entrará al interior del espac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oriente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y 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poniente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son las ubicaciones mas expuestas por el ángulo del sol sobre la fachada vertic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norte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y 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sur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reciben la Energía solar de forma indirecta (calor ambiental), particularmente en vera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Definición de espacio y de cl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Valor-U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(expresado en W/m2.ºK) permite saber qué cantidad de Energía se intercambiará entre el interior y el exterior del espac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Dado que depende mayormente de la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Temperatura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exterior, la orientación no es relevante de modo que toda la fachada está implicada por ig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¿Como controlar el clima interio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dealmente, mirar el sol nor-poniente en verano y evaluar un nivel de molestia visual acept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a misma posición, evaluar un filtro que caliente moderadamente la piel o un objeto opa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3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34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¿Como controlar el clima interio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0" y="1916280"/>
            <a:ext cx="4038480" cy="54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Santiago y en la Zona Central, partimos del supuesto que la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Luz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s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abunda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todo el añ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 pesar de las 4 estaciones del año, los rayos solares siempre tienen una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intensidad al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7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38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¿Como controlar el clima interio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0" y="1916280"/>
            <a:ext cx="403848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luz demasiado intensa significa usar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proteccion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olares exteriores o interiores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adicional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relación al calor: Enfriar es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3 VEC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mas caro que cal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1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42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La ruta </a:t>
            </a:r>
            <a:r>
              <a:rPr b="0" lang="es-ES" sz="4000" spc="-1" strike="noStrike">
                <a:solidFill>
                  <a:srgbClr val="45ff45"/>
                </a:solidFill>
                <a:latin typeface="Tahoma"/>
              </a:rPr>
              <a:t>lógica</a:t>
            </a: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 para elaborar el cli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0" y="1915920"/>
            <a:ext cx="403848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la T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el FS (o Sh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lor-U &lt; 2,1 W/m2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flex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sto del cris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5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46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La ruta </a:t>
            </a:r>
            <a:r>
              <a:rPr b="0" lang="es-ES" sz="4000" spc="-1" strike="noStrike">
                <a:solidFill>
                  <a:srgbClr val="f62a08"/>
                </a:solidFill>
                <a:latin typeface="Tahoma"/>
              </a:rPr>
              <a:t>equivocada</a:t>
            </a: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 para elaborar el clima interi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0" y="1915920"/>
            <a:ext cx="403848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sto del cris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flexión ext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lor U (low-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la T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el F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9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50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Caso : Torre de cristal</a:t>
            </a:r>
            <a:br>
              <a:rPr sz="4000"/>
            </a:br>
            <a:r>
              <a:rPr b="0" lang="es-ES" sz="4000" spc="-1" strike="noStrike">
                <a:solidFill>
                  <a:srgbClr val="ffcc00"/>
                </a:solidFill>
                <a:latin typeface="Tahoma"/>
              </a:rPr>
              <a:t>Por la ruta lógica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bundante luz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erte exposición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ro-cortina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lor neutro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aja reflexión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sto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TL más baja (&lt; 5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FS más bajo (&lt; 25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Valor U bajo (&lt; 2.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Capa sobre vidrio incolo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Filtro infrarro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Optimizar comodidad + ahorro energé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Caso : Torre de cristal</a:t>
            </a:r>
            <a:br>
              <a:rPr sz="4000"/>
            </a:br>
            <a:r>
              <a:rPr b="0" lang="es-ES" sz="4000" spc="-1" strike="noStrike">
                <a:solidFill>
                  <a:srgbClr val="ffcc00"/>
                </a:solidFill>
                <a:latin typeface="Tahoma"/>
              </a:rPr>
              <a:t>Por la ruta equivocada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62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sto bajo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flexión baja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lor neutro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uro-cortina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nsmisión de Luz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ctor Solar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Decisión anti-econó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Cristal absorbente o filtro infrarro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Cristal poco selectivo con capa sobre vidrio incolo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Valor-U interme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Alta debido al float incolor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Elevado debido a la poca selectiv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Comparación de las rut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la ruta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lóg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el proyecto toma en cuenta la comodidad de los usuarios tanto a nivel de iluminación como de percepción de la sensación térmica.  El costo del cristal es compensado por la menor capacidad y menor uso de la climatización o de cortina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la ruta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equivocad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la ilusión del bajo costo inicial se ve transformada en la realidad de un clima interior desagradable, muy costoso de controlar artificialmente y lo peor de todo, determinado por el resto de la vida útil del edifi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62a08"/>
                </a:solidFill>
                <a:latin typeface="Tahoma"/>
              </a:rPr>
              <a:t>La responsabilidad es 100 por ciento del arquitecto porque todos los factores son CONOC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Objetivos de Fondo:</a:t>
            </a:r>
            <a:r>
              <a:rPr b="0" i="1" lang="es-ES" sz="2800" spc="-1" strike="noStrike">
                <a:solidFill>
                  <a:srgbClr val="18587a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Ec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2362320" y="1523880"/>
            <a:ext cx="47242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Arial"/>
              </a:rPr>
              <a:t>Es una preocupación 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Arial"/>
              </a:rPr>
              <a:t>Es una responsabilidad mo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Arial"/>
              </a:rPr>
              <a:t>Es un desafío profes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Arial"/>
              </a:rPr>
              <a:t>Las viviendas y los edificios se proyectan para varios decen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La incidencia de una decisión económica debe mirarse en el largo plaz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es-ES" sz="1400" spc="-1" strike="noStrike">
                <a:solidFill>
                  <a:srgbClr val="ffcc00"/>
                </a:solidFill>
                <a:latin typeface="Arial"/>
              </a:rPr>
              <a:t>La eterna vuelta de Nietzsch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219320" y="2514600"/>
            <a:ext cx="655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 Pregunta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1" name=""/>
          <p:cNvGraphicFramePr/>
          <p:nvPr/>
        </p:nvGraphicFramePr>
        <p:xfrm>
          <a:off x="3276720" y="3505320"/>
          <a:ext cx="259056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505320"/>
                    <a:ext cx="25905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"/>
          <p:cNvSpPr/>
          <p:nvPr/>
        </p:nvSpPr>
        <p:spPr>
          <a:xfrm>
            <a:off x="2670120" y="5334120"/>
            <a:ext cx="387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ww.mirabel.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52216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El Sol : La variable princip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0" y="0"/>
            <a:ext cx="3235320" cy="3314880"/>
            <a:chOff x="0" y="0"/>
            <a:chExt cx="3235320" cy="3314880"/>
          </a:xfrm>
        </p:grpSpPr>
        <p:sp>
          <p:nvSpPr>
            <p:cNvPr id="355" name=""/>
            <p:cNvSpPr/>
            <p:nvPr/>
          </p:nvSpPr>
          <p:spPr>
            <a:xfrm>
              <a:off x="1236600" y="1162080"/>
              <a:ext cx="793800" cy="892080"/>
            </a:xfrm>
            <a:solidFill>
              <a:srgbClr val="ffd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31880" y="2077920"/>
              <a:ext cx="1800" cy="5716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31880" y="3182760"/>
              <a:ext cx="1800" cy="1321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527120" y="2035080"/>
              <a:ext cx="25560" cy="5112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1316160" y="2060640"/>
              <a:ext cx="209520" cy="6015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147320" y="2859120"/>
              <a:ext cx="149400" cy="3762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22200" y="2373480"/>
              <a:ext cx="92160" cy="2188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7200" y="2035080"/>
              <a:ext cx="108000" cy="2509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142640" y="1998720"/>
              <a:ext cx="274680" cy="3348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833400" y="2494080"/>
              <a:ext cx="263520" cy="3142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4480" y="2492280"/>
              <a:ext cx="123840" cy="15876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39960" y="1954080"/>
              <a:ext cx="411120" cy="4716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654120" y="1908000"/>
              <a:ext cx="681120" cy="5097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920" y="2525760"/>
              <a:ext cx="101520" cy="698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9520" y="2397240"/>
              <a:ext cx="135000" cy="950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53960" y="1803240"/>
              <a:ext cx="811440" cy="5479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57240" y="1763640"/>
              <a:ext cx="309600" cy="1396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9160" y="1925640"/>
              <a:ext cx="150840" cy="586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43120" y="1676520"/>
              <a:ext cx="377640" cy="1252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6240" y="1623960"/>
              <a:ext cx="378000" cy="18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04800" y="1631880"/>
              <a:ext cx="177840" cy="18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5920" y="1459080"/>
              <a:ext cx="174600" cy="270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5160" y="1492200"/>
              <a:ext cx="528840" cy="414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331560" y="1139400"/>
              <a:ext cx="936360" cy="3510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129960" y="1049040"/>
              <a:ext cx="177480" cy="903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1006560"/>
              <a:ext cx="73080" cy="331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3640" y="1206360"/>
              <a:ext cx="393840" cy="1936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785520" y="987120"/>
              <a:ext cx="530280" cy="3934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639360" y="878040"/>
              <a:ext cx="150840" cy="1188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77720" y="755280"/>
              <a:ext cx="146160" cy="1191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57160" y="852480"/>
              <a:ext cx="84240" cy="777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36800" y="1030320"/>
              <a:ext cx="280800" cy="2649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1056960" y="907920"/>
              <a:ext cx="323640" cy="3938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81240" y="974880"/>
              <a:ext cx="122040" cy="2426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1373040" y="968400"/>
              <a:ext cx="113040" cy="2556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1295280" y="779400"/>
              <a:ext cx="69840" cy="1396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66920" y="411120"/>
              <a:ext cx="57240" cy="2779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46120" y="789120"/>
              <a:ext cx="92160" cy="38556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1468440" y="388800"/>
              <a:ext cx="123840" cy="7970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1415880" y="117000"/>
              <a:ext cx="52560" cy="2350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31880" y="0"/>
              <a:ext cx="1800" cy="1144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31880" y="231840"/>
              <a:ext cx="1800" cy="2347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31880" y="603360"/>
              <a:ext cx="1800" cy="5396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704960" y="352080"/>
              <a:ext cx="52560" cy="8334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8040" y="74520"/>
              <a:ext cx="28440" cy="2192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57240" y="727200"/>
              <a:ext cx="36720" cy="950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43120" y="892080"/>
              <a:ext cx="87120" cy="2844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820880" y="573120"/>
              <a:ext cx="225360" cy="6508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98720" y="873000"/>
              <a:ext cx="54000" cy="9216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57240" y="1025640"/>
              <a:ext cx="111240" cy="2062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00080" y="950400"/>
              <a:ext cx="166680" cy="3272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11560" y="765000"/>
              <a:ext cx="80640" cy="907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25640" y="911160"/>
              <a:ext cx="334800" cy="3920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0560" y="1106640"/>
              <a:ext cx="255600" cy="2458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16240" y="887400"/>
              <a:ext cx="160200" cy="1476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76400" y="1074600"/>
              <a:ext cx="498600" cy="33336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025720" y="1262160"/>
              <a:ext cx="398520" cy="2109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48080" y="1127160"/>
              <a:ext cx="220680" cy="1000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7960" y="1049400"/>
              <a:ext cx="115920" cy="540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60720" y="938160"/>
              <a:ext cx="174600" cy="889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009520" y="1407960"/>
              <a:ext cx="757080" cy="1018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1840" y="1554120"/>
              <a:ext cx="293760" cy="270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2010960" y="1614600"/>
              <a:ext cx="731880" cy="712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44800" y="1700280"/>
              <a:ext cx="471240" cy="410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1990440" y="1736280"/>
              <a:ext cx="638280" cy="2602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11320" y="1835280"/>
              <a:ext cx="577800" cy="2966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11520" y="2212920"/>
              <a:ext cx="31680" cy="97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00520" y="2328840"/>
              <a:ext cx="155520" cy="586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1945800" y="1833480"/>
              <a:ext cx="220680" cy="1764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59120" y="1920960"/>
              <a:ext cx="252360" cy="2286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881000" y="1918800"/>
              <a:ext cx="285480" cy="3524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65160" y="2011320"/>
              <a:ext cx="400320" cy="7239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70240" y="2889360"/>
              <a:ext cx="46080" cy="1029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1779480" y="1998360"/>
              <a:ext cx="198720" cy="4381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68320" y="2060640"/>
              <a:ext cx="86040" cy="4302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71640" y="2558880"/>
              <a:ext cx="50760" cy="2066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1682280" y="2030400"/>
              <a:ext cx="111240" cy="5824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050920" y="2924280"/>
            <a:ext cx="719280" cy="712800"/>
          </a:xfr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35640" y="2924280"/>
            <a:ext cx="718920" cy="712800"/>
          </a:xfr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627280" y="393372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56280" y="38815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imes New Roman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11360" y="4581360"/>
            <a:ext cx="360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nergía directa (ondas cort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19640" y="5084640"/>
            <a:ext cx="392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indirecta (ondas lar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716360" y="5587560"/>
            <a:ext cx="576360" cy="506520"/>
          </a:xfrm>
          <a:prstGeom prst="line">
            <a:avLst/>
          </a:prstGeom>
          <a:ln w="38160">
            <a:solidFill>
              <a:srgbClr val="f62a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4209840" y="5587560"/>
            <a:ext cx="507960" cy="506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radiación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1592280" y="3346560"/>
            <a:ext cx="112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47840" y="564984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95560" y="441792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95560" y="318600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55600" y="196704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24120" y="1144440"/>
            <a:ext cx="1139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Intensidad</a:t>
            </a:r>
            <a:br>
              <a:rPr sz="1800"/>
            </a:br>
            <a:r>
              <a:rPr b="0" i="1" lang="es-ES" sz="1800" spc="-1" strike="noStrike">
                <a:solidFill>
                  <a:srgbClr val="ccecff"/>
                </a:solidFill>
                <a:latin typeface="Times New Roman"/>
              </a:rPr>
              <a:t>W/m2.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07400" y="5334120"/>
            <a:ext cx="1802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br>
              <a:rPr sz="1800"/>
            </a:b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i="1" lang="es-ES" sz="1800" spc="-1" strike="noStrike">
                <a:solidFill>
                  <a:srgbClr val="ccecff"/>
                </a:solidFill>
                <a:latin typeface="Times New Roman"/>
              </a:rPr>
              <a:t>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21000" y="594216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37080" y="594216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41920" y="594216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03920" y="594216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93720" y="1968480"/>
            <a:ext cx="155880" cy="176400"/>
          </a:xfr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 rot="10800000">
            <a:off x="972720" y="1054440"/>
            <a:ext cx="5792760" cy="4745160"/>
          </a:xfr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28840" y="2763720"/>
            <a:ext cx="4473720" cy="3057480"/>
          </a:xfrm>
          <a:noFill/>
          <a:ln w="12600">
            <a:solidFill>
              <a:srgbClr val="1816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05760" y="5745240"/>
            <a:ext cx="158760" cy="176040"/>
          </a:xfr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1595160" y="5805360"/>
            <a:ext cx="563724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668600" y="2112840"/>
            <a:ext cx="1440" cy="379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96960" y="4584600"/>
            <a:ext cx="112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901880" y="5820840"/>
            <a:ext cx="1440" cy="8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44600" y="1981080"/>
            <a:ext cx="1425960" cy="4421160"/>
            <a:chOff x="2244600" y="1981080"/>
            <a:chExt cx="1425960" cy="4421160"/>
          </a:xfrm>
        </p:grpSpPr>
        <p:grpSp>
          <p:nvGrpSpPr>
            <p:cNvPr id="462" name=""/>
            <p:cNvGrpSpPr/>
            <p:nvPr/>
          </p:nvGrpSpPr>
          <p:grpSpPr>
            <a:xfrm>
              <a:off x="2244600" y="2763720"/>
              <a:ext cx="1425960" cy="3638520"/>
              <a:chOff x="2244600" y="2763720"/>
              <a:chExt cx="1425960" cy="3638520"/>
            </a:xfrm>
          </p:grpSpPr>
          <p:sp>
            <p:nvSpPr>
              <p:cNvPr id="463" name=""/>
              <p:cNvSpPr/>
              <p:nvPr/>
            </p:nvSpPr>
            <p:spPr>
              <a:xfrm>
                <a:off x="2244600" y="5942160"/>
                <a:ext cx="541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" sz="1600" spc="-1" strike="noStrike">
                    <a:solidFill>
                      <a:srgbClr val="00ffff"/>
                    </a:solidFill>
                    <a:latin typeface="Times New Roman"/>
                  </a:rPr>
                  <a:t>0.3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28760" y="5942160"/>
                <a:ext cx="541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" sz="1600" spc="-1" strike="noStrike">
                    <a:solidFill>
                      <a:srgbClr val="00ffff"/>
                    </a:solidFill>
                    <a:latin typeface="Times New Roman"/>
                  </a:rPr>
                  <a:t>0.7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2481120" y="2763720"/>
                <a:ext cx="946440" cy="3638520"/>
                <a:chOff x="2481120" y="2763720"/>
                <a:chExt cx="946440" cy="36385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482920" y="4460760"/>
                  <a:ext cx="81000" cy="1351080"/>
                </a:xfrm>
                <a:solidFill>
                  <a:srgbClr val="004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556000" y="4381560"/>
                  <a:ext cx="27000" cy="1430280"/>
                </a:xfrm>
                <a:solidFill>
                  <a:srgbClr val="005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571840" y="4290840"/>
                  <a:ext cx="27000" cy="1521000"/>
                </a:xfrm>
                <a:solidFill>
                  <a:srgbClr val="006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585880" y="3919680"/>
                  <a:ext cx="27000" cy="1892160"/>
                </a:xfrm>
                <a:solidFill>
                  <a:srgbClr val="008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602080" y="3871800"/>
                  <a:ext cx="27000" cy="1940040"/>
                </a:xfrm>
                <a:solidFill>
                  <a:srgbClr val="00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617920" y="3805200"/>
                  <a:ext cx="27000" cy="2006640"/>
                </a:xfrm>
                <a:solidFill>
                  <a:srgbClr val="00a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631960" y="3608280"/>
                  <a:ext cx="27000" cy="2203560"/>
                </a:xfrm>
                <a:solidFill>
                  <a:srgbClr val="00b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47800" y="3495600"/>
                  <a:ext cx="27000" cy="2316240"/>
                </a:xfrm>
                <a:solidFill>
                  <a:srgbClr val="00d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662200" y="3421080"/>
                  <a:ext cx="82440" cy="2390760"/>
                </a:xfrm>
                <a:solidFill>
                  <a:srgbClr val="00e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133800" y="3279600"/>
                  <a:ext cx="27000" cy="2532240"/>
                </a:xfrm>
                <a:solidFill>
                  <a:srgbClr val="00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693880" y="3051000"/>
                  <a:ext cx="27000" cy="2760840"/>
                </a:xfrm>
                <a:solidFill>
                  <a:srgbClr val="00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08280" y="2979720"/>
                  <a:ext cx="27000" cy="2832120"/>
                </a:xfrm>
                <a:solidFill>
                  <a:srgbClr val="00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724120" y="2906640"/>
                  <a:ext cx="38160" cy="2905200"/>
                </a:xfrm>
                <a:solidFill>
                  <a:srgbClr val="00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754360" y="2763720"/>
                  <a:ext cx="27000" cy="3048120"/>
                </a:xfrm>
                <a:solidFill>
                  <a:srgbClr val="00ff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770200" y="2763720"/>
                  <a:ext cx="27000" cy="3048120"/>
                </a:xfrm>
                <a:solidFill>
                  <a:srgbClr val="00ff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784600" y="2765520"/>
                  <a:ext cx="27000" cy="3046320"/>
                </a:xfrm>
                <a:solidFill>
                  <a:srgbClr val="00ff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800440" y="2789280"/>
                  <a:ext cx="27000" cy="3022560"/>
                </a:xfrm>
                <a:solidFill>
                  <a:srgbClr val="00ff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814480" y="2813040"/>
                  <a:ext cx="27000" cy="2998800"/>
                </a:xfrm>
                <a:solidFill>
                  <a:srgbClr val="00ff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830680" y="2835360"/>
                  <a:ext cx="27000" cy="2976480"/>
                </a:xfrm>
                <a:solidFill>
                  <a:srgbClr val="00ff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846520" y="2843280"/>
                  <a:ext cx="27000" cy="2968560"/>
                </a:xfrm>
                <a:solidFill>
                  <a:srgbClr val="00f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862360" y="2840040"/>
                  <a:ext cx="27000" cy="2971800"/>
                </a:xfrm>
                <a:solidFill>
                  <a:srgbClr val="00f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876400" y="2838600"/>
                  <a:ext cx="27000" cy="2973240"/>
                </a:xfrm>
                <a:solidFill>
                  <a:srgbClr val="00ff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892600" y="2835360"/>
                  <a:ext cx="26640" cy="2976480"/>
                </a:xfr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906640" y="2835360"/>
                  <a:ext cx="27000" cy="2976480"/>
                </a:xfrm>
                <a:solidFill>
                  <a:srgbClr val="15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924280" y="2835360"/>
                  <a:ext cx="27000" cy="2976480"/>
                </a:xfrm>
                <a:solidFill>
                  <a:srgbClr val="2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938320" y="2852640"/>
                  <a:ext cx="27000" cy="2959200"/>
                </a:xfrm>
                <a:solidFill>
                  <a:srgbClr val="3c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952720" y="2871720"/>
                  <a:ext cx="27000" cy="2940120"/>
                </a:xfrm>
                <a:solidFill>
                  <a:srgbClr val="4d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968560" y="2894040"/>
                  <a:ext cx="27000" cy="2917800"/>
                </a:xfrm>
                <a:solidFill>
                  <a:srgbClr val="62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982960" y="2905200"/>
                  <a:ext cx="27000" cy="2906640"/>
                </a:xfrm>
                <a:solidFill>
                  <a:srgbClr val="73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000240" y="2900520"/>
                  <a:ext cx="27000" cy="2911320"/>
                </a:xfrm>
                <a:solidFill>
                  <a:srgbClr val="88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014640" y="2894040"/>
                  <a:ext cx="27000" cy="2917800"/>
                </a:xfrm>
                <a:solidFill>
                  <a:srgbClr val="99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029040" y="2889360"/>
                  <a:ext cx="27000" cy="2922480"/>
                </a:xfrm>
                <a:solidFill>
                  <a:srgbClr val="ae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044880" y="2884320"/>
                  <a:ext cx="27000" cy="2927520"/>
                </a:xfrm>
                <a:solidFill>
                  <a:srgbClr val="b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060720" y="2884320"/>
                  <a:ext cx="27000" cy="2927520"/>
                </a:xfrm>
                <a:solidFill>
                  <a:srgbClr val="d5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075120" y="2884320"/>
                  <a:ext cx="27000" cy="2927520"/>
                </a:xfrm>
                <a:solidFill>
                  <a:srgbClr val="e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092400" y="2894040"/>
                  <a:ext cx="27000" cy="2917800"/>
                </a:xfrm>
                <a:solidFill>
                  <a:srgbClr val="f7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05000" y="2906640"/>
                  <a:ext cx="27000" cy="2905200"/>
                </a:xfrm>
                <a:solidFill>
                  <a:srgbClr val="ff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21200" y="2919240"/>
                  <a:ext cx="26640" cy="2892600"/>
                </a:xfr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137040" y="2928960"/>
                  <a:ext cx="27000" cy="2882880"/>
                </a:xfr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151080" y="2941560"/>
                  <a:ext cx="27000" cy="2870280"/>
                </a:xfr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168720" y="3084480"/>
                  <a:ext cx="27000" cy="2727360"/>
                </a:xfrm>
                <a:solidFill>
                  <a:srgbClr val="ff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181320" y="3355920"/>
                  <a:ext cx="27000" cy="2455920"/>
                </a:xfrm>
                <a:solidFill>
                  <a:srgbClr val="ff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98960" y="3062160"/>
                  <a:ext cx="27000" cy="2749680"/>
                </a:xfr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213000" y="3062160"/>
                  <a:ext cx="27000" cy="2749680"/>
                </a:xfrm>
                <a:solidFill>
                  <a:srgbClr val="ff6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228840" y="3065400"/>
                  <a:ext cx="27000" cy="2746440"/>
                </a:xfrm>
                <a:solidFill>
                  <a:srgbClr val="ff5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244680" y="3075120"/>
                  <a:ext cx="27000" cy="2736720"/>
                </a:xfrm>
                <a:solidFill>
                  <a:srgbClr val="ff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259080" y="3083040"/>
                  <a:ext cx="27000" cy="2728800"/>
                </a:xfr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273480" y="3265560"/>
                  <a:ext cx="27000" cy="2546280"/>
                </a:xfrm>
                <a:solidFill>
                  <a:srgbClr val="ff2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89320" y="3265560"/>
                  <a:ext cx="27000" cy="2546280"/>
                </a:xfrm>
                <a:solidFill>
                  <a:srgbClr val="ff0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05160" y="3267000"/>
                  <a:ext cx="27000" cy="2544840"/>
                </a:xfr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321000" y="3281400"/>
                  <a:ext cx="27000" cy="2530440"/>
                </a:xfr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38640" y="4321080"/>
                  <a:ext cx="34920" cy="1490760"/>
                </a:xfr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481120" y="2763720"/>
                  <a:ext cx="890640" cy="3057480"/>
                </a:xfrm>
                <a:noFill/>
                <a:ln w="12600">
                  <a:solidFill>
                    <a:srgbClr val="18161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2482920" y="4392360"/>
                  <a:ext cx="1440" cy="195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2533680" y="5820840"/>
                  <a:ext cx="1440" cy="8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2800440" y="5823000"/>
                  <a:ext cx="144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3006720" y="5818320"/>
                  <a:ext cx="144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3218040" y="5823000"/>
                  <a:ext cx="144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3425760" y="5823000"/>
                  <a:ext cx="180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3365640" y="4392720"/>
                  <a:ext cx="6120" cy="200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6" name=""/>
            <p:cNvGrpSpPr/>
            <p:nvPr/>
          </p:nvGrpSpPr>
          <p:grpSpPr>
            <a:xfrm>
              <a:off x="2438280" y="1981080"/>
              <a:ext cx="916200" cy="838440"/>
              <a:chOff x="2438280" y="1981080"/>
              <a:chExt cx="916200" cy="838440"/>
            </a:xfrm>
          </p:grpSpPr>
          <p:sp>
            <p:nvSpPr>
              <p:cNvPr id="527" name=""/>
              <p:cNvSpPr/>
              <p:nvPr/>
            </p:nvSpPr>
            <p:spPr>
              <a:xfrm>
                <a:off x="2438280" y="2590920"/>
                <a:ext cx="914400" cy="1440"/>
              </a:xfrm>
              <a:prstGeom prst="line">
                <a:avLst/>
              </a:prstGeom>
              <a:ln w="25560">
                <a:solidFill>
                  <a:srgbClr val="248a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438280" y="2590920"/>
                <a:ext cx="1800" cy="228600"/>
              </a:xfrm>
              <a:prstGeom prst="line">
                <a:avLst/>
              </a:prstGeom>
              <a:ln w="25560">
                <a:solidFill>
                  <a:srgbClr val="248a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352680" y="2590920"/>
                <a:ext cx="1800" cy="228600"/>
              </a:xfrm>
              <a:prstGeom prst="line">
                <a:avLst/>
              </a:prstGeom>
              <a:ln w="25560">
                <a:solidFill>
                  <a:srgbClr val="248a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95480" y="2362320"/>
                <a:ext cx="1800" cy="228600"/>
              </a:xfrm>
              <a:prstGeom prst="line">
                <a:avLst/>
              </a:prstGeom>
              <a:ln w="25560">
                <a:solidFill>
                  <a:srgbClr val="248abe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14600" y="1981080"/>
                <a:ext cx="838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" sz="2000" spc="-1" strike="noStrike">
                    <a:solidFill>
                      <a:srgbClr val="00ffff"/>
                    </a:solidFill>
                    <a:latin typeface="Times New Roman"/>
                  </a:rPr>
                  <a:t>Lu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2" name=""/>
          <p:cNvGrpSpPr/>
          <p:nvPr/>
        </p:nvGrpSpPr>
        <p:grpSpPr>
          <a:xfrm>
            <a:off x="2286000" y="1143000"/>
            <a:ext cx="4573440" cy="1066680"/>
            <a:chOff x="2286000" y="1143000"/>
            <a:chExt cx="4573440" cy="1066680"/>
          </a:xfrm>
        </p:grpSpPr>
        <p:sp>
          <p:nvSpPr>
            <p:cNvPr id="533" name=""/>
            <p:cNvSpPr/>
            <p:nvPr/>
          </p:nvSpPr>
          <p:spPr>
            <a:xfrm>
              <a:off x="2286000" y="1905120"/>
              <a:ext cx="4572000" cy="144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6000" y="1905120"/>
              <a:ext cx="1440" cy="30456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58000" y="1905120"/>
              <a:ext cx="1440" cy="30456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95680" y="1600200"/>
              <a:ext cx="1800" cy="3049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76640" y="1143000"/>
              <a:ext cx="838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 flipV="1">
            <a:off x="2114640" y="5818320"/>
            <a:ext cx="144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635280" y="5823000"/>
            <a:ext cx="18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3846600" y="5818320"/>
            <a:ext cx="144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944960" y="5823000"/>
            <a:ext cx="18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018120" y="5830920"/>
            <a:ext cx="18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9560" y="5932440"/>
            <a:ext cx="538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2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38480" y="106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 fill="hold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 fill="hold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 fill="hold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" dur="1" fill="hold"/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20:58:19Z</dcterms:created>
  <dc:creator> Serge Martin</dc:creator>
  <dc:description/>
  <dc:language>en-US</dc:language>
  <cp:lastModifiedBy>alain</cp:lastModifiedBy>
  <cp:lastPrinted>2000-11-30T11:43:37Z</cp:lastPrinted>
  <dcterms:modified xsi:type="dcterms:W3CDTF">2008-05-06T14:04:23Z</dcterms:modified>
  <cp:revision>220</cp:revision>
  <dc:subject/>
  <dc:title>PHOTO-VENT project Development of PV-powered smart  natural ventilation devices  EC DG XII JOULE contract JOR3-CT98-0204</dc:title>
</cp:coreProperties>
</file>