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6624720" cy="9810720"/>
          </a:xfrm>
          <a:custGeom>
            <a:avLst/>
            <a:gdLst>
              <a:gd name="textAreaLeft" fmla="*/ 360 w 6624720"/>
              <a:gd name="textAreaRight" fmla="*/ 6624360 w 6624720"/>
              <a:gd name="textAreaTop" fmla="*/ 360 h 9810720"/>
              <a:gd name="textAreaBottom" fmla="*/ 9810360 h 9810720"/>
            </a:gdLst>
            <a:ahLst/>
            <a:rect l="textAreaLeft" t="textAreaTop" r="textAreaRight" b="textAreaBottom"/>
            <a:pathLst>
              <a:path w="21600" h="31987">
                <a:moveTo>
                  <a:pt x="5" y="0"/>
                </a:moveTo>
                <a:arcTo wR="5" hR="5" stAng="16200000" swAng="-5400000"/>
                <a:lnTo>
                  <a:pt x="0" y="31982"/>
                </a:lnTo>
                <a:arcTo wR="5" hR="5" stAng="10800000" swAng="-5400000"/>
                <a:lnTo>
                  <a:pt x="21595" y="3198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375300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1"/>
          </p:nvPr>
        </p:nvSpPr>
        <p:spPr>
          <a:xfrm>
            <a:off x="375300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6A681-35F9-42F2-8A2F-83D92CFDC8FD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Img"/>
          </p:nvPr>
        </p:nvSpPr>
        <p:spPr>
          <a:xfrm>
            <a:off x="555120" y="783720"/>
            <a:ext cx="5327640" cy="399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192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2FC9B-0251-48D4-8769-C1815FB87EC5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EF75-E15F-4B79-B714-C3150726BEEA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E32C6-87AE-4E1E-8A45-56A03144ED51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9796-B9CC-4376-9E57-F39586A7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AF6A-2DC5-4F63-A5B7-2D0C614F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3771-3260-41E3-8C8C-DE657B99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76F7-71C4-4D04-9322-D870ED20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E87-304B-4FF6-8833-CD39E59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62B-9905-400E-A609-D1FD76CD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5B0-1B5E-41B9-91B3-77F2FB20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8460-A482-49CF-A787-D8CDC93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7D46-6BC8-469E-AABC-CF13FC0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AA65-D2B4-40E2-A18A-69C00096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7E0-9730-4AC8-BA57-EBFCB7E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D97F-1CD9-49B3-805A-57E12B0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131-4DEA-474B-A1E6-5D625E5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086-405B-4EF1-9C8C-45A82C1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C1F3-DF77-466B-AB6E-E0E1EEEF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C53A-4C48-4364-A5AC-6316BE9E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8858-284A-4F57-97AE-0D987D4C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345E-9DB9-48DF-B6DB-2A1FD87C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C557-9CF6-4867-B7C2-83CFE24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B7FC-7CF5-47D2-8E52-BCFB0A4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5990-701F-4AAF-A2F0-35723CFB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A87A-E355-4710-A738-0A23DA4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8231-9C24-4FB1-A9B9-90B3FCC1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8784-3856-4C5D-9C95-012C26A3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4465-C936-43F5-9244-92E5E77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27C1-9D94-4019-B343-4A0DE33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1A75-3246-4A33-84E7-D33EDD0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A7AF-2CEA-495B-9AF3-7101DC93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A80E-27D3-4FE9-8B31-334A52FC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8F83-D8CB-4106-8F74-15731E32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AB5BF-C2FD-4A7C-9AF2-F99F768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7F7F9-8A8C-4EBE-B366-0B5977BF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EA866-80D0-4E4E-8935-B0D6CC4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FE14-20A6-46C7-8468-54871330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68783-5361-475A-B3B9-90C8E6B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67734-1044-4AE3-8E0E-5236FE7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A6C71-2711-46CE-B92C-07EAFB24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5739C-8784-4F46-88BC-0278DE4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9D922-D75D-45D6-ACB3-5F4B1174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93A96-94DA-42CB-975A-B0E18AE8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F037A-4088-4A9F-980F-838F937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86838-25B6-4C03-B6B3-D35ACC31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5E45E-F388-4E84-8CC6-88AB7822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94E8-23EF-4B29-B1D2-63B6A8C0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1B14-A491-479C-ADD8-3418AF2B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3306-B99F-4104-80C8-9ECC0B03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57E3-5733-4C3C-9A9F-97CB293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EEB4-B9F0-46D2-B108-B826FE6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04EF-FC48-4283-970E-F308065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43E3-A697-4795-B540-085D616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FA75-DE6B-413F-9C0F-4956F27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5F0B-1BD4-422E-A7F9-C2F53C4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C272-5580-46E2-A910-5327A58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8ED1-4125-464B-A5EA-DFC0846B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2444-45AF-4C8C-BADA-77D0C372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FD91-083E-4FA2-BE12-1D43E4B8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DE06-D0AC-4A8F-B475-6506DFEE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A0C22-D74D-417A-B9BC-4E8CEF32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F201-00A6-4649-BE55-BD28E9B3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D8C4-B018-4399-BA76-51EAF33E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019D-85CA-462F-A189-2F154D6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5139-18B2-40D1-87D1-EC9AF2A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E810-E0E9-482D-8DAE-8F9018AB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5AA3-E28E-46DA-9CA3-A3534AF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9A390-BF23-4B25-9D3A-601FB6F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A7F6-FCAA-4324-B397-531FF49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225D-A16D-4757-8962-2367E47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C9AF-F0AC-4265-A8DC-3A6BA6C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2986-E103-4773-91D1-19C764E9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0268-C3F2-4B14-B044-6AC74BD5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402D-0533-420B-A896-CB33366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81F4-11CE-4A54-BB27-737AC51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359C4-0250-43D8-B792-D6C91CD67BE7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103620-72C2-40CB-ABBF-78D96B730A1C}" type="slidenum">
              <a: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9BE634-9EDF-4BB5-B3D9-20E430029B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AF6B48-F380-4421-9A44-8DCB99C59A6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19BBF-2981-4FF7-ABE1-2F036A49AC7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28AB-05BA-4F3E-A285-EB56BA8853B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35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em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l del cristal en la cre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 clima interior y eficiencia energé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4724280"/>
            <a:ext cx="60642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ccff"/>
                </a:solidFill>
                <a:latin typeface="Arial"/>
              </a:rPr>
              <a:t>Alain J. Kaczor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00ccff"/>
                </a:solidFill>
                <a:latin typeface="Arial"/>
              </a:rPr>
              <a:t>AGENTE DEL GRUPO AGC PARA CHILE Y ARGEN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1143000"/>
          <a:ext cx="161928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143000"/>
                    <a:ext cx="1619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Transmisión de Luz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T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4979880"/>
            <a:ext cx="2438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Reflexión de Luz (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64160" y="5727600"/>
            <a:ext cx="215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59320" y="1865160"/>
            <a:ext cx="839880" cy="361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2360" y="2733840"/>
            <a:ext cx="3990960" cy="2309760"/>
          </a:xfr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30840" y="4446720"/>
            <a:ext cx="228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Transmisión de Luz</a:t>
            </a:r>
            <a:br>
              <a:rPr sz="2400"/>
            </a:b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(T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Factor Solar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040280" y="1789200"/>
            <a:ext cx="839520" cy="361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454560"/>
            <a:ext cx="1806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54320" y="45640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58080" y="229068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75400" y="45640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21080" y="2147760"/>
            <a:ext cx="3544920" cy="280692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59280" y="3429000"/>
            <a:ext cx="246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567560" y="2209680"/>
            <a:ext cx="1616040" cy="3125880"/>
            <a:chOff x="7567560" y="2209680"/>
            <a:chExt cx="1616040" cy="3125880"/>
          </a:xfrm>
        </p:grpSpPr>
        <p:sp>
          <p:nvSpPr>
            <p:cNvPr id="560" name=""/>
            <p:cNvSpPr/>
            <p:nvPr/>
          </p:nvSpPr>
          <p:spPr>
            <a:xfrm>
              <a:off x="8070840" y="318276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567560" y="2209680"/>
              <a:ext cx="536760" cy="3125880"/>
              <a:chOff x="7567560" y="2209680"/>
              <a:chExt cx="536760" cy="3125880"/>
            </a:xfrm>
          </p:grpSpPr>
          <p:sp>
            <p:nvSpPr>
              <p:cNvPr id="562" name=""/>
              <p:cNvSpPr/>
              <p:nvPr/>
            </p:nvSpPr>
            <p:spPr>
              <a:xfrm>
                <a:off x="7721640" y="2209680"/>
                <a:ext cx="1440" cy="3124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7567560" y="22096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7567560" y="5334120"/>
                <a:ext cx="15552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7719840" y="3733920"/>
                <a:ext cx="38448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567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Coeficiente de Sombra (Shading coefici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901800" y="1335240"/>
            <a:ext cx="7797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L FACTOR SOLAR (FS) DE UN CRISTAL INCOL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DE 3 mm DE ESPESOR = 8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LA RELACION DEL FACTOR SOLAR DE CUALQU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CRISTAL A ESE CRISTAL DE REFER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SE EXPRESA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 u="sng">
                <a:solidFill>
                  <a:srgbClr val="ffcc00"/>
                </a:solidFill>
                <a:uFillTx/>
                <a:latin typeface="Arial"/>
              </a:rPr>
              <a:t>FACTOR SOLAR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SO ES EL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COEFICIENTE DE SOMBRA</a:t>
            </a: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 (Sh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NO TIENE UNIDADES (ES UNA RELACÍ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SE USA EN CALCULOS DE CLIMA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324480" y="1371600"/>
            <a:ext cx="213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in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1219320"/>
            <a:ext cx="21333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ex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942160" y="3498840"/>
            <a:ext cx="2085480" cy="306000"/>
            <a:chOff x="5942160" y="3498840"/>
            <a:chExt cx="2085480" cy="306000"/>
          </a:xfrm>
        </p:grpSpPr>
        <p:sp>
          <p:nvSpPr>
            <p:cNvPr id="574" name=""/>
            <p:cNvSpPr/>
            <p:nvPr/>
          </p:nvSpPr>
          <p:spPr>
            <a:xfrm>
              <a:off x="61815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64116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833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0800000">
              <a:off x="59767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959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73260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68911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387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800000">
              <a:off x="68688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405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64339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31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77832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49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73483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94216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522440" y="3498840"/>
            <a:ext cx="2085480" cy="306000"/>
            <a:chOff x="1522440" y="3498840"/>
            <a:chExt cx="2085480" cy="306000"/>
          </a:xfrm>
        </p:grpSpPr>
        <p:sp>
          <p:nvSpPr>
            <p:cNvPr id="592" name=""/>
            <p:cNvSpPr/>
            <p:nvPr/>
          </p:nvSpPr>
          <p:spPr>
            <a:xfrm>
              <a:off x="17622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19918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636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15570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766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29062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780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24714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94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24490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208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0800000">
              <a:off x="20142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38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00000">
              <a:off x="33634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52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0800000">
              <a:off x="29286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52244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614920" y="2403360"/>
            <a:ext cx="1074960" cy="2500560"/>
            <a:chOff x="5614920" y="2403360"/>
            <a:chExt cx="1074960" cy="2500560"/>
          </a:xfrm>
        </p:grpSpPr>
        <p:sp>
          <p:nvSpPr>
            <p:cNvPr id="610" name=""/>
            <p:cNvSpPr/>
            <p:nvPr/>
          </p:nvSpPr>
          <p:spPr>
            <a:xfrm>
              <a:off x="5614920" y="2465280"/>
              <a:ext cx="1067040" cy="2438640"/>
            </a:xfrm>
            <a:custGeom>
              <a:avLst/>
              <a:gdLst>
                <a:gd name="textAreaLeft" fmla="*/ 0 w 1067040"/>
                <a:gd name="textAreaRight" fmla="*/ 533520 w 106704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0800000">
              <a:off x="5638680" y="2403360"/>
              <a:ext cx="1051200" cy="2438640"/>
            </a:xfrm>
            <a:custGeom>
              <a:avLst/>
              <a:gdLst>
                <a:gd name="textAreaLeft" fmla="*/ 515880 w 1051200"/>
                <a:gd name="textAreaRight" fmla="*/ 1051200 w 105120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21040" y="2400480"/>
            <a:ext cx="1093320" cy="2503440"/>
            <a:chOff x="2921040" y="2400480"/>
            <a:chExt cx="1093320" cy="2503440"/>
          </a:xfrm>
        </p:grpSpPr>
        <p:sp>
          <p:nvSpPr>
            <p:cNvPr id="613" name=""/>
            <p:cNvSpPr/>
            <p:nvPr/>
          </p:nvSpPr>
          <p:spPr>
            <a:xfrm>
              <a:off x="2921040" y="2400480"/>
              <a:ext cx="1066680" cy="2438280"/>
            </a:xfrm>
            <a:custGeom>
              <a:avLst/>
              <a:gdLst>
                <a:gd name="textAreaLeft" fmla="*/ 533160 w 1066680"/>
                <a:gd name="textAreaRight" fmla="*/ 1066680 w 1066680"/>
                <a:gd name="textAreaTop" fmla="*/ 1218960 h 2438280"/>
                <a:gd name="textAreaBottom" fmla="*/ 2438280 h 2438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947680" y="2465280"/>
              <a:ext cx="1066680" cy="2438640"/>
            </a:xfrm>
            <a:custGeom>
              <a:avLst/>
              <a:gdLst>
                <a:gd name="textAreaLeft" fmla="*/ 0 w 1066680"/>
                <a:gd name="textAreaRight" fmla="*/ 533160 w 1066680"/>
                <a:gd name="textAreaTop" fmla="*/ 1219320 h 2438640"/>
                <a:gd name="textAreaBottom" fmla="*/ 243864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197240" y="1835280"/>
            <a:ext cx="1206720" cy="341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37160" y="4559400"/>
            <a:ext cx="266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2296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3280" y="40258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7240" y="3352680"/>
            <a:ext cx="1206720" cy="596880"/>
          </a:xfrm>
          <a:prstGeom prst="leftArrow">
            <a:avLst>
              <a:gd name="adj1" fmla="val 50000"/>
              <a:gd name="adj2" fmla="val 6084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692360" y="5516640"/>
            <a:ext cx="6478560" cy="930240"/>
            <a:chOff x="1692360" y="5516640"/>
            <a:chExt cx="6478560" cy="930240"/>
          </a:xfrm>
        </p:grpSpPr>
        <p:sp>
          <p:nvSpPr>
            <p:cNvPr id="621" name=""/>
            <p:cNvSpPr/>
            <p:nvPr/>
          </p:nvSpPr>
          <p:spPr>
            <a:xfrm>
              <a:off x="1692360" y="5745240"/>
              <a:ext cx="21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Times New Roman"/>
                </a:rPr>
                <a:t>Valor-U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9800" y="5516640"/>
              <a:ext cx="213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35280" y="5973840"/>
              <a:ext cx="282096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68520" y="6049800"/>
              <a:ext cx="335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7200" y="5745240"/>
              <a:ext cx="21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          </a:t>
              </a: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(W/m2.∆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72728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46040" y="4559400"/>
            <a:ext cx="26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13644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Valor-U (no depende del sol...)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3653280" y="55166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s-ES" sz="1800" spc="-1" strike="noStrike">
                <a:solidFill>
                  <a:srgbClr val="f62a08"/>
                </a:solidFill>
                <a:latin typeface="Tahoma"/>
              </a:rPr>
              <a:t>calor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vi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36640" y="59641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unto caliente al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149560" y="1557000"/>
            <a:ext cx="576720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TL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   : Transmis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: Reflex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FS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: Factor So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S (ShC)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 : Coeficiente de Sombra (Shading Coef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62a08"/>
                </a:solidFill>
                <a:latin typeface="Tahoma"/>
              </a:rPr>
              <a:t>Valor-U   </a:t>
            </a:r>
            <a:r>
              <a:rPr b="0" lang="es-ES" sz="2800" spc="-1" strike="noStrike">
                <a:solidFill>
                  <a:srgbClr val="f62a08"/>
                </a:solidFill>
                <a:latin typeface="Tahoma"/>
              </a:rPr>
              <a:t> : Valor-U (o Valor-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Parámetros esté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Color en reflexión, en trans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Aspectos del ‘Procesamiento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Tratamiento térmico, serigrafía,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n resume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Factor Solar o Valor-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Ganancia Relativa de Calor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ahoma"/>
              </a:rPr>
              <a:t>(RHG Relative Heat Ga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= ([630 W x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hC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 + [8ºC x </a:t>
            </a: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Valor U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) expresado en W/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ffff"/>
                </a:solidFill>
                <a:uFillTx/>
                <a:latin typeface="Tahoma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5,5  RHG = 296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5,5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01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74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180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Alta transmisión de Luz o Factor Solar baj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23ff23"/>
                </a:solidFill>
                <a:latin typeface="Tahoma"/>
              </a:rPr>
              <a:t>* La luz se puede controlar con cort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* El calor que entró por el vidrio NO se puede controlar a posteri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2117880" y="1371600"/>
            <a:ext cx="1064880" cy="4164120"/>
            <a:chOff x="2117880" y="1371600"/>
            <a:chExt cx="1064880" cy="4164120"/>
          </a:xfrm>
        </p:grpSpPr>
        <p:sp>
          <p:nvSpPr>
            <p:cNvPr id="638" name=""/>
            <p:cNvSpPr/>
            <p:nvPr/>
          </p:nvSpPr>
          <p:spPr>
            <a:xfrm>
              <a:off x="2117880" y="365760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06800" y="354960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24080" y="342432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41720" y="290988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60440" y="2841480"/>
              <a:ext cx="32040" cy="269424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79520" y="274968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7160" y="247500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14440" y="231948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33520" y="2217600"/>
              <a:ext cx="30240" cy="331812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95480" y="202104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36760" y="1701720"/>
              <a:ext cx="65160" cy="383400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86080" y="160344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06600" y="150192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14600" y="137160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87600" y="1403280"/>
              <a:ext cx="74520" cy="413244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52760" y="141300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0040" y="1407960"/>
              <a:ext cx="33480" cy="412776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87680" y="140652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8200" y="1403280"/>
              <a:ext cx="31680" cy="413244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25840" y="1403280"/>
              <a:ext cx="31680" cy="413244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6360" y="1403280"/>
              <a:ext cx="31680" cy="413244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2200" y="142416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79840" y="145260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98920" y="148284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4760" y="1500120"/>
              <a:ext cx="33120" cy="403560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8520" y="149400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54360" y="148284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71640" y="147636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90720" y="147168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9800" y="147168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27440" y="147168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46520" y="148284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3800" y="150192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1440" y="151920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1960" y="1531800"/>
              <a:ext cx="28440" cy="400392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6360" y="1547640"/>
              <a:ext cx="33120" cy="398808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38320" y="174960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52720" y="212256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5040" y="172080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89440" y="172080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960" y="172404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29040" y="1736640"/>
              <a:ext cx="31680" cy="379908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46320" y="174780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62160" y="200340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81240" y="200340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00320" y="2004840"/>
              <a:ext cx="33480" cy="353088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19400" y="202248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41720" y="346716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64492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632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82760" y="5545080"/>
            <a:ext cx="180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5276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452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85092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7668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1132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1308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3860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45040" y="5545080"/>
            <a:ext cx="180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4680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8324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5324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0228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165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736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8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18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3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64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53076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080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7220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0900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4196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993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02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372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81080" y="5537160"/>
            <a:ext cx="5562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90800" y="1673280"/>
            <a:ext cx="5065560" cy="385740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6600" y="1557360"/>
            <a:ext cx="38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: Mucha luz, much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240" y="13510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41160" y="528156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28480" y="326556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7360" y="5694480"/>
            <a:ext cx="56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80 380        780        1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500 2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96920" y="3006720"/>
            <a:ext cx="5472360" cy="2525760"/>
          </a:xfrm>
          <a:noFill/>
          <a:ln w="255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94600" y="4653000"/>
            <a:ext cx="326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loat incoloro con capa sele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ucha luz, poc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0484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38480" y="555300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504880" y="555300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44920" y="555300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16080" y="5551560"/>
            <a:ext cx="18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73480" y="554832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76680" y="5549760"/>
            <a:ext cx="144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01960" y="55515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2740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05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1952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7184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981080" y="1293840"/>
            <a:ext cx="1800" cy="427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570600" y="3312360"/>
            <a:ext cx="342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 energ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57800" y="60199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 [n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Nuevo concepto importante 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79840" y="320040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Selectividad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86400" y="29718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Transmis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38680" y="3429000"/>
            <a:ext cx="2362320" cy="144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80040" y="3505320"/>
            <a:ext cx="33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Factor 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01000" y="320040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&lt;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832120"/>
            <a:ext cx="5473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99640" y="1896840"/>
            <a:ext cx="731844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LOS CRISTALES</a:t>
            </a:r>
            <a:br>
              <a:rPr sz="4400"/>
            </a:b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DE CONTROL SOLA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6560" y="9000"/>
            <a:ext cx="8153640" cy="17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RES FORMAS DE CONTROL SOLAR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1) Absorbe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2) Refleja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) Filtrar la energía (los rayos infra-roj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4040280" y="2133720"/>
            <a:ext cx="839520" cy="32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32000" y="3429000"/>
            <a:ext cx="18064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54320" y="46306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0200" y="220500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75400" y="46306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21080" y="2416320"/>
            <a:ext cx="3544920" cy="253836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3429000"/>
            <a:ext cx="158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523280" y="2205000"/>
            <a:ext cx="1616040" cy="3125880"/>
            <a:chOff x="7523280" y="2205000"/>
            <a:chExt cx="1616040" cy="3125880"/>
          </a:xfrm>
        </p:grpSpPr>
        <p:sp>
          <p:nvSpPr>
            <p:cNvPr id="758" name=""/>
            <p:cNvSpPr/>
            <p:nvPr/>
          </p:nvSpPr>
          <p:spPr>
            <a:xfrm>
              <a:off x="8026560" y="317808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7523280" y="2205000"/>
              <a:ext cx="536040" cy="3125880"/>
              <a:chOff x="7523280" y="2205000"/>
              <a:chExt cx="536040" cy="3125880"/>
            </a:xfrm>
          </p:grpSpPr>
          <p:sp>
            <p:nvSpPr>
              <p:cNvPr id="760" name=""/>
              <p:cNvSpPr/>
              <p:nvPr/>
            </p:nvSpPr>
            <p:spPr>
              <a:xfrm>
                <a:off x="7677000" y="2205000"/>
                <a:ext cx="1800" cy="312408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523280" y="220500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523280" y="53290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675200" y="3728880"/>
                <a:ext cx="3841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765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 fill="hold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227240" y="1341360"/>
            <a:ext cx="716112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Filosofía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omod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conom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Los Cristales Antiso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Algunas Defini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Float – El Vidrio Flotado – El Cris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íticos reflec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iticos con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de Baja Emis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con Capa al Vacio de filtro infrarroj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y baja emisividad (Low-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2232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Control solar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¿Como disminuir el Factor Solar (FS)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600200" y="1143000"/>
            <a:ext cx="5867280" cy="2279520"/>
            <a:chOff x="1600200" y="1143000"/>
            <a:chExt cx="5867280" cy="2279520"/>
          </a:xfrm>
        </p:grpSpPr>
        <p:sp>
          <p:nvSpPr>
            <p:cNvPr id="769" name=""/>
            <p:cNvSpPr/>
            <p:nvPr/>
          </p:nvSpPr>
          <p:spPr>
            <a:xfrm>
              <a:off x="3565440" y="2444760"/>
              <a:ext cx="44136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33cccc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57720" y="2444760"/>
              <a:ext cx="43668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ffcc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4352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cc99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580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010199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00200" y="1143000"/>
              <a:ext cx="5867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ffff"/>
                  </a:solidFill>
                  <a:latin typeface="Arial"/>
                </a:rPr>
                <a:t>Modificar la composición del cristal</a:t>
              </a:r>
              <a:br>
                <a:rPr sz="2600"/>
              </a:br>
              <a:r>
                <a:rPr b="0" lang="es-ES" sz="1800" spc="-1" strike="noStrike">
                  <a:solidFill>
                    <a:srgbClr val="00ffff"/>
                  </a:solidFill>
                  <a:latin typeface="Arial"/>
                </a:rPr>
                <a:t>para aumentar la absorción energética (A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Arial"/>
                  <a:ea typeface="SimSun"/>
                </a:rPr>
                <a:t>Vidrio flotado d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600200" y="3581280"/>
            <a:ext cx="7315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Arial"/>
              </a:rPr>
              <a:t>Aplicar una capa metálica</a:t>
            </a:r>
            <a:br>
              <a:rPr sz="2200"/>
            </a:b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ra cambiar la reflexión (RE), la absorción (AE) y/o la emis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pirolíticas (aplicadas en cali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no reflectiva, con filtro para radiación infrarro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al Vacío (aplicadas en Magne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o no, con filtro para radiación infrar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 fill="hold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87280" y="2514600"/>
            <a:ext cx="65851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EL VIDRIO FLO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Flo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Crist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219240" y="484200"/>
            <a:ext cx="25732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Ar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70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74760" y="484200"/>
            <a:ext cx="154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Fundent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76680" y="484200"/>
            <a:ext cx="188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Estabilizador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90360" y="1671480"/>
            <a:ext cx="627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So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32080" y="1671480"/>
            <a:ext cx="10652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Limest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Dolom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Felds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04000" y="4084560"/>
            <a:ext cx="87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H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14360" y="167940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5960" y="183024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89240" y="1989000"/>
            <a:ext cx="536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55760" y="229068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7960" y="21337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77800" y="2251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36840" y="15685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18446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80960" y="18381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3200" y="19447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63600" y="1560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2884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5200" y="17035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87600" y="1703520"/>
            <a:ext cx="5544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73200" y="146196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63680" y="1420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25440" y="134604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50800" y="133020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14360" y="129060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98760" y="1278000"/>
            <a:ext cx="5688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400040" y="237348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0040" y="25225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65200" y="196848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57280" y="1238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1314360"/>
            <a:ext cx="572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74680" y="161928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96920" y="14382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25440" y="146052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96920" y="117144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00240" y="11635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50840" y="13143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19320" y="1701720"/>
            <a:ext cx="5688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94040" y="21272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70280" y="2259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0196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9640" y="242568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22480" y="25257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36880" y="22446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74600" y="15559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68760" y="16016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176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4880" y="18194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54360" y="190008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93960" y="20001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09800" y="171936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38800" y="21272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4680" y="22590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4672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25840" y="24256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67240" y="25257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78400" y="22446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576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3704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92320" y="2665440"/>
            <a:ext cx="3817800" cy="27000"/>
          </a:xfrm>
          <a:solidFill>
            <a:srgbClr val="ffffff"/>
          </a:solidFill>
          <a:ln w="12600">
            <a:solidFill>
              <a:srgbClr val="1919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25440" y="3176640"/>
            <a:ext cx="3759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64280" y="3300480"/>
            <a:ext cx="32832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18040" y="3300480"/>
            <a:ext cx="32724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35840" y="4689360"/>
            <a:ext cx="2509560" cy="5050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72280" y="4057560"/>
            <a:ext cx="909360" cy="46512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1004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59080" y="259092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08600" y="259092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764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84400" y="20480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92520" y="25988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22680" y="256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79880" y="25830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2460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43400" y="27162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0236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51400" y="30560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19880" y="3214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30960" y="293544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46800" y="32828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64240" y="340056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69160" y="32148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68920" y="323676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97520" y="34146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46680" y="35733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35053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18240" y="364644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59280" y="332424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77040" y="34257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040" y="319896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38880" y="309420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51400" y="2906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29240" y="33656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359712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57760" y="371628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86280" y="373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68920" y="385272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19680" y="37782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81600" y="39052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64240" y="398628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83400" y="355752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22920" y="34560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19680" y="405432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3840" y="4195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05360" y="4159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05360" y="40464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56120" y="412740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92920" y="4181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8120" y="407988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99120" y="41814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21520" y="4167360"/>
            <a:ext cx="5688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05400" y="42670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38880" y="43783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72280" y="41274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80280" y="42354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456240" y="43020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62720" y="4410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1640" y="4641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562800" y="49244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62800" y="473076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78640" y="4449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15000" y="45752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65960" y="4559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86480" y="47592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03840" y="478152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27840" y="4562640"/>
            <a:ext cx="2617560" cy="758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6520" y="3552840"/>
            <a:ext cx="2288880" cy="506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72160" y="3932280"/>
            <a:ext cx="21600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31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8984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48680" y="3932280"/>
            <a:ext cx="21888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07160" y="3932280"/>
            <a:ext cx="2192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866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21000" y="905040"/>
            <a:ext cx="62064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2160" y="905040"/>
            <a:ext cx="62100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8944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349360" y="1198440"/>
            <a:ext cx="4953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5148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13200" y="1198440"/>
            <a:ext cx="4935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2320" y="127152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46280" y="157644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14680" y="13939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08280" y="14209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14680" y="113184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16200" y="1123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70040" y="127152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92360" y="165888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380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984400" y="25938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98760" y="259884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49600" y="260676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7780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00160" y="259884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51000" y="260676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7632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92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40080" y="260676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89200" y="259884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40040" y="260676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68600" y="259380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1788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6872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4178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6724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95800" y="25938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7200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1960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3232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8148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756320" y="2590920"/>
            <a:ext cx="536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7720" y="173988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4020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30400" y="18572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60720" y="188280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0400" y="159372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33720" y="15843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86120" y="17352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365720" y="149544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41960" y="1628640"/>
            <a:ext cx="5688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73640" y="17128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2760" y="179532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94160" y="1895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08560" y="16128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8316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6480" y="163512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63860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29160" y="17542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59480" y="17762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29160" y="14875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630680" y="1481040"/>
            <a:ext cx="572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8452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17840" y="186048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9912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38720" y="2043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57720" y="15796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32160" y="171288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29160" y="18525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05400" y="1989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3920" y="5651640"/>
            <a:ext cx="451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Cristal de color (bronce, gris, verde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24000" y="610884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625000" y="5651640"/>
            <a:ext cx="242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+ óxidos metá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26080" y="6108840"/>
            <a:ext cx="193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2.5 kg/m2/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77840" y="577692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7840" y="621648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7543800" y="304920"/>
          <a:ext cx="11145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5280" y="139320"/>
            <a:ext cx="8137440" cy="13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os cristales coloreados en la ma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855800" y="4827600"/>
            <a:ext cx="5686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aja reflex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lta absorción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ronce – Gris – Verde – Azul - Ro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4651200" y="2755800"/>
            <a:ext cx="169920" cy="18846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33760" y="4238640"/>
            <a:ext cx="2909880" cy="168120"/>
          </a:xfr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98920" y="831960"/>
            <a:ext cx="1440" cy="95040"/>
          </a:xfrm>
          <a:prstGeom prst="line">
            <a:avLst/>
          </a:prstGeom>
          <a:ln w="12600">
            <a:solidFill>
              <a:srgbClr val="fff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1520" y="4262400"/>
            <a:ext cx="255600" cy="12528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3800" y="2887560"/>
            <a:ext cx="1554120" cy="96372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60920" y="3240000"/>
            <a:ext cx="147600" cy="378000"/>
          </a:xfr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288120" y="3705120"/>
            <a:ext cx="690480" cy="971640"/>
            <a:chOff x="6288120" y="3705120"/>
            <a:chExt cx="690480" cy="971640"/>
          </a:xfrm>
        </p:grpSpPr>
        <p:sp>
          <p:nvSpPr>
            <p:cNvPr id="996" name=""/>
            <p:cNvSpPr/>
            <p:nvPr/>
          </p:nvSpPr>
          <p:spPr>
            <a:xfrm>
              <a:off x="6648480" y="4419720"/>
              <a:ext cx="33012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15000" y="3705120"/>
              <a:ext cx="35424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40360" y="3765600"/>
              <a:ext cx="399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99240" y="3765600"/>
              <a:ext cx="381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00880" y="3765600"/>
              <a:ext cx="357120" cy="71892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2720" y="38289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91240" y="38289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4320" y="3828960"/>
              <a:ext cx="354240" cy="71748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24720" y="38955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77120" y="38955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88120" y="3895560"/>
              <a:ext cx="35388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13480" y="395748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370560" y="3957480"/>
              <a:ext cx="414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431040" y="4492800"/>
              <a:ext cx="63360" cy="5364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10160" y="3922560"/>
              <a:ext cx="105120" cy="8748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31040" y="3938760"/>
              <a:ext cx="633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305400" y="4610160"/>
              <a:ext cx="33048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46880" y="3951360"/>
              <a:ext cx="30240" cy="2520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l Cristal flotado coloreado en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Selectividad de los Co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018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994280" y="1514520"/>
            <a:ext cx="2538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L = 89 % / FS = 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lectividad =  89/85 =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 1,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94280" y="250524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Float gris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TL = 43 % / FS = 5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c0c0"/>
                </a:solidFill>
                <a:latin typeface="Times New Roman"/>
              </a:rPr>
              <a:t>Selectividad =  43/5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954680" y="342900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TL = 73 % / FS = 5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73/56 =</a:t>
            </a:r>
            <a:r>
              <a:rPr b="1" lang="es-ES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828800" y="5791320"/>
            <a:ext cx="571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54680" y="449568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Float azul oscu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TL = 33 % / FS = 4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ccff"/>
                </a:solidFill>
                <a:latin typeface="Times New Roman"/>
              </a:rPr>
              <a:t>Selectividad =  33/40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REFLEC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YRO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14880" y="3990960"/>
            <a:ext cx="1620720" cy="10620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1280" y="4098960"/>
            <a:ext cx="171756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5072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02060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97000" y="3987720"/>
            <a:ext cx="3736800" cy="4348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225440" y="3992400"/>
            <a:ext cx="5450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6120" y="3349800"/>
            <a:ext cx="857160" cy="53784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8480" y="25020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73200" y="26352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880" y="2395440"/>
            <a:ext cx="4464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269064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7040" y="27925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8480" y="26352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3160" y="26542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04760" y="280368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73000" y="2936880"/>
            <a:ext cx="478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8360" y="28828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4560" y="300024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85960" y="272556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6200" y="28116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5200" y="26193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1560" y="252720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745320" y="3994200"/>
            <a:ext cx="167472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8480" y="23716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2280" y="27622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960" y="29574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3800" y="305928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06480" y="30780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03160" y="317484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51040" y="3111480"/>
            <a:ext cx="442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03240" y="321624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7040" y="32893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12960" y="292572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61840" y="2838600"/>
            <a:ext cx="46080" cy="489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51040" y="33465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5200" y="3465360"/>
            <a:ext cx="4752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22320" y="343692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22320" y="334008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69840" y="34099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87560" y="3454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12760" y="3367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77920" y="34545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87360" y="3552840"/>
            <a:ext cx="4464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2240" y="363384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389240" y="3727440"/>
            <a:ext cx="457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33440" y="3517920"/>
            <a:ext cx="4464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22360" y="360684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92200" y="3664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98680" y="375300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76440" y="39528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589040" y="4194000"/>
            <a:ext cx="4608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9040" y="4030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98760" y="3792600"/>
            <a:ext cx="4572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31880" y="38941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501920" y="38829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17760" y="405432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19280" y="40734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16000" y="3886200"/>
            <a:ext cx="4000680" cy="64296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03280" y="3025800"/>
            <a:ext cx="36194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593720" y="3349800"/>
            <a:ext cx="1908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19440" y="3349800"/>
            <a:ext cx="19188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46240" y="3349800"/>
            <a:ext cx="1904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68360" y="3349800"/>
            <a:ext cx="1922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98760" y="3349800"/>
            <a:ext cx="1872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725560" y="3349800"/>
            <a:ext cx="1890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742080" y="3989160"/>
            <a:ext cx="1800" cy="11412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4880" y="3025800"/>
            <a:ext cx="23846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48400" y="3519360"/>
            <a:ext cx="1800" cy="25416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581800" y="3897360"/>
            <a:ext cx="7128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11840" y="3881520"/>
            <a:ext cx="430200" cy="11088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64600" y="3882960"/>
            <a:ext cx="314280" cy="4752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778880" y="3925800"/>
            <a:ext cx="61884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97480" y="3992400"/>
            <a:ext cx="252360" cy="1800"/>
          </a:xfrm>
          <a:prstGeom prst="line">
            <a:avLst/>
          </a:prstGeom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54520" y="3992400"/>
            <a:ext cx="241560" cy="1800"/>
          </a:xfrm>
          <a:prstGeom prst="line">
            <a:avLst/>
          </a:prstGeom>
          <a:ln w="25560">
            <a:solidFill>
              <a:srgbClr val="ffb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96080" y="3992400"/>
            <a:ext cx="2570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54560" y="3992400"/>
            <a:ext cx="54468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845320" y="3897360"/>
            <a:ext cx="680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10560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6732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73920" y="3894120"/>
            <a:ext cx="950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43840" y="3886200"/>
            <a:ext cx="317520" cy="144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1688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6124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90740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05500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90000" y="3916440"/>
            <a:ext cx="5544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353440" y="3916440"/>
            <a:ext cx="5400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82000" y="3894120"/>
            <a:ext cx="968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86480" y="3894120"/>
            <a:ext cx="10008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56720" y="3022560"/>
            <a:ext cx="87120" cy="115920"/>
          </a:xfrm>
          <a:prstGeom prst="rect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732800" y="1954080"/>
            <a:ext cx="517320" cy="67176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7897680" y="1387440"/>
            <a:ext cx="211320" cy="69840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7854840" y="342108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0560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977240" y="322272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8344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94520" y="3402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94520" y="3321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047080" y="3262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188200" y="349884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0661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08344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959600" y="355932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72480" y="375768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854840" y="363852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834320" y="3559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81760" y="36576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8176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5960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24680" y="369900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90560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13600" y="3678120"/>
            <a:ext cx="288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8360" y="37782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172360" y="36781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294760" y="37576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207280" y="38368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031240" y="385596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2407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94520" y="3519360"/>
            <a:ext cx="2556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066160" y="34210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134200" y="344016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94520" y="3162240"/>
            <a:ext cx="25560" cy="302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86880" y="3873600"/>
            <a:ext cx="31680" cy="38160"/>
          </a:xfrm>
          <a:prstGeom prst="ellipse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889760" y="3876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53040" y="349092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14800" y="1066680"/>
            <a:ext cx="3409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CAPA DE ÓXIDOS METÁLICOS DEPOSITADA SOBRE FLOAT CALIENTE A LA SALIDA DEL H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PARA AUMENTAR LA REFLEXIÓN ENERGÉTICA (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7620120" y="5791320"/>
          <a:ext cx="1114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79132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 REFL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1932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LA CAPA METÁLICA PUEDE SER COLOCADA H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INTERIOR (CARA #2)  : EL REFLEJO TOMA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EXTERIOR (CARA #1) :  EL REFLEJO ES ESPEJ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819520" y="2895480"/>
            <a:ext cx="148572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350880" y="3276720"/>
            <a:ext cx="917640" cy="3045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00400" y="350532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8000" y="3581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ffcc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79132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2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375160" y="1565280"/>
            <a:ext cx="248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73/56 = 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29800" y="2286000"/>
            <a:ext cx="2931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1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31/34 = 0,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PIROLITICOS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La Selectividad de las Capas Pirolíticas refle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342040" y="2971800"/>
            <a:ext cx="33764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2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4/44 =1,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capa metálica reflectiva modif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Transmisión de Luz (TL) y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Factor Solar (FS) y por end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sele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ON FILTRO INFRARRO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289080"/>
            <a:ext cx="8153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Con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Sensación térmica estable y homogé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No se puede tener los pies fríos y la cabeza cal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y decir que en promedio uno está cómo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uena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Mejora el ánimo y la productividad”</a:t>
            </a: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 del encandila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Sin cortinas ni anteojo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Estética int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ajo nivel de 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El confort es un derecho, no un lu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CON FILTRO INFRARRO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258920" y="4869000"/>
            <a:ext cx="6954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RECOMIENDA COLOCAR LA CAPA HACIA 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NO HAY DIFERENCIA DE ASP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PUEDE APROVECHAR LA BAJA EMISIVIDAD DE ESAS CAP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55640" y="152280"/>
            <a:ext cx="8236080" cy="12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tra Definición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BAJA EMIS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"/>
          <p:cNvSpPr/>
          <p:nvPr/>
        </p:nvSpPr>
        <p:spPr>
          <a:xfrm>
            <a:off x="898560" y="177336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LA EMISIVIDAD ES UNA PROPIEDAD DE SUPERFICIE DE LOS MATERIALES QUE DEFINE LA CAPACIDAD DE EMITIR o ABSORBER RAD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UN CUERPO OPACO TIENE UNA ABSORCIÓN Y UNA EMISIVIDAD ELE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UNA CAPA DE BAJA EMISIVIDAD NO ABSORBE LA RADIACIÓN (INFRARROJA) Y LA DEVUELVE HACIA SU FUENTE DE O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1771560" y="507600"/>
            <a:ext cx="211464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INVIE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5983200" y="46188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812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3360" y="13716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03244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17680" y="13860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672000" y="3006720"/>
            <a:ext cx="709560" cy="30240"/>
          </a:xfrm>
          <a:solidFill>
            <a:srgbClr val="ffaa7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11600" y="3038400"/>
            <a:ext cx="638280" cy="241200"/>
          </a:xfrm>
          <a:solidFill>
            <a:srgbClr val="cc44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72000" y="2871720"/>
            <a:ext cx="709560" cy="136440"/>
          </a:xfrm>
          <a:solidFill>
            <a:srgbClr val="ad69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624040" y="398952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55760" y="2346480"/>
            <a:ext cx="3715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54440" y="2346480"/>
            <a:ext cx="3697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24040" y="2346480"/>
            <a:ext cx="216000" cy="648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40040" y="2346480"/>
            <a:ext cx="41400" cy="1709640"/>
          </a:xfrm>
          <a:solidFill>
            <a:srgbClr val="9f9f9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46840" y="400536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46840" y="2360520"/>
            <a:ext cx="216000" cy="6516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9600" y="2360520"/>
            <a:ext cx="57240" cy="1711440"/>
          </a:xfrm>
          <a:solidFill>
            <a:srgbClr val="f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62840" y="2360520"/>
            <a:ext cx="3682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21320" y="2360520"/>
            <a:ext cx="3700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87560" y="2459160"/>
            <a:ext cx="1447920" cy="1141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80040" y="2516040"/>
            <a:ext cx="1587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4278240" y="2571840"/>
            <a:ext cx="6480" cy="144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87560" y="3540240"/>
            <a:ext cx="1428840" cy="284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86160" y="3525840"/>
            <a:ext cx="1605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4284360" y="3581280"/>
            <a:ext cx="4680" cy="180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71720" y="3819600"/>
            <a:ext cx="790560" cy="365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09840" y="2516040"/>
            <a:ext cx="1868400" cy="45432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344760" y="2900520"/>
            <a:ext cx="166680" cy="1076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3357360" y="2950920"/>
            <a:ext cx="28440" cy="1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646600" y="2496960"/>
            <a:ext cx="1132200" cy="33840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72000" y="838080"/>
            <a:ext cx="1440" cy="41911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697280" y="3425760"/>
            <a:ext cx="555840" cy="25884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79960" y="3402000"/>
            <a:ext cx="858960" cy="3398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73760" y="3797280"/>
            <a:ext cx="965160" cy="351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02080" y="3770280"/>
            <a:ext cx="638280" cy="1191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018040" y="3635280"/>
            <a:ext cx="920880" cy="16200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695840" y="3579840"/>
            <a:ext cx="525600" cy="44748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99040" y="3794040"/>
            <a:ext cx="117360" cy="5724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987800" y="3830760"/>
            <a:ext cx="49320" cy="442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72160" y="3770280"/>
            <a:ext cx="109440" cy="874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67360" y="3551400"/>
            <a:ext cx="92160" cy="2156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83040" y="3433680"/>
            <a:ext cx="177840" cy="4190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853160" y="3533760"/>
            <a:ext cx="104760" cy="146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95840" y="3471840"/>
            <a:ext cx="236520" cy="2732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67360" y="3579840"/>
            <a:ext cx="30240" cy="16524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99040" y="3494160"/>
            <a:ext cx="100080" cy="572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68760" y="3494160"/>
            <a:ext cx="154080" cy="63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53160" y="3533760"/>
            <a:ext cx="114120" cy="15732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67360" y="3579840"/>
            <a:ext cx="39600" cy="17604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18240" y="3494160"/>
            <a:ext cx="66600" cy="554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94400" y="3424320"/>
            <a:ext cx="353880" cy="21888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556240" y="3490920"/>
            <a:ext cx="104760" cy="8424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213520" y="3494160"/>
            <a:ext cx="303120" cy="13500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97360" y="3719520"/>
            <a:ext cx="152640" cy="36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68800" y="3760920"/>
            <a:ext cx="130320" cy="3312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51520" y="3811680"/>
            <a:ext cx="96840" cy="666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175360" y="3710160"/>
            <a:ext cx="765000" cy="885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95840" y="3884760"/>
            <a:ext cx="426960" cy="1332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33800" y="3562200"/>
            <a:ext cx="24120" cy="10332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876920" y="3540240"/>
            <a:ext cx="23760" cy="648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9080" y="3343320"/>
            <a:ext cx="139680" cy="58428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59200" y="3878280"/>
            <a:ext cx="52560" cy="3492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751280" y="3813120"/>
            <a:ext cx="104760" cy="684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21400" y="3691080"/>
            <a:ext cx="77760" cy="23004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62440" y="3502080"/>
            <a:ext cx="33480" cy="18252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90960" y="3819600"/>
            <a:ext cx="7632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67280" y="3784680"/>
            <a:ext cx="68400" cy="396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87800" y="3603600"/>
            <a:ext cx="25560" cy="10656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94280" y="3724200"/>
            <a:ext cx="23760" cy="54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49840" y="3913200"/>
            <a:ext cx="290520" cy="7308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62440" y="3898800"/>
            <a:ext cx="5400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81520" y="3830760"/>
            <a:ext cx="241200" cy="6192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987800" y="3859200"/>
            <a:ext cx="131760" cy="3960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43440" y="3765600"/>
            <a:ext cx="95400" cy="3960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43440" y="3765600"/>
            <a:ext cx="95400" cy="396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83080" y="4041720"/>
            <a:ext cx="198720" cy="11916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151600" y="3997440"/>
            <a:ext cx="158760" cy="8388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81640" y="3755880"/>
            <a:ext cx="557280" cy="65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421240" y="3778200"/>
            <a:ext cx="452520" cy="6048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884840" y="4073400"/>
            <a:ext cx="7776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27680" y="4043520"/>
            <a:ext cx="4284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78440" y="4013280"/>
            <a:ext cx="41400" cy="489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84920" y="3936960"/>
            <a:ext cx="36360" cy="586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657680" y="3944880"/>
            <a:ext cx="61920" cy="889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62360" y="3867120"/>
            <a:ext cx="63720" cy="1303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6520" y="3873600"/>
            <a:ext cx="38160" cy="93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56120" y="3862440"/>
            <a:ext cx="33480" cy="730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49840" y="3836880"/>
            <a:ext cx="55440" cy="5724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70360" y="3862440"/>
            <a:ext cx="58680" cy="1191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18160" y="3890880"/>
            <a:ext cx="50760" cy="90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84760" y="3994200"/>
            <a:ext cx="103320" cy="39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18240" y="3876840"/>
            <a:ext cx="26640" cy="72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36960" y="3841920"/>
            <a:ext cx="55800" cy="568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51360" y="3914640"/>
            <a:ext cx="55440" cy="828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94120" y="3867120"/>
            <a:ext cx="50760" cy="117360"/>
          </a:xfrm>
          <a:noFill/>
          <a:ln w="12600">
            <a:solidFill>
              <a:srgbClr val="ff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45120" y="3375000"/>
            <a:ext cx="1630440" cy="4669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89760" y="3436920"/>
            <a:ext cx="677880" cy="3128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9000" y="3726000"/>
            <a:ext cx="80640" cy="8892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87560" y="2516040"/>
            <a:ext cx="1254240" cy="42408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88080" y="2971800"/>
            <a:ext cx="155880" cy="10008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77000" y="2808360"/>
            <a:ext cx="838080" cy="23184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11720" y="2825640"/>
            <a:ext cx="671760" cy="20952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965920" y="2949480"/>
            <a:ext cx="171360" cy="1382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670200" y="4114800"/>
            <a:ext cx="530280" cy="966960"/>
            <a:chOff x="3670200" y="4114800"/>
            <a:chExt cx="530280" cy="966960"/>
          </a:xfrm>
        </p:grpSpPr>
        <p:sp>
          <p:nvSpPr>
            <p:cNvPr id="1402" name=""/>
            <p:cNvSpPr/>
            <p:nvPr/>
          </p:nvSpPr>
          <p:spPr>
            <a:xfrm>
              <a:off x="3946680" y="4824360"/>
              <a:ext cx="253800" cy="6660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21120" y="4114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094280" y="4175280"/>
              <a:ext cx="3168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86280" y="4175280"/>
              <a:ext cx="3024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33640" y="4175280"/>
              <a:ext cx="273240" cy="71424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11480" y="4238640"/>
              <a:ext cx="3204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02040" y="423864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51200" y="4238640"/>
              <a:ext cx="271440" cy="7128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2904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81492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70200" y="4303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4336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3392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80000" y="4897440"/>
              <a:ext cx="48960" cy="5400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763800" y="4330800"/>
              <a:ext cx="81000" cy="8712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780000" y="4346640"/>
              <a:ext cx="489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684600" y="5014800"/>
              <a:ext cx="254160" cy="6696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92600" y="4359240"/>
              <a:ext cx="22320" cy="255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712800" y="513864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Los cristales de baja emisividad reflejan 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(rayos infrarrojos) hacia el lado mas ca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1320" y="579132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4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437440" y="26370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Cristales Pirolíticos con filtro infrarrojo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444640" y="3573360"/>
            <a:ext cx="3768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La Transmisión Luminosa y el Factor So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Bajan parejo y no se altera la selectiv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Incluso se mej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AL VACÍO CON FILTRO INFRARROJO 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08160" y="126720"/>
            <a:ext cx="733752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CRISTALES CON CAP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ACÍ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GNETRON (Fuera de lí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29800" y="2697120"/>
            <a:ext cx="216396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átodo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09800" y="3075120"/>
            <a:ext cx="243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 ionizado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10200" y="2295360"/>
            <a:ext cx="118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Im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911640" y="426420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912000" y="4721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841760" y="391644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2000" y="3218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A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60920" y="2548080"/>
            <a:ext cx="1861920" cy="517320"/>
          </a:xfrm>
          <a:solidFill>
            <a:srgbClr val="2a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994200" y="2460600"/>
            <a:ext cx="46044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927680" y="2460600"/>
            <a:ext cx="46188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760920" y="4475160"/>
            <a:ext cx="186192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687840" y="4476600"/>
            <a:ext cx="6984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65600" y="4476600"/>
            <a:ext cx="13356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991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76880" y="311292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3096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768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53200" y="285264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4180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8862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04180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58792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3096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532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1956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1956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73076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66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65444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41972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989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7307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8085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862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7307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5766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264200" y="41655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49892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40766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80852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8862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30760" y="41655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3076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4180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76880" y="4253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180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9513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1083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3419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18608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576680" y="43419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085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8085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9626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862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544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5766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4989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41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1860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083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9513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750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7972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30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6420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04180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19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2768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35320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3532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430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5101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991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2768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4180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62600" y="35528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19560" y="337644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11956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62600" y="41655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862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76680" y="40766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419720" y="381492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9892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86280" y="337644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862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96260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4180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2768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195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19912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9912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363996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8608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6420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76680" y="35528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9626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96260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41800" y="285264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85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43096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53200" y="328788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195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070080" y="2120760"/>
            <a:ext cx="289080" cy="317520"/>
          </a:xfrm>
          <a:custGeom>
            <a:avLst/>
            <a:gdLst>
              <a:gd name="textAreaLeft" fmla="*/ 0 w 289080"/>
              <a:gd name="textAreaRight" fmla="*/ 289080 w 289080"/>
              <a:gd name="textAreaTop" fmla="*/ 0 h 317520"/>
              <a:gd name="textAreaBottom" fmla="*/ 158760 h 31752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65400" y="278136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9920" y="279252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49680" y="1930320"/>
            <a:ext cx="3876480" cy="322596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06760" y="3308400"/>
            <a:ext cx="887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573280" y="4159080"/>
            <a:ext cx="50328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11440" y="2654280"/>
            <a:ext cx="1130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79840" y="2279520"/>
            <a:ext cx="39024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3349440" y="2279520"/>
            <a:ext cx="1344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4692240" y="2276640"/>
            <a:ext cx="468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211560" y="1687680"/>
            <a:ext cx="144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91240" y="2374920"/>
            <a:ext cx="1141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727360" y="27417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87760" y="311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41760" y="3178080"/>
            <a:ext cx="1476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819600" y="3206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73600" y="3267000"/>
            <a:ext cx="1458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03640" y="3086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57640" y="314640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243680" y="3244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297320" y="331164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044960" y="3403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98960" y="3457440"/>
            <a:ext cx="147600" cy="16380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168960" y="1681200"/>
            <a:ext cx="180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411880" y="2495520"/>
            <a:ext cx="13777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311880" y="27352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337440" y="3097080"/>
            <a:ext cx="452160" cy="2876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654520" y="4457880"/>
            <a:ext cx="11970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49920" y="4883040"/>
            <a:ext cx="1101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355400" y="5370480"/>
            <a:ext cx="71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S SECUENCIALES DE METALES PUROS (Ti, Zn, Au, A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REFLEXIÓN Y ABSORCIÓN VARIABLES CON O SIN LOW-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 MAS DELI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7620120" y="228600"/>
          <a:ext cx="111420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2860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971640" y="189000"/>
            <a:ext cx="74833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RISTALES CON CAPA AL VACÍ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ON FILTRO INFRARROJO 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DE BAJA EMISIV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3048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176720" y="2421000"/>
            <a:ext cx="15084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835360" y="3191040"/>
            <a:ext cx="1485720" cy="41580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92560" y="387828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3443040" y="3648240"/>
            <a:ext cx="917640" cy="306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16360" y="2421000"/>
            <a:ext cx="14760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287600" y="237492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7" name=""/>
          <p:cNvGraphicFramePr/>
          <p:nvPr/>
        </p:nvGraphicFramePr>
        <p:xfrm>
          <a:off x="5578560" y="2730600"/>
          <a:ext cx="175248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8560" y="2730600"/>
                    <a:ext cx="17524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"/>
          <p:cNvSpPr/>
          <p:nvPr/>
        </p:nvSpPr>
        <p:spPr>
          <a:xfrm>
            <a:off x="2454120" y="456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87280" y="5229360"/>
            <a:ext cx="71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ERMITEN COMBINAR Y OPTIMIZAR LAS 3 FORMAS DE CONTROLAR LA ENERGIA SOLAR: REFLEXIÓN, ABSORCIÓN, FILTRO INFRARR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63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12240" y="16002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26920" y="76320"/>
            <a:ext cx="8164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de Capa al Vacío con filt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rarrojo y baja emisividad (Low-e)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07200" y="2286000"/>
            <a:ext cx="29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438880" y="3068640"/>
            <a:ext cx="253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Capa Low-e Anti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s/verde DVH 6/12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5/2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83880" y="4098960"/>
            <a:ext cx="335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capa al vacío permite man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misma Transmisión de Luz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el cristal pirolítico baj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sustancialmente el Factor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y mejorando la Sele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30355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resume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2743200" y="838080"/>
            <a:ext cx="4267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ristales de Control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914400" y="1523880"/>
            <a:ext cx="380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Pir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952880" y="1523880"/>
            <a:ext cx="381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al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844800" cy="32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variadas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rias capas disponi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Bastante espejados (cara #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Muy absorbentes (cara #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Color del sustrato (floa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Selectividad limit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...p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Económic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Fáciles de proc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"/>
          <p:cNvSpPr/>
          <p:nvPr/>
        </p:nvSpPr>
        <p:spPr>
          <a:xfrm>
            <a:off x="5003640" y="1989000"/>
            <a:ext cx="3884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18587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alt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De alta a baja ref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lores variados (c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n o sin Low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selectividad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rentabilidad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Inversión inicial mas 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Manejo un poco más compl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445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9593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44560" y="768240"/>
            <a:ext cx="8140680" cy="5968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143000" y="54864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os cristales de altas prestaciones son más rentables porque permiten optimizar todos los aspectos del clima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 fill="hold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1295280"/>
            <a:ext cx="586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3" marL="137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Tendencia a reducir los Gastos Oper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provechar la</a:t>
            </a: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ar la energía solar incid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islar térmic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Mantener las prestaciones 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umentar la superficie aprovechable (UF/m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Los Gastos Operativos suelen aumentar    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   durante toda la vida útil del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Torre Titanium La Portad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5040360" y="1600200"/>
            <a:ext cx="334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L : 50 %, RL : 19 %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FS : 28 %, Valor-U : 1,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lectividad : 1,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4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6" name="" descr=""/>
          <p:cNvPicPr/>
          <p:nvPr/>
        </p:nvPicPr>
        <p:blipFill>
          <a:blip r:embed="rId4"/>
          <a:stretch/>
        </p:blipFill>
        <p:spPr>
          <a:xfrm>
            <a:off x="539640" y="1260360"/>
            <a:ext cx="3886200" cy="479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dificio Apoquindo Magdalen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1260360" y="1600200"/>
            <a:ext cx="7121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TL : 40 %, RL : 16 %, FS : 21 %, Valor-U : 1,4  Selectividad : 1,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1" name="" descr=""/>
          <p:cNvPicPr/>
          <p:nvPr/>
        </p:nvPicPr>
        <p:blipFill>
          <a:blip r:embed="rId4"/>
          <a:stretch/>
        </p:blipFill>
        <p:spPr>
          <a:xfrm>
            <a:off x="1312920" y="2340000"/>
            <a:ext cx="6788160" cy="38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reación de espacios y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El clima interior no puede ser ni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demasiado caluros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019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demasiado frí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3222720" y="1905120"/>
            <a:ext cx="2697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La luz no puede ser ni muy intens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2157480" y="2357280"/>
            <a:ext cx="482904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muy controlad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2"/>
          <a:stretch/>
        </p:blipFill>
        <p:spPr>
          <a:xfrm>
            <a:off x="2955960" y="1905120"/>
            <a:ext cx="3232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Todo es cosa de equilibri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2867040" y="1905120"/>
            <a:ext cx="3408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clim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xterio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recorrido d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o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durante el año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o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ateriales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conoc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temperatura interior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dea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a con una mínima toler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s ma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arato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calentar que enfri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ansmisión de Luz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permite saber qué porcentaje de la luz exterior entrará al in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reciben la luz solar de forma indirecta (luminosidad ambient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Gastos de energía de un edificio de oficina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ituación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6160" y="990720"/>
            <a:ext cx="4722480" cy="5277600"/>
            <a:chOff x="686160" y="990720"/>
            <a:chExt cx="4722480" cy="5277600"/>
          </a:xfrm>
        </p:grpSpPr>
        <p:sp>
          <p:nvSpPr>
            <p:cNvPr id="289" name=""/>
            <p:cNvSpPr/>
            <p:nvPr/>
          </p:nvSpPr>
          <p:spPr>
            <a:xfrm>
              <a:off x="4242240" y="5614920"/>
              <a:ext cx="116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00"/>
                  </a:solidFill>
                  <a:latin typeface="Times New Roman"/>
                </a:rPr>
                <a:t>Ilumin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592600"/>
              <a:ext cx="132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ccff"/>
                  </a:solidFill>
                  <a:latin typeface="Times New Roman"/>
                </a:rPr>
                <a:t>Enfri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2040" y="6019920"/>
              <a:ext cx="195480" cy="126720"/>
            </a:xfrm>
            <a:prstGeom prst="rect">
              <a:avLst/>
            </a:prstGeom>
            <a:solidFill>
              <a:srgbClr val="cc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94400" y="593244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O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08040" y="6018120"/>
              <a:ext cx="190440" cy="12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8600" y="5932440"/>
              <a:ext cx="124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Instal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2240" y="5700600"/>
              <a:ext cx="192240" cy="127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96960" y="5700600"/>
              <a:ext cx="190800" cy="1270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0240" y="5700600"/>
              <a:ext cx="192240" cy="127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08800" y="5614920"/>
              <a:ext cx="115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62a08"/>
                  </a:solidFill>
                  <a:latin typeface="Times New Roman"/>
                </a:rPr>
                <a:t>Calefa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3664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0160" y="990720"/>
              <a:ext cx="1800" cy="40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7840" y="505944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7840" y="37036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07840" y="23464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07840" y="99072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8616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8720" y="4111560"/>
              <a:ext cx="6541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8720" y="2754360"/>
              <a:ext cx="701640" cy="54432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720" y="1398600"/>
              <a:ext cx="8287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76360" y="4111560"/>
              <a:ext cx="745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7120" y="2754360"/>
              <a:ext cx="709560" cy="54432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1398600"/>
              <a:ext cx="8287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9440" y="4111560"/>
              <a:ext cx="45252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35240" y="2754360"/>
              <a:ext cx="530280" cy="54432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2920" y="1398600"/>
              <a:ext cx="63648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00160" y="4111560"/>
              <a:ext cx="11592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65520" y="2754360"/>
              <a:ext cx="225360" cy="54432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19400" y="1398600"/>
              <a:ext cx="90504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08160" y="4111560"/>
              <a:ext cx="3960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9440" y="2754360"/>
              <a:ext cx="52200" cy="54432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22640" y="1398600"/>
              <a:ext cx="25236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720" y="5059440"/>
              <a:ext cx="350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28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3273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82556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32560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82888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330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275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33080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4960" y="50594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4960" y="3703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4960" y="23464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4960" y="990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480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6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04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188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301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87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8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2360" y="3962520"/>
              <a:ext cx="177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Cuenta de luz</a:t>
              </a:r>
              <a:br>
                <a:rPr sz="1600"/>
              </a:b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Euro/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9640" y="990720"/>
              <a:ext cx="39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o de prestig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9640" y="2362320"/>
              <a:ext cx="375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io estánd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9640" y="3733920"/>
              <a:ext cx="2743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Plant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00280" y="2209680"/>
            <a:ext cx="2361960" cy="2719440"/>
            <a:chOff x="800280" y="2209680"/>
            <a:chExt cx="2361960" cy="2719440"/>
          </a:xfrm>
        </p:grpSpPr>
        <p:sp>
          <p:nvSpPr>
            <p:cNvPr id="346" name=""/>
            <p:cNvSpPr/>
            <p:nvPr/>
          </p:nvSpPr>
          <p:spPr>
            <a:xfrm>
              <a:off x="800280" y="2209680"/>
              <a:ext cx="2361960" cy="18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0280" y="3568680"/>
              <a:ext cx="201924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0280" y="4927680"/>
              <a:ext cx="118080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724280" y="1143000"/>
            <a:ext cx="43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a piel exterior del edificio puede afectar de 70 a 90 % el gasto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5146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cristal debería tener preferentemente las características siguie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aja entrad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Alta transmisión de 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uena aislación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Factor Sola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(o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eficiente de Sombra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) permite saber qué porcentaje de la Energía exterior incidente entrará al interior del espa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 vert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reciben la Energía solar de forma indirecta (calor ambiental), particularmente en ver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lor-U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(expresado en W/m2.ºK) permite saber qué cantidad de Energía se intercambiará entre el interior y el ex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Dado que depende mayormente de 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emperatura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xterior, la orientación no es relevante de modo que toda la fachada está implicada por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almente, mirar el sol nor-poniente en verano y evaluar un nivel de molestia visual acept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 misma posición, evaluar un filtro que caliente moderadamente la piel o un objeto opa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Santiago y en la Zona Central, partimos del supuesto que l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u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bunda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todo el añ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pesar de las 4 estaciones del año, los rayos solares siempre tienen un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intensidad al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8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luz demasiado intensa significa usar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rote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lares exteriores o interior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adicional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relación al calor: Enfriar 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 VEC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as caro que cal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45ff45"/>
                </a:solidFill>
                <a:latin typeface="Tahoma"/>
              </a:rPr>
              <a:t>lógic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 (o Sh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-U &lt; 2,1 W/m2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f62a08"/>
                </a:solidFill>
                <a:latin typeface="Tahoma"/>
              </a:rPr>
              <a:t>equivocad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 ex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 U (low-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lógic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bundante luz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rte exposic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ja reflex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TL más baja (&lt; 5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S más bajo (&lt;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Valor U bajo (&lt; 2.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Capa sobre vidrio incolo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iltro infrarro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Optimizar comodidad + ahorro energé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equivocad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2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sto baj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exión baj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misión de Luz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tor Solar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Decisión anti-econó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absorbente o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poco selectivo con capa sobre vidrio incolo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Valor-U interme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Alta debido al float incolor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Elevado debido a la poc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omparación de las rut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óg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proyecto toma en cuenta la comodidad de los usuarios tanto a nivel de iluminación como de percepción de la sensación térmica.  El costo del cristal es compensado por la menor capacidad y menor uso de la climatización o de cortina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la ilusión del bajo costo inicial se ve transformada en la realidad de un clima interior desagradable, muy costoso de controlar artificialmente y lo peor de todo, determinado por el resto de la vida útil del edif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La responsabilidad es 100 por ciento del arquitecto porque todos los factores son CONOC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bjetivos de Fondo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Ec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1523880"/>
            <a:ext cx="4724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preocupación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responsabilidad mo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 desafío profe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Las viviendas y los edificios se proyectan para varios dece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La incidencia de una decisión económica debe mirarse en el largo plaz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La eterna vuelta de Nietzsch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219320" y="251460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 Pregunta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3276720" y="3505320"/>
          <a:ext cx="25905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505320"/>
                    <a:ext cx="25905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"/>
          <p:cNvSpPr/>
          <p:nvPr/>
        </p:nvSpPr>
        <p:spPr>
          <a:xfrm>
            <a:off x="2670120" y="533412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mirabel.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52216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El Sol : La variable princip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3235320" cy="3314880"/>
            <a:chOff x="0" y="0"/>
            <a:chExt cx="3235320" cy="3314880"/>
          </a:xfrm>
        </p:grpSpPr>
        <p:sp>
          <p:nvSpPr>
            <p:cNvPr id="355" name=""/>
            <p:cNvSpPr/>
            <p:nvPr/>
          </p:nvSpPr>
          <p:spPr>
            <a:xfrm>
              <a:off x="1236600" y="1162080"/>
              <a:ext cx="793800" cy="892080"/>
            </a:xfrm>
            <a:solidFill>
              <a:srgbClr val="ffd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1880" y="2077920"/>
              <a:ext cx="1800" cy="571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31880" y="3182760"/>
              <a:ext cx="1800" cy="132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27120" y="2035080"/>
              <a:ext cx="25560" cy="511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316160" y="2060640"/>
              <a:ext cx="209520" cy="6015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147320" y="2859120"/>
              <a:ext cx="149400" cy="376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2200" y="2373480"/>
              <a:ext cx="92160" cy="218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7200" y="2035080"/>
              <a:ext cx="108000" cy="250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142640" y="1998720"/>
              <a:ext cx="274680" cy="334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33400" y="2494080"/>
              <a:ext cx="263520" cy="314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4480" y="2492280"/>
              <a:ext cx="123840" cy="1587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39960" y="1954080"/>
              <a:ext cx="411120" cy="471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54120" y="1908000"/>
              <a:ext cx="681120" cy="509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20" y="2525760"/>
              <a:ext cx="101520" cy="698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9520" y="2397240"/>
              <a:ext cx="13500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3960" y="1803240"/>
              <a:ext cx="811440" cy="5479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57240" y="1763640"/>
              <a:ext cx="309600" cy="139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160" y="1925640"/>
              <a:ext cx="150840" cy="58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43120" y="1676520"/>
              <a:ext cx="377640" cy="125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6240" y="1623960"/>
              <a:ext cx="37800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04800" y="1631880"/>
              <a:ext cx="17784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5920" y="1459080"/>
              <a:ext cx="17460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60" y="1492200"/>
              <a:ext cx="528840" cy="41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331560" y="1139400"/>
              <a:ext cx="936360" cy="3510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129960" y="1049040"/>
              <a:ext cx="177480" cy="903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006560"/>
              <a:ext cx="73080" cy="331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3640" y="1206360"/>
              <a:ext cx="393840" cy="193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85520" y="987120"/>
              <a:ext cx="530280" cy="393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39360" y="878040"/>
              <a:ext cx="150840" cy="118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77720" y="755280"/>
              <a:ext cx="146160" cy="1191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160" y="852480"/>
              <a:ext cx="84240" cy="77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36800" y="1030320"/>
              <a:ext cx="280800" cy="264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1056960" y="907920"/>
              <a:ext cx="323640" cy="3938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81240" y="974880"/>
              <a:ext cx="122040" cy="242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373040" y="968400"/>
              <a:ext cx="113040" cy="255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295280" y="779400"/>
              <a:ext cx="69840" cy="139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66920" y="411120"/>
              <a:ext cx="57240" cy="277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6120" y="789120"/>
              <a:ext cx="92160" cy="3855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468440" y="388800"/>
              <a:ext cx="123840" cy="797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1415880" y="117000"/>
              <a:ext cx="52560" cy="2350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1880" y="0"/>
              <a:ext cx="1800" cy="114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31880" y="231840"/>
              <a:ext cx="1800" cy="234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31880" y="603360"/>
              <a:ext cx="1800" cy="539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704960" y="352080"/>
              <a:ext cx="52560" cy="833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8040" y="74520"/>
              <a:ext cx="28440" cy="2192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57240" y="727200"/>
              <a:ext cx="3672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43120" y="892080"/>
              <a:ext cx="87120" cy="2844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820880" y="573120"/>
              <a:ext cx="225360" cy="650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720" y="873000"/>
              <a:ext cx="54000" cy="921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7240" y="1025640"/>
              <a:ext cx="111240" cy="2062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00080" y="950400"/>
              <a:ext cx="166680" cy="3272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11560" y="765000"/>
              <a:ext cx="80640" cy="907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25640" y="911160"/>
              <a:ext cx="334800" cy="392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0560" y="1106640"/>
              <a:ext cx="255600" cy="245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6240" y="887400"/>
              <a:ext cx="160200" cy="147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76400" y="1074600"/>
              <a:ext cx="498600" cy="3333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025720" y="1262160"/>
              <a:ext cx="398520" cy="210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48080" y="1127160"/>
              <a:ext cx="220680" cy="1000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7960" y="1049400"/>
              <a:ext cx="115920" cy="54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0720" y="938160"/>
              <a:ext cx="174600" cy="88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09520" y="1407960"/>
              <a:ext cx="757080" cy="101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1840" y="1554120"/>
              <a:ext cx="29376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010960" y="1614600"/>
              <a:ext cx="731880" cy="71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4800" y="1700280"/>
              <a:ext cx="471240" cy="41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1990440" y="1736280"/>
              <a:ext cx="638280" cy="260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1320" y="1835280"/>
              <a:ext cx="577800" cy="296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11520" y="2212920"/>
              <a:ext cx="31680" cy="9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00520" y="2328840"/>
              <a:ext cx="155520" cy="58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1945800" y="1833480"/>
              <a:ext cx="220680" cy="176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59120" y="1920960"/>
              <a:ext cx="252360" cy="228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881000" y="1918800"/>
              <a:ext cx="285480" cy="3524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65160" y="2011320"/>
              <a:ext cx="400320" cy="723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70240" y="2889360"/>
              <a:ext cx="46080" cy="102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1779480" y="1998360"/>
              <a:ext cx="198720" cy="438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8320" y="2060640"/>
              <a:ext cx="86040" cy="430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1640" y="2558880"/>
              <a:ext cx="50760" cy="2066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1682280" y="2030400"/>
              <a:ext cx="111240" cy="582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050920" y="2924280"/>
            <a:ext cx="71928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35640" y="2924280"/>
            <a:ext cx="71892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39337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56280" y="38815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11360" y="4581360"/>
            <a:ext cx="360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ergía directa (ondas co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19640" y="5084640"/>
            <a:ext cx="392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indirecta (ondas lar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16360" y="5587560"/>
            <a:ext cx="576360" cy="506520"/>
          </a:xfrm>
          <a:prstGeom prst="line">
            <a:avLst/>
          </a:prstGeom>
          <a:ln w="38160">
            <a:solidFill>
              <a:srgbClr val="f62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209840" y="5587560"/>
            <a:ext cx="507960" cy="506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radiación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3346560"/>
            <a:ext cx="112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47840" y="56498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95560" y="441792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95560" y="318600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55600" y="196704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24120" y="1144440"/>
            <a:ext cx="11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Intensidad</a:t>
            </a:r>
            <a:br>
              <a:rPr sz="1800"/>
            </a:b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W/m2.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07400" y="5334120"/>
            <a:ext cx="1802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br>
              <a:rPr sz="1800"/>
            </a:b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1000" y="5942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3708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41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3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93720" y="1968480"/>
            <a:ext cx="155880" cy="17640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 rot="10800000">
            <a:off x="972720" y="1054440"/>
            <a:ext cx="5792760" cy="4745160"/>
          </a:xfr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28840" y="2763720"/>
            <a:ext cx="4473720" cy="3057480"/>
          </a:xfrm>
          <a:noFill/>
          <a:ln w="12600">
            <a:solidFill>
              <a:srgbClr val="1816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05760" y="5745240"/>
            <a:ext cx="158760" cy="17604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595160" y="5805360"/>
            <a:ext cx="563724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668600" y="2112840"/>
            <a:ext cx="1440" cy="379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6960" y="4584600"/>
            <a:ext cx="112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01880" y="5820840"/>
            <a:ext cx="1440" cy="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44600" y="1981080"/>
            <a:ext cx="1425960" cy="4421160"/>
            <a:chOff x="2244600" y="1981080"/>
            <a:chExt cx="1425960" cy="4421160"/>
          </a:xfrm>
        </p:grpSpPr>
        <p:grpSp>
          <p:nvGrpSpPr>
            <p:cNvPr id="462" name=""/>
            <p:cNvGrpSpPr/>
            <p:nvPr/>
          </p:nvGrpSpPr>
          <p:grpSpPr>
            <a:xfrm>
              <a:off x="2244600" y="2763720"/>
              <a:ext cx="1425960" cy="3638520"/>
              <a:chOff x="2244600" y="2763720"/>
              <a:chExt cx="1425960" cy="3638520"/>
            </a:xfrm>
          </p:grpSpPr>
          <p:sp>
            <p:nvSpPr>
              <p:cNvPr id="463" name=""/>
              <p:cNvSpPr/>
              <p:nvPr/>
            </p:nvSpPr>
            <p:spPr>
              <a:xfrm>
                <a:off x="224460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2876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7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2481120" y="2763720"/>
                <a:ext cx="946440" cy="3638520"/>
                <a:chOff x="2481120" y="2763720"/>
                <a:chExt cx="946440" cy="3638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482920" y="4460760"/>
                  <a:ext cx="81000" cy="1351080"/>
                </a:xfrm>
                <a:solidFill>
                  <a:srgbClr val="004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556000" y="4381560"/>
                  <a:ext cx="27000" cy="1430280"/>
                </a:xfrm>
                <a:solidFill>
                  <a:srgbClr val="005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571840" y="4290840"/>
                  <a:ext cx="27000" cy="1521000"/>
                </a:xfrm>
                <a:solidFill>
                  <a:srgbClr val="006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585880" y="3919680"/>
                  <a:ext cx="27000" cy="1892160"/>
                </a:xfrm>
                <a:solidFill>
                  <a:srgbClr val="008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02080" y="3871800"/>
                  <a:ext cx="27000" cy="1940040"/>
                </a:xfrm>
                <a:solidFill>
                  <a:srgbClr val="00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617920" y="3805200"/>
                  <a:ext cx="27000" cy="2006640"/>
                </a:xfrm>
                <a:solidFill>
                  <a:srgbClr val="00a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631960" y="3608280"/>
                  <a:ext cx="27000" cy="2203560"/>
                </a:xfrm>
                <a:solidFill>
                  <a:srgbClr val="00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47800" y="3495600"/>
                  <a:ext cx="27000" cy="2316240"/>
                </a:xfrm>
                <a:solidFill>
                  <a:srgbClr val="00d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662200" y="3421080"/>
                  <a:ext cx="82440" cy="2390760"/>
                </a:xfrm>
                <a:solidFill>
                  <a:srgbClr val="00e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133800" y="3279600"/>
                  <a:ext cx="27000" cy="2532240"/>
                </a:xfrm>
                <a:solidFill>
                  <a:srgbClr val="00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693880" y="3051000"/>
                  <a:ext cx="27000" cy="2760840"/>
                </a:xfrm>
                <a:solidFill>
                  <a:srgbClr val="00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08280" y="2979720"/>
                  <a:ext cx="27000" cy="2832120"/>
                </a:xfrm>
                <a:solidFill>
                  <a:srgbClr val="00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724120" y="2906640"/>
                  <a:ext cx="38160" cy="2905200"/>
                </a:xfrm>
                <a:solidFill>
                  <a:srgbClr val="00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754360" y="2763720"/>
                  <a:ext cx="27000" cy="3048120"/>
                </a:xfrm>
                <a:solidFill>
                  <a:srgbClr val="00f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770200" y="2763720"/>
                  <a:ext cx="27000" cy="3048120"/>
                </a:xfrm>
                <a:solidFill>
                  <a:srgbClr val="00ff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84600" y="2765520"/>
                  <a:ext cx="27000" cy="3046320"/>
                </a:xfrm>
                <a:solidFill>
                  <a:srgbClr val="00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800440" y="2789280"/>
                  <a:ext cx="27000" cy="3022560"/>
                </a:xfrm>
                <a:solidFill>
                  <a:srgbClr val="00ff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814480" y="2813040"/>
                  <a:ext cx="27000" cy="2998800"/>
                </a:xfrm>
                <a:solidFill>
                  <a:srgbClr val="00f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830680" y="2835360"/>
                  <a:ext cx="27000" cy="2976480"/>
                </a:xfrm>
                <a:solidFill>
                  <a:srgbClr val="00f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46520" y="2843280"/>
                  <a:ext cx="27000" cy="2968560"/>
                </a:xfrm>
                <a:solidFill>
                  <a:srgbClr val="00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862360" y="2840040"/>
                  <a:ext cx="27000" cy="2971800"/>
                </a:xfrm>
                <a:solidFill>
                  <a:srgbClr val="00f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876400" y="2838600"/>
                  <a:ext cx="27000" cy="2973240"/>
                </a:xfrm>
                <a:solidFill>
                  <a:srgbClr val="00ff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892600" y="2835360"/>
                  <a:ext cx="26640" cy="2976480"/>
                </a:xfr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906640" y="2835360"/>
                  <a:ext cx="27000" cy="2976480"/>
                </a:xfrm>
                <a:solidFill>
                  <a:srgbClr val="1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924280" y="2835360"/>
                  <a:ext cx="27000" cy="2976480"/>
                </a:xfrm>
                <a:solidFill>
                  <a:srgbClr val="2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938320" y="2852640"/>
                  <a:ext cx="27000" cy="2959200"/>
                </a:xfrm>
                <a:solidFill>
                  <a:srgbClr val="3c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952720" y="2871720"/>
                  <a:ext cx="27000" cy="2940120"/>
                </a:xfrm>
                <a:solidFill>
                  <a:srgbClr val="4d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968560" y="2894040"/>
                  <a:ext cx="27000" cy="2917800"/>
                </a:xfrm>
                <a:solidFill>
                  <a:srgbClr val="62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982960" y="2905200"/>
                  <a:ext cx="27000" cy="2906640"/>
                </a:xfrm>
                <a:solidFill>
                  <a:srgbClr val="73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000240" y="2900520"/>
                  <a:ext cx="27000" cy="2911320"/>
                </a:xfrm>
                <a:solidFill>
                  <a:srgbClr val="88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14640" y="2894040"/>
                  <a:ext cx="27000" cy="2917800"/>
                </a:xfrm>
                <a:solidFill>
                  <a:srgbClr val="99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29040" y="2889360"/>
                  <a:ext cx="27000" cy="2922480"/>
                </a:xfrm>
                <a:solidFill>
                  <a:srgbClr val="ae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44880" y="2884320"/>
                  <a:ext cx="27000" cy="2927520"/>
                </a:xfrm>
                <a:solidFill>
                  <a:srgbClr val="b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60720" y="2884320"/>
                  <a:ext cx="27000" cy="2927520"/>
                </a:xfrm>
                <a:solidFill>
                  <a:srgbClr val="d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75120" y="2884320"/>
                  <a:ext cx="27000" cy="2927520"/>
                </a:xfr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92400" y="2894040"/>
                  <a:ext cx="27000" cy="2917800"/>
                </a:xfrm>
                <a:solidFill>
                  <a:srgbClr val="f7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5000" y="2906640"/>
                  <a:ext cx="27000" cy="2905200"/>
                </a:xfrm>
                <a:solidFill>
                  <a:srgbClr val="ff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1200" y="2919240"/>
                  <a:ext cx="26640" cy="2892600"/>
                </a:xfr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37040" y="2928960"/>
                  <a:ext cx="27000" cy="2882880"/>
                </a:xfr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51080" y="2941560"/>
                  <a:ext cx="27000" cy="2870280"/>
                </a:xfr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68720" y="3084480"/>
                  <a:ext cx="27000" cy="2727360"/>
                </a:xfr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181320" y="3355920"/>
                  <a:ext cx="27000" cy="2455920"/>
                </a:xfr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98960" y="3062160"/>
                  <a:ext cx="27000" cy="2749680"/>
                </a:xfr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213000" y="3062160"/>
                  <a:ext cx="27000" cy="2749680"/>
                </a:xfr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228840" y="3065400"/>
                  <a:ext cx="27000" cy="2746440"/>
                </a:xfrm>
                <a:solidFill>
                  <a:srgbClr val="f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244680" y="3075120"/>
                  <a:ext cx="27000" cy="2736720"/>
                </a:xfr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259080" y="3083040"/>
                  <a:ext cx="27000" cy="2728800"/>
                </a:xfr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273480" y="3265560"/>
                  <a:ext cx="27000" cy="2546280"/>
                </a:xfrm>
                <a:solidFill>
                  <a:srgbClr val="ff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89320" y="3265560"/>
                  <a:ext cx="27000" cy="2546280"/>
                </a:xfrm>
                <a:solidFill>
                  <a:srgbClr val="ff0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5160" y="3267000"/>
                  <a:ext cx="27000" cy="25448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21000" y="3281400"/>
                  <a:ext cx="27000" cy="25304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38640" y="4321080"/>
                  <a:ext cx="34920" cy="149076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81120" y="2763720"/>
                  <a:ext cx="890640" cy="3057480"/>
                </a:xfrm>
                <a:noFill/>
                <a:ln w="12600">
                  <a:solidFill>
                    <a:srgbClr val="18161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2482920" y="4392360"/>
                  <a:ext cx="1440" cy="19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2533680" y="5820840"/>
                  <a:ext cx="144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8004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006720" y="581832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2180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3425760" y="5823000"/>
                  <a:ext cx="180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3365640" y="4392720"/>
                  <a:ext cx="6120" cy="200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2438280" y="1981080"/>
              <a:ext cx="916200" cy="838440"/>
              <a:chOff x="2438280" y="1981080"/>
              <a:chExt cx="916200" cy="838440"/>
            </a:xfrm>
          </p:grpSpPr>
          <p:sp>
            <p:nvSpPr>
              <p:cNvPr id="527" name=""/>
              <p:cNvSpPr/>
              <p:nvPr/>
            </p:nvSpPr>
            <p:spPr>
              <a:xfrm>
                <a:off x="2438280" y="2590920"/>
                <a:ext cx="914400" cy="144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382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26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95480" y="23623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4600" y="1981080"/>
                <a:ext cx="838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2000" spc="-1" strike="noStrike">
                    <a:solidFill>
                      <a:srgbClr val="00ffff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2286000" y="1143000"/>
            <a:ext cx="4573440" cy="1066680"/>
            <a:chOff x="2286000" y="1143000"/>
            <a:chExt cx="4573440" cy="1066680"/>
          </a:xfrm>
        </p:grpSpPr>
        <p:sp>
          <p:nvSpPr>
            <p:cNvPr id="533" name=""/>
            <p:cNvSpPr/>
            <p:nvPr/>
          </p:nvSpPr>
          <p:spPr>
            <a:xfrm>
              <a:off x="2286000" y="1905120"/>
              <a:ext cx="4572000" cy="144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58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1600200"/>
              <a:ext cx="1800" cy="3049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76640" y="114300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V="1">
            <a:off x="211464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63528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84660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94496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18120" y="583092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9560" y="5932440"/>
            <a:ext cx="53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 fill="hold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20:58:19Z</dcterms:created>
  <dc:creator> Serge Martin</dc:creator>
  <dc:description/>
  <dc:language>en-US</dc:language>
  <cp:lastModifiedBy>alain</cp:lastModifiedBy>
  <cp:lastPrinted>2000-11-30T11:43:37Z</cp:lastPrinted>
  <dcterms:modified xsi:type="dcterms:W3CDTF">2008-05-06T14:04:23Z</dcterms:modified>
  <cp:revision>220</cp:revision>
  <dc:subject/>
  <dc:title>PHOTO-VENT project Development of PV-powered smart  natural ventilation devices  EC DG XII JOULE contract JOR3-CT98-0204</dc:title>
</cp:coreProperties>
</file>