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C399-4D2C-4070-9115-9F2C6675CA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9DC6-04F5-4368-96AB-A15910C38D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884760" y="9360"/>
            <a:ext cx="2973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884760" y="870444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-144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-144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1296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3" name="Rectangle 12"/>
          <p:cNvSpPr/>
          <p:nvPr/>
        </p:nvSpPr>
        <p:spPr>
          <a:xfrm>
            <a:off x="1675440" y="8827920"/>
            <a:ext cx="345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Speaker Support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C13-1EA3-4791-8175-50E3CC1D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841-44D3-4A0D-AB0C-037DC590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AD5-034B-4C37-A171-DAAF765D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E64-CE31-4CA5-B5C7-92A11116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0EF-A031-4D05-ACEC-7C16F3D9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D1C-1BE9-4B21-A3B5-660A514B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30D-C59C-421F-AF9A-38DBB375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420-6FDA-430F-B72D-5B704016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C22-01CC-4BC9-8A3B-501DA210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EC0-1CD0-402F-A330-59825043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D0F-6499-439E-8860-176DA3DD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7E1-3A76-408C-954C-E189626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A950-06E1-4E7A-A78A-08254795B2B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DB80-0B71-42B4-AC6C-13B64AE4C12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8001000" y="5732640"/>
          <a:ext cx="990720" cy="9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5732640"/>
                    <a:ext cx="990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4"/>
          <p:cNvSpPr/>
          <p:nvPr/>
        </p:nvSpPr>
        <p:spPr>
          <a:xfrm>
            <a:off x="1066680" y="3340080"/>
            <a:ext cx="7162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étodos de Estimación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ichard We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weber@dii.uchile.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1450800" y="5867280"/>
            <a:ext cx="6240600" cy="507960"/>
          </a:xfrm>
          <a:prstGeom prst="rect">
            <a:avLst/>
          </a:prstGeom>
          <a:ln w="0">
            <a:noFill/>
          </a:ln>
        </p:spPr>
      </p:pic>
      <p:pic>
        <p:nvPicPr>
          <p:cNvPr id="53" name="6 Imagen" descr="prep_top.jpg"/>
          <p:cNvPicPr/>
          <p:nvPr/>
        </p:nvPicPr>
        <p:blipFill>
          <a:blip r:embed="rId5"/>
          <a:stretch/>
        </p:blipFill>
        <p:spPr>
          <a:xfrm>
            <a:off x="571680" y="20520"/>
            <a:ext cx="82864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0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ramientas computaci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2312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: www.kdnugget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Miner (Opersource): http://rapid-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Engine: www.dataengine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20:30:41Z</dcterms:created>
  <dc:creator>dii</dc:creator>
  <dc:description/>
  <dc:language>en-US</dc:language>
  <cp:lastModifiedBy>Julie</cp:lastModifiedBy>
  <cp:lastPrinted>2003-07-03T21:50:59Z</cp:lastPrinted>
  <dcterms:modified xsi:type="dcterms:W3CDTF">2009-06-11T15:15:27Z</dcterms:modified>
  <cp:revision>154</cp:revision>
  <dc:subject/>
  <dc:title>Aplicaciones de Data Mining  -  El proceso de datos a información para las decisiones de marketing </dc:title>
</cp:coreProperties>
</file>