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8903-4E4F-4E91-9712-E2B559F62B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4B45-34D1-4394-B955-EFFCE9A2BE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884760" y="9360"/>
            <a:ext cx="2973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884760" y="870444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-144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-144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1296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3" name="Rectangle 12"/>
          <p:cNvSpPr/>
          <p:nvPr/>
        </p:nvSpPr>
        <p:spPr>
          <a:xfrm>
            <a:off x="1675440" y="8827920"/>
            <a:ext cx="345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Speaker Support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5FC-C6CF-4949-8778-D95A3D8C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819-89A1-4358-A898-A9E1DF6A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B4F-C8EB-456D-9FD2-20A60A0F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22F-BCF8-4522-8C4E-DEE8072C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359-032D-46B0-A180-8B43EB8A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E0C-EA1E-46CC-B7B6-E6F6D781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9D5-3824-4E8E-9B36-902285A8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3CF-51B8-4A11-86EB-0B4B2D97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6A2-A932-42ED-8736-EA5F8148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24F-4224-4FB3-BC31-B0C286DE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EA3-24FF-4547-9FA9-F1A847B4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F9E-6E84-4EA5-8159-70E37813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1234-E607-49FD-83D9-664B46B8336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C429-DAEE-49A5-8D16-9DE6F272273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8001000" y="5732640"/>
          <a:ext cx="990720" cy="9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5732640"/>
                    <a:ext cx="990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4"/>
          <p:cNvSpPr/>
          <p:nvPr/>
        </p:nvSpPr>
        <p:spPr>
          <a:xfrm>
            <a:off x="1066680" y="3340080"/>
            <a:ext cx="7162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étodos de Estimación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ichard We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weber@dii.uchile.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1450800" y="5867280"/>
            <a:ext cx="6240600" cy="507960"/>
          </a:xfrm>
          <a:prstGeom prst="rect">
            <a:avLst/>
          </a:prstGeom>
          <a:ln w="0">
            <a:noFill/>
          </a:ln>
        </p:spPr>
      </p:pic>
      <p:pic>
        <p:nvPicPr>
          <p:cNvPr id="53" name="6 Imagen" descr="prep_top.jpg"/>
          <p:cNvPicPr/>
          <p:nvPr/>
        </p:nvPicPr>
        <p:blipFill>
          <a:blip r:embed="rId5"/>
          <a:stretch/>
        </p:blipFill>
        <p:spPr>
          <a:xfrm>
            <a:off x="571680" y="20520"/>
            <a:ext cx="82864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0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ramientas computaci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2312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: www.kdnugget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Miner (Opersource): http://rapid-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Engine: www.dataengine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20:30:41Z</dcterms:created>
  <dc:creator>dii</dc:creator>
  <dc:description/>
  <dc:language>en-US</dc:language>
  <cp:lastModifiedBy>Julie</cp:lastModifiedBy>
  <cp:lastPrinted>2003-07-03T21:50:59Z</cp:lastPrinted>
  <dcterms:modified xsi:type="dcterms:W3CDTF">2009-06-11T15:15:27Z</dcterms:modified>
  <cp:revision>154</cp:revision>
  <dc:subject/>
  <dc:title>Aplicaciones de Data Mining  -  El proceso de datos a información para las decisiones de marketing </dc:title>
</cp:coreProperties>
</file>