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178F-8D2F-4FF3-B0C6-C079BD34317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FEAC-13DB-4313-8DB5-18BC5E3A5A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884760" y="9360"/>
            <a:ext cx="29732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3884760" y="870444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-144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-144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91296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3" name="Rectangle 12"/>
          <p:cNvSpPr/>
          <p:nvPr/>
        </p:nvSpPr>
        <p:spPr>
          <a:xfrm>
            <a:off x="1675440" y="8827920"/>
            <a:ext cx="345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Point Speaker Support 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BA5-9B97-422C-836E-F43D8003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D2A-A2A8-4513-9E6B-045AE8DE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FCB-FF73-49EE-8005-6F36A66E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924-7A1B-47C0-817C-A39F3112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C63-EC97-4F79-9470-3133EC5F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1F8-B9BA-401B-9E6F-5EE62FD5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E99A-174F-460D-B59C-F5A96453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13A-EA05-413D-AC37-6675B799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8B2-33C7-4EE3-A233-65CFC043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700-37DF-45DA-9D8C-A1087A46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705-C125-48A6-8D41-6743180F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F717-FBF6-42E2-9BF9-0AF67BB3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0D8D-5A15-4686-BE21-CE86212A71C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D1A5-2779-47FB-B2B0-BA5E620844A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8001000" y="5732640"/>
          <a:ext cx="990720" cy="97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5732640"/>
                    <a:ext cx="9907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4"/>
          <p:cNvSpPr/>
          <p:nvPr/>
        </p:nvSpPr>
        <p:spPr>
          <a:xfrm>
            <a:off x="1066680" y="3340080"/>
            <a:ext cx="7162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étodos de Estimación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ichard We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rweber@dii.uchile.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1450800" y="5867280"/>
            <a:ext cx="6240600" cy="507960"/>
          </a:xfrm>
          <a:prstGeom prst="rect">
            <a:avLst/>
          </a:prstGeom>
          <a:ln w="0">
            <a:noFill/>
          </a:ln>
        </p:spPr>
      </p:pic>
      <p:pic>
        <p:nvPicPr>
          <p:cNvPr id="53" name="6 Imagen" descr="prep_top.jpg"/>
          <p:cNvPicPr/>
          <p:nvPr/>
        </p:nvPicPr>
        <p:blipFill>
          <a:blip r:embed="rId5"/>
          <a:stretch/>
        </p:blipFill>
        <p:spPr>
          <a:xfrm>
            <a:off x="571680" y="20520"/>
            <a:ext cx="82864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02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rramientas computacio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32312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: www.kdnuggets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idMiner (Opersource): http://rapid-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Engine: www.dataengine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4T20:30:41Z</dcterms:created>
  <dc:creator>dii</dc:creator>
  <dc:description/>
  <dc:language>en-US</dc:language>
  <cp:lastModifiedBy>Julie</cp:lastModifiedBy>
  <cp:lastPrinted>2003-07-03T21:50:59Z</cp:lastPrinted>
  <dcterms:modified xsi:type="dcterms:W3CDTF">2009-06-11T15:15:27Z</dcterms:modified>
  <cp:revision>154</cp:revision>
  <dc:subject/>
  <dc:title>Aplicaciones de Data Mining  -  El proceso de datos a información para las decisiones de marketing </dc:title>
</cp:coreProperties>
</file>