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E66A-B8CC-4503-A5F4-4A83D12E40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9127-89A6-4FBE-8D0F-294C7C9AA8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3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4EF-9260-49CD-BDE6-72E71113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433-0C94-4F74-998A-F6A92F5A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05A-C615-4BBA-9142-B8AEB918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C09-5EBD-407E-A82F-6B69AA09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5F1-FECE-4C31-8539-EDDD63E3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D09-8979-4967-9017-B8F5344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6B5-A3C8-482B-9AE2-D6FE438F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8A8-C438-492E-8BAA-E4E0C0B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72D-FB94-4B33-948D-A1091E1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AE6-FDE4-4FF4-93EE-BEB9C778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87D-1CB6-4F2A-959D-BF43CE0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A3E-C1BC-42C4-B322-B6865BF6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DF80-D74D-428F-9F3B-F5FF01F96BC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467-EFB4-4D1F-8C12-8106E5EC0E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8001000" y="5732640"/>
          <a:ext cx="99072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73264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1066680" y="3340080"/>
            <a:ext cx="7162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étodos de Estimación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ichard We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weber@dii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pic>
        <p:nvPicPr>
          <p:cNvPr id="53" name="6 Imagen" descr="prep_top.jpg"/>
          <p:cNvPicPr/>
          <p:nvPr/>
        </p:nvPicPr>
        <p:blipFill>
          <a:blip r:embed="rId5"/>
          <a:stretch/>
        </p:blipFill>
        <p:spPr>
          <a:xfrm>
            <a:off x="571680" y="20520"/>
            <a:ext cx="82864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0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ramientas computac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231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: www.kdnugget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Miner (Opersource): http://rapid-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Engine: www.dataengin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Julie</cp:lastModifiedBy>
  <cp:lastPrinted>2003-07-03T21:50:59Z</cp:lastPrinted>
  <dcterms:modified xsi:type="dcterms:W3CDTF">2009-06-11T15:15:27Z</dcterms:modified>
  <cp:revision>154</cp:revision>
  <dc:subject/>
  <dc:title>Aplicaciones de Data Mining  -  El proceso de datos a información para las decisiones de marketing </dc:title>
</cp:coreProperties>
</file>