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CBB1-09D0-47AA-85BC-F3E89675B4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2409-1B65-4C03-9CD1-96968C2C2DA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E501-34E5-4983-8D80-2A9045AA928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978-9982-413E-9C73-CF4782E3CE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196-99F5-4F53-9D97-52B4DF48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D1B-342C-4B12-9EAC-0A4CE564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593-5F84-4DE3-98B9-E114F272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BF0-86A1-4025-8D23-18632BDA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267-534C-4966-AC89-845C04B3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A98-3647-499F-A31E-13F52B73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E3F-8FF1-4DCF-A089-D49FACEE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D42-1343-4F2B-8307-3EB87DCD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5E0-1E38-45FD-9E0A-2FD2A85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CD6-E6C0-413E-B17E-1391F81A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E82-A600-4F78-98C8-A91C4FC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151-28AA-467A-8682-2B236D4F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C96B-627B-4491-81AD-EF647D6EF82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Diploma en Gerencia Pública-SEC 2009</a:t>
            </a:r>
            <a:br>
              <a:rPr sz="4000"/>
            </a:br>
            <a:r>
              <a:rPr b="1" lang="es-ES" sz="4000" spc="-1" strike="noStrike">
                <a:solidFill>
                  <a:srgbClr val="0070c0"/>
                </a:solidFill>
                <a:latin typeface="Calibri"/>
              </a:rPr>
              <a:t>Taller de Estudio de Caso Institucional &amp; Generación de Iniciativas de Camb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71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fesor: José Inostroza L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yudante: Natalie Gonzál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echa:13/10/0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Imagen" descr="logotipo PGPP.jpg"/>
          <p:cNvPicPr/>
          <p:nvPr/>
        </p:nvPicPr>
        <p:blipFill>
          <a:blip r:embed="rId1"/>
          <a:stretch/>
        </p:blipFill>
        <p:spPr>
          <a:xfrm>
            <a:off x="2714760" y="214200"/>
            <a:ext cx="37861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Contenidos de la Presentación fi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. Presentación Formal y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ato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básicos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. Modelo de Negocio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. Principales Hallazgos de Fuentes Secundaria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. Principales Hallazgos de Instrumento‐encuesta (3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5 Identificación de Problemas Principal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6. “Diagrama Sistémico”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7. Conclusion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**Pueden escribir notas en el pp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ANEX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istado de Entrevistado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uentes Revisadas (subir a U‐Curs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NTREGABL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PT en UCURSO (16/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53735"/>
                </a:solidFill>
                <a:latin typeface="Calibri"/>
              </a:rPr>
              <a:t>Orden de presentación gru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400" y="1571760"/>
            <a:ext cx="8715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visión Administración y Finanzas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perintendencia de Servicios  Sanit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C: División de Ingeniería de Electricidad: Atención de Reclamos por Facturación de Consumo Eléctr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bdirección de Estudios del S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RN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C Combusti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C Tramitación de concesiones eléctricas defin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22:15:09Z</dcterms:created>
  <dc:creator>Edacunaf</dc:creator>
  <dc:description/>
  <dc:language>en-US</dc:language>
  <cp:lastModifiedBy>Nombre de usuario</cp:lastModifiedBy>
  <dcterms:modified xsi:type="dcterms:W3CDTF">2009-10-15T20:27:16Z</dcterms:modified>
  <cp:revision>28</cp:revision>
  <dc:subject/>
  <dc:title>Buenas experiencias de liderazgo, gestión del cambio e innovación en la gestión pública</dc:title>
</cp:coreProperties>
</file>