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7F52-B294-4140-9EA0-C86F9BEED1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0AA-6C03-4914-99E6-DCDBFB5031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80B6-5D0A-4214-AF6F-DE27C9DF75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8F1-91C7-4BDD-A5C4-064EAF6A5C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FA6-06F7-4F96-96C0-5A7A2CC0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BA1-6D50-479A-9FF1-4F321AF4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EAC-CD98-45D3-A4EB-1A49B522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9AF-FED0-4ABB-AD4D-A831412A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C6A-9B31-464A-B24A-19A88E63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CF2-164C-4371-87EA-E73A6640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995-0961-45D6-81C6-8226C051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AA6-D353-4F4E-9838-71072F3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F75-1505-4683-AC6C-CB865BF9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D43-A618-4AA5-A024-23DDC7ED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A0E-88D1-45F5-B146-99B07E97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16C-2113-4D54-B4D2-78B67C2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1A9-B83C-4865-A13F-D41197EC77B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-SEC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3/10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visión Administración y Finanzas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perintendencia de Servicios  Sanit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: División de Ingeniería de Electricidad: Atención de Reclamos por Facturación de Consumo Eléctr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bdirección de Estudios del S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N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 Combusti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 Tramitación de concesiones eléctricas defin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0-15T20:27:16Z</dcterms:modified>
  <cp:revision>28</cp:revision>
  <dc:subject/>
  <dc:title>Buenas experiencias de liderazgo, gestión del cambio e innovación en la gestión pública</dc:title>
</cp:coreProperties>
</file>