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6E9-CDD2-4548-871E-298B112F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9E8-6AA7-48B8-AD63-173C8C9D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475-8D73-4842-BB9E-95379E52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F2B-0C3A-4E85-BC30-3177E6C3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9C32-2EF6-4675-A08D-28BBC26D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BCF6-9822-4540-A47F-8BAA800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96D5-1D91-4977-8D56-1BF59302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A3BD-B743-4979-835E-5E796573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995B-221B-40E6-A096-CDFF52E9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776B-62F2-4B66-A435-5167944E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B85E-B661-4A17-8420-83F7B81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6D9-7A83-4074-9BF1-CE836A87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11BC-5A6D-4BC2-B7F7-53B831D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577A-6051-4153-9169-F96C607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3A83-0F84-47C8-AC15-D4731745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59A7-3BB3-4CB4-9146-6777C798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7155-E0B9-427D-B886-F91A2895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679F-1BFD-4448-A956-90F0B7CA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3626-38C4-4B15-B38B-299055F4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6ADC-5B67-4744-8DF8-6D7CDA4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9FFE-3659-4094-A4F5-670B4DCA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6592-0C24-40A4-806D-0D3470AF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A72-9FE1-4086-B2C6-ECB2F0DE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953F-A5BF-4247-9144-E43EAB8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D4E2-379A-46D7-8553-2C8827E8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1A35-AB33-47BD-86C1-E86F585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4BDB-6132-4B2A-B3AB-33FED2E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D33F-2774-4EC7-BE24-A425716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6EA3-F925-4F77-B3FF-D20AC472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AF34-0138-4F59-9EC1-9E97D3D6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C8C4-CCC7-4F8D-B4EB-CA620119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CD9A4-49AE-4C2C-A9BB-6BD01B53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491F6-B60B-4880-8587-1B612E14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C59-6A68-4CE9-B451-DF6A6B9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08BB-C137-4EC5-87C0-DC5FC0D5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8F30-7EA5-4D3A-BB90-0DC95290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7429-A571-4795-AABF-E8FD7A1C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E006-DBD3-4BF6-BD7B-1C06E48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A1D3-946D-4EE5-998F-B7F13CE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D794-733C-4CA7-9A65-880A878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F98F-DC4B-4731-97E7-0759F76A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3503-AF59-42E1-A113-9B54C871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0BF4-D356-4486-8068-AAA7D3CE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1215-511C-4D49-AD6F-214582E1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AD1-3C0D-42D6-80EF-13842BD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CB42-D5BE-4C07-962F-543FA5B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3C25C-9E9C-49C8-A4B4-7C49498F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88C5-6673-4808-9E2F-88D7AAF8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CF06D-DC00-4B1A-8C1C-7822578E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48D3-8396-4859-957B-C012994F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A45F-B0E9-4B67-B8FD-C778ABC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87D3-5CF4-43E6-81FD-A8955D0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917D-40F5-4618-9E76-DBAC27C1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FCD47-7B75-4445-B2A8-7FC25123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579C-2500-4719-892D-B2050F93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731-F654-4207-8B2B-490D5E3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63F5-4288-45B7-8A5E-EBA5B7BE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7B5C-CE5F-4C1E-807C-A787E997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2F402-79A0-4AEC-87C6-E49096B9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9AA81-3B98-4FAE-8E91-9D9948B5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80C1-3EB4-4912-B898-A0A24AD5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BDD7-62FF-4967-88F4-6378A3A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77CCB-F86C-456E-8B60-A04D17C3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28211-FEC5-49BD-8742-4D8885C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346B-C670-49AA-BA56-31F9266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8131-32CA-44B6-BB9F-94D6804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007-FDD2-46A9-8AC3-491CDB9A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E474-45AF-4824-AD56-7A6644BF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021B-2702-474F-9051-0628B448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AE7B7-C3A5-4A04-AFBD-0C5E1F9A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FF15D-74B9-4E76-B9D7-D5EBE942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29E7-EBAF-4F98-BD77-D2C506B1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34751-5B45-4F77-96F4-007A8526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C418-312B-4564-B478-250499D4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CE325-9DAC-4677-93B0-0BAC5C33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BE61C-C492-4F1F-8D14-7FAEE30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47EF6-A17E-42E8-8D6A-04CABDA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DCB-451B-47EE-AB9C-0FB6EBB8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D93D-7632-4F88-A851-1F40248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25A6C-E6AB-4177-A923-C28C515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B5F71-BDEB-4BAA-884A-B93B105B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7452D-B9D6-4A46-B245-EC1E30E1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0FFF3-9C9B-4EE3-870F-ADF9E4C4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8EF47-6B2A-4999-88D2-BCD714BC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2CDA6-3AF9-4FDB-8D89-258A5E40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838ED-8AB5-4565-B034-52211DDE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B2DC6-602C-471D-B51C-FA8B92F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B35D8-69BB-4D9C-A4AD-4CDE5DB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0AA-784F-4F95-8AA9-57A4F0F0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3083B-A47F-418C-906C-D5A7441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43C88-34FE-4717-9EA4-4E34B2D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BA977-9BE2-4676-8120-A1CE970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CB220-52F0-4ED6-92C6-2E7C20C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27852-2CBC-4E2A-9115-E12C4421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F1FDA-9B03-4344-9AA8-237C4A43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CF846-C8B6-47E8-992B-2F3630A7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62EB-3A52-4FAC-8504-3D3017D987FD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457E-242C-43F5-B80F-16653ACA6925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354D-676F-4FB7-A00E-7EB25821094B}" type="slidenum"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2FAA-BD2F-4A24-9843-94BFABED5314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4FDE-A7EB-4CE6-94A0-06684FB1A64C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B86-878A-49A5-A51E-C4A1FFFEDD9E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0B39-F625-47E7-BCCF-D514A864B7A6}" type="slidenum"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83AA-8719-4B08-B72C-B917AED12678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chilco.cl/" TargetMode="External"/><Relationship Id="rId2" Type="http://schemas.openxmlformats.org/officeDocument/2006/relationships/hyperlink" Target="http://www.finance.yahoo.com/" TargetMode="External"/><Relationship Id="rId3" Type="http://schemas.openxmlformats.org/officeDocument/2006/relationships/hyperlink" Target="http://office.microsoft.com/es-es/exce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ookman Old Style"/>
              </a:rPr>
              <a:t>Clase Práctica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Bookman Old Style"/>
              </a:rPr>
              <a:t>Miércoles 30 de septie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Bookman Old Style"/>
              </a:rPr>
              <a:t>Primavera 200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69100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Object 5"/>
          <p:cNvGraphicFramePr/>
          <p:nvPr/>
        </p:nvGraphicFramePr>
        <p:xfrm>
          <a:off x="7143840" y="642960"/>
          <a:ext cx="105732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3840" y="642960"/>
                    <a:ext cx="10573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olatilidad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¿Qué volatilidad usa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Últimos k periodos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EWMA (Media Móvil Exponencial)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Pesa más la historia reciente que la pasa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Y para cambiar de plazo, si se tiene la volatilidad mensual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Multiplicar por raiz(12)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Simulación de Montecarl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" descr=""/>
          <p:cNvPicPr/>
          <p:nvPr/>
        </p:nvPicPr>
        <p:blipFill>
          <a:blip r:embed="rId1"/>
          <a:stretch/>
        </p:blipFill>
        <p:spPr>
          <a:xfrm>
            <a:off x="1143000" y="3071880"/>
            <a:ext cx="6902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Ejercicios Prácticos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Algunos sitios útil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www.bcentral.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www.cochilco.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www.finance.yahoo.co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http://office.microsoft.com/es-es/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leonvaldes@gmail.com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Dudas, consultas…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paso V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estacionarios, no-estacionari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Utilizando información de expertos: distribución triangul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¿Qué volatilidad utiliza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jercicios práctic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Repaso VaR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lue-at-Ris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áxima pérdida esperada dado un horizonte de tiempo y un intervalo de confianza”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otras palabras, puedo asegurar con un x% de confianza que lo peor que ocurrirá en el plazo t es: V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Gill Sans MT"/>
              </a:rPr>
              <a:t>VaR = VP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k ·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cio) · t</a:t>
            </a:r>
            <a:r>
              <a:rPr b="0" lang="es-CL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comparación con la sensibilidad, refleja además la probabilidad de que el evento ocur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Marginal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presenta el cambio en el VaR total, producto de un cambio en el VaR individual de uno de los factores de riesg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1928880" y="3929040"/>
            <a:ext cx="5207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Incremental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r otro lado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Luego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sto permite identificar de mejor manera el riesgo de cada componente del proyec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643720" cy="1238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7269120" cy="14288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del VAN</a:t>
            </a: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8760" y="1285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aborar Flujo de Caja del proyecto, utilizando escenario base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Identificar principales factores de riesg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 partir de las estadísticas para cada uno de ellos, calcular el “peor escenario” con un cierto % de confianza (modificando los FR uno por uno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alcular cuánto varía el VAN en cada caso: VaR individua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alcular (o estimar) las correlaciones entre los factores de riesg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 partir de 4 y 5: VaR total, marginal, increment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Estacionariedad 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estacionario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Volatilidad y Media no aumentan con 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La situación es independiente d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no-estacionario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Dependen d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Volatilidad aumenta con el tiempo…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… </a:t>
            </a: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en teoría, llega a infinit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UTILIZACION DE COTAS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Distribución Triangular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37857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ermite trabajar con estimaciones de exper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rea=Probabilidad total=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onsideraciones geométricas permiten calcular el VaR: se debe calcular el punto tal que el área bajo la curva represente el % correspondiente a (1-int. Confianz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5 Triángulo isósceles"/>
          <p:cNvSpPr/>
          <p:nvPr/>
        </p:nvSpPr>
        <p:spPr>
          <a:xfrm>
            <a:off x="2428920" y="1643040"/>
            <a:ext cx="3929040" cy="1500120"/>
          </a:xfrm>
          <a:prstGeom prst="triangle">
            <a:avLst>
              <a:gd name="adj" fmla="val 35903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7 Conector recto"/>
          <p:cNvSpPr/>
          <p:nvPr/>
        </p:nvSpPr>
        <p:spPr>
          <a:xfrm>
            <a:off x="3840120" y="1643040"/>
            <a:ext cx="0" cy="1500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9 CuadroTexto"/>
          <p:cNvSpPr/>
          <p:nvPr/>
        </p:nvSpPr>
        <p:spPr>
          <a:xfrm>
            <a:off x="2077920" y="3214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0 CuadroTexto"/>
          <p:cNvSpPr/>
          <p:nvPr/>
        </p:nvSpPr>
        <p:spPr>
          <a:xfrm>
            <a:off x="3434760" y="3214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1 CuadroTexto"/>
          <p:cNvSpPr/>
          <p:nvPr/>
        </p:nvSpPr>
        <p:spPr>
          <a:xfrm>
            <a:off x="6007320" y="3214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50:10Z</dcterms:created>
  <dc:creator>Leon Valdes S</dc:creator>
  <dc:description/>
  <dc:language>en-US</dc:language>
  <cp:lastModifiedBy>Leo</cp:lastModifiedBy>
  <dcterms:modified xsi:type="dcterms:W3CDTF">2009-10-01T14:08:21Z</dcterms:modified>
  <cp:revision>37</cp:revision>
  <dc:subject/>
  <dc:title>Clase Práctica # 1</dc:title>
</cp:coreProperties>
</file>