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35F-7672-4EB7-8848-A9ACE27A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F57-A085-45F2-90D1-1C964F32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A16-3A7E-44E4-A1F0-D4194753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8D9-DDFA-4659-BA5D-5C80607E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E1E1-D272-45BF-946A-06C7622E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4BAF-BC4A-4448-81D5-093957A4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EA82-044F-4BED-B185-9115970E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10F9-918B-4F31-8938-11A1AB4A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6BF7-252F-4CCF-A8E3-C84816F9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03AC-E041-47D7-8C74-6CB9D674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86B3-E258-4F1A-A96F-C1FB2202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A82-F50F-46EB-99F1-0E68D7D1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3D99-5E02-469E-B190-526D931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BE66-AB52-4192-9268-C3E04589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9987-9FA2-4BFA-B08E-64C84628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3C78-99BE-4247-B1FE-E4BBD8EB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B219-9968-424C-84E4-B3E70564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A983-8753-4C24-B649-1218A080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3007A-1233-499D-A2CD-3F56EBFB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80C50-D2B7-4F74-A8AC-12103AE6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2256-09F0-4B85-A81D-C733600B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0F9C2-03D8-4B94-A5A9-42D0AD26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8BE-AD8B-4511-A65F-2CC06EE6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77A4A-34A7-428B-81AF-CD1A8C64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C0C20-9E23-4CE9-8E93-1AEEA754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75A3A-4083-4EBC-B568-E1D569C6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D5FD7-D3FB-487F-826F-2C0458AD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928E1-6863-48F8-9246-290C4534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06EC8-5DD4-4F6F-863E-18E05F8B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1448-1906-471D-9BD2-D95BF1B7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6D1B6-0065-4EAC-8A4D-ED7CE628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1F11B-1370-4EA0-8CB5-213A84D0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6711A-7661-428E-B13D-6492C61B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E27-877B-4A5B-9065-DAF0F43F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6C790-85AE-43B9-BA32-4BB37486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5F27E-6B41-4AC6-B518-8DCCF43E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267CF-CC52-403E-9A47-4087653D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01020-4A3B-46D7-99FF-A7C77D03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A1966-7103-4F2D-B0F9-1BE6857C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FAF0A-C216-471A-B1DE-3416535D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490E5-B885-41E2-A6E2-FA19FBA7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C84C7-251E-4071-B35B-2B7E61A8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537D4-8FD0-40ED-8EC0-E670FC2E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2CD99-0CD0-4FF5-B205-34585D19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9B6-F59E-4D37-A5B2-1601851B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24E85-084F-4590-B6AF-FA21A3B4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B2B42-B3B3-4597-AE1F-D120C9C3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79191-1F92-438A-AB22-AF3ED2D1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F82BE-7886-4C12-8AE8-551E1F7C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03D4F-2C54-4D0A-B13C-CB181362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84195-4305-4EF2-9234-812AD23D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2D8AE-D899-4CD7-8CBA-DE6959E9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CAE7B-0639-46F8-ABAC-EA2C937E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D7471-D8A2-4999-9440-5EF5FA69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71839-A695-4127-AAA6-E3087395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686-2A41-42CB-B231-54E6275A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34347-2616-4159-8284-76C4E96B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75AE4-17C4-4427-B66A-3EEFFEA4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A30B3-13CF-4F33-A67C-004604EB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8C31A-5046-4EA6-81EA-541D48B9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875AC-6E58-46D2-A96A-DDEA807D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D0386-92F2-46F4-B440-E2E4F03C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734A7-17B2-4CF4-BF06-464502A5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A8E1E-B229-48D3-9306-3493CBE7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1F851-3E1C-4C81-B252-7130E138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22A72-1AB4-4E01-A928-8182E08F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9D8-C495-4FB5-B6B6-66B0D8BF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2A224-E18C-40EC-B19A-8B43A177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851CB-DDE5-44D7-A297-1CC92479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D80AE-D238-447E-AEAB-CE17E3B9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DAC93-2041-44E6-BB8A-8CF1D634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30A75-5499-4CC1-824A-476345D2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7A197-779F-4853-80B7-26F5CC3A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ED512-0936-447E-8E2F-A6122DD4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20AE2-698A-447C-9A68-07AAFC8D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84AC8-C9B1-46B7-AA7C-BBEAB00D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B363D-7CD1-4EA8-8A0F-58C2DA6B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C0B-F929-4AC7-9BEB-6899D8FD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94AF7-56D1-42A3-B3E5-EDF63528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2DC47-0D79-481F-8BA8-FE155F83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7C116-AE32-4503-B079-7D489F6D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1C6BE-76D4-4063-837F-28CDE396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D32A0-9B8D-41E8-A4C2-C8B385FD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F2B7D-C591-4A92-A542-C998CD64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0A746-A3CE-4855-A541-343BCBBD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699A6-0B90-4F7F-B157-D96925A9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F1D05-ACB4-4CF4-9174-DFEA770C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90520-AC7C-4333-B3A3-0CB3CE20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A55-77CD-449A-ACBA-E4D9DB78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CCE44-B194-449C-8CFC-CC7FF7E1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4619B-320C-42F0-9B82-D0C5D433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40053-9A31-4578-9A8F-F7E12BF8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BDEC6-24E9-4371-BF75-8A4FE710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39AFD-010E-45AE-BF4E-0937CDB2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40184-E9A3-4CD0-A467-6E47E979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7F73B-DC10-4BFA-9278-F82CA38C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AEFD-5D78-48C8-B42F-9B97D834667F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3644-6978-4D1B-80A0-5755A6765B0A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eece1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E5F7-9EF4-4149-9CFC-81D7F6ADC6E4}" type="slidenum">
              <a:rPr b="0" lang="es-CL" sz="1400" spc="-1" strike="noStrike">
                <a:solidFill>
                  <a:srgbClr val="eeece1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9757-3839-45B1-AE20-FF5944C65603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7441-215B-44FA-A6F2-02FA9F51AB60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2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6632-C6E1-4E28-8DC0-AAB8664E8E11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2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eece1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eeece1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E314-225A-4FD6-91C5-818519E45942}" type="slidenum">
              <a:rPr b="0" lang="es-CL" sz="1400" spc="-1" strike="noStrike">
                <a:solidFill>
                  <a:srgbClr val="eeece1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2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f497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348F-0DE1-4C7F-9932-20CAB74E3D53}" type="slidenum">
              <a:rPr b="0" lang="es-CL" sz="1400" spc="-1" strike="noStrike">
                <a:solidFill>
                  <a:srgbClr val="1f497d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ochilco.cl/" TargetMode="External"/><Relationship Id="rId2" Type="http://schemas.openxmlformats.org/officeDocument/2006/relationships/hyperlink" Target="http://www.finance.yahoo.com/" TargetMode="External"/><Relationship Id="rId3" Type="http://schemas.openxmlformats.org/officeDocument/2006/relationships/hyperlink" Target="http://office.microsoft.com/es-es/excel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Bookman Old Style"/>
              </a:rPr>
              <a:t>Clase Práctica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Bookman Old Style"/>
              </a:rPr>
              <a:t>Miércoles 30 de septiembr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f497d"/>
                </a:solidFill>
                <a:latin typeface="Bookman Old Style"/>
              </a:rPr>
              <a:t>Primavera 200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269100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Object 5"/>
          <p:cNvGraphicFramePr/>
          <p:nvPr/>
        </p:nvGraphicFramePr>
        <p:xfrm>
          <a:off x="7143840" y="642960"/>
          <a:ext cx="105732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3840" y="642960"/>
                    <a:ext cx="10573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Volatilidad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¿Qué volatilidad usar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Últimos k periodos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EWMA (Media Móvil Exponencial)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Pesa más la historia reciente que la pasa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Y para cambiar de plazo, si se tiene la volatilidad mensual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Multiplicar por raiz(12)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Simulación de Montecarlo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" descr=""/>
          <p:cNvPicPr/>
          <p:nvPr/>
        </p:nvPicPr>
        <p:blipFill>
          <a:blip r:embed="rId1"/>
          <a:stretch/>
        </p:blipFill>
        <p:spPr>
          <a:xfrm>
            <a:off x="1143000" y="3071880"/>
            <a:ext cx="69022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eece1"/>
                </a:solidFill>
                <a:latin typeface="Bookman Old Style"/>
              </a:rPr>
              <a:t>Ejercicios Prácticos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Algunos sitios útiles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www.bcentral.c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www.cochilco.c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ff"/>
                </a:solidFill>
                <a:uFillTx/>
                <a:latin typeface="Gill Sans MT"/>
                <a:hlinkClick r:id="rId2"/>
              </a:rPr>
              <a:t>www.finance.yahoo.co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ff"/>
                </a:solidFill>
                <a:uFillTx/>
                <a:latin typeface="Gill Sans MT"/>
                <a:hlinkClick r:id="rId3"/>
              </a:rPr>
              <a:t>http://office.microsoft.com/es-es/exc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eece1"/>
                </a:solidFill>
                <a:latin typeface="Bookman Old Style"/>
              </a:rPr>
              <a:t>leonvaldes@gmail.com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Dudas, consultas…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Agenda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paso V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rocesos estacionarios, no-estacionari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Utilizando información de expertos: distribución triangul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¿Qué volatilidad utilizar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jercicios práctic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2971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eece1"/>
                </a:solidFill>
                <a:latin typeface="Bookman Old Style"/>
              </a:rPr>
              <a:t>Repaso VaR</a:t>
            </a:r>
            <a:endParaRPr b="0" lang="en-US" sz="3200" spc="-1" strike="noStrike">
              <a:solidFill>
                <a:srgbClr val="eeece1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94920" y="42667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Value-at-Risk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áxima pérdida esperada dado un horizonte de tiempo y un intervalo de confianza”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otras palabras, puedo asegurar con un x% de confianza que lo peor que ocurrirá en el plazo t es: V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Gill Sans MT"/>
              </a:rPr>
              <a:t>VaR = VP 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k ·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cio) · t</a:t>
            </a:r>
            <a:r>
              <a:rPr b="0" lang="es-CL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comparación con la sensibilidad, refleja además la probabilidad de que el evento ocur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VaR Marginal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presenta el cambio en el VaR total, producto de un cambio en el VaR individual de uno de los factores de riesg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" descr=""/>
          <p:cNvPicPr/>
          <p:nvPr/>
        </p:nvPicPr>
        <p:blipFill>
          <a:blip r:embed="rId1"/>
          <a:stretch/>
        </p:blipFill>
        <p:spPr>
          <a:xfrm>
            <a:off x="1928880" y="3929040"/>
            <a:ext cx="5207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VaR Incremental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r otro lado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Luego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sto permite identificar de mejor manera el riesgo de cada componente del proyect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" descr=""/>
          <p:cNvPicPr/>
          <p:nvPr/>
        </p:nvPicPr>
        <p:blipFill>
          <a:blip r:embed="rId1"/>
          <a:stretch/>
        </p:blipFill>
        <p:spPr>
          <a:xfrm>
            <a:off x="3000240" y="1500120"/>
            <a:ext cx="5643720" cy="12384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1000080" y="3286080"/>
            <a:ext cx="7269120" cy="142884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6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VaR del VAN</a:t>
            </a: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28760" y="12859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aborar Flujo de Caja del proyecto, utilizando escenario base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Identificar principales factores de riesgo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 partir de las estadísticas para cada uno de ellos, calcular el “peor escenario” con un cierto % de confianza (modificando los FR uno por uno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Calcular cuánto varía el VAN en cada caso: VaR individua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Calcular (o estimar) las correlaciones entre los factores de riesgo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8960" indent="-498960">
              <a:spcBef>
                <a:spcPts val="601"/>
              </a:spcBef>
              <a:buClr>
                <a:srgbClr val="4f81b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 partir de 4 y 5: VaR total, marginal, increment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Estacionariedad 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rocesos estacionario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Volatilidad y Media no aumentan con el tiempo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La situación es independiente del tiempo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rocesos no-estacionario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Dependen del tiempo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Volatilidad aumenta con el tiempo…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… </a:t>
            </a: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en teoría, llega a infinito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1f497d"/>
                </a:solidFill>
                <a:latin typeface="Gill Sans MT"/>
              </a:rPr>
              <a:t>UTILIZACION DE COTAS</a:t>
            </a: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Bookman Old Style"/>
              </a:rPr>
              <a:t>Distribución Triangular</a:t>
            </a:r>
            <a:endParaRPr b="0" lang="en-US" sz="3200" spc="-1" strike="noStrike">
              <a:solidFill>
                <a:srgbClr val="1f497d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378576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ermite trabajar con estimaciones de expert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rea=Probabilidad total=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Consideraciones geométricas permiten calcular el VaR: se debe calcular el punto tal que el área bajo la curva represente el % correspondiente a (1-int. Confianz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5 Triángulo isósceles"/>
          <p:cNvSpPr/>
          <p:nvPr/>
        </p:nvSpPr>
        <p:spPr>
          <a:xfrm>
            <a:off x="2428920" y="1643040"/>
            <a:ext cx="3929040" cy="1500120"/>
          </a:xfrm>
          <a:prstGeom prst="triangle">
            <a:avLst>
              <a:gd name="adj" fmla="val 35903"/>
            </a:avLst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7 Conector recto"/>
          <p:cNvSpPr/>
          <p:nvPr/>
        </p:nvSpPr>
        <p:spPr>
          <a:xfrm>
            <a:off x="3840120" y="1643040"/>
            <a:ext cx="0" cy="1500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9 CuadroTexto"/>
          <p:cNvSpPr/>
          <p:nvPr/>
        </p:nvSpPr>
        <p:spPr>
          <a:xfrm>
            <a:off x="2077920" y="32148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0 CuadroTexto"/>
          <p:cNvSpPr/>
          <p:nvPr/>
        </p:nvSpPr>
        <p:spPr>
          <a:xfrm>
            <a:off x="3434760" y="32148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11 CuadroTexto"/>
          <p:cNvSpPr/>
          <p:nvPr/>
        </p:nvSpPr>
        <p:spPr>
          <a:xfrm>
            <a:off x="6007320" y="3214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9:50:10Z</dcterms:created>
  <dc:creator>Leon Valdes S</dc:creator>
  <dc:description/>
  <dc:language>en-US</dc:language>
  <cp:lastModifiedBy>Leo</cp:lastModifiedBy>
  <dcterms:modified xsi:type="dcterms:W3CDTF">2009-10-01T14:08:21Z</dcterms:modified>
  <cp:revision>37</cp:revision>
  <dc:subject/>
  <dc:title>Clase Práctica # 1</dc:title>
</cp:coreProperties>
</file>