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431-212A-4FCC-96BD-AD031D50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5AD-09EA-492E-82B3-0D862E42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AA5-C5EF-42AC-86F1-8508AF9F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EFE-3F1A-429D-9204-C539E4B2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4568-644A-4FB8-AA9F-FB5099CD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5A84-9640-4249-92CF-25A49326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8F19-58C4-44B0-8043-EB0913A2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9928-89FA-4E94-B11C-8552C677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099F-51BA-4303-8EAD-5CB02657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6D6C-0B5A-4D72-94D2-BF75E516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1509-E4F5-4452-B185-403D2F1D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047E-EA53-4C08-BCFC-DDEEA8E1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3820-E102-4578-96FF-34739173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6262-9288-4FA3-A183-B094A836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EDB0-4C29-4CA0-8FEE-36BC1EB4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7745-E1AA-4275-9C80-A816A88D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8780-1DD5-4230-A3CE-5AAE5E3B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DC8D9-EA96-419F-9FD0-C13EB515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864F2-D742-41C4-A0E0-AC2DDBFB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E3755-989B-4F6A-9FDD-04E15D48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A00A6-C065-4916-A32E-DB1A7772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31728-E49F-4600-9E98-05D51105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7F8-FD3B-4F77-9205-278B3224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DDAB9-2DD8-4315-B933-E0BA9158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6EDD0-3CB3-4261-A625-0DB0AFAA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56B20-59D5-4C19-8C69-F5CBA703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07109-E26D-482A-A72F-D8D16D0D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4988D-30D9-4DBE-B35F-BE6BECC7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83D78-A387-4E94-A6B9-55C1681D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FA4E0-FFD6-493F-827F-F44343C3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4D02F-7FC7-488B-A1A7-61BEC887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C548B-55B3-4527-94C3-F842D9F3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95570-1337-4E62-8C0F-50AD2820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8EE-57BF-4C20-89FB-4E3CF0D0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9F69E-1DDF-4B59-B843-554C6D81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82598-377B-4B6E-AF8D-7CDAB066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BACC9-C21B-4F86-9994-8798E090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F11B6-7F6E-47D8-BEEF-E22D00D3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E672A-35E1-453C-8456-9C9CAED6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0F367-ABFD-4D3B-9BB4-AA928514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0EBD8-A85F-41CD-AC34-BAC014E8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28B2B-FA05-4AD7-B2C2-9D4DE9D9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2BA1B-C0D8-4540-802D-6D80F992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E695C-5D7F-4133-8A51-1FCD835F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5204-540E-48C4-9170-62CEE23A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F98F4-024C-4370-8248-A335883D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9674E-AE72-4C98-BF16-C241888E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30FD9-7F20-4FF4-B379-6A9F410A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FB12F-10D2-4519-A69D-A9E119FA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8C3B4-2641-459F-9F60-3FD7DAB1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70EAB-CA96-457C-BFC3-C32C6A45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D1AD8-16D2-487C-8422-A88414A6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C06AF-2726-4293-86E3-96232F4C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DDF7B-AFE0-4476-9934-6B477F54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0F28F-8748-4071-A13E-BFFADD5C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943-7817-4DDC-865D-9C99209B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B77F2-DF76-4FF5-98B0-1DB13E6F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ED8B3-2245-41A7-9593-EEF3CE54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891AA-C722-4203-9A50-77036FF8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E328D-8980-4458-B271-31C03485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F0F31-CE82-408F-8BDD-AF25DC04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A681E-B341-48A9-9324-EA0BE78D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48633-6BE3-4DC6-9173-50EE5C77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BC855-C24E-4F86-96DB-6E3964D6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6D153-CF6D-4C13-A23D-9356914E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7A6C8-6B52-4203-934D-DFEBC0C3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EBF-954C-476F-A300-31AB4739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A6F1C-7206-46A4-BE54-EE7D066D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4610C-8202-410D-BAD0-6572AD61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4E4ED-0B57-4046-B4CA-CAB2D8C5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AA7F6-9A9C-4BF6-989A-9F9642FB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D0CB1-375E-487E-A737-36F2B428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1B6C4-93E8-4C7D-B538-5F22F281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30046-03E4-4551-A69D-E2C70249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F90AF-0BD0-4042-A2C6-684FC201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2D85F-6AEF-4A65-9183-6EA54CE3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7D310-1D67-4085-86E0-A003CCB9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0601-DDAE-4651-B589-50F9F4A7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A706F-7BD7-4512-BD31-BBA1DEF7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90952-83A6-4C4A-8FC1-2FAAC455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2EBA1-49EE-4634-9DE9-36C5C00E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93443-7A5A-4743-BCD5-7D683345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ABB91-D61D-4FBC-B1F1-CA49B58D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5FE3C-8CAB-45B9-AA35-5446D563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65662-359A-4901-8BA6-B38C96BC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D49CA-744F-45E2-AD9A-754E67D4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50D2A-D838-4253-86E0-6AD726BE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02D4A-8F15-47DD-94E4-CC0E0E4B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9E1D-B17C-4BEC-8599-DE5A1027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61C7F-1803-49B5-81FE-D504B1E2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37681-C1B1-4BE2-9DC6-426CABC7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1AA6B-E621-4FF1-AC92-A23A730E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C344C-115E-4D72-8523-06FA909D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0F063-DEA3-4DEB-99F0-3BB88DA5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EA18F-4773-4769-8283-A5642DA1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29A8A-CDBC-4715-A7FB-DD8E440D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7226-FCE2-4484-B924-A7C075B8DEDA}" type="slidenum"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45F2-712E-4E01-A6EE-372B1D120FC4}" type="slidenum"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eeece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eeece1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eeece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09A6-86EF-4B89-B963-FF5CB34844BC}" type="slidenum">
              <a:rPr b="0" lang="es-CL" sz="1400" spc="-1" strike="noStrike">
                <a:solidFill>
                  <a:srgbClr val="eeece1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BDC7-29D9-43AB-B76F-651D8F96B4E6}" type="slidenum"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B700-C3D5-48EC-AE83-DEBC4EC00613}" type="slidenum"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2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E07F-3E8A-4AE9-814F-0429A5F78283}" type="slidenum"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2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eeece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eeece1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eeece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3499-8522-4D56-8FEB-2676C61D3E2C}" type="slidenum">
              <a:rPr b="0" lang="es-CL" sz="1400" spc="-1" strike="noStrike">
                <a:solidFill>
                  <a:srgbClr val="eeece1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2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DBA6-4A9F-4020-86DF-6A516F198F5F}" type="slidenum"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ochilco.cl/" TargetMode="External"/><Relationship Id="rId2" Type="http://schemas.openxmlformats.org/officeDocument/2006/relationships/hyperlink" Target="http://www.finance.yahoo.com/" TargetMode="External"/><Relationship Id="rId3" Type="http://schemas.openxmlformats.org/officeDocument/2006/relationships/hyperlink" Target="http://office.microsoft.com/es-es/excel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Bookman Old Style"/>
              </a:rPr>
              <a:t>Clase Práctica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Bookman Old Style"/>
              </a:rPr>
              <a:t>Miércoles 30 de septiembr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Bookman Old Style"/>
              </a:rPr>
              <a:t>Primavera 200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2691000" cy="85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5" name="Object 5"/>
          <p:cNvGraphicFramePr/>
          <p:nvPr/>
        </p:nvGraphicFramePr>
        <p:xfrm>
          <a:off x="7143840" y="642960"/>
          <a:ext cx="105732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3840" y="642960"/>
                    <a:ext cx="105732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Volatilidad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¿Qué volatilidad usar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Últimos k periodos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EWMA (Media Móvil Exponencial)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Pesa más la historia reciente que la pasad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Y para cambiar de plazo, si se tiene la volatilidad mensual…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Multiplicar por raiz(12)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Simulación de Montecarlo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" descr=""/>
          <p:cNvPicPr/>
          <p:nvPr/>
        </p:nvPicPr>
        <p:blipFill>
          <a:blip r:embed="rId1"/>
          <a:stretch/>
        </p:blipFill>
        <p:spPr>
          <a:xfrm>
            <a:off x="1143000" y="3071880"/>
            <a:ext cx="69022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eece1"/>
                </a:solidFill>
                <a:latin typeface="Bookman Old Style"/>
              </a:rPr>
              <a:t>Ejercicios Prácticos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Algunos sitios útile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www.bcentral.c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www.cochilco.c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 u="sng">
                <a:solidFill>
                  <a:srgbClr val="0000ff"/>
                </a:solidFill>
                <a:uFillTx/>
                <a:latin typeface="Gill Sans MT"/>
                <a:hlinkClick r:id="rId2"/>
              </a:rPr>
              <a:t>www.finance.yahoo.co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 u="sng">
                <a:solidFill>
                  <a:srgbClr val="0000ff"/>
                </a:solidFill>
                <a:uFillTx/>
                <a:latin typeface="Gill Sans MT"/>
                <a:hlinkClick r:id="rId3"/>
              </a:rPr>
              <a:t>http://office.microsoft.com/es-es/exc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eece1"/>
                </a:solidFill>
                <a:latin typeface="Bookman Old Style"/>
              </a:rPr>
              <a:t>leonvaldes@gmail.com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Dudas, consultas…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Agenda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paso V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rocesos estacionarios, no-estacionari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Utilizando información de expertos: distribución triangul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¿Qué volatilidad utilizar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jercicios práctic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eece1"/>
                </a:solidFill>
                <a:latin typeface="Bookman Old Style"/>
              </a:rPr>
              <a:t>Repaso VaR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Value-at-Risk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Máxima pérdida esperada dado un horizonte de tiempo y un intervalo de confianza”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otras palabras, puedo asegurar con un x% de confianza que lo peor que ocurrirá en el plazo t es: V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Gill Sans MT"/>
              </a:rPr>
              <a:t>VaR = VP 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k ·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cio) · t</a:t>
            </a:r>
            <a:r>
              <a:rPr b="0" lang="es-CL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/2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comparación con la sensibilidad, refleja además la probabilidad de que el evento ocur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VaR Marginal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presenta el cambio en el VaR total, producto de un cambio en el VaR individual de uno de los factores de riesg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" descr=""/>
          <p:cNvPicPr/>
          <p:nvPr/>
        </p:nvPicPr>
        <p:blipFill>
          <a:blip r:embed="rId1"/>
          <a:stretch/>
        </p:blipFill>
        <p:spPr>
          <a:xfrm>
            <a:off x="1928880" y="3929040"/>
            <a:ext cx="5207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VaR Incremental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or otro lado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Luego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sto permite identificar de mejor manera el riesgo de cada componente del proyect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" descr=""/>
          <p:cNvPicPr/>
          <p:nvPr/>
        </p:nvPicPr>
        <p:blipFill>
          <a:blip r:embed="rId1"/>
          <a:stretch/>
        </p:blipFill>
        <p:spPr>
          <a:xfrm>
            <a:off x="3000240" y="1500120"/>
            <a:ext cx="5643720" cy="12384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1000080" y="3286080"/>
            <a:ext cx="7269120" cy="142884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6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VaR del VAN</a:t>
            </a: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28760" y="12859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laborar Flujo de Caja del proyecto, utilizando escenario base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Identificar principales factores de riesgo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 partir de las estadísticas para cada uno de ellos, calcular el “peor escenario” con un cierto % de confianza (modificando los FR uno por uno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Calcular cuánto varía el VAN en cada caso: VaR individua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Calcular (o estimar) las correlaciones entre los factores de riesgo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 partir de 4 y 5: VaR total, marginal, increment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Estacionariedad 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rocesos estacionario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Volatilidad y Media no aumentan con el tiempo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La situación es independiente del tiempo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rocesos no-estacionario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Dependen del tiempo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Volatilidad aumenta con el tiempo…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… </a:t>
            </a: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en teoría, llega a infinito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UTILIZACION DE COTAS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Distribución Triangular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3785760"/>
            <a:ext cx="8229600" cy="22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ermite trabajar con estimaciones de expert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rea=Probabilidad total=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Consideraciones geométricas permiten calcular el VaR: se debe calcular el punto tal que el área bajo la curva represente el % correspondiente a (1-int. Confianz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5 Triángulo isósceles"/>
          <p:cNvSpPr/>
          <p:nvPr/>
        </p:nvSpPr>
        <p:spPr>
          <a:xfrm>
            <a:off x="2428920" y="1643040"/>
            <a:ext cx="3929040" cy="1500120"/>
          </a:xfrm>
          <a:prstGeom prst="triangle">
            <a:avLst>
              <a:gd name="adj" fmla="val 35903"/>
            </a:avLst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7 Conector recto"/>
          <p:cNvSpPr/>
          <p:nvPr/>
        </p:nvSpPr>
        <p:spPr>
          <a:xfrm>
            <a:off x="3840120" y="1643040"/>
            <a:ext cx="0" cy="1500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9 CuadroTexto"/>
          <p:cNvSpPr/>
          <p:nvPr/>
        </p:nvSpPr>
        <p:spPr>
          <a:xfrm>
            <a:off x="2077920" y="32148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10 CuadroTexto"/>
          <p:cNvSpPr/>
          <p:nvPr/>
        </p:nvSpPr>
        <p:spPr>
          <a:xfrm>
            <a:off x="3434760" y="32148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11 CuadroTexto"/>
          <p:cNvSpPr/>
          <p:nvPr/>
        </p:nvSpPr>
        <p:spPr>
          <a:xfrm>
            <a:off x="6007320" y="32148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9:50:10Z</dcterms:created>
  <dc:creator>Leon Valdes S</dc:creator>
  <dc:description/>
  <dc:language>en-US</dc:language>
  <cp:lastModifiedBy>Leo</cp:lastModifiedBy>
  <dcterms:modified xsi:type="dcterms:W3CDTF">2009-10-01T14:08:21Z</dcterms:modified>
  <cp:revision>37</cp:revision>
  <dc:subject/>
  <dc:title>Clase Práctica # 1</dc:title>
</cp:coreProperties>
</file>