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7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LATIGO.WAV" ContentType="audio/x-wav"/>
  <Override PartName="/ppt/media/image11.wmf" ContentType="image/x-wmf"/>
  <Override PartName="/ppt/media/image6.wmf" ContentType="image/x-wmf"/>
  <Override PartName="/ppt/media/FRENADA.WAV" ContentType="audio/x-wav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CF2B-A190-4283-A5D8-A9422A1C440C}" type="slidenum">
              <a:rPr b="0" lang="es-CO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6A9A-A14C-4083-AC86-CBCDE08B0FA1}" type="slidenum">
              <a:rPr b="0" lang="es-CO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7381-0EB5-40D2-A5C4-94C1CC07685D}" type="slidenum">
              <a:rPr b="0" lang="es-CO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96AC-A33F-4705-84B8-85F13C2AF0F8}" type="slidenum">
              <a:rPr b="0" lang="es-CO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610CB-773E-4BE1-92CF-E00EB9B4CA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BE976-9F45-4081-9C48-071CE955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E2304-64CA-4729-878A-442FEB90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AE8A1-6C5C-4C30-962A-CD484BF5C6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70F4E9-6794-4163-9E85-A77411BB5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30718-AE2D-40F9-8E35-517C2904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1EEC8-14C2-4E6B-A1C8-154D4590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2EDE7-A296-49D1-B81E-3D96BDC6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BB354-4589-441D-883A-0A627FB4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37601-CABD-4D45-9B84-6CE437BF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0A882-5449-49EF-B25B-4F1D9F66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32560-7731-495C-9D1B-E874C00F7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8DFAE-5BD5-420B-8099-1F6B7E41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F3390-9FCA-44EF-93A5-A270DABE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717D6-C62C-411D-8D02-3BF6FB37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60915-C00C-41BC-A5D0-97314324B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768A3-48AB-4FC7-AF27-AB2DAC5E8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2408A-2016-466C-9058-E9919F34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7AC3E-CDD9-4C8D-9BD4-AC8F009F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7C76A-3FF4-4C80-8DD9-1778AD129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D79E6-524E-4F6D-B4FB-73D89387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B950C-9AA8-4EF5-B3FC-A87EAD83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59C16-DBD9-423B-9CB6-646F04F6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CF6EB-2D47-4D4B-9DF5-1FCED0E0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3AEC-D475-48E9-914D-E027014A8FD4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3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8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3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5A9F-10AD-471C-A642-80600E7B919D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FRENADA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90720" y="1773000"/>
            <a:ext cx="640080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ódulo Gestión de Proyec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rofesor Eduardo Contrera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521080" cy="93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7236000" y="260280"/>
          <a:ext cx="1056960" cy="9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6000" y="260280"/>
                    <a:ext cx="105696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1187280" y="5445000"/>
            <a:ext cx="583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ahoma"/>
              </a:rPr>
              <a:t>Diplomado de Preparación y Evaluación Social de Proyec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ahoma"/>
              </a:rPr>
              <a:t>Ministerio de Planificación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Héctor Sanín - Consul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Defina el objetiv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8286840" y="211680"/>
            <a:ext cx="615960" cy="601200"/>
            <a:chOff x="8286840" y="211680"/>
            <a:chExt cx="615960" cy="601200"/>
          </a:xfrm>
        </p:grpSpPr>
        <p:sp>
          <p:nvSpPr>
            <p:cNvPr id="356" name=""/>
            <p:cNvSpPr/>
            <p:nvPr/>
          </p:nvSpPr>
          <p:spPr>
            <a:xfrm rot="2700000">
              <a:off x="8549640" y="230760"/>
              <a:ext cx="88920" cy="8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2700000">
              <a:off x="8467560" y="310680"/>
              <a:ext cx="88920" cy="8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2700000">
              <a:off x="8386200" y="387720"/>
              <a:ext cx="8712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2700000">
              <a:off x="8632440" y="310680"/>
              <a:ext cx="88920" cy="82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2700000">
              <a:off x="8550000" y="388800"/>
              <a:ext cx="88560" cy="85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2700000">
              <a:off x="8466480" y="471960"/>
              <a:ext cx="88920" cy="81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2700000">
              <a:off x="8799120" y="470880"/>
              <a:ext cx="87480" cy="81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2700000">
              <a:off x="8717760" y="387720"/>
              <a:ext cx="8712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2700000">
              <a:off x="8386200" y="547920"/>
              <a:ext cx="8712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2700000">
              <a:off x="8302320" y="470880"/>
              <a:ext cx="87480" cy="81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2700000">
              <a:off x="8550000" y="710640"/>
              <a:ext cx="88920" cy="82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2700000">
              <a:off x="8632440" y="629640"/>
              <a:ext cx="88920" cy="82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2700000">
              <a:off x="8467560" y="629640"/>
              <a:ext cx="88920" cy="8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700000">
              <a:off x="8550000" y="549000"/>
              <a:ext cx="88920" cy="85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2700000">
              <a:off x="8631720" y="471960"/>
              <a:ext cx="88920" cy="810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2700000">
              <a:off x="8717760" y="547920"/>
              <a:ext cx="8712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295280" y="914400"/>
            <a:ext cx="1447920" cy="129384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tu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ici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914400"/>
            <a:ext cx="1447920" cy="1295280"/>
          </a:xfrm>
          <a:prstGeom prst="ellipse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tu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733920" y="1219320"/>
            <a:ext cx="1679400" cy="647640"/>
            <a:chOff x="3733920" y="1219320"/>
            <a:chExt cx="1679400" cy="647640"/>
          </a:xfrm>
        </p:grpSpPr>
        <p:sp>
          <p:nvSpPr>
            <p:cNvPr id="375" name=""/>
            <p:cNvSpPr/>
            <p:nvPr/>
          </p:nvSpPr>
          <p:spPr>
            <a:xfrm>
              <a:off x="3733920" y="1219320"/>
              <a:ext cx="1679400" cy="647640"/>
            </a:xfrm>
            <a:prstGeom prst="rightArrow">
              <a:avLst>
                <a:gd name="adj1" fmla="val 50000"/>
                <a:gd name="adj2" fmla="val 64828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92600" y="1390680"/>
              <a:ext cx="14601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OYECTO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1220760" y="2514600"/>
            <a:ext cx="1651320" cy="398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PROBLEM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87840" y="2438280"/>
            <a:ext cx="3100680" cy="703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PROPÓSITO =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PROBLEMA RESUELT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28600" y="4114800"/>
            <a:ext cx="4114800" cy="838080"/>
            <a:chOff x="228600" y="4114800"/>
            <a:chExt cx="4114800" cy="838080"/>
          </a:xfrm>
        </p:grpSpPr>
        <p:sp>
          <p:nvSpPr>
            <p:cNvPr id="380" name=""/>
            <p:cNvSpPr/>
            <p:nvPr/>
          </p:nvSpPr>
          <p:spPr>
            <a:xfrm>
              <a:off x="374040" y="4114800"/>
              <a:ext cx="355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omic Sans MS"/>
                </a:rPr>
                <a:t>Sistema de transport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omic Sans MS"/>
                </a:rPr>
                <a:t>público ineficient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8600" y="4114800"/>
              <a:ext cx="4114800" cy="838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800600" y="4114800"/>
            <a:ext cx="4114800" cy="838080"/>
            <a:chOff x="4800600" y="4114800"/>
            <a:chExt cx="4114800" cy="838080"/>
          </a:xfrm>
        </p:grpSpPr>
        <p:sp>
          <p:nvSpPr>
            <p:cNvPr id="383" name=""/>
            <p:cNvSpPr/>
            <p:nvPr/>
          </p:nvSpPr>
          <p:spPr>
            <a:xfrm>
              <a:off x="5280840" y="4114800"/>
              <a:ext cx="355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omic Sans MS"/>
                </a:rPr>
                <a:t>Sistema de transport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omic Sans MS"/>
                </a:rPr>
                <a:t>público eficient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00600" y="4114800"/>
              <a:ext cx="4114800" cy="838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4419720" y="3962520"/>
            <a:ext cx="30456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1880" y="5334120"/>
            <a:ext cx="8274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ahoma"/>
              </a:rPr>
              <a:t>Si no mido el objetivo, no sabré si lo estoy logrando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Mida el objetiv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8286840" y="211680"/>
            <a:ext cx="615960" cy="601200"/>
            <a:chOff x="8286840" y="211680"/>
            <a:chExt cx="615960" cy="601200"/>
          </a:xfrm>
        </p:grpSpPr>
        <p:sp>
          <p:nvSpPr>
            <p:cNvPr id="390" name=""/>
            <p:cNvSpPr/>
            <p:nvPr/>
          </p:nvSpPr>
          <p:spPr>
            <a:xfrm rot="2700000">
              <a:off x="8549640" y="230760"/>
              <a:ext cx="88920" cy="8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2700000">
              <a:off x="8467560" y="310680"/>
              <a:ext cx="88920" cy="8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2700000">
              <a:off x="8386200" y="387720"/>
              <a:ext cx="8712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2700000">
              <a:off x="8632440" y="310680"/>
              <a:ext cx="88920" cy="82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2700000">
              <a:off x="8550000" y="388800"/>
              <a:ext cx="88560" cy="85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2700000">
              <a:off x="8466480" y="471960"/>
              <a:ext cx="88920" cy="81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2700000">
              <a:off x="8799120" y="470880"/>
              <a:ext cx="87480" cy="81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2700000">
              <a:off x="8717760" y="387720"/>
              <a:ext cx="8712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2700000">
              <a:off x="8386200" y="547920"/>
              <a:ext cx="8712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700000">
              <a:off x="8302320" y="470880"/>
              <a:ext cx="87480" cy="81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2700000">
              <a:off x="8550000" y="710640"/>
              <a:ext cx="88920" cy="82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2700000">
              <a:off x="8632440" y="629640"/>
              <a:ext cx="88920" cy="82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2700000">
              <a:off x="8467560" y="629640"/>
              <a:ext cx="88920" cy="8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2700000">
              <a:off x="8550000" y="549000"/>
              <a:ext cx="88920" cy="85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2700000">
              <a:off x="8631720" y="471960"/>
              <a:ext cx="88920" cy="810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2700000">
              <a:off x="8717760" y="547920"/>
              <a:ext cx="8712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735120" y="914400"/>
            <a:ext cx="7166880" cy="2895120"/>
            <a:chOff x="735120" y="914400"/>
            <a:chExt cx="7166880" cy="2895120"/>
          </a:xfrm>
        </p:grpSpPr>
        <p:sp>
          <p:nvSpPr>
            <p:cNvPr id="407" name=""/>
            <p:cNvSpPr/>
            <p:nvPr/>
          </p:nvSpPr>
          <p:spPr>
            <a:xfrm>
              <a:off x="1638000" y="914400"/>
              <a:ext cx="1225440" cy="1170360"/>
            </a:xfrm>
            <a:prstGeom prst="ellipse">
              <a:avLst/>
            </a:prstGeom>
            <a:solidFill>
              <a:srgbClr val="ff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Situació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nicial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959440" y="914400"/>
              <a:ext cx="1225440" cy="1171800"/>
            </a:xfrm>
            <a:prstGeom prst="ellipse">
              <a:avLst/>
            </a:prstGeom>
            <a:solidFill>
              <a:srgbClr val="cc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Situació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Objetivo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3702240" y="1190160"/>
              <a:ext cx="1421280" cy="585720"/>
              <a:chOff x="3702240" y="1190160"/>
              <a:chExt cx="1421280" cy="585720"/>
            </a:xfrm>
          </p:grpSpPr>
          <p:sp>
            <p:nvSpPr>
              <p:cNvPr id="410" name=""/>
              <p:cNvSpPr/>
              <p:nvPr/>
            </p:nvSpPr>
            <p:spPr>
              <a:xfrm>
                <a:off x="3702240" y="1190160"/>
                <a:ext cx="1421280" cy="585720"/>
              </a:xfrm>
              <a:prstGeom prst="rightArrow">
                <a:avLst>
                  <a:gd name="adj1" fmla="val 50000"/>
                  <a:gd name="adj2" fmla="val 60664"/>
                </a:avLst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13400" y="1342800"/>
                <a:ext cx="131256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sp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OYECTO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1575000" y="2247120"/>
              <a:ext cx="1501920" cy="368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PROBLEM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98320" y="2179440"/>
              <a:ext cx="2803680" cy="642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PROPÓSITO =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PROBLEMA RESUELTO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735120" y="2913480"/>
              <a:ext cx="3483000" cy="758520"/>
              <a:chOff x="735120" y="2913480"/>
              <a:chExt cx="3483000" cy="758520"/>
            </a:xfrm>
          </p:grpSpPr>
          <p:sp>
            <p:nvSpPr>
              <p:cNvPr id="415" name=""/>
              <p:cNvSpPr/>
              <p:nvPr/>
            </p:nvSpPr>
            <p:spPr>
              <a:xfrm>
                <a:off x="1005120" y="2983680"/>
                <a:ext cx="2719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Sistema de transporte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público ineficiente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35120" y="2913480"/>
                <a:ext cx="3483000" cy="758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605120" y="2913480"/>
              <a:ext cx="3289320" cy="758520"/>
              <a:chOff x="4605120" y="2913480"/>
              <a:chExt cx="3289320" cy="758520"/>
            </a:xfrm>
          </p:grpSpPr>
          <p:sp>
            <p:nvSpPr>
              <p:cNvPr id="418" name=""/>
              <p:cNvSpPr/>
              <p:nvPr/>
            </p:nvSpPr>
            <p:spPr>
              <a:xfrm>
                <a:off x="5052960" y="2983680"/>
                <a:ext cx="2719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Sistema de transporte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público eficiente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605120" y="2913480"/>
                <a:ext cx="3289320" cy="758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4282560" y="2775600"/>
              <a:ext cx="193320" cy="1033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4179240" y="4267080"/>
            <a:ext cx="437184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Tiempo medio de desplazamient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de los usuarios del sistema de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transporte  público disminuido e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un 58%,pasando de 120 a 50 minuto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al final del cuarto año”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9720" y="3733920"/>
            <a:ext cx="25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ndicador me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154520" y="45720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ínea de ba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-51840" y="5791320"/>
            <a:ext cx="21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Tiempo medio 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desplazamient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161440" y="586728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120 minu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51760" y="58672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50 minu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48320" y="5638680"/>
            <a:ext cx="15228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CO" sz="24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Comic Sans MS"/>
              </a:rPr>
              <a:t>Tenga claros los </a:t>
            </a:r>
            <a:r>
              <a:rPr b="1" lang="es-ES_tradnl" sz="3200" spc="-1" strike="noStrike">
                <a:solidFill>
                  <a:srgbClr val="40458c"/>
                </a:solidFill>
                <a:latin typeface="Comic Sans MS"/>
              </a:rPr>
              <a:t>objetivo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0458c"/>
                </a:solidFill>
                <a:latin typeface="Tahoma"/>
              </a:rPr>
              <a:t>2. El buen gerente de proyecto tiene claro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40458c"/>
                </a:solidFill>
                <a:latin typeface="Tahoma"/>
              </a:rPr>
              <a:t>Qué debe entregar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0458c"/>
                </a:solidFill>
                <a:latin typeface="Tahoma"/>
              </a:rPr>
              <a:t>O sea, los</a:t>
            </a:r>
            <a:r>
              <a:rPr b="1" lang="es-ES_tradnl" sz="5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_tradnl" sz="4800" spc="-1" strike="noStrike">
                <a:solidFill>
                  <a:srgbClr val="40458c"/>
                </a:solidFill>
                <a:latin typeface="Tahoma"/>
              </a:rPr>
              <a:t>productos</a:t>
            </a:r>
            <a:r>
              <a:rPr b="1" lang="es-ES_tradnl" sz="5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_tradnl" sz="4000" spc="-1" strike="noStrike">
                <a:solidFill>
                  <a:srgbClr val="40458c"/>
                </a:solidFill>
                <a:latin typeface="Tahoma"/>
              </a:rPr>
              <a:t>resultantes de la ejecución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1071360" cy="10684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7391520" y="3429000"/>
            <a:ext cx="121896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824040" y="609480"/>
            <a:ext cx="74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INDICADORES de COMPONENTES (PRODUCTOS 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7772400" y="3276720"/>
            <a:ext cx="977760" cy="8190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7661160" y="4343400"/>
            <a:ext cx="1177920" cy="8683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6006960" y="583236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38080" y="2286000"/>
            <a:ext cx="3200400" cy="8380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1. Diseñado un nuevo sistem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de rutas de transporte urban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38080" y="3276720"/>
            <a:ext cx="3200400" cy="8380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2. Reconstruidas las vías de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nuevo sistema de ruta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8080" y="4267080"/>
            <a:ext cx="3200400" cy="8384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3. Asignado el parqu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automotor para las ruta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8080" y="5257800"/>
            <a:ext cx="3200400" cy="8380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4. Educada la ciudadanía pa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el funcionamiento del sistem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8080" y="1600200"/>
            <a:ext cx="3200400" cy="53352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458c"/>
                </a:solidFill>
                <a:latin typeface="Tahoma"/>
              </a:rPr>
              <a:t>COMPONENT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1120" y="1600200"/>
            <a:ext cx="3200400" cy="53352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458c"/>
                </a:solidFill>
                <a:latin typeface="Tahoma"/>
              </a:rPr>
              <a:t>INDICADO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191120" y="2286000"/>
            <a:ext cx="3200400" cy="8380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ahoma"/>
              </a:rPr>
              <a:t>Sistema nuevo convenido con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ahoma"/>
              </a:rPr>
              <a:t>los involucrados y reglamento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ahoma"/>
              </a:rPr>
              <a:t>aprobado al final del año 1.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91120" y="3276720"/>
            <a:ext cx="3200400" cy="8380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ahoma"/>
              </a:rPr>
              <a:t>Reconstruidos 20 Km. de vías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ahoma"/>
              </a:rPr>
              <a:t>con las especificaciones exigidas,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ahoma"/>
              </a:rPr>
              <a:t>al final del año 2.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91120" y="4267080"/>
            <a:ext cx="3200400" cy="8384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ahoma"/>
              </a:rPr>
              <a:t>Asignados 200 automotores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ahoma"/>
              </a:rPr>
              <a:t>articulados con capacidad de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ahoma"/>
              </a:rPr>
              <a:t>120 personas, al final del año 2.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91120" y="5257800"/>
            <a:ext cx="3200400" cy="8380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El 90% de la ciudadanía está enterad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del nuevo sistema y el 75% está ap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para utilizarlo al final del año  2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4920" y="228600"/>
            <a:ext cx="449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ahoma"/>
              </a:rPr>
              <a:t>Gestión de Proyecto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22860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920" y="1295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3520" y="3809880"/>
            <a:ext cx="5562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0458c"/>
                </a:solidFill>
                <a:latin typeface="Comic Sans MS"/>
              </a:rPr>
              <a:t>Relaciónese con los involucrado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6172200" y="1752480"/>
            <a:ext cx="228600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Comic Sans MS"/>
              </a:rPr>
              <a:t>Mapa de involucrado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Comic Sans MS"/>
              </a:rPr>
              <a:t>¿Quiénes son </a:t>
            </a:r>
            <a:r>
              <a:rPr b="1" lang="es-ES_tradnl" sz="2800" spc="-1" strike="noStrike">
                <a:solidFill>
                  <a:srgbClr val="b2b2b2"/>
                </a:solidFill>
                <a:latin typeface="Comic Sans MS"/>
              </a:rPr>
              <a:t>INVOLUCRADOS</a:t>
            </a:r>
            <a:r>
              <a:rPr b="0" lang="es-ES_tradnl" sz="2800" spc="-1" strike="noStrike">
                <a:solidFill>
                  <a:srgbClr val="40458c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Comic Sans MS"/>
              </a:rPr>
              <a:t>Personas, instituciones o grupos social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Comic Sans MS"/>
              </a:rPr>
              <a:t>afectados por el proble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Comic Sans MS"/>
              </a:rPr>
              <a:t>o que se mueven en el entorno del proble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Comic Sans MS"/>
              </a:rPr>
              <a:t>o que pueden participar en la sol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4"/>
          <a:stretch/>
        </p:blipFill>
        <p:spPr>
          <a:xfrm>
            <a:off x="914400" y="225360"/>
            <a:ext cx="174636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01000" cy="7621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Comic Sans MS"/>
              </a:rPr>
              <a:t>Participación de los involucrado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Comic Sans MS"/>
              </a:rPr>
              <a:t>Con base en el mapa de involucrados el equipo de proyecto diseña y aplica </a:t>
            </a:r>
            <a:r>
              <a:rPr b="1" lang="es-ES_tradnl" sz="3200" spc="-1" strike="noStrike">
                <a:solidFill>
                  <a:srgbClr val="40458c"/>
                </a:solidFill>
                <a:latin typeface="Comic Sans MS"/>
              </a:rPr>
              <a:t>estrategias participativas</a:t>
            </a:r>
            <a:r>
              <a:rPr b="0" lang="es-ES_tradnl" sz="3200" spc="-1" strike="noStrike">
                <a:solidFill>
                  <a:srgbClr val="40458c"/>
                </a:solidFill>
                <a:latin typeface="Comic Sans MS"/>
              </a:rPr>
              <a:t> que e abran espacio sociopolítico al proyecto y propicien la intervención efectiva y el compromiso de los involucrados con la ejecución del proyec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6934320" y="4876920"/>
            <a:ext cx="182880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660066"/>
                </a:solidFill>
                <a:latin typeface="Tahoma"/>
              </a:rPr>
              <a:t>Pasos para análisis y gestión de relacion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 Mapa de involucrad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2. Diseño de estrategias participativ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3.</a:t>
            </a: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 Realización de las estrategi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5257800" y="914400"/>
            <a:ext cx="35812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657600" y="3124080"/>
            <a:ext cx="1219320" cy="11430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Unida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Ejecutor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752480" y="3124080"/>
            <a:ext cx="91440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Cámar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del libr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791320" y="2819520"/>
            <a:ext cx="9144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Entidad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financiera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00600" y="1523880"/>
            <a:ext cx="914400" cy="83844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629400" y="3657600"/>
            <a:ext cx="914400" cy="8380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Organismo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regulado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91320" y="4648320"/>
            <a:ext cx="914400" cy="838080"/>
          </a:xfrm>
          <a:prstGeom prst="ellipse">
            <a:avLst/>
          </a:prstGeom>
          <a:solidFill>
            <a:srgbClr val="ff33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Ministeri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de educació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43400" y="5181480"/>
            <a:ext cx="91440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23880" y="4343400"/>
            <a:ext cx="914400" cy="838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Proveedo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048120" y="1752480"/>
            <a:ext cx="914400" cy="83844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9920" y="1828800"/>
            <a:ext cx="914400" cy="83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40458c"/>
                </a:solidFill>
                <a:latin typeface="Times New Roman"/>
              </a:rPr>
              <a:t>Administradore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40458c"/>
                </a:solidFill>
                <a:latin typeface="Times New Roman"/>
              </a:rPr>
              <a:t>docente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19520" y="4952880"/>
            <a:ext cx="914400" cy="83844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Facultad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de Educació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4648320" y="2514600"/>
            <a:ext cx="304560" cy="45720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4876560" y="2514600"/>
            <a:ext cx="990360" cy="76212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5105160" y="3505320"/>
            <a:ext cx="609480" cy="15228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495680" y="4419720"/>
            <a:ext cx="152640" cy="60948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3580920" y="4343400"/>
            <a:ext cx="304920" cy="53352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2666880" y="4038480"/>
            <a:ext cx="914400" cy="45720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819160" y="3581280"/>
            <a:ext cx="68580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2743200" y="2743200"/>
            <a:ext cx="914400" cy="53352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3733560" y="2666520"/>
            <a:ext cx="152280" cy="38124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 flipV="1">
            <a:off x="5105520" y="3962160"/>
            <a:ext cx="1295280" cy="15228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4800600" y="4190760"/>
            <a:ext cx="914400" cy="53316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660066"/>
                </a:solidFill>
                <a:uFillTx/>
                <a:latin typeface="Tahoma"/>
              </a:rPr>
              <a:t>1. Mapa de relaciones</a:t>
            </a:r>
            <a:br>
              <a:rPr sz="3200"/>
            </a:b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1.1 Identificación de involucrado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676520" y="1905120"/>
            <a:ext cx="914400" cy="838080"/>
            <a:chOff x="1676520" y="1905120"/>
            <a:chExt cx="914400" cy="838080"/>
          </a:xfrm>
        </p:grpSpPr>
        <p:sp>
          <p:nvSpPr>
            <p:cNvPr id="485" name=""/>
            <p:cNvSpPr/>
            <p:nvPr/>
          </p:nvSpPr>
          <p:spPr>
            <a:xfrm>
              <a:off x="1676520" y="1905120"/>
              <a:ext cx="914400" cy="83808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10360" y="2233440"/>
              <a:ext cx="813240" cy="2462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40458c"/>
                  </a:solidFill>
                  <a:latin typeface="Times New Roman"/>
                </a:rPr>
                <a:t>Estudiantes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4829760" y="178920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Profeso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01040" y="1905120"/>
            <a:ext cx="81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Padres d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famili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404960" y="5486400"/>
            <a:ext cx="85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Municipi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230760" y="4419720"/>
            <a:ext cx="8769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imes New Roman"/>
              </a:rPr>
              <a:t>Expectativa</a:t>
            </a:r>
            <a:r>
              <a:rPr b="0" lang="es-ES_tradnl" sz="2200" spc="-1" strike="noStrike">
                <a:solidFill>
                  <a:srgbClr val="40458c"/>
                </a:solidFill>
                <a:latin typeface="Times New Roman"/>
              </a:rPr>
              <a:t>: Apreciación de la importancia que el involucrado le atribuye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imes New Roman"/>
              </a:rPr>
              <a:t>al área de interés considerada.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b2b2b2"/>
                </a:solidFill>
                <a:latin typeface="Times New Roman"/>
              </a:rPr>
              <a:t>Positiva (+)</a:t>
            </a:r>
            <a:r>
              <a:rPr b="0" lang="es-ES_tradnl" sz="2200" spc="-1" strike="noStrike">
                <a:solidFill>
                  <a:srgbClr val="40458c"/>
                </a:solidFill>
                <a:latin typeface="Times New Roman"/>
              </a:rPr>
              <a:t> si el involucrado percibe beneficios por parte del proyect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Times New Roman"/>
              </a:rPr>
              <a:t>Negativa (-)</a:t>
            </a:r>
            <a:r>
              <a:rPr b="0" lang="es-ES_tradnl" sz="2200" spc="-1" strike="noStrike">
                <a:solidFill>
                  <a:srgbClr val="40458c"/>
                </a:solidFill>
                <a:latin typeface="Times New Roman"/>
              </a:rPr>
              <a:t> si se percibe que el proyecto traslada costos o lesiona intereses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imes New Roman"/>
              </a:rPr>
              <a:t>Fuerza</a:t>
            </a:r>
            <a:r>
              <a:rPr b="0" lang="es-ES_tradnl" sz="2200" spc="-1" strike="noStrike">
                <a:solidFill>
                  <a:srgbClr val="40458c"/>
                </a:solidFill>
                <a:latin typeface="Times New Roman"/>
              </a:rPr>
              <a:t>: Capacidad de influir de alguna forma en el proyect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049400" y="1081080"/>
            <a:ext cx="19810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206720" y="1081080"/>
            <a:ext cx="172296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Expectativ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049400" y="1614600"/>
            <a:ext cx="19810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049400" y="2147760"/>
            <a:ext cx="19810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49400" y="2681280"/>
            <a:ext cx="19810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049400" y="3214800"/>
            <a:ext cx="19810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49400" y="3747960"/>
            <a:ext cx="19810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73160" y="1676520"/>
            <a:ext cx="282960" cy="3373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974600" y="2209680"/>
            <a:ext cx="282960" cy="3373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973160" y="2743200"/>
            <a:ext cx="282960" cy="3373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973160" y="3276720"/>
            <a:ext cx="282960" cy="3373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960200" y="3824280"/>
            <a:ext cx="282960" cy="3373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505320" y="1066680"/>
            <a:ext cx="19810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74400" y="1066680"/>
            <a:ext cx="1095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Fuerz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505320" y="1600200"/>
            <a:ext cx="19810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05320" y="2133720"/>
            <a:ext cx="19810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05320" y="2666880"/>
            <a:ext cx="19810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05320" y="3200400"/>
            <a:ext cx="19810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05320" y="3733920"/>
            <a:ext cx="19810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428720" y="1662120"/>
            <a:ext cx="282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430520" y="2195640"/>
            <a:ext cx="282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428720" y="2728800"/>
            <a:ext cx="282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428720" y="3262320"/>
            <a:ext cx="282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416120" y="3809880"/>
            <a:ext cx="282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943600" y="106668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179760" y="1066680"/>
            <a:ext cx="157068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Resultan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943600" y="160020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943600" y="213372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943600" y="266688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943600" y="320040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943600" y="373392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16240" y="1662120"/>
            <a:ext cx="384840" cy="33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17680" y="2195640"/>
            <a:ext cx="384840" cy="33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67360" y="2728800"/>
            <a:ext cx="282960" cy="33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67360" y="3262320"/>
            <a:ext cx="282960" cy="33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4760" y="3809880"/>
            <a:ext cx="282960" cy="33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5520" y="167652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25520" y="22096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125520" y="274320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125520" y="327672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125520" y="38098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64520" y="1676520"/>
            <a:ext cx="30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564520" y="2209680"/>
            <a:ext cx="30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564520" y="2743200"/>
            <a:ext cx="30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4520" y="3276720"/>
            <a:ext cx="30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64520" y="3809880"/>
            <a:ext cx="30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08240" y="114300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546160" y="114300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660066"/>
                </a:solidFill>
                <a:uFillTx/>
                <a:latin typeface="Tahoma"/>
              </a:rPr>
              <a:t>1. Mapa de relaciones</a:t>
            </a:r>
            <a:br>
              <a:rPr sz="2800"/>
            </a:br>
            <a:r>
              <a:rPr b="1" lang="es-ES_tradnl" sz="2800" spc="-1" strike="noStrike">
                <a:solidFill>
                  <a:srgbClr val="660066"/>
                </a:solidFill>
                <a:latin typeface="Tahoma"/>
              </a:rPr>
              <a:t>1.2 Valoración de expectativas, fuerzas y resultantes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6618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3333cc"/>
                </a:solidFill>
                <a:latin typeface="Tahoma"/>
              </a:rPr>
              <a:t>Gestión de Proyectos</a:t>
            </a:r>
            <a:br>
              <a:rPr sz="8000"/>
            </a:br>
            <a:br>
              <a:rPr sz="8000"/>
            </a:b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Profesor: Eduardo Contrera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Presentación adaptada de curso de Héctor Sanín – Gerencial  Ltda. - Ilpes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 </a:t>
            </a:r>
            <a:br>
              <a:rPr sz="80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REN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363600" y="682560"/>
            <a:ext cx="1922400" cy="55080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58c"/>
                </a:solidFill>
                <a:latin typeface="Tahoma"/>
              </a:rPr>
              <a:t>Expectativ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80880" y="1295280"/>
            <a:ext cx="1922760" cy="2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743200" y="685800"/>
            <a:ext cx="198108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58c"/>
                </a:solidFill>
                <a:latin typeface="Tahoma"/>
              </a:rPr>
              <a:t>Fuerz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743200" y="1295280"/>
            <a:ext cx="1981080" cy="25092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181480" y="685800"/>
            <a:ext cx="19814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58c"/>
                </a:solidFill>
                <a:latin typeface="Tahoma"/>
              </a:rPr>
              <a:t>Resultan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181480" y="1295280"/>
            <a:ext cx="19814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2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801680" y="12193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346120" y="787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238880" y="1295280"/>
            <a:ext cx="1676520" cy="137160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Favorecedor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(Adeptos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238880" y="2895480"/>
            <a:ext cx="167652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Indiferent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(Neutros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238880" y="4495680"/>
            <a:ext cx="1676520" cy="1371600"/>
          </a:xfrm>
          <a:prstGeom prst="rect">
            <a:avLst/>
          </a:prstGeom>
          <a:solidFill>
            <a:srgbClr val="ff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Opositor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(Obstaculizadores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238880" y="685800"/>
            <a:ext cx="167652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58c"/>
                </a:solidFill>
                <a:latin typeface="Tahoma"/>
              </a:rPr>
              <a:t>Posi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58c"/>
                </a:solidFill>
                <a:latin typeface="Tahoma"/>
              </a:rPr>
              <a:t>Potencial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80880" y="1676520"/>
            <a:ext cx="190512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0880" y="2057400"/>
            <a:ext cx="190512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1676520"/>
            <a:ext cx="198108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43200" y="2057400"/>
            <a:ext cx="198108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181480" y="1676520"/>
            <a:ext cx="198144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181480" y="2057400"/>
            <a:ext cx="198144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0880" y="2438280"/>
            <a:ext cx="1922760" cy="2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2438280"/>
            <a:ext cx="1981080" cy="25092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181480" y="2438280"/>
            <a:ext cx="19814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80880" y="2895480"/>
            <a:ext cx="1922760" cy="2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743200" y="2895480"/>
            <a:ext cx="1981080" cy="25092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181480" y="2895480"/>
            <a:ext cx="198144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363760" y="28954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01680" y="28195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80880" y="3276720"/>
            <a:ext cx="190512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0880" y="3657600"/>
            <a:ext cx="190512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3276720"/>
            <a:ext cx="198108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743200" y="3657600"/>
            <a:ext cx="198108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181480" y="3276720"/>
            <a:ext cx="198144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181480" y="3657600"/>
            <a:ext cx="198144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80880" y="4038480"/>
            <a:ext cx="1922760" cy="2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-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743200" y="4038480"/>
            <a:ext cx="1981080" cy="25092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81480" y="4038480"/>
            <a:ext cx="198144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-8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0880" y="4495680"/>
            <a:ext cx="1922760" cy="2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-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743200" y="4495680"/>
            <a:ext cx="1981080" cy="250920"/>
          </a:xfrm>
          <a:prstGeom prst="rect">
            <a:avLst/>
          </a:prstGeom>
          <a:solidFill>
            <a:srgbClr val="ff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181480" y="4495680"/>
            <a:ext cx="1981440" cy="228600"/>
          </a:xfrm>
          <a:prstGeom prst="rect">
            <a:avLst/>
          </a:prstGeom>
          <a:solidFill>
            <a:srgbClr val="ff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-9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63760" y="44956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801680" y="44197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80880" y="4876920"/>
            <a:ext cx="190512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0880" y="5257800"/>
            <a:ext cx="190512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743200" y="4876920"/>
            <a:ext cx="198108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743200" y="5257800"/>
            <a:ext cx="198108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181480" y="4876920"/>
            <a:ext cx="198144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181480" y="5257800"/>
            <a:ext cx="198144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0880" y="5638680"/>
            <a:ext cx="1922760" cy="2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-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5638680"/>
            <a:ext cx="1981080" cy="250920"/>
          </a:xfrm>
          <a:prstGeom prst="rect">
            <a:avLst/>
          </a:prstGeom>
          <a:solidFill>
            <a:srgbClr val="ff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181480" y="5638680"/>
            <a:ext cx="1981440" cy="228600"/>
          </a:xfrm>
          <a:prstGeom prst="rect">
            <a:avLst/>
          </a:prstGeom>
          <a:solidFill>
            <a:srgbClr val="ff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-2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363760" y="12952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363760" y="24382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363760" y="40384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363760" y="56386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01680" y="23623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01680" y="39625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01680" y="55627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04920" y="3581280"/>
            <a:ext cx="69339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26400" y="342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801680" y="7621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609480" y="685800"/>
            <a:ext cx="8153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660066"/>
                </a:solidFill>
                <a:uFillTx/>
                <a:latin typeface="Tahoma"/>
              </a:rPr>
              <a:t>1. Mapa de relaciones</a:t>
            </a:r>
            <a:br>
              <a:rPr sz="2800"/>
            </a:br>
            <a:r>
              <a:rPr b="1" lang="es-ES_tradnl" sz="2800" spc="-1" strike="noStrike">
                <a:solidFill>
                  <a:srgbClr val="660066"/>
                </a:solidFill>
                <a:latin typeface="Tahoma"/>
              </a:rPr>
              <a:t>1.2 Valoración de expectativas, fuerzas y resultantes</a:t>
            </a:r>
            <a:br>
              <a:rPr sz="2800"/>
            </a:b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455760" y="2971800"/>
            <a:ext cx="8686080" cy="2329560"/>
            <a:chOff x="455760" y="2971800"/>
            <a:chExt cx="8686080" cy="2329560"/>
          </a:xfrm>
        </p:grpSpPr>
        <p:sp>
          <p:nvSpPr>
            <p:cNvPr id="601" name=""/>
            <p:cNvSpPr/>
            <p:nvPr/>
          </p:nvSpPr>
          <p:spPr>
            <a:xfrm>
              <a:off x="5171760" y="3516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*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171760" y="397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*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086160" y="34542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86160" y="38815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162400" y="2979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0458c"/>
                  </a:solidFill>
                  <a:latin typeface="Times New Roman"/>
                </a:rPr>
                <a:t>*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076800" y="3025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0458c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911240" y="2981160"/>
              <a:ext cx="2286000" cy="3873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585160" y="3000240"/>
              <a:ext cx="828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40458c"/>
                  </a:solidFill>
                  <a:latin typeface="Times New Roman"/>
                </a:rPr>
                <a:t>Interés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55760" y="2990880"/>
              <a:ext cx="1379520" cy="37764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98240" y="2987640"/>
              <a:ext cx="1310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40458c"/>
                  </a:solidFill>
                  <a:latin typeface="Times New Roman"/>
                </a:rPr>
                <a:t>Involucrado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5760" y="3417840"/>
              <a:ext cx="1379520" cy="865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50480" y="2971800"/>
              <a:ext cx="144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0458c"/>
                  </a:solidFill>
                  <a:latin typeface="Times New Roman"/>
                </a:rPr>
                <a:t>Observacione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11240" y="3444840"/>
              <a:ext cx="2286000" cy="36504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911240" y="3902040"/>
              <a:ext cx="2286000" cy="387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075440" y="2971800"/>
              <a:ext cx="1981080" cy="380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75440" y="3429000"/>
              <a:ext cx="1981080" cy="38088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98920" y="2971800"/>
              <a:ext cx="685800" cy="380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313320" y="2971800"/>
              <a:ext cx="685800" cy="380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55920" y="2971800"/>
              <a:ext cx="914400" cy="380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265720" y="2971800"/>
              <a:ext cx="884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40458c"/>
                  </a:solidFill>
                  <a:latin typeface="Times New Roman"/>
                </a:rPr>
                <a:t> </a:t>
              </a:r>
              <a:r>
                <a:rPr b="1" lang="es-ES_tradnl" sz="1700" spc="-1" strike="noStrike">
                  <a:solidFill>
                    <a:srgbClr val="40458c"/>
                  </a:solidFill>
                  <a:latin typeface="Times New Roman"/>
                </a:rPr>
                <a:t>Fuerza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127760" y="30481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40458c"/>
                  </a:solidFill>
                  <a:latin typeface="Times New Roman"/>
                </a:rPr>
                <a:t> </a:t>
              </a:r>
              <a:r>
                <a:rPr b="1" lang="es-ES_tradnl" sz="1400" spc="-1" strike="noStrike">
                  <a:solidFill>
                    <a:srgbClr val="40458c"/>
                  </a:solidFill>
                  <a:latin typeface="Times New Roman"/>
                </a:rPr>
                <a:t>Expectativ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96400" y="2971800"/>
              <a:ext cx="756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40458c"/>
                  </a:solidFill>
                  <a:latin typeface="Times New Roman"/>
                </a:rPr>
                <a:t>Indice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255920" y="3429000"/>
              <a:ext cx="914400" cy="38088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255920" y="3886200"/>
              <a:ext cx="9144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398920" y="3886200"/>
              <a:ext cx="6858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313320" y="3429000"/>
              <a:ext cx="685800" cy="38088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313320" y="3886200"/>
              <a:ext cx="6858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98920" y="3429000"/>
              <a:ext cx="685800" cy="38088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075440" y="3886200"/>
              <a:ext cx="198108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989000" y="3505320"/>
              <a:ext cx="1770120" cy="27648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1. Incrementada cobertur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37840" y="3733920"/>
              <a:ext cx="1236960" cy="2764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Padres de famili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542120" y="3465360"/>
              <a:ext cx="342360" cy="27648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+5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575320" y="3465360"/>
              <a:ext cx="257040" cy="27648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413400" y="3465360"/>
              <a:ext cx="409320" cy="27648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  </a:t>
              </a: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59760" y="3922560"/>
              <a:ext cx="307080" cy="27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-4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575320" y="39225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426360" y="392256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-16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71760" y="45068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*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171760" y="4964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*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86160" y="44449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86160" y="48718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55760" y="4408560"/>
              <a:ext cx="1379520" cy="8650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911240" y="4435560"/>
              <a:ext cx="2286000" cy="36504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905120" y="4876920"/>
              <a:ext cx="2286000" cy="387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2. Incrementado valor matrícul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075440" y="4419720"/>
              <a:ext cx="1981080" cy="38088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55920" y="4419720"/>
              <a:ext cx="914400" cy="38088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255920" y="4876920"/>
              <a:ext cx="9144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98920" y="4876920"/>
              <a:ext cx="6858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313320" y="4419720"/>
              <a:ext cx="685800" cy="38088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13320" y="4876920"/>
              <a:ext cx="6858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398920" y="4419720"/>
              <a:ext cx="685800" cy="38088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075440" y="4876920"/>
              <a:ext cx="1981080" cy="380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989000" y="4495680"/>
              <a:ext cx="1770120" cy="27648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1. Incrementada cobertur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64280" y="4648320"/>
              <a:ext cx="822240" cy="27648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Profesor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59760" y="4456080"/>
              <a:ext cx="307080" cy="27648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-2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575320" y="4456080"/>
              <a:ext cx="257040" cy="27648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88200" y="4456080"/>
              <a:ext cx="459720" cy="27648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  </a:t>
              </a: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-1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42120" y="4913280"/>
              <a:ext cx="34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+4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75320" y="49132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505560" y="49528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076520" y="3505320"/>
              <a:ext cx="1983600" cy="24624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40458c"/>
                  </a:solidFill>
                  <a:latin typeface="Times New Roman"/>
                </a:rPr>
                <a:t>Alto interés y apoyo a este objetivo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001280" y="3962520"/>
              <a:ext cx="214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40458c"/>
                  </a:solidFill>
                  <a:latin typeface="Times New Roman"/>
                </a:rPr>
                <a:t>Oposición con capacidad de intervenir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072560" y="4419720"/>
              <a:ext cx="2012400" cy="36828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40458c"/>
                  </a:solidFill>
                  <a:latin typeface="Times New Roman"/>
                </a:rPr>
                <a:t>Oposición con alto poder al aumento de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40458c"/>
                  </a:solidFill>
                  <a:latin typeface="Times New Roman"/>
                </a:rPr>
                <a:t>cobertura sin contratar más profesores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065720" y="4876920"/>
              <a:ext cx="202644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40458c"/>
                  </a:solidFill>
                  <a:latin typeface="Times New Roman"/>
                </a:rPr>
                <a:t>Hay interés si el incremento del valor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40458c"/>
                  </a:solidFill>
                  <a:latin typeface="Times New Roman"/>
                </a:rPr>
                <a:t>significa contratación de más profesores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912680" y="3962520"/>
              <a:ext cx="219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2. Incrementado valor matrícul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657600" y="3124080"/>
            <a:ext cx="1219320" cy="11430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Unida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Ejecutor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791320" y="2819520"/>
            <a:ext cx="914400" cy="83808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29400" y="3657600"/>
            <a:ext cx="914400" cy="83808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791320" y="4648320"/>
            <a:ext cx="914400" cy="83808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343400" y="5181480"/>
            <a:ext cx="914400" cy="83844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19520" y="4952880"/>
            <a:ext cx="914400" cy="83844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648320" y="2514600"/>
            <a:ext cx="304560" cy="45720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876560" y="2514600"/>
            <a:ext cx="990360" cy="76212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5105160" y="3505320"/>
            <a:ext cx="609480" cy="15228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95680" y="4419720"/>
            <a:ext cx="152640" cy="60948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580920" y="4343400"/>
            <a:ext cx="304920" cy="53352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2895480" y="4419720"/>
            <a:ext cx="914400" cy="45720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2819160" y="3581280"/>
            <a:ext cx="68580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2743200" y="2743200"/>
            <a:ext cx="914400" cy="53352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3733560" y="2666520"/>
            <a:ext cx="152280" cy="38124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5105520" y="3962160"/>
            <a:ext cx="1295280" cy="15228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800600" y="4190760"/>
            <a:ext cx="914400" cy="53316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660066"/>
                </a:solidFill>
                <a:uFillTx/>
                <a:latin typeface="Tahoma"/>
              </a:rPr>
              <a:t>1. Mapa de relaciones</a:t>
            </a:r>
            <a:br>
              <a:rPr sz="2800"/>
            </a:br>
            <a:r>
              <a:rPr b="0" lang="es-ES_tradnl" sz="2800" spc="-1" strike="noStrike" u="sng">
                <a:solidFill>
                  <a:srgbClr val="660066"/>
                </a:solidFill>
                <a:uFillTx/>
                <a:latin typeface="Tahoma"/>
              </a:rPr>
              <a:t>1.3 Analizar categorías de involucrados por áreas de interés u objetivos (componentes)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4800600" y="1523880"/>
            <a:ext cx="914400" cy="838440"/>
            <a:chOff x="4800600" y="1523880"/>
            <a:chExt cx="914400" cy="838440"/>
          </a:xfrm>
        </p:grpSpPr>
        <p:sp>
          <p:nvSpPr>
            <p:cNvPr id="685" name=""/>
            <p:cNvSpPr/>
            <p:nvPr/>
          </p:nvSpPr>
          <p:spPr>
            <a:xfrm>
              <a:off x="4800600" y="1523880"/>
              <a:ext cx="914400" cy="838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29760" y="1789200"/>
              <a:ext cx="863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Times New Roman"/>
                </a:rPr>
                <a:t>Profesor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Times New Roman"/>
                </a:rPr>
                <a:t>-1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3048120" y="1752480"/>
            <a:ext cx="914400" cy="838440"/>
            <a:chOff x="3048120" y="1752480"/>
            <a:chExt cx="914400" cy="838440"/>
          </a:xfrm>
        </p:grpSpPr>
        <p:sp>
          <p:nvSpPr>
            <p:cNvPr id="688" name=""/>
            <p:cNvSpPr/>
            <p:nvPr/>
          </p:nvSpPr>
          <p:spPr>
            <a:xfrm>
              <a:off x="3048120" y="1752480"/>
              <a:ext cx="914400" cy="8384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101040" y="1905120"/>
              <a:ext cx="819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Times New Roman"/>
                </a:rPr>
                <a:t>Padres d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Times New Roman"/>
                </a:rPr>
                <a:t>famili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Times New Roman"/>
                </a:rPr>
                <a:t>+2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 rot="21115200">
            <a:off x="2514600" y="1480680"/>
            <a:ext cx="3581280" cy="137160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406560" y="1600200"/>
            <a:ext cx="238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Area de Interés 1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Incrementar la cobertur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752480" y="3200400"/>
            <a:ext cx="914400" cy="838080"/>
            <a:chOff x="1752480" y="3200400"/>
            <a:chExt cx="914400" cy="838080"/>
          </a:xfrm>
        </p:grpSpPr>
        <p:sp>
          <p:nvSpPr>
            <p:cNvPr id="693" name=""/>
            <p:cNvSpPr/>
            <p:nvPr/>
          </p:nvSpPr>
          <p:spPr>
            <a:xfrm>
              <a:off x="1752480" y="3200400"/>
              <a:ext cx="914400" cy="8380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122560" y="3465360"/>
              <a:ext cx="180720" cy="4590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1676520" y="4267080"/>
            <a:ext cx="914400" cy="838440"/>
            <a:chOff x="1676520" y="4267080"/>
            <a:chExt cx="914400" cy="838440"/>
          </a:xfrm>
        </p:grpSpPr>
        <p:sp>
          <p:nvSpPr>
            <p:cNvPr id="696" name=""/>
            <p:cNvSpPr/>
            <p:nvPr/>
          </p:nvSpPr>
          <p:spPr>
            <a:xfrm>
              <a:off x="1676520" y="4267080"/>
              <a:ext cx="914400" cy="838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046240" y="4419720"/>
              <a:ext cx="184320" cy="274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1295280" y="2666880"/>
            <a:ext cx="1752840" cy="289584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40" y="5791320"/>
            <a:ext cx="329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Area de Interés 2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Incrementar valor de las matrícul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685800" y="4494960"/>
            <a:ext cx="533520" cy="1295640"/>
          </a:xfrm>
          <a:custGeom>
            <a:avLst/>
            <a:gdLst>
              <a:gd name="textAreaLeft" fmla="*/ 71280 w 533520"/>
              <a:gd name="textAreaRight" fmla="*/ 462240 w 533520"/>
              <a:gd name="textAreaTop" fmla="*/ 226440 h 1295640"/>
              <a:gd name="textAreaBottom" fmla="*/ 93924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02520" y="3541680"/>
            <a:ext cx="82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Profeso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755360" y="4343400"/>
            <a:ext cx="76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Padres d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famili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-16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6171480" y="1676520"/>
            <a:ext cx="2286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514600"/>
            <a:ext cx="2438280" cy="335268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015320" y="5791320"/>
            <a:ext cx="163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Area de Interés j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7696080" y="4724280"/>
            <a:ext cx="533520" cy="1067040"/>
          </a:xfrm>
          <a:custGeom>
            <a:avLst/>
            <a:gdLst>
              <a:gd name="textAreaLeft" fmla="*/ 71280 w 533520"/>
              <a:gd name="textAreaRight" fmla="*/ 462240 w 533520"/>
              <a:gd name="textAreaTop" fmla="*/ 186840 h 1067040"/>
              <a:gd name="textAreaBottom" fmla="*/ 7740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480" y="1150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66"/>
                </a:solidFill>
                <a:latin typeface="Tahoma"/>
              </a:rPr>
              <a:t>2. Diseño de </a:t>
            </a: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estrategias</a:t>
            </a:r>
            <a:r>
              <a:rPr b="0" lang="es-ES_tradnl" sz="3200" spc="-1" strike="noStrike">
                <a:solidFill>
                  <a:srgbClr val="660066"/>
                </a:solidFill>
                <a:latin typeface="Tahoma"/>
              </a:rPr>
              <a:t> para </a:t>
            </a: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ambientación</a:t>
            </a:r>
            <a:r>
              <a:rPr b="0" lang="es-ES_tradnl" sz="3200" spc="-1" strike="noStrike">
                <a:solidFill>
                  <a:srgbClr val="660066"/>
                </a:solidFill>
                <a:latin typeface="Tahoma"/>
              </a:rPr>
              <a:t> del proyecto y </a:t>
            </a: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manejo de las relaciones</a:t>
            </a:r>
            <a:r>
              <a:rPr b="0" lang="es-ES_tradnl" sz="3200" spc="-1" strike="noStrike">
                <a:solidFill>
                  <a:srgbClr val="660066"/>
                </a:solidFill>
                <a:latin typeface="Tahoma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6836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2.1 Estrategias gener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ivulgación y promoción para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omunicar los objetivos del proyec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brirle espacio en la opinión públic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Facilitar apoyo y adepción sociopolític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2.2 Estrategias específicas o focalizad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Conocer expectativas de grupos específico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Resolver problemas ligados a expectativa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Generar espacios de conciliación y logro de apoyo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Convenir mecanismos para aplicar soluciones convenida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2.3 Estrategias organizativ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Diseñar mecanismos de articulación y de cooperació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Definir grupos consultivos, comités interinstitucionales y equipos de seguimient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6121440" y="1989000"/>
            <a:ext cx="3022560" cy="23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660066"/>
                </a:solidFill>
                <a:latin typeface="Tahoma"/>
              </a:rPr>
              <a:t>3. Definición de una </a:t>
            </a: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agenda</a:t>
            </a:r>
            <a:r>
              <a:rPr b="0" lang="es-ES_tradnl" sz="3200" spc="-1" strike="noStrike">
                <a:solidFill>
                  <a:srgbClr val="660066"/>
                </a:solidFill>
                <a:latin typeface="Tahoma"/>
              </a:rPr>
              <a:t> para la </a:t>
            </a: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gestión de las relaciones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3.1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Preparación y programación y ejecución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ctividades de comunicación por distintas form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euniones, talleres, foros para negociac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Puesta en práctica de compromis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eguimiento a compromis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3.2 Responsabil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Designar encargados de manejar las distintas relacion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as de alta importancia estratégica en cabeza del Gerente de la U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as de segundo orden en cabeza de gerentes de component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poyarse en otros recursos político-institucionales para fortalecer la capacidad negociadora: El Ministro, el Líder Comunitario, el Lider político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8"/>
          <a:stretch/>
        </p:blipFill>
        <p:spPr>
          <a:xfrm>
            <a:off x="6781680" y="1219320"/>
            <a:ext cx="196848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7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7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7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"/>
          <p:cNvGrpSpPr/>
          <p:nvPr/>
        </p:nvGrpSpPr>
        <p:grpSpPr>
          <a:xfrm>
            <a:off x="1371600" y="609480"/>
            <a:ext cx="6477120" cy="5791320"/>
            <a:chOff x="1371600" y="609480"/>
            <a:chExt cx="6477120" cy="5791320"/>
          </a:xfrm>
        </p:grpSpPr>
        <p:sp>
          <p:nvSpPr>
            <p:cNvPr id="714" name=""/>
            <p:cNvSpPr/>
            <p:nvPr/>
          </p:nvSpPr>
          <p:spPr>
            <a:xfrm>
              <a:off x="5334120" y="1143000"/>
              <a:ext cx="498240" cy="228600"/>
            </a:xfrm>
            <a:prstGeom prst="downArrow">
              <a:avLst>
                <a:gd name="adj1" fmla="val 75009"/>
                <a:gd name="adj2" fmla="val 50005"/>
              </a:avLst>
            </a:prstGeom>
            <a:solidFill>
              <a:srgbClr val="ffccc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276720" y="609480"/>
              <a:ext cx="4572000" cy="457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58c"/>
                  </a:solidFill>
                  <a:latin typeface="Tahoma"/>
                </a:rPr>
                <a:t>Identificación de involucrado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34120" y="1981080"/>
              <a:ext cx="498240" cy="228600"/>
            </a:xfrm>
            <a:prstGeom prst="downArrow">
              <a:avLst>
                <a:gd name="adj1" fmla="val 75009"/>
                <a:gd name="adj2" fmla="val 50005"/>
              </a:avLst>
            </a:prstGeom>
            <a:solidFill>
              <a:srgbClr val="ffccc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276720" y="1447920"/>
              <a:ext cx="4572000" cy="457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58c"/>
                  </a:solidFill>
                  <a:latin typeface="Tahoma"/>
                </a:rPr>
                <a:t>Apreciación - valoració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334120" y="2819520"/>
              <a:ext cx="498240" cy="228600"/>
            </a:xfrm>
            <a:prstGeom prst="downArrow">
              <a:avLst>
                <a:gd name="adj1" fmla="val 75009"/>
                <a:gd name="adj2" fmla="val 50005"/>
              </a:avLst>
            </a:prstGeom>
            <a:solidFill>
              <a:srgbClr val="6f89f7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276720" y="2286000"/>
              <a:ext cx="4572000" cy="457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58c"/>
                  </a:solidFill>
                  <a:latin typeface="Tahoma"/>
                </a:rPr>
                <a:t>Análisis de involucrado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276720" y="3124080"/>
              <a:ext cx="4572000" cy="4572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58c"/>
                  </a:solidFill>
                  <a:latin typeface="Tahoma"/>
                </a:rPr>
                <a:t>Estrategias generale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276720" y="3962520"/>
              <a:ext cx="4572000" cy="4572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58c"/>
                  </a:solidFill>
                  <a:latin typeface="Tahoma"/>
                </a:rPr>
                <a:t>Estrategias focalizada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276720" y="4800600"/>
              <a:ext cx="4572000" cy="4572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58c"/>
                  </a:solidFill>
                  <a:latin typeface="Tahoma"/>
                </a:rPr>
                <a:t>Estrategias organizativa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371600" y="1295280"/>
              <a:ext cx="1295280" cy="838440"/>
            </a:xfrm>
            <a:prstGeom prst="bevel">
              <a:avLst>
                <a:gd name="adj" fmla="val 12500"/>
              </a:avLst>
            </a:prstGeom>
            <a:solidFill>
              <a:srgbClr val="ffcc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40458c"/>
                  </a:solidFill>
                  <a:latin typeface="Tahoma"/>
                </a:rPr>
                <a:t>Mapa d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40458c"/>
                  </a:solidFill>
                  <a:latin typeface="Tahoma"/>
                </a:rPr>
                <a:t>Involucrado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371600" y="3809880"/>
              <a:ext cx="1295280" cy="838440"/>
            </a:xfrm>
            <a:prstGeom prst="bevel">
              <a:avLst>
                <a:gd name="adj" fmla="val 12500"/>
              </a:avLst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40458c"/>
                  </a:solidFill>
                  <a:latin typeface="Tahoma"/>
                </a:rPr>
                <a:t>Diseño d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40458c"/>
                  </a:solidFill>
                  <a:latin typeface="Tahoma"/>
                </a:rPr>
                <a:t>Estrategi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371600" y="5562720"/>
              <a:ext cx="1295280" cy="838080"/>
            </a:xfrm>
            <a:prstGeom prst="bevel">
              <a:avLst>
                <a:gd name="adj" fmla="val 12500"/>
              </a:avLst>
            </a:prstGeom>
            <a:solidFill>
              <a:srgbClr val="ccec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40458c"/>
                  </a:solidFill>
                  <a:latin typeface="Tahoma"/>
                </a:rPr>
                <a:t>Ejecució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1" lang="es-ES" sz="1200" spc="-1" strike="noStrike">
                  <a:solidFill>
                    <a:srgbClr val="40458c"/>
                  </a:solidFill>
                  <a:latin typeface="Tahoma"/>
                </a:rPr>
                <a:t>d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40458c"/>
                  </a:solidFill>
                  <a:latin typeface="Tahoma"/>
                </a:rPr>
                <a:t>Estrategi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819520" y="609480"/>
              <a:ext cx="304560" cy="21337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819520" y="3124080"/>
              <a:ext cx="304560" cy="21337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819520" y="5562720"/>
              <a:ext cx="304560" cy="7617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276720" y="5715000"/>
              <a:ext cx="4572000" cy="457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58c"/>
                  </a:solidFill>
                  <a:latin typeface="Tahoma"/>
                </a:rPr>
                <a:t>Gestión de relaciones con los involucrado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334120" y="5410080"/>
              <a:ext cx="498240" cy="228600"/>
            </a:xfrm>
            <a:prstGeom prst="downArrow">
              <a:avLst>
                <a:gd name="adj1" fmla="val 75009"/>
                <a:gd name="adj2" fmla="val 50005"/>
              </a:avLst>
            </a:prstGeom>
            <a:solidFill>
              <a:srgbClr val="ccec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731" name=""/>
            <p:cNvCxnSpPr>
              <a:stCxn id="720" idx="2"/>
              <a:endCxn id="721" idx="0"/>
            </p:cNvCxnSpPr>
            <p:nvPr/>
          </p:nvCxnSpPr>
          <p:spPr>
            <a:xfrm flipV="1" rot="10800000">
              <a:off x="5562000" y="3580920"/>
              <a:ext cx="1080" cy="381960"/>
            </a:xfrm>
            <a:prstGeom prst="bentConnector2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732" name=""/>
            <p:cNvCxnSpPr>
              <a:stCxn id="721" idx="2"/>
              <a:endCxn id="722" idx="0"/>
            </p:cNvCxnSpPr>
            <p:nvPr/>
          </p:nvCxnSpPr>
          <p:spPr>
            <a:xfrm flipV="1" rot="10800000">
              <a:off x="5562000" y="4419360"/>
              <a:ext cx="1080" cy="381600"/>
            </a:xfrm>
            <a:prstGeom prst="bentConnector2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</p:spTree>
  </p:cSld>
  <p:transition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04920" y="228600"/>
            <a:ext cx="449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ahoma"/>
              </a:rPr>
              <a:t>Gestión de Proyecto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0" y="22860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04920" y="1295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09480" y="1295280"/>
            <a:ext cx="807732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0458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40458c"/>
                </a:solidFill>
                <a:latin typeface="Comic Sans MS"/>
              </a:rPr>
              <a:t>Organice la Unidad Ejecutora</a:t>
            </a:r>
            <a:endParaRPr b="0" lang="en-US" sz="4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40458c"/>
                </a:solidFill>
                <a:latin typeface="Comic Sans MS"/>
              </a:rPr>
              <a:t>y sus relaciones</a:t>
            </a:r>
            <a:endParaRPr b="0" lang="en-US" sz="4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838080" y="4495680"/>
            <a:ext cx="1702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Pasos para el diseño de la </a:t>
            </a:r>
            <a:br>
              <a:rPr sz="3600"/>
            </a:b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Organización del Proyec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dentificar el trabajo a realizar       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(Componentes y Actividades del ML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justar la Estructura Analítica del Proyec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3.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finir responsabilidades, delegaciones y autorizaciones (“empowerment”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4.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ablecer relaciones entre grupos de trabaj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5.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finir inserción institucion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6172200" y="4876920"/>
            <a:ext cx="22860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4724280" y="2819520"/>
            <a:ext cx="1371600" cy="9144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324480" y="2819520"/>
            <a:ext cx="1371600" cy="9144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724280" y="5105520"/>
            <a:ext cx="1371600" cy="91440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324480" y="5105520"/>
            <a:ext cx="137160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724280" y="3962520"/>
            <a:ext cx="1371600" cy="91440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324480" y="3962520"/>
            <a:ext cx="137160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2819520"/>
            <a:ext cx="137160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00400" y="2819520"/>
            <a:ext cx="1371600" cy="9144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1600200" y="1676520"/>
            <a:ext cx="6095880" cy="914400"/>
            <a:chOff x="1600200" y="1676520"/>
            <a:chExt cx="6095880" cy="914400"/>
          </a:xfrm>
        </p:grpSpPr>
        <p:sp>
          <p:nvSpPr>
            <p:cNvPr id="751" name=""/>
            <p:cNvSpPr/>
            <p:nvPr/>
          </p:nvSpPr>
          <p:spPr>
            <a:xfrm>
              <a:off x="4724280" y="1676520"/>
              <a:ext cx="1371600" cy="9144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324480" y="1676520"/>
              <a:ext cx="1371600" cy="9144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600200" y="1676520"/>
              <a:ext cx="1371600" cy="9144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200400" y="1676520"/>
              <a:ext cx="1371600" cy="9144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1600200" y="5105520"/>
            <a:ext cx="1371600" cy="91440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200400" y="5105520"/>
            <a:ext cx="1371600" cy="91440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600200" y="3962520"/>
            <a:ext cx="1371600" cy="91440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200400" y="3962520"/>
            <a:ext cx="1371600" cy="91440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724280" y="1143000"/>
            <a:ext cx="1371600" cy="30492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Verific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324480" y="1143000"/>
            <a:ext cx="1371600" cy="30492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Supues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200400" y="1143000"/>
            <a:ext cx="1371600" cy="30492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Indicado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662120" y="17384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Fi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662840" y="288144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Propósi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62480" y="402444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Componen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02720" y="510552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Activida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912600" y="228600"/>
            <a:ext cx="7739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40458c"/>
                </a:solidFill>
                <a:uFillTx/>
                <a:latin typeface="Times New Roman"/>
              </a:rPr>
              <a:t>Pasos para el diseño organizacional del proyect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1. Identificar trabajo: Componentes y Actividades del M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600200" y="1143000"/>
            <a:ext cx="1371600" cy="30492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Concep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1523880" y="6324480"/>
            <a:ext cx="6398640" cy="276480"/>
            <a:chOff x="1523880" y="6324480"/>
            <a:chExt cx="6398640" cy="276480"/>
          </a:xfrm>
        </p:grpSpPr>
        <p:sp>
          <p:nvSpPr>
            <p:cNvPr id="769" name=""/>
            <p:cNvSpPr/>
            <p:nvPr/>
          </p:nvSpPr>
          <p:spPr>
            <a:xfrm>
              <a:off x="1523880" y="6440400"/>
              <a:ext cx="380880" cy="759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895400" y="6324480"/>
              <a:ext cx="227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Ambito de responsabilidad direct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724280" y="6440400"/>
              <a:ext cx="380880" cy="75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75360" y="6324480"/>
              <a:ext cx="274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Elementos referenciales, bajo observació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1523880" y="3886200"/>
            <a:ext cx="4724640" cy="2209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520" y="3897360"/>
            <a:ext cx="1515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40458c"/>
                </a:solidFill>
                <a:latin typeface="Times New Roman"/>
              </a:rPr>
              <a:t>REFERENCIA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40458c"/>
                </a:solidFill>
                <a:latin typeface="Times New Roman"/>
              </a:rPr>
              <a:t>BASICA 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40458c"/>
                </a:solidFill>
                <a:latin typeface="Times New Roman"/>
              </a:rPr>
              <a:t>PARA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40458c"/>
                </a:solidFill>
                <a:latin typeface="Times New Roman"/>
              </a:rPr>
              <a:t>ORGANIZACIÓN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066680" y="4191120"/>
            <a:ext cx="22860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4567320" y="3041640"/>
            <a:ext cx="1440" cy="162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82880" y="3203640"/>
            <a:ext cx="1440" cy="162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130720" y="3203640"/>
            <a:ext cx="1800" cy="162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377120" y="3203640"/>
            <a:ext cx="1440" cy="162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882880" y="3203640"/>
            <a:ext cx="1684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67320" y="3203640"/>
            <a:ext cx="56340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130720" y="3203640"/>
            <a:ext cx="224640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882880" y="3724200"/>
            <a:ext cx="1440" cy="162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55720" y="3886200"/>
            <a:ext cx="1800" cy="1602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003560" y="3886200"/>
            <a:ext cx="1800" cy="1602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755720" y="3886200"/>
            <a:ext cx="11271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882880" y="3886200"/>
            <a:ext cx="112068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20720" y="4046400"/>
            <a:ext cx="2077920" cy="358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84080" y="4103640"/>
            <a:ext cx="200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ACROACTIVIDAD 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20720" y="4046400"/>
            <a:ext cx="2077920" cy="358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003560" y="4405320"/>
            <a:ext cx="1800" cy="162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741760" y="4567320"/>
            <a:ext cx="1440" cy="162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003560" y="4567320"/>
            <a:ext cx="1800" cy="162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264280" y="4567320"/>
            <a:ext cx="1440" cy="162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741760" y="4567320"/>
            <a:ext cx="126180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003560" y="4567320"/>
            <a:ext cx="126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200320" y="4729320"/>
            <a:ext cx="1092240" cy="35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282400" y="4786200"/>
            <a:ext cx="939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ctividad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200320" y="4729320"/>
            <a:ext cx="1092240" cy="358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460680" y="4729320"/>
            <a:ext cx="1092240" cy="35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522600" y="4786200"/>
            <a:ext cx="99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ctividad 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460680" y="4729320"/>
            <a:ext cx="1092240" cy="358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721400" y="4729320"/>
            <a:ext cx="1091880" cy="35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804920" y="4786200"/>
            <a:ext cx="939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ctividad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721400" y="4729320"/>
            <a:ext cx="1091880" cy="358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967120" y="4046400"/>
            <a:ext cx="2079720" cy="358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030480" y="4103640"/>
            <a:ext cx="200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ACROACTIVIDAD 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967120" y="4046400"/>
            <a:ext cx="2079720" cy="358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847880" y="3365640"/>
            <a:ext cx="2077920" cy="35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094840" y="3421080"/>
            <a:ext cx="162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MPONENTE 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847880" y="3365640"/>
            <a:ext cx="2077920" cy="358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094280" y="3365640"/>
            <a:ext cx="2079360" cy="35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342680" y="3421080"/>
            <a:ext cx="162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MPONENTE 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094280" y="3365640"/>
            <a:ext cx="2079360" cy="358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42120" y="3365640"/>
            <a:ext cx="2077920" cy="35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88720" y="3421080"/>
            <a:ext cx="162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MPONENTE 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342120" y="3365640"/>
            <a:ext cx="2077920" cy="358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54600" y="2682720"/>
            <a:ext cx="1231920" cy="358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18320" y="2738520"/>
            <a:ext cx="11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ROYEC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954600" y="2682720"/>
            <a:ext cx="1231920" cy="358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71880" y="5867280"/>
            <a:ext cx="40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Times New Roman"/>
              </a:rPr>
              <a:t>* Work Breakdown Structure (WBS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064520" y="533520"/>
            <a:ext cx="7272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66"/>
                </a:solidFill>
                <a:uFillTx/>
                <a:latin typeface="Times New Roman"/>
              </a:rPr>
              <a:t>Pasos para el diseño organizacional del proyect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2. Ajustar la Estructura Analítica del Proyecto - EAP*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1486080" y="302904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Prefactibilida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67000" y="380880"/>
            <a:ext cx="7315200" cy="1390680"/>
            <a:chOff x="1467000" y="380880"/>
            <a:chExt cx="7315200" cy="1390680"/>
          </a:xfrm>
        </p:grpSpPr>
        <p:sp>
          <p:nvSpPr>
            <p:cNvPr id="223" name=""/>
            <p:cNvSpPr/>
            <p:nvPr/>
          </p:nvSpPr>
          <p:spPr>
            <a:xfrm>
              <a:off x="3219480" y="609480"/>
              <a:ext cx="198108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00360" y="609480"/>
              <a:ext cx="175284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95800" y="533520"/>
              <a:ext cx="2666880" cy="10666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67000" y="43812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40458c"/>
                  </a:solidFill>
                  <a:latin typeface="Times New Roman"/>
                </a:rPr>
                <a:t>Ide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24400" y="380880"/>
              <a:ext cx="5257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76480" y="116208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a50021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409760" y="1752480"/>
            <a:ext cx="1752480" cy="1295280"/>
            <a:chOff x="1409760" y="1752480"/>
            <a:chExt cx="1752480" cy="1295280"/>
          </a:xfrm>
        </p:grpSpPr>
        <p:sp>
          <p:nvSpPr>
            <p:cNvPr id="230" name=""/>
            <p:cNvSpPr/>
            <p:nvPr/>
          </p:nvSpPr>
          <p:spPr>
            <a:xfrm>
              <a:off x="1409760" y="175248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40458c"/>
                  </a:solidFill>
                  <a:latin typeface="Times New Roman"/>
                </a:rPr>
                <a:t>Perfi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14640" y="2457360"/>
              <a:ext cx="533160" cy="590400"/>
            </a:xfrm>
            <a:prstGeom prst="downArrow">
              <a:avLst>
                <a:gd name="adj1" fmla="val 50000"/>
                <a:gd name="adj2" fmla="val 27684"/>
              </a:avLst>
            </a:prstGeom>
            <a:solidFill>
              <a:srgbClr val="a50021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190600" y="38289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42960" y="4438800"/>
            <a:ext cx="1752840" cy="718920"/>
          </a:xfrm>
          <a:prstGeom prst="flowChartAlternateProcess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Factibilida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08480" y="-68400"/>
            <a:ext cx="4133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0458c"/>
                </a:solidFill>
                <a:latin typeface="Times New Roman"/>
              </a:rPr>
              <a:t>Ciclo de vida de un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0458c"/>
                </a:solidFill>
                <a:latin typeface="Times New Roman"/>
              </a:rPr>
              <a:t>Proyecto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19280" y="569592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Diseño y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Ejecu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3466800" y="59241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47840" y="5105520"/>
            <a:ext cx="533520" cy="590400"/>
          </a:xfrm>
          <a:prstGeom prst="downArrow">
            <a:avLst>
              <a:gd name="adj1" fmla="val 50000"/>
              <a:gd name="adj2" fmla="val 27665"/>
            </a:avLst>
          </a:prstGeom>
          <a:solidFill>
            <a:srgbClr val="a50021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99040" y="5987880"/>
            <a:ext cx="1451880" cy="5511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Oper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90680" y="5486400"/>
            <a:ext cx="77533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80880" y="4753080"/>
            <a:ext cx="19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Plano de las idea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57880" y="5514840"/>
            <a:ext cx="2352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Plano de las accion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86240" y="800280"/>
            <a:ext cx="914400" cy="4133520"/>
          </a:xfrm>
          <a:custGeom>
            <a:avLst/>
            <a:gdLst>
              <a:gd name="textAreaLeft" fmla="*/ 0 w 914400"/>
              <a:gd name="textAreaRight" fmla="*/ 330120 w 914400"/>
              <a:gd name="textAreaTop" fmla="*/ 107640 h 4133520"/>
              <a:gd name="textAreaBottom" fmla="*/ 4025880 h 41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13400" y="2540160"/>
            <a:ext cx="1724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Preinvers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1360" y="5778360"/>
            <a:ext cx="1334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3640" y="4581360"/>
            <a:ext cx="1439640" cy="136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40458c"/>
                </a:solidFill>
                <a:latin typeface="Times New Roman"/>
              </a:rPr>
              <a:t>Gestión de 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40458c"/>
                </a:solidFill>
                <a:latin typeface="Times New Roman"/>
              </a:rPr>
              <a:t>Proyecto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987280" y="5661000"/>
            <a:ext cx="647640" cy="3603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371880" y="5867280"/>
            <a:ext cx="40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* Work Breakdown Structure (WBS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064520" y="533520"/>
            <a:ext cx="7272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66"/>
                </a:solidFill>
                <a:uFillTx/>
                <a:latin typeface="Times New Roman"/>
              </a:rPr>
              <a:t>Pasos para el diseño organizacional del proyect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2. Ajustar la Estructura Analítica del Proyecto - EAP*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organización interna del proyecto es la conjugación d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mponentes sustantiv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mponentes de gestión o de apoy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os componentes sustantivos se derivan del M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os componentes de gestión generalmente se aglutinan en un componente adicional denominado “GERENCIA” o “GESTIÓ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457200" y="380880"/>
            <a:ext cx="8077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40458c"/>
                </a:solidFill>
                <a:uFillTx/>
                <a:latin typeface="Times New Roman"/>
              </a:rPr>
              <a:t>Pasos para el diseño organizacional del proyect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3. Asignar responsabilidad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Caso: Construcción Parque Comuna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1600200" y="1828800"/>
            <a:ext cx="5781600" cy="3313080"/>
            <a:chOff x="1600200" y="1828800"/>
            <a:chExt cx="5781600" cy="3313080"/>
          </a:xfrm>
        </p:grpSpPr>
        <p:sp>
          <p:nvSpPr>
            <p:cNvPr id="828" name=""/>
            <p:cNvSpPr/>
            <p:nvPr/>
          </p:nvSpPr>
          <p:spPr>
            <a:xfrm>
              <a:off x="1758960" y="3597120"/>
              <a:ext cx="1440" cy="368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758960" y="3965400"/>
              <a:ext cx="1108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758960" y="4313160"/>
              <a:ext cx="1108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758960" y="4659480"/>
              <a:ext cx="1108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758960" y="5006880"/>
              <a:ext cx="1108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758960" y="3965400"/>
              <a:ext cx="1440" cy="347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758960" y="4313160"/>
              <a:ext cx="1440" cy="34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758960" y="4659480"/>
              <a:ext cx="1440" cy="34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869840" y="3835440"/>
              <a:ext cx="1203480" cy="264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110680" y="3876840"/>
              <a:ext cx="747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DOTACION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869840" y="3835440"/>
              <a:ext cx="1203480" cy="26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869840" y="4183200"/>
              <a:ext cx="1203480" cy="263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206440" y="4224240"/>
              <a:ext cx="54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QUIPO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869840" y="4183200"/>
              <a:ext cx="120348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69840" y="4530600"/>
              <a:ext cx="1203480" cy="263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045520" y="4572000"/>
              <a:ext cx="909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ATERIALES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869840" y="4530600"/>
              <a:ext cx="120348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869840" y="4876920"/>
              <a:ext cx="1203480" cy="264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942200" y="4917960"/>
              <a:ext cx="1113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ANO DE OBRA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869840" y="4876920"/>
              <a:ext cx="1203480" cy="26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600200" y="2990880"/>
              <a:ext cx="1319040" cy="6062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876680" y="3032280"/>
              <a:ext cx="79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RECURSOS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878120" y="3203640"/>
              <a:ext cx="786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 INSUMOS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900080" y="3373560"/>
              <a:ext cx="77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(Secretaria)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600200" y="2990880"/>
              <a:ext cx="1319040" cy="60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195360" y="3597120"/>
              <a:ext cx="1800" cy="368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195360" y="3965400"/>
              <a:ext cx="1112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195360" y="4313160"/>
              <a:ext cx="1112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195360" y="4659480"/>
              <a:ext cx="1112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195360" y="3965400"/>
              <a:ext cx="1800" cy="347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195360" y="4313160"/>
              <a:ext cx="1800" cy="34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306600" y="3835440"/>
              <a:ext cx="1203480" cy="264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408840" y="3876840"/>
              <a:ext cx="1041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HACER HOYOS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06600" y="3835440"/>
              <a:ext cx="1203480" cy="26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306600" y="4183200"/>
              <a:ext cx="1203480" cy="263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353040" y="4224240"/>
              <a:ext cx="1178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TRAER PLANTAS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306600" y="4183200"/>
              <a:ext cx="120348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306600" y="4530600"/>
              <a:ext cx="1203480" cy="263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593160" y="4572000"/>
              <a:ext cx="66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LANTAR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306600" y="4530600"/>
              <a:ext cx="120348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35160" y="2990880"/>
              <a:ext cx="1319400" cy="6062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292200" y="3032280"/>
              <a:ext cx="85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RDINERIA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361320" y="3203640"/>
              <a:ext cx="733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(Jardinero)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35160" y="2990880"/>
              <a:ext cx="1319400" cy="60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630680" y="3597120"/>
              <a:ext cx="1440" cy="368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630680" y="3965400"/>
              <a:ext cx="1112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630680" y="4313160"/>
              <a:ext cx="1112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630680" y="4659480"/>
              <a:ext cx="1112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630680" y="5006880"/>
              <a:ext cx="1112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630680" y="3965400"/>
              <a:ext cx="1440" cy="347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630680" y="4313160"/>
              <a:ext cx="1440" cy="34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630680" y="4659480"/>
              <a:ext cx="1440" cy="34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741920" y="3835440"/>
              <a:ext cx="1203120" cy="264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029920" y="3876840"/>
              <a:ext cx="66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DRENAJE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741920" y="3835440"/>
              <a:ext cx="1203120" cy="26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741920" y="4183200"/>
              <a:ext cx="1203120" cy="263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791960" y="4224240"/>
              <a:ext cx="1142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NSTRUCCION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741920" y="4183200"/>
              <a:ext cx="120312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741920" y="4530600"/>
              <a:ext cx="1203120" cy="263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891320" y="4572000"/>
              <a:ext cx="956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NSTALACION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741920" y="4530600"/>
              <a:ext cx="120312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741920" y="4876920"/>
              <a:ext cx="1203120" cy="264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015160" y="4917960"/>
              <a:ext cx="71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CABADO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741920" y="4876920"/>
              <a:ext cx="1203120" cy="26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471920" y="2990880"/>
              <a:ext cx="1319040" cy="6062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592160" y="3032280"/>
              <a:ext cx="1136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OBRAS-JUEGOS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84480" y="3203640"/>
              <a:ext cx="538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aestro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471920" y="2990880"/>
              <a:ext cx="1319040" cy="60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065640" y="3597120"/>
              <a:ext cx="1800" cy="368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065640" y="3965400"/>
              <a:ext cx="1126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65640" y="4313160"/>
              <a:ext cx="1126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65640" y="3965400"/>
              <a:ext cx="1800" cy="347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178320" y="3835440"/>
              <a:ext cx="1203480" cy="264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353640" y="3876840"/>
              <a:ext cx="88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ROMOCION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178320" y="3835440"/>
              <a:ext cx="1203480" cy="26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178320" y="4183200"/>
              <a:ext cx="1203480" cy="263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270120" y="4224240"/>
              <a:ext cx="1072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APACITACION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78320" y="4183200"/>
              <a:ext cx="120348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906880" y="2990880"/>
              <a:ext cx="1319400" cy="6062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158880" y="3032280"/>
              <a:ext cx="84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DUCACION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91200" y="3203640"/>
              <a:ext cx="995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MUNITARIA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45760" y="3373560"/>
              <a:ext cx="1349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(Trabajadora Social)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906880" y="2990880"/>
              <a:ext cx="1319400" cy="60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314520" y="1828800"/>
              <a:ext cx="1824120" cy="777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869640" y="1870200"/>
              <a:ext cx="75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OBJETIVO: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674520" y="2041560"/>
              <a:ext cx="1142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NSTRUCCION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82000" y="2212920"/>
              <a:ext cx="1352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QUE COMUNAL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361680" y="2382840"/>
              <a:ext cx="1824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RESPONSABLE: GERENTE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314520" y="1828800"/>
              <a:ext cx="1824120" cy="777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917" name=""/>
            <p:cNvCxnSpPr>
              <a:stCxn id="910" idx="0"/>
              <a:endCxn id="916" idx="2"/>
            </p:cNvCxnSpPr>
            <p:nvPr/>
          </p:nvCxnSpPr>
          <p:spPr>
            <a:xfrm flipV="1" rot="16200000">
              <a:off x="5205240" y="1628280"/>
              <a:ext cx="384840" cy="23403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918" name=""/>
            <p:cNvCxnSpPr>
              <a:stCxn id="895" idx="0"/>
              <a:endCxn id="916" idx="2"/>
            </p:cNvCxnSpPr>
            <p:nvPr/>
          </p:nvCxnSpPr>
          <p:spPr>
            <a:xfrm flipV="1" rot="16200000">
              <a:off x="4487040" y="2345760"/>
              <a:ext cx="384840" cy="905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919" name=""/>
            <p:cNvCxnSpPr>
              <a:stCxn id="871" idx="0"/>
              <a:endCxn id="916" idx="2"/>
            </p:cNvCxnSpPr>
            <p:nvPr/>
          </p:nvCxnSpPr>
          <p:spPr>
            <a:xfrm flipH="1" flipV="1" rot="5400000">
              <a:off x="3769200" y="2532240"/>
              <a:ext cx="384840" cy="532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920" name=""/>
            <p:cNvCxnSpPr>
              <a:stCxn id="852" idx="0"/>
              <a:endCxn id="916" idx="2"/>
            </p:cNvCxnSpPr>
            <p:nvPr/>
          </p:nvCxnSpPr>
          <p:spPr>
            <a:xfrm flipH="1" flipV="1" rot="5400000">
              <a:off x="3051720" y="1814760"/>
              <a:ext cx="384840" cy="19677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0458c"/>
              </a:solidFill>
              <a:miter/>
            </a:ln>
          </p:spPr>
        </p:cxnSp>
      </p:grpSp>
      <p:sp>
        <p:nvSpPr>
          <p:cNvPr id="921" name=""/>
          <p:cNvSpPr/>
          <p:nvPr/>
        </p:nvSpPr>
        <p:spPr>
          <a:xfrm>
            <a:off x="223560" y="5334120"/>
            <a:ext cx="430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66"/>
                </a:solidFill>
                <a:latin typeface="Times New Roman"/>
              </a:rPr>
              <a:t>Combinación de 2 criterios de organización: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imes New Roman"/>
              </a:rPr>
              <a:t>*</a:t>
            </a:r>
            <a:r>
              <a:rPr b="0" lang="es-ES_tradnl" sz="1800" spc="-1" strike="noStrike">
                <a:solidFill>
                  <a:srgbClr val="660066"/>
                </a:solidFill>
                <a:latin typeface="Times New Roman"/>
              </a:rPr>
              <a:t> Por producto (por componentes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imes New Roman"/>
              </a:rPr>
              <a:t>+</a:t>
            </a:r>
            <a:r>
              <a:rPr b="0" lang="es-ES_tradnl" sz="1800" spc="-1" strike="noStrike">
                <a:solidFill>
                  <a:srgbClr val="660066"/>
                </a:solidFill>
                <a:latin typeface="Times New Roman"/>
              </a:rPr>
              <a:t> Funcional (por actividades afines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f89f7"/>
                </a:solidFill>
                <a:latin typeface="Tahoma"/>
              </a:rPr>
              <a:t>Relaciones inter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f89f7"/>
                </a:solidFill>
                <a:latin typeface="Tahoma"/>
              </a:rPr>
              <a:t>Interdependencia de las actividad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f89f7"/>
                </a:solidFill>
                <a:latin typeface="Tahoma"/>
              </a:rPr>
              <a:t>Funciones de apoy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f89f7"/>
                </a:solidFill>
                <a:latin typeface="Tahoma"/>
              </a:rPr>
              <a:t>Coordin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f89f7"/>
                </a:solidFill>
                <a:latin typeface="Tahoma"/>
              </a:rPr>
              <a:t>Relaciones exter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f89f7"/>
                </a:solidFill>
                <a:latin typeface="Tahoma"/>
              </a:rPr>
              <a:t>Grupos de apoy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f89f7"/>
                </a:solidFill>
                <a:latin typeface="Tahoma"/>
              </a:rPr>
              <a:t>Contrata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f89f7"/>
                </a:solidFill>
                <a:latin typeface="Tahoma"/>
              </a:rPr>
              <a:t>Supervis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457200" y="4572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40458c"/>
                </a:solidFill>
                <a:uFillTx/>
                <a:latin typeface="Times New Roman"/>
              </a:rPr>
              <a:t>Pasos para el diseño organizacional del proyect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imes New Roman"/>
              </a:rPr>
              <a:t>4. Establecer relaciones entre grupos de trabaj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7"/>
          <a:stretch/>
        </p:blipFill>
        <p:spPr>
          <a:xfrm>
            <a:off x="5867280" y="3581280"/>
            <a:ext cx="2287800" cy="20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66"/>
                </a:solidFill>
                <a:uFillTx/>
                <a:latin typeface="Tahoma"/>
              </a:rPr>
              <a:t>Pasos para el diseño organizacional del proyecto</a:t>
            </a:r>
            <a:br>
              <a:rPr sz="2400"/>
            </a:b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5. </a:t>
            </a: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Inserción institucional</a:t>
            </a:r>
            <a:br>
              <a:rPr sz="3200"/>
            </a:br>
            <a:br>
              <a:rPr sz="3200"/>
            </a:b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MODALIDADES DE ORGANIZACIÓN E INSERCIO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762120" y="3429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0458c"/>
                </a:solidFill>
                <a:latin typeface="Tahoma"/>
              </a:rPr>
              <a:t>Organización por Proyecto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0458c"/>
                </a:solidFill>
                <a:latin typeface="Tahoma"/>
              </a:rPr>
              <a:t>Organización Matricial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0458c"/>
                </a:solidFill>
                <a:latin typeface="Tahoma"/>
              </a:rPr>
              <a:t>Organización Combinada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3352680" y="2139840"/>
          <a:ext cx="1828800" cy="98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52680" y="2139840"/>
                    <a:ext cx="18288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Organización por Proyec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930" name=""/>
          <p:cNvGraphicFramePr/>
          <p:nvPr/>
        </p:nvGraphicFramePr>
        <p:xfrm>
          <a:off x="471600" y="2228760"/>
          <a:ext cx="8275680" cy="32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1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2228760"/>
                    <a:ext cx="8275680" cy="32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2" name=""/>
          <p:cNvSpPr/>
          <p:nvPr/>
        </p:nvSpPr>
        <p:spPr>
          <a:xfrm>
            <a:off x="5943600" y="2666880"/>
            <a:ext cx="2895480" cy="320040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230120" y="5943600"/>
            <a:ext cx="62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Asignación de tareas específicas al proyecto dentro de la Organ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5410080" y="5486400"/>
            <a:ext cx="990720" cy="4572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Organización Matricial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4390920" y="2284560"/>
            <a:ext cx="1800" cy="25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552680" y="2540160"/>
            <a:ext cx="1440" cy="25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368960" y="2540160"/>
            <a:ext cx="1440" cy="25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184880" y="2540160"/>
            <a:ext cx="1800" cy="25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552680" y="2540160"/>
            <a:ext cx="28162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368960" y="2540160"/>
            <a:ext cx="219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390920" y="2540160"/>
            <a:ext cx="27939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82480" y="3371760"/>
            <a:ext cx="1800" cy="722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82480" y="4094280"/>
            <a:ext cx="2574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82480" y="4694400"/>
            <a:ext cx="2574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82480" y="4094280"/>
            <a:ext cx="1800" cy="600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839880" y="3882960"/>
            <a:ext cx="2025720" cy="42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39880" y="3882960"/>
            <a:ext cx="2025720" cy="42228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39880" y="4483080"/>
            <a:ext cx="2025720" cy="422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39880" y="4483080"/>
            <a:ext cx="2025720" cy="42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82600" y="2795760"/>
            <a:ext cx="2549520" cy="57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23640" y="2895480"/>
            <a:ext cx="2401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Area Funcional 1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82600" y="2795760"/>
            <a:ext cx="2549520" cy="57600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400560" y="3371760"/>
            <a:ext cx="1440" cy="722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400560" y="4094280"/>
            <a:ext cx="2556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400560" y="4694400"/>
            <a:ext cx="2556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400560" y="4094280"/>
            <a:ext cx="1440" cy="600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656160" y="3882960"/>
            <a:ext cx="2027160" cy="42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656160" y="3882960"/>
            <a:ext cx="2027160" cy="42228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656160" y="4483080"/>
            <a:ext cx="2027160" cy="422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656160" y="4483080"/>
            <a:ext cx="2027160" cy="42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098880" y="2795760"/>
            <a:ext cx="2550960" cy="57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141360" y="2895480"/>
            <a:ext cx="2401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Area Funcional 2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098880" y="2795760"/>
            <a:ext cx="2550960" cy="57600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216480" y="3371760"/>
            <a:ext cx="32040" cy="1962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216480" y="4094280"/>
            <a:ext cx="2574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216480" y="4694400"/>
            <a:ext cx="2574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473880" y="4483080"/>
            <a:ext cx="2025720" cy="42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473880" y="4483080"/>
            <a:ext cx="2025720" cy="42228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916600" y="2795760"/>
            <a:ext cx="2549520" cy="57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582960" y="2895480"/>
            <a:ext cx="125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916600" y="2795760"/>
            <a:ext cx="2549520" cy="57600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021120" y="1706400"/>
            <a:ext cx="2751120" cy="578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069720" y="1806480"/>
            <a:ext cx="2609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Dirección Superior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021120" y="1706400"/>
            <a:ext cx="2751120" cy="57816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838160" y="5715000"/>
            <a:ext cx="500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Asignación simultánea de tareas específicas al proyecto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y de tareas de las Areas Funcionales de la Organ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48769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648320" y="48769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752480" y="5334120"/>
            <a:ext cx="44960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676520" y="5257800"/>
            <a:ext cx="152280" cy="1522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572000" y="5257800"/>
            <a:ext cx="152280" cy="1522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Organización Combinad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3" name=""/>
          <p:cNvSpPr/>
          <p:nvPr/>
        </p:nvSpPr>
        <p:spPr>
          <a:xfrm>
            <a:off x="4390920" y="2284560"/>
            <a:ext cx="1800" cy="25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552680" y="2540160"/>
            <a:ext cx="1440" cy="25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368960" y="2540160"/>
            <a:ext cx="1440" cy="25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184880" y="2540160"/>
            <a:ext cx="1800" cy="25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552680" y="2540160"/>
            <a:ext cx="28162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368960" y="2540160"/>
            <a:ext cx="219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390920" y="2540160"/>
            <a:ext cx="27939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82480" y="3371760"/>
            <a:ext cx="1800" cy="722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82480" y="4094280"/>
            <a:ext cx="2574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82480" y="4694400"/>
            <a:ext cx="2574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82480" y="4094280"/>
            <a:ext cx="1800" cy="600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39880" y="3882960"/>
            <a:ext cx="2025720" cy="42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839880" y="3882960"/>
            <a:ext cx="2025720" cy="42228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839880" y="4483080"/>
            <a:ext cx="2025720" cy="422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839880" y="4483080"/>
            <a:ext cx="2025720" cy="42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82600" y="2795760"/>
            <a:ext cx="2549520" cy="57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23640" y="2895480"/>
            <a:ext cx="2401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Area Funcional 1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82600" y="2795760"/>
            <a:ext cx="2549520" cy="57600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400560" y="3371760"/>
            <a:ext cx="1440" cy="722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400560" y="4094280"/>
            <a:ext cx="2556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400560" y="4694400"/>
            <a:ext cx="2556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656160" y="3882960"/>
            <a:ext cx="2027160" cy="42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656160" y="3882960"/>
            <a:ext cx="2027160" cy="42228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098880" y="2795760"/>
            <a:ext cx="2550960" cy="57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141360" y="2895480"/>
            <a:ext cx="2401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Area Funcional 2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098880" y="2795760"/>
            <a:ext cx="2550960" cy="57600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216480" y="3371760"/>
            <a:ext cx="32040" cy="1962360"/>
          </a:xfrm>
          <a:prstGeom prst="line">
            <a:avLst/>
          </a:prstGeom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216480" y="4094280"/>
            <a:ext cx="257400" cy="1440"/>
          </a:xfrm>
          <a:prstGeom prst="line">
            <a:avLst/>
          </a:prstGeom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216480" y="4694400"/>
            <a:ext cx="257400" cy="1440"/>
          </a:xfrm>
          <a:prstGeom prst="line">
            <a:avLst/>
          </a:prstGeom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473880" y="3882960"/>
            <a:ext cx="2025720" cy="42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473880" y="3882960"/>
            <a:ext cx="2025720" cy="42228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473880" y="4483080"/>
            <a:ext cx="2025720" cy="42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473880" y="4483080"/>
            <a:ext cx="2025720" cy="42228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916600" y="2795760"/>
            <a:ext cx="2549520" cy="57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582960" y="2895480"/>
            <a:ext cx="125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916600" y="2795760"/>
            <a:ext cx="2549520" cy="57600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021120" y="1706400"/>
            <a:ext cx="2751120" cy="578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069720" y="1806480"/>
            <a:ext cx="2609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Dirección Superior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021120" y="1706400"/>
            <a:ext cx="2751120" cy="57816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990080" y="5715000"/>
            <a:ext cx="47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Se dota al proyecto de su propia capacida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Y se complementa con ser vicios de áreas funcional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752480" y="48769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752480" y="5334120"/>
            <a:ext cx="44960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676520" y="5257800"/>
            <a:ext cx="152280" cy="1522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644760" y="3200400"/>
            <a:ext cx="220752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7c1eb"/>
                </a:solidFill>
                <a:latin typeface="Comic Sans MS"/>
              </a:rPr>
              <a:t>COMPONENTE 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05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660066"/>
                </a:solidFill>
                <a:latin typeface="Tahoma"/>
              </a:rPr>
              <a:t>ESTRUCTURA CLÁSICA DE PROGRAM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8" name=""/>
          <p:cNvSpPr/>
          <p:nvPr/>
        </p:nvSpPr>
        <p:spPr>
          <a:xfrm>
            <a:off x="1090800" y="396252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1.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675600" y="1143000"/>
            <a:ext cx="1982160" cy="106884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b7c1eb"/>
                </a:solidFill>
                <a:latin typeface="Comic Sans MS"/>
              </a:rPr>
              <a:t>Proyect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b7c1eb"/>
                </a:solidFill>
                <a:latin typeface="Comic Sans MS"/>
              </a:rPr>
              <a:t>(UE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090800" y="457200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1.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090800" y="518148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1.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32" name=""/>
          <p:cNvCxnSpPr>
            <a:stCxn id="1026" idx="0"/>
            <a:endCxn id="1029" idx="2"/>
          </p:cNvCxnSpPr>
          <p:nvPr/>
        </p:nvCxnSpPr>
        <p:spPr>
          <a:xfrm flipH="1" flipV="1" rot="5400000">
            <a:off x="2712600" y="1245600"/>
            <a:ext cx="991440" cy="2918520"/>
          </a:xfrm>
          <a:prstGeom prst="bentConnector3">
            <a:avLst>
              <a:gd name="adj1" fmla="val 49981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33" name=""/>
          <p:cNvCxnSpPr>
            <a:stCxn id="1034" idx="0"/>
            <a:endCxn id="1029" idx="2"/>
          </p:cNvCxnSpPr>
          <p:nvPr/>
        </p:nvCxnSpPr>
        <p:spPr>
          <a:xfrm flipH="1" flipV="1" rot="5400000">
            <a:off x="4160520" y="2693520"/>
            <a:ext cx="991440" cy="23040"/>
          </a:xfrm>
          <a:prstGeom prst="bentConnector3">
            <a:avLst>
              <a:gd name="adj1" fmla="val 49981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35" name=""/>
          <p:cNvCxnSpPr>
            <a:stCxn id="1036" idx="0"/>
            <a:endCxn id="1029" idx="2"/>
          </p:cNvCxnSpPr>
          <p:nvPr/>
        </p:nvCxnSpPr>
        <p:spPr>
          <a:xfrm flipV="1" rot="16200000">
            <a:off x="5532120" y="1343880"/>
            <a:ext cx="991440" cy="2721600"/>
          </a:xfrm>
          <a:prstGeom prst="bentConnector3">
            <a:avLst>
              <a:gd name="adj1" fmla="val 49981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37" name=""/>
          <p:cNvCxnSpPr>
            <a:stCxn id="1028" idx="1"/>
            <a:endCxn id="1026" idx="1"/>
          </p:cNvCxnSpPr>
          <p:nvPr/>
        </p:nvCxnSpPr>
        <p:spPr>
          <a:xfrm rot="10800000">
            <a:off x="608760" y="3398040"/>
            <a:ext cx="381960" cy="748440"/>
          </a:xfrm>
          <a:prstGeom prst="bentConnector3">
            <a:avLst>
              <a:gd name="adj1" fmla="val 16000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38" name=""/>
          <p:cNvCxnSpPr>
            <a:stCxn id="1030" idx="1"/>
            <a:endCxn id="1026" idx="1"/>
          </p:cNvCxnSpPr>
          <p:nvPr/>
        </p:nvCxnSpPr>
        <p:spPr>
          <a:xfrm rot="10800000">
            <a:off x="608760" y="3398040"/>
            <a:ext cx="381960" cy="1358280"/>
          </a:xfrm>
          <a:prstGeom prst="bentConnector3">
            <a:avLst>
              <a:gd name="adj1" fmla="val 16000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39" name=""/>
          <p:cNvCxnSpPr>
            <a:stCxn id="1031" idx="1"/>
            <a:endCxn id="1026" idx="1"/>
          </p:cNvCxnSpPr>
          <p:nvPr/>
        </p:nvCxnSpPr>
        <p:spPr>
          <a:xfrm rot="10800000">
            <a:off x="608760" y="3398040"/>
            <a:ext cx="381960" cy="1967760"/>
          </a:xfrm>
          <a:prstGeom prst="bentConnector3">
            <a:avLst>
              <a:gd name="adj1" fmla="val 16000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34" name=""/>
          <p:cNvSpPr/>
          <p:nvPr/>
        </p:nvSpPr>
        <p:spPr>
          <a:xfrm>
            <a:off x="3540600" y="3200400"/>
            <a:ext cx="220752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7c1eb"/>
                </a:solidFill>
                <a:latin typeface="Comic Sans MS"/>
              </a:rPr>
              <a:t>COMPONENTE 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986640" y="396252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2.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986640" y="457200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2.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986640" y="518148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2.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43" name=""/>
          <p:cNvCxnSpPr>
            <a:stCxn id="1040" idx="1"/>
            <a:endCxn id="1034" idx="1"/>
          </p:cNvCxnSpPr>
          <p:nvPr/>
        </p:nvCxnSpPr>
        <p:spPr>
          <a:xfrm rot="10800000">
            <a:off x="3504600" y="3398040"/>
            <a:ext cx="381600" cy="74844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44" name=""/>
          <p:cNvCxnSpPr>
            <a:stCxn id="1041" idx="1"/>
            <a:endCxn id="1034" idx="1"/>
          </p:cNvCxnSpPr>
          <p:nvPr/>
        </p:nvCxnSpPr>
        <p:spPr>
          <a:xfrm rot="10800000">
            <a:off x="3504600" y="3398040"/>
            <a:ext cx="381600" cy="135828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45" name=""/>
          <p:cNvCxnSpPr>
            <a:stCxn id="1042" idx="1"/>
            <a:endCxn id="1034" idx="1"/>
          </p:cNvCxnSpPr>
          <p:nvPr/>
        </p:nvCxnSpPr>
        <p:spPr>
          <a:xfrm rot="10800000">
            <a:off x="3504600" y="3398040"/>
            <a:ext cx="381600" cy="196776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36" name=""/>
          <p:cNvSpPr/>
          <p:nvPr/>
        </p:nvSpPr>
        <p:spPr>
          <a:xfrm>
            <a:off x="6283800" y="3200400"/>
            <a:ext cx="220752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7c1eb"/>
                </a:solidFill>
                <a:latin typeface="Comic Sans MS"/>
              </a:rPr>
              <a:t>COMPONENTE 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729840" y="396252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3.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729840" y="457200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3.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48" name=""/>
          <p:cNvCxnSpPr>
            <a:stCxn id="1046" idx="1"/>
            <a:endCxn id="1036" idx="1"/>
          </p:cNvCxnSpPr>
          <p:nvPr/>
        </p:nvCxnSpPr>
        <p:spPr>
          <a:xfrm rot="10800000">
            <a:off x="6247800" y="3398040"/>
            <a:ext cx="381600" cy="74844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49" name=""/>
          <p:cNvCxnSpPr>
            <a:stCxn id="1047" idx="1"/>
            <a:endCxn id="1036" idx="1"/>
          </p:cNvCxnSpPr>
          <p:nvPr/>
        </p:nvCxnSpPr>
        <p:spPr>
          <a:xfrm rot="10800000">
            <a:off x="6247800" y="3398040"/>
            <a:ext cx="381600" cy="135828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50" name=""/>
          <p:cNvSpPr/>
          <p:nvPr/>
        </p:nvSpPr>
        <p:spPr>
          <a:xfrm>
            <a:off x="3986640" y="579132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2.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51" name=""/>
          <p:cNvCxnSpPr>
            <a:stCxn id="1050" idx="1"/>
            <a:endCxn id="1034" idx="1"/>
          </p:cNvCxnSpPr>
          <p:nvPr/>
        </p:nvCxnSpPr>
        <p:spPr>
          <a:xfrm rot="10800000">
            <a:off x="3504600" y="3398040"/>
            <a:ext cx="381600" cy="257724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52" name=""/>
          <p:cNvSpPr/>
          <p:nvPr/>
        </p:nvSpPr>
        <p:spPr>
          <a:xfrm>
            <a:off x="6633360" y="1523880"/>
            <a:ext cx="15717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APOY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b7c1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Administrativ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b7c1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Logístic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b7c1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Financier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648320" y="2438280"/>
            <a:ext cx="19810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066680" y="1523880"/>
            <a:ext cx="3200400" cy="1905120"/>
          </a:xfrm>
          <a:prstGeom prst="ellipse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¿Cuáles son la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limitacione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de este tipo 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representación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“</a:t>
            </a: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organigramática”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557640" y="3276720"/>
            <a:ext cx="2146680" cy="398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Comic Sans MS"/>
              </a:rPr>
              <a:t>COMPONENTE 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660066"/>
                </a:solidFill>
                <a:latin typeface="Tahoma"/>
              </a:rPr>
              <a:t>Limitaciones de la estructura “organigramática de UEP”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7" name=""/>
          <p:cNvSpPr/>
          <p:nvPr/>
        </p:nvSpPr>
        <p:spPr>
          <a:xfrm>
            <a:off x="978120" y="4038480"/>
            <a:ext cx="1755000" cy="368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Comic Sans MS"/>
              </a:rPr>
              <a:t>ACTIVIDAD 1.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657240" y="1219320"/>
            <a:ext cx="1867680" cy="10688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Comic Sans MS"/>
              </a:rPr>
              <a:t>Proyect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Comic Sans MS"/>
              </a:rPr>
              <a:t>(UE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996480" y="4648320"/>
            <a:ext cx="1755000" cy="368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Comic Sans MS"/>
              </a:rPr>
              <a:t>ACTIVIDAD 1.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996480" y="5257800"/>
            <a:ext cx="1755000" cy="368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Comic Sans MS"/>
              </a:rPr>
              <a:t>ACTIVIDAD 1.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61" name=""/>
          <p:cNvCxnSpPr>
            <a:stCxn id="1055" idx="0"/>
            <a:endCxn id="1058" idx="2"/>
          </p:cNvCxnSpPr>
          <p:nvPr/>
        </p:nvCxnSpPr>
        <p:spPr>
          <a:xfrm flipH="1" flipV="1" rot="5400000">
            <a:off x="2620440" y="1306080"/>
            <a:ext cx="982080" cy="2959920"/>
          </a:xfrm>
          <a:prstGeom prst="bentConnector3">
            <a:avLst>
              <a:gd name="adj1" fmla="val 49981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62" name=""/>
          <p:cNvCxnSpPr>
            <a:stCxn id="1063" idx="0"/>
            <a:endCxn id="1058" idx="2"/>
          </p:cNvCxnSpPr>
          <p:nvPr/>
        </p:nvCxnSpPr>
        <p:spPr>
          <a:xfrm flipH="1" flipV="1" rot="5400000">
            <a:off x="4078440" y="2764080"/>
            <a:ext cx="982080" cy="43560"/>
          </a:xfrm>
          <a:prstGeom prst="bentConnector3">
            <a:avLst>
              <a:gd name="adj1" fmla="val 49981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64" name=""/>
          <p:cNvCxnSpPr>
            <a:stCxn id="1065" idx="0"/>
            <a:endCxn id="1058" idx="2"/>
          </p:cNvCxnSpPr>
          <p:nvPr/>
        </p:nvCxnSpPr>
        <p:spPr>
          <a:xfrm flipV="1" rot="16200000">
            <a:off x="5450040" y="1435320"/>
            <a:ext cx="982080" cy="2701080"/>
          </a:xfrm>
          <a:prstGeom prst="bentConnector3">
            <a:avLst>
              <a:gd name="adj1" fmla="val 49981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66" name=""/>
          <p:cNvCxnSpPr>
            <a:stCxn id="1057" idx="1"/>
            <a:endCxn id="1055" idx="1"/>
          </p:cNvCxnSpPr>
          <p:nvPr/>
        </p:nvCxnSpPr>
        <p:spPr>
          <a:xfrm rot="10800000">
            <a:off x="532800" y="3479040"/>
            <a:ext cx="381600" cy="74844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67" name=""/>
          <p:cNvCxnSpPr>
            <a:stCxn id="1059" idx="1"/>
            <a:endCxn id="1055" idx="1"/>
          </p:cNvCxnSpPr>
          <p:nvPr/>
        </p:nvCxnSpPr>
        <p:spPr>
          <a:xfrm rot="10800000">
            <a:off x="532800" y="3479040"/>
            <a:ext cx="381600" cy="135792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68" name=""/>
          <p:cNvCxnSpPr>
            <a:stCxn id="1060" idx="1"/>
            <a:endCxn id="1055" idx="1"/>
          </p:cNvCxnSpPr>
          <p:nvPr/>
        </p:nvCxnSpPr>
        <p:spPr>
          <a:xfrm rot="10800000">
            <a:off x="532800" y="3479040"/>
            <a:ext cx="381600" cy="196776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63" name=""/>
          <p:cNvSpPr/>
          <p:nvPr/>
        </p:nvSpPr>
        <p:spPr>
          <a:xfrm>
            <a:off x="3474000" y="3276720"/>
            <a:ext cx="2146680" cy="398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Comic Sans MS"/>
              </a:rPr>
              <a:t>COMPONENTE 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891960" y="4038480"/>
            <a:ext cx="1755000" cy="368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Comic Sans MS"/>
              </a:rPr>
              <a:t>ACTIVIDAD 2.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910320" y="4648320"/>
            <a:ext cx="1755000" cy="368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Comic Sans MS"/>
              </a:rPr>
              <a:t>ACTIVIDAD 2.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910320" y="5257800"/>
            <a:ext cx="1755000" cy="368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Comic Sans MS"/>
              </a:rPr>
              <a:t>ACTIVIDAD 2.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72" name=""/>
          <p:cNvCxnSpPr>
            <a:stCxn id="1069" idx="1"/>
            <a:endCxn id="1063" idx="1"/>
          </p:cNvCxnSpPr>
          <p:nvPr/>
        </p:nvCxnSpPr>
        <p:spPr>
          <a:xfrm rot="10800000">
            <a:off x="3428280" y="3479040"/>
            <a:ext cx="381600" cy="74844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73" name=""/>
          <p:cNvCxnSpPr>
            <a:stCxn id="1070" idx="1"/>
            <a:endCxn id="1063" idx="1"/>
          </p:cNvCxnSpPr>
          <p:nvPr/>
        </p:nvCxnSpPr>
        <p:spPr>
          <a:xfrm rot="10800000">
            <a:off x="3428280" y="3479040"/>
            <a:ext cx="381600" cy="135792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74" name=""/>
          <p:cNvCxnSpPr>
            <a:stCxn id="1071" idx="1"/>
            <a:endCxn id="1063" idx="1"/>
          </p:cNvCxnSpPr>
          <p:nvPr/>
        </p:nvCxnSpPr>
        <p:spPr>
          <a:xfrm rot="10800000">
            <a:off x="3428280" y="3479040"/>
            <a:ext cx="381600" cy="196776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65" name=""/>
          <p:cNvSpPr/>
          <p:nvPr/>
        </p:nvSpPr>
        <p:spPr>
          <a:xfrm>
            <a:off x="6217200" y="3276720"/>
            <a:ext cx="2146680" cy="398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Comic Sans MS"/>
              </a:rPr>
              <a:t>COMPONENTE 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635160" y="4038480"/>
            <a:ext cx="1755000" cy="368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Comic Sans MS"/>
              </a:rPr>
              <a:t>ACTIVIDAD 3.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653520" y="4648320"/>
            <a:ext cx="1755000" cy="368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Comic Sans MS"/>
              </a:rPr>
              <a:t>ACTIVIDAD 3.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77" name=""/>
          <p:cNvCxnSpPr>
            <a:stCxn id="1075" idx="1"/>
            <a:endCxn id="1065" idx="1"/>
          </p:cNvCxnSpPr>
          <p:nvPr/>
        </p:nvCxnSpPr>
        <p:spPr>
          <a:xfrm rot="10800000">
            <a:off x="6171480" y="3479040"/>
            <a:ext cx="381600" cy="74844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78" name=""/>
          <p:cNvCxnSpPr>
            <a:stCxn id="1076" idx="1"/>
            <a:endCxn id="1065" idx="1"/>
          </p:cNvCxnSpPr>
          <p:nvPr/>
        </p:nvCxnSpPr>
        <p:spPr>
          <a:xfrm rot="10800000">
            <a:off x="6171480" y="3479040"/>
            <a:ext cx="381600" cy="135792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79" name=""/>
          <p:cNvSpPr/>
          <p:nvPr/>
        </p:nvSpPr>
        <p:spPr>
          <a:xfrm>
            <a:off x="3910320" y="5867280"/>
            <a:ext cx="1755000" cy="368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Comic Sans MS"/>
              </a:rPr>
              <a:t>ACTIVIDAD 2.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80" name=""/>
          <p:cNvCxnSpPr>
            <a:stCxn id="1079" idx="1"/>
            <a:endCxn id="1063" idx="1"/>
          </p:cNvCxnSpPr>
          <p:nvPr/>
        </p:nvCxnSpPr>
        <p:spPr>
          <a:xfrm rot="10800000">
            <a:off x="3428280" y="3479040"/>
            <a:ext cx="381600" cy="257724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81" name=""/>
          <p:cNvSpPr/>
          <p:nvPr/>
        </p:nvSpPr>
        <p:spPr>
          <a:xfrm>
            <a:off x="6562440" y="1600200"/>
            <a:ext cx="1481760" cy="10674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APOY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Administrativ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Logístic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Financier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72000" y="2514600"/>
            <a:ext cx="19810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04920" y="1295280"/>
            <a:ext cx="2209680" cy="14479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Propici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jerarquizació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y autoritarism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914400" y="3124080"/>
            <a:ext cx="220968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Facilita el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“</a:t>
            </a: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compartim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estanco”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Component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no conversa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876920" y="4876920"/>
            <a:ext cx="220968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No induce 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Trabajo en equip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209680" y="4800600"/>
            <a:ext cx="2210040" cy="14479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7c1eb"/>
                </a:solidFill>
                <a:latin typeface="Times New Roman"/>
              </a:rPr>
              <a:t>Impide visualiza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7c1eb"/>
                </a:solidFill>
                <a:latin typeface="Times New Roman"/>
              </a:rPr>
              <a:t>Las relacion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7c1eb"/>
                </a:solidFill>
                <a:latin typeface="Times New Roman"/>
              </a:rPr>
              <a:t>interna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400800" y="3200400"/>
            <a:ext cx="2209680" cy="14479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No aport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informació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sobre actor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externo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553080" y="1295280"/>
            <a:ext cx="2210040" cy="1447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No induce a l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gestión extern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505320" y="1371600"/>
            <a:ext cx="2209680" cy="14479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Limita l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Coordinació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y la delegació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581280" y="2971800"/>
            <a:ext cx="2210040" cy="14479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b7c1eb"/>
                </a:solidFill>
                <a:latin typeface="Times New Roman"/>
              </a:rPr>
              <a:t>Otro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EPCIÓN RELACION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f89f7"/>
                </a:solidFill>
                <a:latin typeface="Tahoma"/>
              </a:rPr>
              <a:t>Un buen diseño del mapa organizacional contempl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f89f7"/>
                </a:solidFill>
                <a:latin typeface="Tahoma"/>
              </a:rPr>
              <a:t>Identificar los actores clave, internos y extern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f89f7"/>
                </a:solidFill>
                <a:latin typeface="Tahoma"/>
              </a:rPr>
              <a:t>Especificar los actores clave, identificar, personificar la relación (desagregar categorías muy amplias o genérica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f89f7"/>
                </a:solidFill>
                <a:latin typeface="Tahoma"/>
              </a:rPr>
              <a:t>Precisar el tipo de relación (demanda, apoyo, control, comunicación, coordinación)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Tenga claros los objetiv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Relaciónese </a:t>
            </a:r>
            <a:r>
              <a:rPr b="0" lang="es-ES_tradnl" sz="2000" spc="-1" strike="noStrike">
                <a:solidFill>
                  <a:srgbClr val="40458c"/>
                </a:solidFill>
                <a:latin typeface="Comic Sans MS"/>
              </a:rPr>
              <a:t>con los</a:t>
            </a: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 involucrad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Organice</a:t>
            </a:r>
            <a:r>
              <a:rPr b="0" lang="es-ES_tradnl" sz="2000" spc="-1" strike="noStrike">
                <a:solidFill>
                  <a:srgbClr val="40458c"/>
                </a:solidFill>
                <a:latin typeface="Comic Sans MS"/>
              </a:rPr>
              <a:t> la Unidad Ejecutora y sus relacio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Programe</a:t>
            </a:r>
            <a:r>
              <a:rPr b="0" lang="es-ES_tradnl" sz="2000" spc="-1" strike="noStrike">
                <a:solidFill>
                  <a:srgbClr val="40458c"/>
                </a:solidFill>
                <a:latin typeface="Comic Sans MS"/>
              </a:rPr>
              <a:t> las actividad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Presupueste</a:t>
            </a:r>
            <a:r>
              <a:rPr b="0" lang="es-ES_tradnl" sz="2000" spc="-1" strike="noStrike">
                <a:solidFill>
                  <a:srgbClr val="40458c"/>
                </a:solidFill>
                <a:latin typeface="Comic Sans MS"/>
              </a:rPr>
              <a:t> las actividad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Forme el equipo</a:t>
            </a:r>
            <a:r>
              <a:rPr b="0" lang="es-ES_tradnl" sz="2000" spc="-1" strike="noStrike">
                <a:solidFill>
                  <a:srgbClr val="40458c"/>
                </a:solidFill>
                <a:latin typeface="Comic Sans MS"/>
              </a:rPr>
              <a:t> gerenci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Lidere</a:t>
            </a:r>
            <a:r>
              <a:rPr b="0" lang="es-ES_tradnl" sz="2000" spc="-1" strike="noStrike">
                <a:solidFill>
                  <a:srgbClr val="40458c"/>
                </a:solidFill>
                <a:latin typeface="Comic Sans MS"/>
              </a:rPr>
              <a:t> el equipo y gestione las relaciones extern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Gestione los recurs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Controle los cos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Controle la ejecuc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Entregue </a:t>
            </a:r>
            <a:r>
              <a:rPr b="0" lang="es-ES_tradnl" sz="2000" spc="-1" strike="noStrike">
                <a:solidFill>
                  <a:srgbClr val="40458c"/>
                </a:solidFill>
                <a:latin typeface="Comic Sans MS"/>
              </a:rPr>
              <a:t>productos y cierre el proyec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Aprenda de la experienc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600200"/>
            <a:ext cx="7696440" cy="17524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15360" y="2666880"/>
            <a:ext cx="251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Times New Roman"/>
              </a:rPr>
              <a:t>PREPARACIÓ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Times New Roman"/>
              </a:rPr>
              <a:t>DE LA EJECUCIÓ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Temar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3332160"/>
            <a:ext cx="7696080" cy="17524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80200" y="424008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3300"/>
                </a:solidFill>
                <a:latin typeface="Times New Roman"/>
              </a:rPr>
              <a:t>SEGUIMIENT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5084640"/>
            <a:ext cx="7696080" cy="865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84560" y="5408640"/>
            <a:ext cx="335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3300"/>
                </a:solidFill>
                <a:latin typeface="Times New Roman"/>
              </a:rPr>
              <a:t>TÉRMINO DE PROYECT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60066"/>
                </a:solidFill>
                <a:latin typeface="Tahoma"/>
              </a:rPr>
              <a:t>ORGANIZACIÓN RELACIONAL</a:t>
            </a:r>
            <a:br>
              <a:rPr sz="3200"/>
            </a:br>
            <a:r>
              <a:rPr b="0" lang="es-MX" sz="3000" spc="-1" strike="noStrike">
                <a:solidFill>
                  <a:srgbClr val="660066"/>
                </a:solidFill>
                <a:latin typeface="Tahoma"/>
              </a:rPr>
              <a:t>GERENCIA DE COMPONENTE</a:t>
            </a:r>
            <a:br>
              <a:rPr sz="3000"/>
            </a:br>
            <a:r>
              <a:rPr b="0" lang="es-MX" sz="3000" spc="-1" strike="noStrike">
                <a:solidFill>
                  <a:srgbClr val="660066"/>
                </a:solidFill>
                <a:latin typeface="Tahoma"/>
              </a:rPr>
              <a:t>NÚCLEO DE GESTIÓN</a:t>
            </a:r>
            <a:endParaRPr b="0" lang="en-US" sz="3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4" name=""/>
          <p:cNvSpPr/>
          <p:nvPr/>
        </p:nvSpPr>
        <p:spPr>
          <a:xfrm>
            <a:off x="3699720" y="4214880"/>
            <a:ext cx="2193840" cy="3373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SUBCOMPONENTE 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248000" y="1600200"/>
            <a:ext cx="1652760" cy="7038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7c1eb"/>
                </a:solidFill>
                <a:latin typeface="Comic Sans MS"/>
              </a:rPr>
              <a:t>PROGRAM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7c1eb"/>
                </a:solidFill>
                <a:latin typeface="Comic Sans MS"/>
              </a:rPr>
              <a:t>(UE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434200" y="480060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1.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434200" y="541008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1.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235680" y="2971800"/>
            <a:ext cx="220752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7c1eb"/>
                </a:solidFill>
                <a:latin typeface="Comic Sans MS"/>
              </a:rPr>
              <a:t>COMPONENTE 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074280" y="2971800"/>
            <a:ext cx="206604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b7c1eb"/>
                </a:solidFill>
                <a:latin typeface="Comic Sans MS"/>
              </a:rPr>
              <a:t>COMPONENTE j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724280" y="2514600"/>
            <a:ext cx="609840" cy="3808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895480" y="2743200"/>
            <a:ext cx="6019920" cy="8380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895480" y="3809880"/>
            <a:ext cx="6019920" cy="2514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724280" y="3505320"/>
            <a:ext cx="609840" cy="3808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861960" y="1447920"/>
            <a:ext cx="15717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APOY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b7c1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Administrativ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b7c1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Logístic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b7c1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Financier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rot="16200000">
            <a:off x="6057720" y="1713960"/>
            <a:ext cx="609480" cy="3808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771280" y="4800600"/>
            <a:ext cx="1450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CONTRAT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rot="16200000">
            <a:off x="5448240" y="3009960"/>
            <a:ext cx="609840" cy="3808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108" name=""/>
          <p:cNvCxnSpPr>
            <a:stCxn id="1094" idx="2"/>
            <a:endCxn id="1096" idx="1"/>
          </p:cNvCxnSpPr>
          <p:nvPr/>
        </p:nvCxnSpPr>
        <p:spPr>
          <a:xfrm flipH="1" rot="16200000">
            <a:off x="4848120" y="4499640"/>
            <a:ext cx="434160" cy="537480"/>
          </a:xfrm>
          <a:prstGeom prst="bentConnector2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09" name=""/>
          <p:cNvCxnSpPr>
            <a:stCxn id="1094" idx="2"/>
            <a:endCxn id="1097" idx="1"/>
          </p:cNvCxnSpPr>
          <p:nvPr/>
        </p:nvCxnSpPr>
        <p:spPr>
          <a:xfrm flipH="1" rot="16200000">
            <a:off x="4543200" y="4804200"/>
            <a:ext cx="1043640" cy="537480"/>
          </a:xfrm>
          <a:prstGeom prst="bentConnector2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1110" name=""/>
          <p:cNvSpPr/>
          <p:nvPr/>
        </p:nvSpPr>
        <p:spPr>
          <a:xfrm>
            <a:off x="6658920" y="4214880"/>
            <a:ext cx="2129760" cy="3373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Comic Sans MS"/>
              </a:rPr>
              <a:t>SUBCOMPONENTE k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rot="16200000">
            <a:off x="5943240" y="4190760"/>
            <a:ext cx="60984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rot="16200000">
            <a:off x="4228920" y="4762080"/>
            <a:ext cx="609480" cy="3808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rot="16200000">
            <a:off x="2209680" y="4876920"/>
            <a:ext cx="60984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57200" y="4800600"/>
            <a:ext cx="1828800" cy="457200"/>
          </a:xfrm>
          <a:prstGeom prst="ellipse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b7c1eb"/>
                </a:solidFill>
                <a:latin typeface="Times New Roman"/>
              </a:rPr>
              <a:t>CONTRATIST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80880" y="2286000"/>
            <a:ext cx="1828800" cy="6858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b7c1eb"/>
                </a:solidFill>
                <a:latin typeface="Times New Roman"/>
              </a:rPr>
              <a:t>AGENT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b7c1eb"/>
                </a:solidFill>
                <a:latin typeface="Times New Roman"/>
              </a:rPr>
              <a:t>EXTERN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80880" y="3200400"/>
            <a:ext cx="1828800" cy="6858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b7c1eb"/>
                </a:solidFill>
                <a:latin typeface="Times New Roman"/>
              </a:rPr>
              <a:t>INVOLUCRAD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b7c1eb"/>
                </a:solidFill>
                <a:latin typeface="Times New Roman"/>
              </a:rPr>
              <a:t>SOCIEDA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rot="16200000">
            <a:off x="2209680" y="3428640"/>
            <a:ext cx="60948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rot="16200000">
            <a:off x="2209680" y="2590920"/>
            <a:ext cx="60984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Comic Sans MS"/>
              </a:rPr>
              <a:t>Objetivos, organización e involucra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40458c"/>
                </a:solidFill>
                <a:latin typeface="Comic Sans MS"/>
              </a:rPr>
              <a:t>Lectura de Caso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12762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6" dur="500"/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28600"/>
            <a:ext cx="449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ahoma"/>
              </a:rPr>
              <a:t>Gestión de Proyecto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22860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1295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3581280"/>
            <a:ext cx="5562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b2b2b2"/>
                </a:solidFill>
                <a:latin typeface="Times New Roman"/>
              </a:rPr>
              <a:t>Tenga Claros los Objetivo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705720" y="3581280"/>
            <a:ext cx="1703160" cy="19051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019920" y="129528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CO" sz="24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Comic Sans MS"/>
              </a:rPr>
              <a:t>Tenga claros los </a:t>
            </a:r>
            <a:r>
              <a:rPr b="1" lang="es-ES_tradnl" sz="3200" spc="-1" strike="noStrike">
                <a:solidFill>
                  <a:srgbClr val="40458c"/>
                </a:solidFill>
                <a:latin typeface="Comic Sans MS"/>
              </a:rPr>
              <a:t>objetivo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40458c"/>
                </a:solidFill>
                <a:latin typeface="Tahoma"/>
              </a:rPr>
              <a:t>Todo gerente de proyecto debe tener claro: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11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_tradnl" sz="4400" spc="-1" strike="noStrike">
                <a:solidFill>
                  <a:srgbClr val="40458c"/>
                </a:solidFill>
                <a:latin typeface="Tahoma"/>
              </a:rPr>
              <a:t>Para qué es el proyecto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11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_tradnl" sz="4400" spc="-1" strike="noStrike">
                <a:solidFill>
                  <a:srgbClr val="40458c"/>
                </a:solidFill>
                <a:latin typeface="Tahoma"/>
              </a:rPr>
              <a:t>Qué debe entregar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24280" y="3048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4480" y="3048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24280" y="5334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24480" y="5334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4191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24480" y="4191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3048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1905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1905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00400" y="1905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00200" y="5334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00400" y="5334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00400" y="4191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4280" y="1066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edio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Verific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24480" y="1066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Supues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1066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dicado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600200" y="3048120"/>
            <a:ext cx="1371600" cy="914400"/>
            <a:chOff x="1600200" y="3048120"/>
            <a:chExt cx="1371600" cy="914400"/>
          </a:xfrm>
        </p:grpSpPr>
        <p:sp>
          <p:nvSpPr>
            <p:cNvPr id="282" name=""/>
            <p:cNvSpPr/>
            <p:nvPr/>
          </p:nvSpPr>
          <p:spPr>
            <a:xfrm>
              <a:off x="1600200" y="3048120"/>
              <a:ext cx="1371600" cy="9144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62840" y="3110040"/>
              <a:ext cx="1015920" cy="337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Propósi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841480" y="233280"/>
            <a:ext cx="38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Comic Sans MS"/>
              </a:rPr>
              <a:t>Tenga claros los objetiv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00200" y="1066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Nivel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Objetiv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20520" y="190512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Sostenibilida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657600" y="2209680"/>
            <a:ext cx="2913120" cy="325764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1600200" y="1905120"/>
            <a:ext cx="1371600" cy="914400"/>
            <a:chOff x="1600200" y="1905120"/>
            <a:chExt cx="1371600" cy="914400"/>
          </a:xfrm>
        </p:grpSpPr>
        <p:sp>
          <p:nvSpPr>
            <p:cNvPr id="289" name=""/>
            <p:cNvSpPr/>
            <p:nvPr/>
          </p:nvSpPr>
          <p:spPr>
            <a:xfrm>
              <a:off x="1600200" y="1905120"/>
              <a:ext cx="1371600" cy="9144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663200" y="1967040"/>
              <a:ext cx="642600" cy="337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Fine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600200" y="4191120"/>
            <a:ext cx="1371600" cy="914400"/>
            <a:chOff x="1600200" y="4191120"/>
            <a:chExt cx="1371600" cy="914400"/>
          </a:xfrm>
        </p:grpSpPr>
        <p:sp>
          <p:nvSpPr>
            <p:cNvPr id="292" name=""/>
            <p:cNvSpPr/>
            <p:nvPr/>
          </p:nvSpPr>
          <p:spPr>
            <a:xfrm>
              <a:off x="1600200" y="4191120"/>
              <a:ext cx="1371600" cy="9144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602720" y="4267080"/>
              <a:ext cx="1364760" cy="337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Componente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6640" y="533520"/>
            <a:ext cx="65984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Comic Sans MS"/>
              </a:rPr>
              <a:t>SIGNIFICADO DE LOS NIVELES DE OBJETIV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80880" y="3929040"/>
            <a:ext cx="8524800" cy="1298520"/>
            <a:chOff x="380880" y="3929040"/>
            <a:chExt cx="8524800" cy="1298520"/>
          </a:xfrm>
        </p:grpSpPr>
        <p:sp>
          <p:nvSpPr>
            <p:cNvPr id="297" name=""/>
            <p:cNvSpPr/>
            <p:nvPr/>
          </p:nvSpPr>
          <p:spPr>
            <a:xfrm>
              <a:off x="2641680" y="4287960"/>
              <a:ext cx="2071440" cy="92844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40458c"/>
                  </a:solidFill>
                  <a:latin typeface="Comic Sans MS"/>
                </a:rPr>
                <a:t>COMPONENTE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09840" y="3957480"/>
              <a:ext cx="801720" cy="1987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4866480" y="4313160"/>
              <a:ext cx="4038840" cy="914400"/>
            </a:xfrm>
            <a:prstGeom prst="roundRect">
              <a:avLst>
                <a:gd name="adj" fmla="val 16667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Comic Sans MS"/>
                </a:rPr>
                <a:t>LOS PRODUCTOS QUE ENTREG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Comic Sans MS"/>
                </a:rPr>
                <a:t>LA GERENCIA DE EJECUCIÓN DEL PROYECT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76400" y="3929040"/>
              <a:ext cx="641160" cy="1936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380880" y="4253040"/>
              <a:ext cx="8668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2"/>
            <a:stretch/>
          </p:blipFill>
          <p:spPr>
            <a:xfrm>
              <a:off x="1397160" y="4253040"/>
              <a:ext cx="1041120" cy="9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3" name=""/>
          <p:cNvGrpSpPr/>
          <p:nvPr/>
        </p:nvGrpSpPr>
        <p:grpSpPr>
          <a:xfrm>
            <a:off x="595440" y="2700360"/>
            <a:ext cx="8310240" cy="1155600"/>
            <a:chOff x="595440" y="2700360"/>
            <a:chExt cx="8310240" cy="1155600"/>
          </a:xfrm>
        </p:grpSpPr>
        <p:sp>
          <p:nvSpPr>
            <p:cNvPr id="304" name=""/>
            <p:cNvSpPr/>
            <p:nvPr/>
          </p:nvSpPr>
          <p:spPr>
            <a:xfrm>
              <a:off x="2641680" y="2895480"/>
              <a:ext cx="2071440" cy="928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40458c"/>
                  </a:solidFill>
                  <a:latin typeface="Comic Sans MS"/>
                </a:rPr>
                <a:t>PROPÓSIT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4866480" y="2941560"/>
              <a:ext cx="4038840" cy="9144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Comic Sans MS"/>
                </a:rPr>
                <a:t>EFECTO DIRECTO U OBJETIVO CENTRAL DEL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Comic Sans MS"/>
                </a:rPr>
                <a:t>PROYECTO, EL QUE RESUELVE EL PROBLEMA.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Comic Sans MS"/>
                </a:rPr>
                <a:t>ES EL RESULTADO DE UTILIZAR LO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Comic Sans MS"/>
                </a:rPr>
                <a:t>COMPONENTES DEL PROYECT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aphicFrame>
          <p:nvGraphicFramePr>
            <p:cNvPr id="306" name=""/>
            <p:cNvGraphicFramePr/>
            <p:nvPr/>
          </p:nvGraphicFramePr>
          <p:xfrm>
            <a:off x="595440" y="2894040"/>
            <a:ext cx="801720" cy="91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5440" y="2894040"/>
                      <a:ext cx="801720" cy="91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08" name=""/>
            <p:cNvGrpSpPr/>
            <p:nvPr/>
          </p:nvGrpSpPr>
          <p:grpSpPr>
            <a:xfrm>
              <a:off x="1450800" y="2700360"/>
              <a:ext cx="870120" cy="1150560"/>
              <a:chOff x="1450800" y="2700360"/>
              <a:chExt cx="870120" cy="1150560"/>
            </a:xfrm>
          </p:grpSpPr>
          <p:pic>
            <p:nvPicPr>
              <p:cNvPr id="30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450800" y="3068280"/>
                <a:ext cx="399600" cy="782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0" name=""/>
              <p:cNvGrpSpPr/>
              <p:nvPr/>
            </p:nvGrpSpPr>
            <p:grpSpPr>
              <a:xfrm>
                <a:off x="1823760" y="2700360"/>
                <a:ext cx="497160" cy="1150560"/>
                <a:chOff x="1823760" y="2700360"/>
                <a:chExt cx="497160" cy="1150560"/>
              </a:xfrm>
            </p:grpSpPr>
            <p:pic>
              <p:nvPicPr>
                <p:cNvPr id="31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823760" y="2700360"/>
                  <a:ext cx="497160" cy="55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"/>
                <p:cNvSpPr/>
                <p:nvPr/>
              </p:nvSpPr>
              <p:spPr>
                <a:xfrm>
                  <a:off x="2072160" y="3206520"/>
                  <a:ext cx="0" cy="6444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3" name=""/>
          <p:cNvGrpSpPr/>
          <p:nvPr/>
        </p:nvGrpSpPr>
        <p:grpSpPr>
          <a:xfrm>
            <a:off x="595440" y="1569960"/>
            <a:ext cx="8310240" cy="1260720"/>
            <a:chOff x="595440" y="1569960"/>
            <a:chExt cx="8310240" cy="1260720"/>
          </a:xfrm>
        </p:grpSpPr>
        <p:sp>
          <p:nvSpPr>
            <p:cNvPr id="314" name=""/>
            <p:cNvSpPr/>
            <p:nvPr/>
          </p:nvSpPr>
          <p:spPr>
            <a:xfrm>
              <a:off x="2641680" y="1569960"/>
              <a:ext cx="2071440" cy="9288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40458c"/>
                  </a:solidFill>
                  <a:latin typeface="Comic Sans MS"/>
                </a:rPr>
                <a:t>FINE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09840" y="2630520"/>
              <a:ext cx="801720" cy="2001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4866480" y="1569960"/>
              <a:ext cx="4038840" cy="9144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Comic Sans MS"/>
                </a:rPr>
                <a:t>LOS IMPACTOS DEL PROYECTO EN EL SECTOR, 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Comic Sans MS"/>
                </a:rPr>
                <a:t>EN EL ENTORNO O EN UN SISTEMA SUPERIOR.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Comic Sans MS"/>
                </a:rPr>
                <a:t>SON LA “CONTRIBUCIÓN DE DESARROLLO”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Comic Sans MS"/>
                </a:rPr>
                <a:t>DEL PROYECT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317" name="" descr=""/>
            <p:cNvPicPr/>
            <p:nvPr/>
          </p:nvPicPr>
          <p:blipFill>
            <a:blip r:embed="rId7"/>
            <a:stretch/>
          </p:blipFill>
          <p:spPr>
            <a:xfrm>
              <a:off x="595440" y="1600200"/>
              <a:ext cx="74916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076400" y="2635200"/>
              <a:ext cx="641160" cy="1936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8"/>
            <a:stretch/>
          </p:blipFill>
          <p:spPr>
            <a:xfrm>
              <a:off x="1504800" y="1600200"/>
              <a:ext cx="747720" cy="85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24280" y="3048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324480" y="3048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5334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324480" y="5334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24280" y="4191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4480" y="4191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3048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24280" y="1905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4480" y="1905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1905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00200" y="5334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00400" y="5334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4191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24280" y="1066680"/>
            <a:ext cx="1371600" cy="6098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24480" y="1066680"/>
            <a:ext cx="1371600" cy="6098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00400" y="1066680"/>
            <a:ext cx="1371600" cy="6098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600200" y="3048120"/>
            <a:ext cx="1371600" cy="914400"/>
            <a:chOff x="1600200" y="3048120"/>
            <a:chExt cx="1371600" cy="914400"/>
          </a:xfrm>
        </p:grpSpPr>
        <p:sp>
          <p:nvSpPr>
            <p:cNvPr id="338" name=""/>
            <p:cNvSpPr/>
            <p:nvPr/>
          </p:nvSpPr>
          <p:spPr>
            <a:xfrm>
              <a:off x="1600200" y="3048120"/>
              <a:ext cx="1371600" cy="9144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662840" y="3110040"/>
              <a:ext cx="1015920" cy="337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Propósi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841480" y="233280"/>
            <a:ext cx="38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Comic Sans MS"/>
              </a:rPr>
              <a:t>Tenga claros los objetiv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00200" y="1066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Nivel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Objetiv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7315200" y="3200400"/>
            <a:ext cx="1566720" cy="175248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1600200" y="1905120"/>
            <a:ext cx="1371600" cy="914400"/>
            <a:chOff x="1600200" y="1905120"/>
            <a:chExt cx="1371600" cy="914400"/>
          </a:xfrm>
        </p:grpSpPr>
        <p:sp>
          <p:nvSpPr>
            <p:cNvPr id="344" name=""/>
            <p:cNvSpPr/>
            <p:nvPr/>
          </p:nvSpPr>
          <p:spPr>
            <a:xfrm>
              <a:off x="1600200" y="1905120"/>
              <a:ext cx="1371600" cy="9144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63200" y="1967040"/>
              <a:ext cx="642600" cy="337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Fine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600200" y="4191120"/>
            <a:ext cx="1371600" cy="914400"/>
            <a:chOff x="1600200" y="4191120"/>
            <a:chExt cx="1371600" cy="914400"/>
          </a:xfrm>
        </p:grpSpPr>
        <p:sp>
          <p:nvSpPr>
            <p:cNvPr id="347" name=""/>
            <p:cNvSpPr/>
            <p:nvPr/>
          </p:nvSpPr>
          <p:spPr>
            <a:xfrm>
              <a:off x="1600200" y="4191120"/>
              <a:ext cx="1371600" cy="9144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02720" y="4267080"/>
              <a:ext cx="1364760" cy="8240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Componente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(Productos)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370320" y="2666880"/>
            <a:ext cx="372708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ara qué es el proyec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63480" y="4419720"/>
            <a:ext cx="38566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Lo que se debe entreg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1828800"/>
            <a:ext cx="228600" cy="2209680"/>
          </a:xfrm>
          <a:custGeom>
            <a:avLst/>
            <a:gdLst>
              <a:gd name="textAreaLeft" fmla="*/ 0 w 228600"/>
              <a:gd name="textAreaRight" fmla="*/ 82440 w 2286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411480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6T23:34:55Z</dcterms:created>
  <dc:creator>Héctor Sanín - Modificado por Eduardo Contreras</dc:creator>
  <dc:description/>
  <dc:language>en-US</dc:language>
  <cp:lastModifiedBy>alumnodii</cp:lastModifiedBy>
  <dcterms:modified xsi:type="dcterms:W3CDTF">2009-04-22T22:23:30Z</dcterms:modified>
  <cp:revision>91</cp:revision>
  <dc:subject/>
  <dc:title>Presentación de PowerPoint</dc:title>
</cp:coreProperties>
</file>