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LATIGO.WAV" ContentType="audio/x-wav"/>
  <Override PartName="/ppt/media/image11.wmf" ContentType="image/x-wmf"/>
  <Override PartName="/ppt/media/image6.wmf" ContentType="image/x-wmf"/>
  <Override PartName="/ppt/media/FRENADA.WAV" ContentType="audio/x-wav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4257-3B09-418C-B78B-47B74ADF80F4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913C-25E7-4DCE-9273-5CB67C35C0EE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CB6-6BE0-4F4F-967F-59E1ABD878DF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D1C3-FADD-4DA2-9214-624B55225A0B}" type="slidenum">
              <a:rPr b="0" lang="es-CO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FB6D-3D0E-4C99-A188-FA253B0C0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D546-04EF-498E-99EF-7D458EB7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A4D6-4E25-4E4C-8A4B-728B722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D7AB-7CEA-4A39-B1C1-D872F2F68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C0CD5-7636-4942-9AA1-E81155A1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DDB18-CF60-4AF1-99F2-37EF6ED1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250D5-651A-49DF-A24B-AC99006C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DB804-7BF2-4CD9-8BF4-EBB80081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3110F-FC7F-4DC4-80F7-C2A81E1C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AE4C2-D8B2-458A-BE5D-B2600910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550F-4523-46FF-8539-59E3796E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6AAD-E3D5-448B-A84C-0303D925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ECBA7-F9FD-4596-8903-B255294E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A081A-7218-4682-825E-B4B2C404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C14E20-BAFF-4E58-A914-BE3E4E0F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9149D-0AA1-4AC2-8F30-76F6F25F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B0ABE-E661-491C-92E5-7392F364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CC077-B3B9-4995-9BDC-E7C91F46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5D3B-2867-45F0-A184-9DEF3E6D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94D4-17EA-4439-82A4-8484AAB3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2EFFA-1E18-4F92-A1A4-4D515F46F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4FE42-7A6E-4EF0-91DD-EFB3FCD0B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8F7C2-0C8A-4BBD-8BE8-F1E3359B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3A13-651A-4F20-BDBE-4D224772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A4A5-0895-42B1-A2A4-863E2D4B3D1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3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8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3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3A11-8FDC-4041-B9AA-AB9373DEFE61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FRENAD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90720" y="1773000"/>
            <a:ext cx="640080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ódulo Gestión de Proyect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ofesor Eduardo Contrera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2521080" cy="9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6" name=""/>
          <p:cNvGraphicFramePr/>
          <p:nvPr/>
        </p:nvGraphicFramePr>
        <p:xfrm>
          <a:off x="7236000" y="260280"/>
          <a:ext cx="1056960" cy="97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6000" y="260280"/>
                    <a:ext cx="10569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1187280" y="5445000"/>
            <a:ext cx="583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Diplomado de Preparación y Evaluación Social de Proyec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458c"/>
                </a:solidFill>
                <a:latin typeface="Tahoma"/>
              </a:rPr>
              <a:t>Ministerio de Planificación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Héctor Sanín - Consultor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Defin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56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1295280" y="914400"/>
            <a:ext cx="1447920" cy="129384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icia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914400"/>
            <a:ext cx="1447920" cy="1295280"/>
          </a:xfrm>
          <a:prstGeom prst="ellipse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tu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3733920" y="1219320"/>
            <a:ext cx="1679400" cy="647640"/>
            <a:chOff x="3733920" y="1219320"/>
            <a:chExt cx="1679400" cy="647640"/>
          </a:xfrm>
        </p:grpSpPr>
        <p:sp>
          <p:nvSpPr>
            <p:cNvPr id="375" name=""/>
            <p:cNvSpPr/>
            <p:nvPr/>
          </p:nvSpPr>
          <p:spPr>
            <a:xfrm>
              <a:off x="3733920" y="1219320"/>
              <a:ext cx="1679400" cy="647640"/>
            </a:xfrm>
            <a:prstGeom prst="rightArrow">
              <a:avLst>
                <a:gd name="adj1" fmla="val 50000"/>
                <a:gd name="adj2" fmla="val 64828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2600" y="1390680"/>
              <a:ext cx="146016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YEC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20760" y="2514600"/>
            <a:ext cx="1651320" cy="398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87840" y="2438280"/>
            <a:ext cx="3100680" cy="703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PÓSITO =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PROBLEMA RESUEL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228600" y="4114800"/>
            <a:ext cx="4114800" cy="838080"/>
            <a:chOff x="228600" y="4114800"/>
            <a:chExt cx="4114800" cy="838080"/>
          </a:xfrm>
        </p:grpSpPr>
        <p:sp>
          <p:nvSpPr>
            <p:cNvPr id="380" name=""/>
            <p:cNvSpPr/>
            <p:nvPr/>
          </p:nvSpPr>
          <p:spPr>
            <a:xfrm>
              <a:off x="3740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in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8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00600" y="4114800"/>
            <a:ext cx="4114800" cy="838080"/>
            <a:chOff x="4800600" y="4114800"/>
            <a:chExt cx="4114800" cy="838080"/>
          </a:xfrm>
        </p:grpSpPr>
        <p:sp>
          <p:nvSpPr>
            <p:cNvPr id="383" name=""/>
            <p:cNvSpPr/>
            <p:nvPr/>
          </p:nvSpPr>
          <p:spPr>
            <a:xfrm>
              <a:off x="5280840" y="4114800"/>
              <a:ext cx="355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Sistema de transpor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Comic Sans MS"/>
                </a:rPr>
                <a:t>público eficiente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00600" y="4114800"/>
              <a:ext cx="4114800" cy="838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419720" y="3962520"/>
            <a:ext cx="30456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1880" y="5334120"/>
            <a:ext cx="8274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Tahoma"/>
              </a:rPr>
              <a:t>Si no mido el objetivo, no sabré si lo estoy logrand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Mida el obje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8286840" y="211680"/>
            <a:ext cx="615960" cy="601200"/>
            <a:chOff x="8286840" y="211680"/>
            <a:chExt cx="615960" cy="601200"/>
          </a:xfrm>
        </p:grpSpPr>
        <p:sp>
          <p:nvSpPr>
            <p:cNvPr id="390" name=""/>
            <p:cNvSpPr/>
            <p:nvPr/>
          </p:nvSpPr>
          <p:spPr>
            <a:xfrm rot="2700000">
              <a:off x="8549640" y="230760"/>
              <a:ext cx="88920" cy="84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2700000">
              <a:off x="8467560" y="31068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2700000">
              <a:off x="838620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2700000">
              <a:off x="8632440" y="310680"/>
              <a:ext cx="88920" cy="824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700000">
              <a:off x="8550000" y="388800"/>
              <a:ext cx="8856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2700000">
              <a:off x="8466480" y="471960"/>
              <a:ext cx="88920" cy="81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2700000">
              <a:off x="87991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2700000">
              <a:off x="8717760" y="3877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2700000">
              <a:off x="838620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700000">
              <a:off x="8302320" y="470880"/>
              <a:ext cx="87480" cy="81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2700000">
              <a:off x="8550000" y="710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700000">
              <a:off x="8632440" y="629640"/>
              <a:ext cx="88920" cy="82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2700000">
              <a:off x="8467560" y="629640"/>
              <a:ext cx="88920" cy="82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2700000">
              <a:off x="8550000" y="549000"/>
              <a:ext cx="88920" cy="85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2700000">
              <a:off x="8631720" y="471960"/>
              <a:ext cx="88920" cy="8100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2700000">
              <a:off x="8717760" y="547920"/>
              <a:ext cx="87120" cy="8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735120" y="914400"/>
            <a:ext cx="7166880" cy="2895120"/>
            <a:chOff x="735120" y="914400"/>
            <a:chExt cx="7166880" cy="2895120"/>
          </a:xfrm>
        </p:grpSpPr>
        <p:sp>
          <p:nvSpPr>
            <p:cNvPr id="407" name=""/>
            <p:cNvSpPr/>
            <p:nvPr/>
          </p:nvSpPr>
          <p:spPr>
            <a:xfrm>
              <a:off x="1638000" y="914400"/>
              <a:ext cx="1225440" cy="117036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icial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59440" y="914400"/>
              <a:ext cx="1225440" cy="1171800"/>
            </a:xfrm>
            <a:prstGeom prst="ellipse">
              <a:avLst/>
            </a:prstGeom>
            <a:solidFill>
              <a:srgbClr val="cc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Situación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Objetiv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702240" y="1190160"/>
              <a:ext cx="1421280" cy="585720"/>
              <a:chOff x="3702240" y="1190160"/>
              <a:chExt cx="1421280" cy="585720"/>
            </a:xfrm>
          </p:grpSpPr>
          <p:sp>
            <p:nvSpPr>
              <p:cNvPr id="410" name=""/>
              <p:cNvSpPr/>
              <p:nvPr/>
            </p:nvSpPr>
            <p:spPr>
              <a:xfrm>
                <a:off x="3702240" y="1190160"/>
                <a:ext cx="1421280" cy="585720"/>
              </a:xfrm>
              <a:prstGeom prst="rightArrow">
                <a:avLst>
                  <a:gd name="adj1" fmla="val 50000"/>
                  <a:gd name="adj2" fmla="val 60664"/>
                </a:avLst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no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13400" y="1342800"/>
                <a:ext cx="1312560" cy="32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080" rIns="82080" tIns="41040" bIns="41040" anchor="ctr">
                <a:spAutoFit/>
              </a:bodyPr>
              <a:p>
                <a:pPr algn="ctr"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Times New Roman"/>
                  </a:rPr>
                  <a:t>PROYECTO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12" name=""/>
            <p:cNvSpPr/>
            <p:nvPr/>
          </p:nvSpPr>
          <p:spPr>
            <a:xfrm>
              <a:off x="1575000" y="2247120"/>
              <a:ext cx="1501920" cy="368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98320" y="2179440"/>
              <a:ext cx="2803680" cy="6426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PÓSITO =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Times New Roman"/>
                </a:rPr>
                <a:t>PROBLEMA RESUELTO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735120" y="2913480"/>
              <a:ext cx="3483000" cy="758520"/>
              <a:chOff x="735120" y="2913480"/>
              <a:chExt cx="3483000" cy="758520"/>
            </a:xfrm>
          </p:grpSpPr>
          <p:sp>
            <p:nvSpPr>
              <p:cNvPr id="415" name=""/>
              <p:cNvSpPr/>
              <p:nvPr/>
            </p:nvSpPr>
            <p:spPr>
              <a:xfrm>
                <a:off x="100512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in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35120" y="2913480"/>
                <a:ext cx="348300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605120" y="2913480"/>
              <a:ext cx="3289320" cy="758520"/>
              <a:chOff x="4605120" y="2913480"/>
              <a:chExt cx="3289320" cy="758520"/>
            </a:xfrm>
          </p:grpSpPr>
          <p:sp>
            <p:nvSpPr>
              <p:cNvPr id="418" name=""/>
              <p:cNvSpPr/>
              <p:nvPr/>
            </p:nvSpPr>
            <p:spPr>
              <a:xfrm>
                <a:off x="5052960" y="2983680"/>
                <a:ext cx="2719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Sistema de transpor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Comic Sans MS"/>
                  </a:rPr>
                  <a:t>público eficiente</a:t>
                </a:r>
                <a:endParaRPr b="0" lang="en-US" sz="18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605120" y="2913480"/>
                <a:ext cx="3289320" cy="758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4282560" y="2775600"/>
              <a:ext cx="193320" cy="10339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179240" y="4267080"/>
            <a:ext cx="437184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 desplazamient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 los usuarios del sistema de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ransporte  público disminuido en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un 58%,pasando de 120 a 50 minuto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al final del cuarto año”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9720" y="3733920"/>
            <a:ext cx="25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ndicador met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154520" y="45720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ínea de b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51840" y="5791320"/>
            <a:ext cx="21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Tiempo medio d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Comic Sans MS"/>
              </a:rPr>
              <a:t>desplazamien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61440" y="5867280"/>
            <a:ext cx="204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12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51760" y="58672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50 minut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48320" y="5638680"/>
            <a:ext cx="152280" cy="838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2. El buen gerente de proyecto tiene claro: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O sea, l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800" spc="-1" strike="noStrike">
                <a:solidFill>
                  <a:srgbClr val="40458c"/>
                </a:solidFill>
                <a:latin typeface="Tahoma"/>
              </a:rPr>
              <a:t>productos</a:t>
            </a:r>
            <a:r>
              <a:rPr b="1" lang="es-ES_tradnl" sz="5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000" spc="-1" strike="noStrike">
                <a:solidFill>
                  <a:srgbClr val="40458c"/>
                </a:solidFill>
                <a:latin typeface="Tahoma"/>
              </a:rPr>
              <a:t>resultantes de la ejecución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90720" y="3581280"/>
            <a:ext cx="1071360" cy="1068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391520" y="3429000"/>
            <a:ext cx="12189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824040" y="609480"/>
            <a:ext cx="74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INDICADORES de COMPONENTES (PRODUCTOS 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772400" y="3276720"/>
            <a:ext cx="977760" cy="8190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7661160" y="4343400"/>
            <a:ext cx="1177920" cy="86832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6006960" y="583236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1. Diseñado un nuevo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 rutas de transporte urban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808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2. Reconstruidas las vías de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nuevo sistema de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3. Asignado el parqu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automotor para las rut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808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4. Educada la ciudadanía par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el funcionamiento del sistema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808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COMPONENT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1600200"/>
            <a:ext cx="3200400" cy="5335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458c"/>
                </a:solidFill>
                <a:latin typeface="Tahoma"/>
              </a:rPr>
              <a:t>INDICADO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191120" y="22860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Sistema nuevo convenido con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los involucrados y reglamento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probado al final del año 1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91120" y="327672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Reconstruidos 20 Km. de vía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con las especificaciones exigidas,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91120" y="4267080"/>
            <a:ext cx="3200400" cy="8384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signados 200 automotores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articulados con capacidad de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ahoma"/>
              </a:rPr>
              <a:t>120 personas, al final del año 2.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91120" y="5257800"/>
            <a:ext cx="320040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El 90% de la ciudadanía está enterad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del nuevo sistema y el 75% está apto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40458c"/>
                </a:solidFill>
                <a:latin typeface="Tahoma"/>
              </a:rPr>
              <a:t>para utilizarlo al final del año  2.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38098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Comic Sans MS"/>
              </a:rPr>
              <a:t>Relaciónese con los involucrad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172200" y="1752480"/>
            <a:ext cx="2286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Mapa de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¿Quiénes son </a:t>
            </a:r>
            <a:r>
              <a:rPr b="1" lang="es-ES_tradnl" sz="2800" spc="-1" strike="noStrike">
                <a:solidFill>
                  <a:srgbClr val="b2b2b2"/>
                </a:solidFill>
                <a:latin typeface="Comic Sans MS"/>
              </a:rPr>
              <a:t>INVOLUCRADOS</a:t>
            </a: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Personas, instituciones o grupos social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afectados por 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se mueven en el entorno del proble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 que pueden participar en la solu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4"/>
          <a:stretch/>
        </p:blipFill>
        <p:spPr>
          <a:xfrm>
            <a:off x="914400" y="225360"/>
            <a:ext cx="174636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1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01000" cy="7621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Comic Sans MS"/>
              </a:rPr>
              <a:t>Participación de los involucrado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Con base en el mapa de involucrados el equipo de proyecto diseña y aplica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estrategias participativas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 que e abran espacio sociopolítico al proyecto y propicien la intervención efectiva y el compromiso de los involucrados con la ejecución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934320" y="4876920"/>
            <a:ext cx="182880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5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660066"/>
                </a:solidFill>
                <a:latin typeface="Tahoma"/>
              </a:rPr>
              <a:t>Pasos para análisis y gestión de rela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Mapa de involucrad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2. Diseño de estrategias participativ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40458c"/>
                </a:solidFill>
                <a:latin typeface="Tahoma"/>
              </a:rPr>
              <a:t> Realización de las estrategi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257800" y="914400"/>
            <a:ext cx="35812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752480" y="31240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Cáma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l libr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Entid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inanciera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00600" y="1523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Organismo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regula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solidFill>
            <a:srgbClr val="ff33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inister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4343400"/>
            <a:ext cx="914400" cy="838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veed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048120" y="1752480"/>
            <a:ext cx="914400" cy="83844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1828800"/>
            <a:ext cx="914400" cy="83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Administrador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docente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cultad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de Educación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2666880" y="403848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32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1.1 Identificación de involucrad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1676520" y="1905120"/>
            <a:ext cx="914400" cy="838080"/>
            <a:chOff x="1676520" y="1905120"/>
            <a:chExt cx="914400" cy="838080"/>
          </a:xfrm>
        </p:grpSpPr>
        <p:sp>
          <p:nvSpPr>
            <p:cNvPr id="485" name=""/>
            <p:cNvSpPr/>
            <p:nvPr/>
          </p:nvSpPr>
          <p:spPr>
            <a:xfrm>
              <a:off x="1676520" y="1905120"/>
              <a:ext cx="914400" cy="838080"/>
            </a:xfrm>
            <a:prstGeom prst="ellipse">
              <a:avLst/>
            </a:prstGeom>
            <a:solidFill>
              <a:srgbClr val="ff3399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10360" y="2233440"/>
              <a:ext cx="813240" cy="2462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40458c"/>
                  </a:solidFill>
                  <a:latin typeface="Times New Roman"/>
                </a:rPr>
                <a:t>Estudiantes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4829760" y="17892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01040" y="1905120"/>
            <a:ext cx="8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404960" y="548640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40458c"/>
                </a:solidFill>
                <a:latin typeface="Times New Roman"/>
              </a:rPr>
              <a:t>Municipi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230760" y="4419720"/>
            <a:ext cx="8769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Apreciación de la importancia que el involucrado le atribuye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al área de interés considerada.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b2b2b2"/>
                </a:solidFill>
                <a:latin typeface="Times New Roman"/>
              </a:rPr>
              <a:t>Positiva (+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el involucrado percibe beneficios por parte d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3300"/>
                </a:solidFill>
                <a:latin typeface="Times New Roman"/>
              </a:rPr>
              <a:t>Negativa (-)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 si se percibe que el proyecto traslada costos o lesiona intereses 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r>
              <a:rPr b="0" lang="es-ES_tradnl" sz="2200" spc="-1" strike="noStrike">
                <a:solidFill>
                  <a:srgbClr val="40458c"/>
                </a:solidFill>
                <a:latin typeface="Times New Roman"/>
              </a:rPr>
              <a:t>: Capacidad de influir de alguna forma en el proyecto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049400" y="10810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206720" y="1081080"/>
            <a:ext cx="1722960" cy="4597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Expectativ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49400" y="16146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049400" y="21477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049400" y="268128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049400" y="321480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049400" y="3747960"/>
            <a:ext cx="1981080" cy="45720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73160" y="16765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74600" y="22096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973160" y="274320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73160" y="327672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60200" y="3824280"/>
            <a:ext cx="282960" cy="33732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505320" y="10666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974400" y="1066680"/>
            <a:ext cx="1095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505320" y="16002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21337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05320" y="266688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05320" y="320040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05320" y="3733920"/>
            <a:ext cx="198108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428720" y="16621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430520" y="219564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428720" y="272880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428720" y="326232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416120" y="3809880"/>
            <a:ext cx="2829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943600" y="10666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79760" y="1066680"/>
            <a:ext cx="1570680" cy="459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Resultant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16002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943600" y="21337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266688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43600" y="320040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43600" y="3733920"/>
            <a:ext cx="1981080" cy="457200"/>
          </a:xfrm>
          <a:prstGeom prst="rect">
            <a:avLst/>
          </a:prstGeom>
          <a:solidFill>
            <a:srgbClr val="66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16240" y="166212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25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17680" y="2195640"/>
            <a:ext cx="38484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67360" y="272880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67360" y="326232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54760" y="3809880"/>
            <a:ext cx="282960" cy="3373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5520" y="16765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5520" y="2209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125520" y="27432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125520" y="327672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25520" y="38098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564520" y="16765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564520" y="22096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564520" y="274320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4520" y="327672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64520" y="3809880"/>
            <a:ext cx="302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08240" y="114300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46160" y="114300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6618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3333cc"/>
                </a:solidFill>
                <a:latin typeface="Tahoma"/>
              </a:rPr>
              <a:t>Gestión de Proyectos</a:t>
            </a:r>
            <a:br>
              <a:rPr sz="8000"/>
            </a:br>
            <a:br>
              <a:rPr sz="8000"/>
            </a:b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Profesor: Eduardo Contreras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Presentación adaptada de curso de Héctor Sanín – Gerencial  Ltda. - Ilpes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br>
              <a:rPr sz="80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63600" y="682560"/>
            <a:ext cx="1922400" cy="5508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Expectativ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0880" y="1295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43200" y="685800"/>
            <a:ext cx="198108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Fuerz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743200" y="1295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181480" y="685800"/>
            <a:ext cx="19814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Resulta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81480" y="1295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801680" y="1219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46120" y="787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238880" y="1295280"/>
            <a:ext cx="1676520" cy="1371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Favoreced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Adept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238880" y="2895480"/>
            <a:ext cx="167652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Indifer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Neutro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238880" y="4495680"/>
            <a:ext cx="1676520" cy="1371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Opositor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58c"/>
                </a:solidFill>
                <a:latin typeface="Tahoma"/>
              </a:rPr>
              <a:t>(Obstaculizadores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238880" y="685800"/>
            <a:ext cx="167652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si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40458c"/>
                </a:solidFill>
                <a:latin typeface="Tahoma"/>
              </a:rPr>
              <a:t>Potenci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80880" y="16765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0880" y="20574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16765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43200" y="20574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181480" y="16765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181480" y="20574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2438280"/>
            <a:ext cx="1922760" cy="2430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2438280"/>
            <a:ext cx="1981080" cy="25092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181480" y="2438280"/>
            <a:ext cx="198144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80880" y="2895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43200" y="2895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2895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63760" y="2895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1680" y="2819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80880" y="32767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0880" y="36576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32767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43200" y="36576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81480" y="32767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181480" y="36576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038480"/>
            <a:ext cx="1922760" cy="2430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743200" y="4038480"/>
            <a:ext cx="1981080" cy="25092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4038480"/>
            <a:ext cx="1981440" cy="2286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8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880" y="4495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4495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181480" y="4495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9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363760" y="4495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801680" y="4419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487692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80880" y="5257800"/>
            <a:ext cx="190512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743200" y="487692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743200" y="5257800"/>
            <a:ext cx="198108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181480" y="487692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181480" y="5257800"/>
            <a:ext cx="1981440" cy="228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80880" y="5638680"/>
            <a:ext cx="1922760" cy="2430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43200" y="5638680"/>
            <a:ext cx="1981080" cy="25092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181480" y="5638680"/>
            <a:ext cx="1981440" cy="228600"/>
          </a:xfrm>
          <a:prstGeom prst="rect">
            <a:avLst/>
          </a:prstGeom>
          <a:solidFill>
            <a:srgbClr val="ffcc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-25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363760" y="1295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3760" y="24382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63760" y="40384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363760" y="5638680"/>
            <a:ext cx="289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*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801680" y="23623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01680" y="39625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01680" y="55627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4920" y="3581280"/>
            <a:ext cx="69339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026400" y="3429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40458c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801680" y="762120"/>
            <a:ext cx="304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40458c"/>
                </a:solidFill>
                <a:latin typeface="Times New Roman"/>
              </a:rPr>
              <a:t>=</a:t>
            </a:r>
            <a:endParaRPr b="0" lang="en-US" sz="17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609480" y="685800"/>
            <a:ext cx="815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1" lang="es-ES_tradnl" sz="2800" spc="-1" strike="noStrike">
                <a:solidFill>
                  <a:srgbClr val="660066"/>
                </a:solidFill>
                <a:latin typeface="Tahoma"/>
              </a:rPr>
              <a:t>1.2 Valoración de expectativas, fuerzas y resultantes</a:t>
            </a:r>
            <a:br>
              <a:rPr sz="2800"/>
            </a:b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455760" y="2971800"/>
            <a:ext cx="8686080" cy="2329560"/>
            <a:chOff x="455760" y="2971800"/>
            <a:chExt cx="8686080" cy="2329560"/>
          </a:xfrm>
        </p:grpSpPr>
        <p:sp>
          <p:nvSpPr>
            <p:cNvPr id="601" name=""/>
            <p:cNvSpPr/>
            <p:nvPr/>
          </p:nvSpPr>
          <p:spPr>
            <a:xfrm>
              <a:off x="5171760" y="3516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71760" y="397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86160" y="3454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086160" y="38815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162400" y="297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076800" y="3025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11240" y="2981160"/>
              <a:ext cx="2286000" cy="3873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85160" y="3000240"/>
              <a:ext cx="828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terés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5760" y="2990880"/>
              <a:ext cx="1379520" cy="37764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98240" y="2987640"/>
              <a:ext cx="1310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volucrado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5760" y="3417840"/>
              <a:ext cx="1379520" cy="865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350480" y="2971800"/>
              <a:ext cx="144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40458c"/>
                  </a:solidFill>
                  <a:latin typeface="Times New Roman"/>
                </a:rPr>
                <a:t>Observacio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11240" y="344484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11240" y="390204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075440" y="297180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342900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989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3320" y="2971800"/>
              <a:ext cx="6858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255920" y="2971800"/>
              <a:ext cx="91440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65720" y="2971800"/>
              <a:ext cx="884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Fuerza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127760" y="30481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1" lang="es-ES_tradnl" sz="1400" spc="-1" strike="noStrike">
                  <a:solidFill>
                    <a:srgbClr val="40458c"/>
                  </a:solidFill>
                  <a:latin typeface="Times New Roman"/>
                </a:rPr>
                <a:t>Expectativa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96400" y="297180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40458c"/>
                  </a:solidFill>
                  <a:latin typeface="Times New Roman"/>
                </a:rPr>
                <a:t>Indice</a:t>
              </a:r>
              <a:endParaRPr b="0" lang="en-US" sz="17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55920" y="342900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55920" y="388620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989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3133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13320" y="388620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398920" y="342900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5440" y="3886200"/>
              <a:ext cx="198108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89000" y="350532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7840" y="3733920"/>
              <a:ext cx="1236960" cy="2764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 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42120" y="3465360"/>
              <a:ext cx="34236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75320" y="346536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13400" y="3465360"/>
              <a:ext cx="4093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59760" y="3922560"/>
              <a:ext cx="3070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57532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426360" y="39225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6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71760" y="45068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171760" y="4964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*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86160" y="4444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86160" y="4871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40458c"/>
                  </a:solidFill>
                  <a:latin typeface="Times New Roman"/>
                </a:rPr>
                <a:t>=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760" y="4408560"/>
              <a:ext cx="1379520" cy="86508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911240" y="4435560"/>
              <a:ext cx="2286000" cy="36504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05120" y="4876920"/>
              <a:ext cx="2286000" cy="387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075440" y="4419720"/>
              <a:ext cx="198108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5920" y="4419720"/>
              <a:ext cx="9144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255920" y="4876920"/>
              <a:ext cx="9144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989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3133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13320" y="4876920"/>
              <a:ext cx="685800" cy="380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98920" y="4419720"/>
              <a:ext cx="685800" cy="38088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075440" y="4876920"/>
              <a:ext cx="1981080" cy="380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9000" y="4495680"/>
              <a:ext cx="17701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. Incrementada cobertur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4280" y="4648320"/>
              <a:ext cx="822240" cy="276480"/>
            </a:xfrm>
            <a:prstGeom prst="rect">
              <a:avLst/>
            </a:prstGeom>
            <a:solidFill>
              <a:srgbClr val="ecd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59760" y="4456080"/>
              <a:ext cx="30708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575320" y="4456080"/>
              <a:ext cx="25704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88200" y="4456080"/>
              <a:ext cx="459720" cy="2764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  </a:t>
              </a: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542120" y="4913280"/>
              <a:ext cx="34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+4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75320" y="4913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505560" y="4952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076520" y="3505320"/>
              <a:ext cx="1983600" cy="24624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Alto interés y apoyo a este objetivo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01280" y="3962520"/>
              <a:ext cx="214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40458c"/>
                  </a:solidFill>
                  <a:latin typeface="Times New Roman"/>
                </a:rPr>
                <a:t>Oposición con capacidad de intervenir</a:t>
              </a:r>
              <a:endParaRPr b="0" lang="en-US" sz="1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72560" y="4419720"/>
              <a:ext cx="2012400" cy="368280"/>
            </a:xfrm>
            <a:prstGeom prst="rect">
              <a:avLst/>
            </a:prstGeom>
            <a:solidFill>
              <a:srgbClr val="6f89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Oposición con alto poder al aumento de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cobertura sin contratar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65720" y="4876920"/>
              <a:ext cx="202644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Hay interés si el incremento del valor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40458c"/>
                  </a:solidFill>
                  <a:latin typeface="Times New Roman"/>
                </a:rPr>
                <a:t>significa contratación de más profesores</a:t>
              </a:r>
              <a:endParaRPr b="0" lang="en-US" sz="9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912680" y="3962520"/>
              <a:ext cx="219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2. Incrementado valor matrícul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657600" y="3124080"/>
            <a:ext cx="1219320" cy="11430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Unidad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Ejecutor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28195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365760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91320" y="4648320"/>
            <a:ext cx="914400" cy="83808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343400" y="51814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19520" y="4952880"/>
            <a:ext cx="914400" cy="83844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4648320" y="2514600"/>
            <a:ext cx="30456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4876560" y="2514600"/>
            <a:ext cx="990360" cy="7621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5105160" y="3505320"/>
            <a:ext cx="6094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495680" y="4419720"/>
            <a:ext cx="152640" cy="6094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580920" y="4343400"/>
            <a:ext cx="30492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2895480" y="4419720"/>
            <a:ext cx="914400" cy="45720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2819160" y="3581280"/>
            <a:ext cx="685800" cy="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 flipV="1">
            <a:off x="2743200" y="2743200"/>
            <a:ext cx="914400" cy="53352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 flipV="1">
            <a:off x="3733560" y="2666520"/>
            <a:ext cx="152280" cy="38124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 flipV="1">
            <a:off x="5105520" y="3962160"/>
            <a:ext cx="1295280" cy="15228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4800600" y="4190760"/>
            <a:ext cx="914400" cy="533160"/>
          </a:xfrm>
          <a:prstGeom prst="line">
            <a:avLst/>
          </a:prstGeom>
          <a:ln w="9360">
            <a:solidFill>
              <a:srgbClr val="40458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 Mapa de relaciones</a:t>
            </a:r>
            <a:br>
              <a:rPr sz="2800"/>
            </a:br>
            <a:r>
              <a:rPr b="0" lang="es-ES_tradnl" sz="2800" spc="-1" strike="noStrike" u="sng">
                <a:solidFill>
                  <a:srgbClr val="660066"/>
                </a:solidFill>
                <a:uFillTx/>
                <a:latin typeface="Tahoma"/>
              </a:rPr>
              <a:t>1.3 Analizar categorías de involucrados por áreas de interés u objetivos (componentes)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4800600" y="1523880"/>
            <a:ext cx="914400" cy="838440"/>
            <a:chOff x="4800600" y="1523880"/>
            <a:chExt cx="914400" cy="838440"/>
          </a:xfrm>
        </p:grpSpPr>
        <p:sp>
          <p:nvSpPr>
            <p:cNvPr id="685" name=""/>
            <p:cNvSpPr/>
            <p:nvPr/>
          </p:nvSpPr>
          <p:spPr>
            <a:xfrm>
              <a:off x="4800600" y="15238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829760" y="1789200"/>
              <a:ext cx="863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rofesor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048120" y="1752480"/>
            <a:ext cx="914400" cy="838440"/>
            <a:chOff x="3048120" y="1752480"/>
            <a:chExt cx="914400" cy="838440"/>
          </a:xfrm>
        </p:grpSpPr>
        <p:sp>
          <p:nvSpPr>
            <p:cNvPr id="688" name=""/>
            <p:cNvSpPr/>
            <p:nvPr/>
          </p:nvSpPr>
          <p:spPr>
            <a:xfrm>
              <a:off x="3048120" y="1752480"/>
              <a:ext cx="914400" cy="838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101040" y="1905120"/>
              <a:ext cx="81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Padres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famili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Times New Roman"/>
                </a:rPr>
                <a:t>+20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 rot="21115200">
            <a:off x="2514600" y="1480680"/>
            <a:ext cx="3581280" cy="1371600"/>
          </a:xfrm>
          <a:prstGeom prst="ellipse">
            <a:avLst/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06560" y="1600200"/>
            <a:ext cx="238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1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la cobertur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52480" y="3200400"/>
            <a:ext cx="914400" cy="838080"/>
            <a:chOff x="1752480" y="3200400"/>
            <a:chExt cx="914400" cy="838080"/>
          </a:xfrm>
        </p:grpSpPr>
        <p:sp>
          <p:nvSpPr>
            <p:cNvPr id="693" name=""/>
            <p:cNvSpPr/>
            <p:nvPr/>
          </p:nvSpPr>
          <p:spPr>
            <a:xfrm>
              <a:off x="1752480" y="3200400"/>
              <a:ext cx="914400" cy="83808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22560" y="3465360"/>
              <a:ext cx="180720" cy="45900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676520" y="4267080"/>
            <a:ext cx="914400" cy="838440"/>
            <a:chOff x="1676520" y="4267080"/>
            <a:chExt cx="914400" cy="838440"/>
          </a:xfrm>
        </p:grpSpPr>
        <p:sp>
          <p:nvSpPr>
            <p:cNvPr id="696" name=""/>
            <p:cNvSpPr/>
            <p:nvPr/>
          </p:nvSpPr>
          <p:spPr>
            <a:xfrm>
              <a:off x="1676520" y="4267080"/>
              <a:ext cx="914400" cy="8384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46240" y="4419720"/>
              <a:ext cx="184320" cy="274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698" name=""/>
          <p:cNvSpPr/>
          <p:nvPr/>
        </p:nvSpPr>
        <p:spPr>
          <a:xfrm>
            <a:off x="1295280" y="2666880"/>
            <a:ext cx="1752840" cy="289584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840" y="5791320"/>
            <a:ext cx="329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2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Incrementar valor de las matrícula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685800" y="4494960"/>
            <a:ext cx="533520" cy="1295640"/>
          </a:xfrm>
          <a:custGeom>
            <a:avLst/>
            <a:gdLst>
              <a:gd name="textAreaLeft" fmla="*/ 71280 w 533520"/>
              <a:gd name="textAreaRight" fmla="*/ 462240 w 533520"/>
              <a:gd name="textAreaTop" fmla="*/ 226440 h 1295640"/>
              <a:gd name="textAreaBottom" fmla="*/ 93924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02520" y="354168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rofesores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755360" y="4343400"/>
            <a:ext cx="76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Padres de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familia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40458c"/>
                </a:solidFill>
                <a:latin typeface="Times New Roman"/>
              </a:rPr>
              <a:t>-16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171480" y="1676520"/>
            <a:ext cx="2286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514600"/>
            <a:ext cx="2438280" cy="3352680"/>
          </a:xfrm>
          <a:prstGeom prst="ellipse">
            <a:avLst/>
          </a:prstGeom>
          <a:noFill/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015320" y="579132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rea de Interés j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7696080" y="4724280"/>
            <a:ext cx="533520" cy="1067040"/>
          </a:xfrm>
          <a:custGeom>
            <a:avLst/>
            <a:gdLst>
              <a:gd name="textAreaLeft" fmla="*/ 71280 w 533520"/>
              <a:gd name="textAreaRight" fmla="*/ 462240 w 533520"/>
              <a:gd name="textAreaTop" fmla="*/ 186840 h 1067040"/>
              <a:gd name="textAreaBottom" fmla="*/ 7740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09480" y="1150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2. Diseño de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estrategia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mbientación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del proyecto y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manejo de las relaciones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6836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1 Estrategias general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ivulgación y promoción para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Comunicar los objetivos d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brirle espacio en la opinión públ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acilitar apoyo y adepción sociopolític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2 Estrategias específicas o focaliz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ocer expectativas de grupos específic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Resolver problemas ligados a expectativ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Generar espacios de conciliación y logro de apoyo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Convenir mecanismos para aplicar soluciones convenida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2.3 Estrategias organizativ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iseñar mecanismos de articulación y de cooper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Definir grupos consultivos, comités interinstitucionales y equipos de seguimiento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6121440" y="1989000"/>
            <a:ext cx="302256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7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3. Definición de un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agenda</a:t>
            </a:r>
            <a:r>
              <a:rPr b="0" lang="es-ES_tradnl" sz="3200" spc="-1" strike="noStrike">
                <a:solidFill>
                  <a:srgbClr val="660066"/>
                </a:solidFill>
                <a:latin typeface="Tahoma"/>
              </a:rPr>
              <a:t> para la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gestión de las relaciones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1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Preparación y programación y ejecución de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ctividades de comunicación por distintas form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uniones, talleres, foros para negoci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uesta en práctica de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Seguimiento a compromi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ahoma"/>
              </a:rPr>
              <a:t>3.2 Responsabil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Designar encargados de manejar las distintas relaciones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alta importancia estratégica en cabeza del Gerente de la U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Las de segundo orden en cabeza de gerentes de component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poyarse en otros recursos político-institucionales para fortalecer la capacidad negociadora: El Ministro, el Líder Comunitario, el Lider polític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8"/>
          <a:stretch/>
        </p:blipFill>
        <p:spPr>
          <a:xfrm>
            <a:off x="6781680" y="1219320"/>
            <a:ext cx="19684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7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7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7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"/>
          <p:cNvGrpSpPr/>
          <p:nvPr/>
        </p:nvGrpSpPr>
        <p:grpSpPr>
          <a:xfrm>
            <a:off x="1371600" y="609480"/>
            <a:ext cx="6477120" cy="5791320"/>
            <a:chOff x="1371600" y="609480"/>
            <a:chExt cx="6477120" cy="5791320"/>
          </a:xfrm>
        </p:grpSpPr>
        <p:sp>
          <p:nvSpPr>
            <p:cNvPr id="714" name=""/>
            <p:cNvSpPr/>
            <p:nvPr/>
          </p:nvSpPr>
          <p:spPr>
            <a:xfrm>
              <a:off x="5334120" y="114300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276720" y="60948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Identificación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34120" y="1981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ffcccc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276720" y="144792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preciación - valoració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34120" y="281952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6f89f7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76720" y="2286000"/>
              <a:ext cx="4572000" cy="4572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Análisis de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276720" y="312408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general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76720" y="396252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focalizad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276720" y="4800600"/>
              <a:ext cx="4572000" cy="457200"/>
            </a:xfrm>
            <a:prstGeom prst="rect">
              <a:avLst/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Estrategias organizativa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1600" y="12952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Mapa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Involucrad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371600" y="3809880"/>
              <a:ext cx="1295280" cy="838440"/>
            </a:xfrm>
            <a:prstGeom prst="bevel">
              <a:avLst>
                <a:gd name="adj" fmla="val 12500"/>
              </a:avLst>
            </a:prstGeom>
            <a:solidFill>
              <a:srgbClr val="6f89f7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iseño 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371600" y="5562720"/>
              <a:ext cx="1295280" cy="838080"/>
            </a:xfrm>
            <a:prstGeom prst="bevel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jecu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d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40458c"/>
                  </a:solidFill>
                  <a:latin typeface="Tahoma"/>
                </a:rPr>
                <a:t>Estrategia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819520" y="6094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819520" y="3124080"/>
              <a:ext cx="304560" cy="213372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819520" y="5562720"/>
              <a:ext cx="304560" cy="7617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276720" y="5715000"/>
              <a:ext cx="4572000" cy="457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40458c"/>
                  </a:solidFill>
                  <a:latin typeface="Tahoma"/>
                </a:rPr>
                <a:t>Gestión de relaciones con los involucrado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334120" y="5410080"/>
              <a:ext cx="498240" cy="228600"/>
            </a:xfrm>
            <a:prstGeom prst="downArrow">
              <a:avLst>
                <a:gd name="adj1" fmla="val 75009"/>
                <a:gd name="adj2" fmla="val 50005"/>
              </a:avLst>
            </a:prstGeom>
            <a:solidFill>
              <a:srgbClr val="ccec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731" name=""/>
            <p:cNvCxnSpPr>
              <a:stCxn id="720" idx="2"/>
              <a:endCxn id="721" idx="0"/>
            </p:cNvCxnSpPr>
            <p:nvPr/>
          </p:nvCxnSpPr>
          <p:spPr>
            <a:xfrm flipV="1" rot="10800000">
              <a:off x="5562000" y="3580920"/>
              <a:ext cx="1080" cy="38196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732" name=""/>
            <p:cNvCxnSpPr>
              <a:stCxn id="721" idx="2"/>
              <a:endCxn id="722" idx="0"/>
            </p:cNvCxnSpPr>
            <p:nvPr/>
          </p:nvCxnSpPr>
          <p:spPr>
            <a:xfrm flipV="1" rot="10800000">
              <a:off x="5562000" y="4419360"/>
              <a:ext cx="1080" cy="381600"/>
            </a:xfrm>
            <a:prstGeom prst="bentConnector2">
              <a:avLst/>
            </a:prstGeom>
            <a:ln w="9360">
              <a:solidFill>
                <a:srgbClr val="40458c"/>
              </a:solidFill>
              <a:miter/>
            </a:ln>
          </p:spPr>
        </p:cxnSp>
      </p:grp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09480" y="1295280"/>
            <a:ext cx="807732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40458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Organice la Unidad Ejecutora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40458c"/>
                </a:solidFill>
                <a:latin typeface="Comic Sans MS"/>
              </a:rPr>
              <a:t>y sus relaciones</a:t>
            </a:r>
            <a:endParaRPr b="0" lang="en-US" sz="4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838080" y="4495680"/>
            <a:ext cx="1702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Pasos para el diseño de la </a:t>
            </a:r>
            <a:br>
              <a:rPr sz="3600"/>
            </a:b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Organización del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1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Identificar el trabajo a realizar       </a:t>
            </a:r>
            <a:r>
              <a:rPr b="0" lang="es-ES_tradnl" sz="2600" spc="-1" strike="noStrike">
                <a:solidFill>
                  <a:srgbClr val="40458c"/>
                </a:solidFill>
                <a:latin typeface="Tahoma"/>
              </a:rPr>
              <a:t>(Componentes y Actividades del ML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2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Ajustar la Estructura Analítica del Proyec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3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responsabilidades, delegaciones y autorizaciones (“empowerment”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4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Establecer relaciones entre grupos de trabaj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5.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40458c"/>
                </a:solidFill>
                <a:latin typeface="Tahoma"/>
              </a:rPr>
              <a:t>Definir inserción instituciona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228600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47242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2448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324480" y="5105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2428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24480" y="3962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600200" y="2819520"/>
            <a:ext cx="137160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00400" y="2819520"/>
            <a:ext cx="1371600" cy="914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1600200" y="1676520"/>
            <a:ext cx="6095880" cy="914400"/>
            <a:chOff x="1600200" y="1676520"/>
            <a:chExt cx="6095880" cy="914400"/>
          </a:xfrm>
        </p:grpSpPr>
        <p:sp>
          <p:nvSpPr>
            <p:cNvPr id="751" name=""/>
            <p:cNvSpPr/>
            <p:nvPr/>
          </p:nvSpPr>
          <p:spPr>
            <a:xfrm>
              <a:off x="47242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32448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6002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200400" y="1676520"/>
              <a:ext cx="1371600" cy="91440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6002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200400" y="5105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6002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3962520"/>
            <a:ext cx="1371600" cy="914400"/>
          </a:xfrm>
          <a:prstGeom prst="rect">
            <a:avLst/>
          </a:prstGeom>
          <a:solidFill>
            <a:srgbClr val="6f89f7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32448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Supues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2004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662120" y="17384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62840" y="288144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Propósi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62480" y="402444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mponent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602720" y="5105520"/>
            <a:ext cx="98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ctiv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912600" y="228600"/>
            <a:ext cx="7739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1. Identificar trabajo: Componentes y Actividades del M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600200" y="1143000"/>
            <a:ext cx="1371600" cy="3049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Concep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1523880" y="6324480"/>
            <a:ext cx="6398640" cy="276480"/>
            <a:chOff x="1523880" y="6324480"/>
            <a:chExt cx="6398640" cy="276480"/>
          </a:xfrm>
        </p:grpSpPr>
        <p:sp>
          <p:nvSpPr>
            <p:cNvPr id="769" name=""/>
            <p:cNvSpPr/>
            <p:nvPr/>
          </p:nvSpPr>
          <p:spPr>
            <a:xfrm>
              <a:off x="1523880" y="6440400"/>
              <a:ext cx="380880" cy="759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95400" y="6324480"/>
              <a:ext cx="227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Ambito de responsabilidad direct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6440400"/>
              <a:ext cx="380880" cy="759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75360" y="6324480"/>
              <a:ext cx="274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40458c"/>
                  </a:solidFill>
                  <a:latin typeface="Times New Roman"/>
                </a:rPr>
                <a:t>Elementos referenciales, bajo observació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523880" y="3886200"/>
            <a:ext cx="4724640" cy="2209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20" y="3897360"/>
            <a:ext cx="1515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REFERENCI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BASICA 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PARA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40458c"/>
                </a:solidFill>
                <a:latin typeface="Times New Roman"/>
              </a:rPr>
              <a:t>ORGANIZACIÓN</a:t>
            </a:r>
            <a:endParaRPr b="0" lang="en-US" sz="13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66680" y="4191120"/>
            <a:ext cx="22860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4567320" y="3041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88288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130720" y="320364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377120" y="320364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882880" y="3203640"/>
            <a:ext cx="168444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567320" y="3203640"/>
            <a:ext cx="563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130720" y="3203640"/>
            <a:ext cx="22464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82880" y="372420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75572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003560" y="3886200"/>
            <a:ext cx="1800" cy="1602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55720" y="3886200"/>
            <a:ext cx="112716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882880" y="3886200"/>
            <a:ext cx="112068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840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20720" y="4046400"/>
            <a:ext cx="2077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03560" y="4405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74176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003560" y="4567320"/>
            <a:ext cx="180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64280" y="4567320"/>
            <a:ext cx="1440" cy="16200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741760" y="4567320"/>
            <a:ext cx="126180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4003560" y="4567320"/>
            <a:ext cx="1260720" cy="1440"/>
          </a:xfrm>
          <a:prstGeom prst="line">
            <a:avLst/>
          </a:prstGeom>
          <a:ln w="14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28240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20032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22600" y="4786200"/>
            <a:ext cx="99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60680" y="4729320"/>
            <a:ext cx="109224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04920" y="4786200"/>
            <a:ext cx="939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tividad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21400" y="4729320"/>
            <a:ext cx="109188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030480" y="4103640"/>
            <a:ext cx="200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MACROACTIVIDAD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967120" y="4046400"/>
            <a:ext cx="20797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09484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4788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34268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2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94280" y="3365640"/>
            <a:ext cx="207936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88720" y="3421080"/>
            <a:ext cx="162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OMPONENTE 3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342120" y="3365640"/>
            <a:ext cx="2077920" cy="3585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18320" y="2738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ROYEC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954600" y="2682720"/>
            <a:ext cx="1231920" cy="358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0066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1486080" y="3029040"/>
            <a:ext cx="175248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67000" y="380880"/>
            <a:ext cx="7315200" cy="1390680"/>
            <a:chOff x="1467000" y="380880"/>
            <a:chExt cx="7315200" cy="1390680"/>
          </a:xfrm>
        </p:grpSpPr>
        <p:sp>
          <p:nvSpPr>
            <p:cNvPr id="223" name=""/>
            <p:cNvSpPr/>
            <p:nvPr/>
          </p:nvSpPr>
          <p:spPr>
            <a:xfrm>
              <a:off x="3219480" y="609480"/>
              <a:ext cx="198108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609480"/>
              <a:ext cx="1752840" cy="83844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5800" y="533520"/>
              <a:ext cx="2666880" cy="1066680"/>
            </a:xfrm>
            <a:prstGeom prst="flowChartAlternate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67000" y="43812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Idea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4400" y="380880"/>
              <a:ext cx="52578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6480" y="1162080"/>
              <a:ext cx="533520" cy="609480"/>
            </a:xfrm>
            <a:prstGeom prst="downArrow">
              <a:avLst>
                <a:gd name="adj1" fmla="val 50000"/>
                <a:gd name="adj2" fmla="val 28559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409760" y="1752480"/>
            <a:ext cx="1752480" cy="1295280"/>
            <a:chOff x="1409760" y="1752480"/>
            <a:chExt cx="1752480" cy="1295280"/>
          </a:xfrm>
        </p:grpSpPr>
        <p:sp>
          <p:nvSpPr>
            <p:cNvPr id="230" name=""/>
            <p:cNvSpPr/>
            <p:nvPr/>
          </p:nvSpPr>
          <p:spPr>
            <a:xfrm>
              <a:off x="1409760" y="1752480"/>
              <a:ext cx="1752480" cy="719280"/>
            </a:xfrm>
            <a:prstGeom prst="flowChartAlternateProcess">
              <a:avLst/>
            </a:prstGeom>
            <a:noFill/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40458c"/>
                  </a:solidFill>
                  <a:latin typeface="Times New Roman"/>
                </a:rPr>
                <a:t>Perfil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14640" y="2457360"/>
              <a:ext cx="533160" cy="590400"/>
            </a:xfrm>
            <a:prstGeom prst="downArrow">
              <a:avLst>
                <a:gd name="adj1" fmla="val 50000"/>
                <a:gd name="adj2" fmla="val 27684"/>
              </a:avLst>
            </a:prstGeom>
            <a:solidFill>
              <a:srgbClr val="a50021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190600" y="38289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42960" y="4438800"/>
            <a:ext cx="1752840" cy="71892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actibilid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308480" y="-68400"/>
            <a:ext cx="41338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Ciclo de vida de u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0458c"/>
                </a:solidFill>
                <a:latin typeface="Times New Roman"/>
              </a:rPr>
              <a:t>Proyecto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19280" y="5695920"/>
            <a:ext cx="1752480" cy="719280"/>
          </a:xfrm>
          <a:prstGeom prst="flowChartAlternateProcess">
            <a:avLst/>
          </a:prstGeom>
          <a:noFill/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o 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jecu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466800" y="5924160"/>
            <a:ext cx="533520" cy="590760"/>
          </a:xfrm>
          <a:prstGeom prst="downArrow">
            <a:avLst>
              <a:gd name="adj1" fmla="val 50000"/>
              <a:gd name="adj2" fmla="val 27682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47840" y="5105520"/>
            <a:ext cx="533520" cy="590400"/>
          </a:xfrm>
          <a:prstGeom prst="downArrow">
            <a:avLst>
              <a:gd name="adj1" fmla="val 50000"/>
              <a:gd name="adj2" fmla="val 27665"/>
            </a:avLst>
          </a:prstGeom>
          <a:solidFill>
            <a:srgbClr val="a50021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99040" y="5987880"/>
            <a:ext cx="1451880" cy="551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Operac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90680" y="5486400"/>
            <a:ext cx="775332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80880" y="4753080"/>
            <a:ext cx="199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ide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57880" y="5514840"/>
            <a:ext cx="235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imes New Roman"/>
              </a:rPr>
              <a:t>Plano de las accion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86240" y="800280"/>
            <a:ext cx="914400" cy="4133520"/>
          </a:xfrm>
          <a:custGeom>
            <a:avLst/>
            <a:gdLst>
              <a:gd name="textAreaLeft" fmla="*/ 0 w 914400"/>
              <a:gd name="textAreaRight" fmla="*/ 330120 w 914400"/>
              <a:gd name="textAreaTop" fmla="*/ 107640 h 4133520"/>
              <a:gd name="textAreaBottom" fmla="*/ 4025880 h 41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613400" y="2540160"/>
            <a:ext cx="17244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re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360" y="5778360"/>
            <a:ext cx="13345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3640" y="4581360"/>
            <a:ext cx="1439640" cy="13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Gestión de 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40458c"/>
                </a:solidFill>
                <a:latin typeface="Times New Roman"/>
              </a:rPr>
              <a:t>Proyectos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987280" y="5661000"/>
            <a:ext cx="647640" cy="36036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71880" y="5867280"/>
            <a:ext cx="40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* Work Breakdown Structure (WBS)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064520" y="533520"/>
            <a:ext cx="7272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2. Ajustar la Estructura Analítica del Proyecto - EAP*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organización interna del proyecto es la conjugación d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sustantiv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Componentes de gestión o de apoy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sustantivos se derivan del M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os componentes de gestión generalmente se aglutinan en un componente adicional denominado “GERENCIA” o “GESTIÓ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57200" y="380880"/>
            <a:ext cx="8077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 Asignar responsabilidad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aso: Construcción Parque Comuna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1600200" y="1828800"/>
            <a:ext cx="5781600" cy="3313080"/>
            <a:chOff x="1600200" y="1828800"/>
            <a:chExt cx="5781600" cy="3313080"/>
          </a:xfrm>
        </p:grpSpPr>
        <p:sp>
          <p:nvSpPr>
            <p:cNvPr id="828" name=""/>
            <p:cNvSpPr/>
            <p:nvPr/>
          </p:nvSpPr>
          <p:spPr>
            <a:xfrm>
              <a:off x="175896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58960" y="396540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58960" y="431316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758960" y="4659480"/>
              <a:ext cx="11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758960" y="5006880"/>
              <a:ext cx="11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75896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5896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5896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10680" y="3876840"/>
              <a:ext cx="747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O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86984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06440" y="4224240"/>
              <a:ext cx="546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QUIP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86984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45520" y="4572000"/>
              <a:ext cx="909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TERIALE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6984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942200" y="4917960"/>
              <a:ext cx="1113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NO DE OBR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869840" y="487692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876680" y="3032280"/>
              <a:ext cx="79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CURS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78120" y="3203640"/>
              <a:ext cx="786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 INSUM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00080" y="3373560"/>
              <a:ext cx="77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Secretaria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60020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19536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9536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9536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19536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19536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195360" y="4313160"/>
              <a:ext cx="180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408840" y="3876840"/>
              <a:ext cx="1041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HACER HOY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0660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53040" y="4224240"/>
              <a:ext cx="1178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TRAER PLANTA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0660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3160" y="457200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LANTAR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306600" y="45306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92200" y="3032280"/>
              <a:ext cx="85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RDINE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361320" y="3203640"/>
              <a:ext cx="73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Jardinero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3516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630680" y="3597120"/>
              <a:ext cx="144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630680" y="396540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630680" y="431316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30680" y="4659480"/>
              <a:ext cx="111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630680" y="5006880"/>
              <a:ext cx="11124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630680" y="3965400"/>
              <a:ext cx="144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30680" y="4313160"/>
              <a:ext cx="1440" cy="34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630680" y="4659480"/>
              <a:ext cx="1440" cy="34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29920" y="3876840"/>
              <a:ext cx="66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RENAJ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741920" y="383544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791960" y="422424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41920" y="41832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891320" y="4572000"/>
              <a:ext cx="95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NSTAL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741920" y="4530600"/>
              <a:ext cx="120312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015160" y="4917960"/>
              <a:ext cx="71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CABAD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41920" y="4876920"/>
              <a:ext cx="120312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592160" y="3032280"/>
              <a:ext cx="1136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RAS-JUEGOS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84480" y="3203640"/>
              <a:ext cx="53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aestro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71920" y="2990880"/>
              <a:ext cx="131904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065640" y="3597120"/>
              <a:ext cx="1800" cy="36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065640" y="396540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65640" y="4313160"/>
              <a:ext cx="1126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65640" y="3965400"/>
              <a:ext cx="1800" cy="347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53640" y="3876840"/>
              <a:ext cx="881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ROMO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178320" y="3835440"/>
              <a:ext cx="1203480" cy="264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270120" y="4224240"/>
              <a:ext cx="1072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APACIT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78320" y="4183200"/>
              <a:ext cx="1203480" cy="26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158880" y="3032280"/>
              <a:ext cx="84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DUCA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91200" y="3203640"/>
              <a:ext cx="995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MUNITARIA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945760" y="3373560"/>
              <a:ext cx="134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(Trabajadora Social)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06880" y="2990880"/>
              <a:ext cx="1319400" cy="606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869640" y="1870200"/>
              <a:ext cx="756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OBJETIVO: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674520" y="2041560"/>
              <a:ext cx="1142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NSTRUCCION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582000" y="2212920"/>
              <a:ext cx="1352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QUE COMUNAL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1680" y="2382840"/>
              <a:ext cx="182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RESPONSABLE: GERENTE</a:t>
              </a:r>
              <a:endParaRPr b="0" lang="en-US" sz="11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14520" y="1828800"/>
              <a:ext cx="182412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cxnSp>
          <p:nvCxnSpPr>
            <p:cNvPr id="917" name=""/>
            <p:cNvCxnSpPr>
              <a:stCxn id="910" idx="0"/>
              <a:endCxn id="916" idx="2"/>
            </p:cNvCxnSpPr>
            <p:nvPr/>
          </p:nvCxnSpPr>
          <p:spPr>
            <a:xfrm flipV="1" rot="16200000">
              <a:off x="5205240" y="1628280"/>
              <a:ext cx="384840" cy="2340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8" name=""/>
            <p:cNvCxnSpPr>
              <a:stCxn id="895" idx="0"/>
              <a:endCxn id="916" idx="2"/>
            </p:cNvCxnSpPr>
            <p:nvPr/>
          </p:nvCxnSpPr>
          <p:spPr>
            <a:xfrm flipV="1" rot="16200000">
              <a:off x="4487040" y="2345760"/>
              <a:ext cx="384840" cy="90540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19" name=""/>
            <p:cNvCxnSpPr>
              <a:stCxn id="871" idx="0"/>
              <a:endCxn id="916" idx="2"/>
            </p:cNvCxnSpPr>
            <p:nvPr/>
          </p:nvCxnSpPr>
          <p:spPr>
            <a:xfrm flipH="1" flipV="1" rot="5400000">
              <a:off x="3769200" y="2532240"/>
              <a:ext cx="384840" cy="5324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  <p:cxnSp>
          <p:nvCxnSpPr>
            <p:cNvPr id="920" name=""/>
            <p:cNvCxnSpPr>
              <a:stCxn id="852" idx="0"/>
              <a:endCxn id="916" idx="2"/>
            </p:cNvCxnSpPr>
            <p:nvPr/>
          </p:nvCxnSpPr>
          <p:spPr>
            <a:xfrm flipH="1" flipV="1" rot="5400000">
              <a:off x="3051720" y="1814760"/>
              <a:ext cx="384840" cy="19677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0458c"/>
              </a:solidFill>
              <a:miter/>
            </a:ln>
          </p:spPr>
        </p:cxnSp>
      </p:grpSp>
      <p:sp>
        <p:nvSpPr>
          <p:cNvPr id="921" name=""/>
          <p:cNvSpPr/>
          <p:nvPr/>
        </p:nvSpPr>
        <p:spPr>
          <a:xfrm>
            <a:off x="223560" y="5334120"/>
            <a:ext cx="430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Combinación de 2 criterios de organización: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*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Por producto (por component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0066"/>
                </a:solidFill>
                <a:latin typeface="Times New Roman"/>
              </a:rPr>
              <a:t>+</a:t>
            </a:r>
            <a:r>
              <a:rPr b="0" lang="es-ES_tradnl" sz="1800" spc="-1" strike="noStrike">
                <a:solidFill>
                  <a:srgbClr val="660066"/>
                </a:solidFill>
                <a:latin typeface="Times New Roman"/>
              </a:rPr>
              <a:t> Funcional (por actividades afines)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in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Interdependencia de las activida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Funcione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ordin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f89f7"/>
                </a:solidFill>
                <a:latin typeface="Tahoma"/>
              </a:rPr>
              <a:t>Relaciones extern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Grupos de apoy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Contrata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f89f7"/>
                </a:solidFill>
                <a:latin typeface="Tahoma"/>
              </a:rPr>
              <a:t>Supervis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457200" y="4572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imes New Roman"/>
              </a:rPr>
              <a:t>Pasos para el diseño organizacional del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Times New Roman"/>
              </a:rPr>
              <a:t>4. Establecer relaciones entre grupos de trabaj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7"/>
          <a:stretch/>
        </p:blipFill>
        <p:spPr>
          <a:xfrm>
            <a:off x="5867280" y="3581280"/>
            <a:ext cx="2287800" cy="20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660066"/>
                </a:solidFill>
                <a:uFillTx/>
                <a:latin typeface="Tahoma"/>
              </a:rPr>
              <a:t>Pasos para el diseño organizacional del proyecto</a:t>
            </a:r>
            <a:br>
              <a:rPr sz="2400"/>
            </a:b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5. 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1" lang="es-ES_tradnl" sz="3200" spc="-1" strike="noStrike">
                <a:solidFill>
                  <a:srgbClr val="660066"/>
                </a:solidFill>
                <a:latin typeface="Tahoma"/>
              </a:rPr>
              <a:t>Inserción institucional</a:t>
            </a:r>
            <a:br>
              <a:rPr sz="3200"/>
            </a:br>
            <a:br>
              <a:rPr sz="3200"/>
            </a:br>
            <a:r>
              <a:rPr b="1" lang="es-ES_tradnl" sz="2400" spc="-1" strike="noStrike">
                <a:solidFill>
                  <a:srgbClr val="660066"/>
                </a:solidFill>
                <a:latin typeface="Tahoma"/>
              </a:rPr>
              <a:t>MODALIDADES DE ORGANIZACIÓN E INSERCION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76212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SzPct val="10056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458c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3352680" y="2139840"/>
          <a:ext cx="1828800" cy="989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2680" y="2139840"/>
                    <a:ext cx="18288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por Proyec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471600" y="2228760"/>
          <a:ext cx="8275680" cy="324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1" name="" descr="Rectangle: Click to edit Master text styles&#13;&#10;Second level&#13;&#10;Third level&#13;&#10;Fourth level&#13;&#10;Fifth leve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2228760"/>
                    <a:ext cx="8275680" cy="32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2" name=""/>
          <p:cNvSpPr/>
          <p:nvPr/>
        </p:nvSpPr>
        <p:spPr>
          <a:xfrm>
            <a:off x="5943600" y="2666880"/>
            <a:ext cx="2895480" cy="3200400"/>
          </a:xfrm>
          <a:prstGeom prst="ellipse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230120" y="5943600"/>
            <a:ext cx="626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de tareas específicas al proyecto dentro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10080" y="5486400"/>
            <a:ext cx="990720" cy="4572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Matricial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400560" y="4094280"/>
            <a:ext cx="144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656160" y="4483080"/>
            <a:ext cx="202716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838160" y="5715000"/>
            <a:ext cx="500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Asignación simultánea de tareas específicas al proyecto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de tareas de las Areas Funcionales de la Organiz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64832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7200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660066"/>
                </a:solidFill>
                <a:latin typeface="Tahoma"/>
              </a:rPr>
              <a:t>Organización Combinada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83" name=""/>
          <p:cNvSpPr/>
          <p:nvPr/>
        </p:nvSpPr>
        <p:spPr>
          <a:xfrm>
            <a:off x="4390920" y="22845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55268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368960" y="2540160"/>
            <a:ext cx="144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184880" y="2540160"/>
            <a:ext cx="1800" cy="255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1552680" y="2540160"/>
            <a:ext cx="28162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368960" y="2540160"/>
            <a:ext cx="21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390920" y="2540160"/>
            <a:ext cx="2793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82480" y="3371760"/>
            <a:ext cx="180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2480" y="409428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2480" y="4694400"/>
            <a:ext cx="2574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582480" y="4094280"/>
            <a:ext cx="1800" cy="6001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839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39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2364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1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2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400560" y="3371760"/>
            <a:ext cx="1440" cy="7225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400560" y="409428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400560" y="4694400"/>
            <a:ext cx="2556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56160" y="3882960"/>
            <a:ext cx="202716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41360" y="2895480"/>
            <a:ext cx="24012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Area Funcional 2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098880" y="2795760"/>
            <a:ext cx="255096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216480" y="3371760"/>
            <a:ext cx="32040" cy="196236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216480" y="409428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216480" y="4694400"/>
            <a:ext cx="257400" cy="144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473880" y="388296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73880" y="4483080"/>
            <a:ext cx="2025720" cy="42228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582960" y="2895480"/>
            <a:ext cx="1253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916600" y="2795760"/>
            <a:ext cx="2549520" cy="57600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069720" y="1806480"/>
            <a:ext cx="2609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Dirección Superior</a:t>
            </a:r>
            <a:endParaRPr b="0" lang="en-US" sz="25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21120" y="1706400"/>
            <a:ext cx="2751120" cy="578160"/>
          </a:xfrm>
          <a:prstGeom prst="rect">
            <a:avLst/>
          </a:prstGeom>
          <a:noFill/>
          <a:ln w="22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90080" y="5715000"/>
            <a:ext cx="47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Se dota al proyecto de su propia capacida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Times New Roman"/>
              </a:rPr>
              <a:t>Y se complementa con ser vicios de áreas funcional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752480" y="4876920"/>
            <a:ext cx="0" cy="5331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752480" y="5334120"/>
            <a:ext cx="44960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76520" y="5257800"/>
            <a:ext cx="152280" cy="15228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64476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305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ESTRUCTURA CLÁSICA DE PROGRAMA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8" name=""/>
          <p:cNvSpPr/>
          <p:nvPr/>
        </p:nvSpPr>
        <p:spPr>
          <a:xfrm>
            <a:off x="109080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75600" y="1143000"/>
            <a:ext cx="1982160" cy="106884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109080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09080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32" name=""/>
          <p:cNvCxnSpPr>
            <a:stCxn id="1026" idx="0"/>
            <a:endCxn id="1029" idx="2"/>
          </p:cNvCxnSpPr>
          <p:nvPr/>
        </p:nvCxnSpPr>
        <p:spPr>
          <a:xfrm flipH="1" flipV="1" rot="5400000">
            <a:off x="2712600" y="1245600"/>
            <a:ext cx="991440" cy="29185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3" name=""/>
          <p:cNvCxnSpPr>
            <a:stCxn id="1034" idx="0"/>
            <a:endCxn id="1029" idx="2"/>
          </p:cNvCxnSpPr>
          <p:nvPr/>
        </p:nvCxnSpPr>
        <p:spPr>
          <a:xfrm flipH="1" flipV="1" rot="5400000">
            <a:off x="4160520" y="2693520"/>
            <a:ext cx="991440" cy="2304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5" name=""/>
          <p:cNvCxnSpPr>
            <a:stCxn id="1036" idx="0"/>
            <a:endCxn id="1029" idx="2"/>
          </p:cNvCxnSpPr>
          <p:nvPr/>
        </p:nvCxnSpPr>
        <p:spPr>
          <a:xfrm flipV="1" rot="16200000">
            <a:off x="5532120" y="1343880"/>
            <a:ext cx="991440" cy="272160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7" name=""/>
          <p:cNvCxnSpPr>
            <a:stCxn id="1028" idx="1"/>
            <a:endCxn id="1026" idx="1"/>
          </p:cNvCxnSpPr>
          <p:nvPr/>
        </p:nvCxnSpPr>
        <p:spPr>
          <a:xfrm rot="10800000">
            <a:off x="608760" y="3398040"/>
            <a:ext cx="381960" cy="74844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8" name=""/>
          <p:cNvCxnSpPr>
            <a:stCxn id="1030" idx="1"/>
            <a:endCxn id="1026" idx="1"/>
          </p:cNvCxnSpPr>
          <p:nvPr/>
        </p:nvCxnSpPr>
        <p:spPr>
          <a:xfrm rot="10800000">
            <a:off x="608760" y="3398040"/>
            <a:ext cx="381960" cy="135828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39" name=""/>
          <p:cNvCxnSpPr>
            <a:stCxn id="1031" idx="1"/>
            <a:endCxn id="1026" idx="1"/>
          </p:cNvCxnSpPr>
          <p:nvPr/>
        </p:nvCxnSpPr>
        <p:spPr>
          <a:xfrm rot="10800000">
            <a:off x="608760" y="3398040"/>
            <a:ext cx="381960" cy="1967760"/>
          </a:xfrm>
          <a:prstGeom prst="bentConnector3">
            <a:avLst>
              <a:gd name="adj1" fmla="val 160000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4" name=""/>
          <p:cNvSpPr/>
          <p:nvPr/>
        </p:nvSpPr>
        <p:spPr>
          <a:xfrm>
            <a:off x="35406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9866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9866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986640" y="51814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40" idx="1"/>
            <a:endCxn id="1034" idx="1"/>
          </p:cNvCxnSpPr>
          <p:nvPr/>
        </p:nvCxnSpPr>
        <p:spPr>
          <a:xfrm rot="10800000">
            <a:off x="35046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41" idx="1"/>
            <a:endCxn id="1034" idx="1"/>
          </p:cNvCxnSpPr>
          <p:nvPr/>
        </p:nvCxnSpPr>
        <p:spPr>
          <a:xfrm rot="10800000">
            <a:off x="35046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5" name=""/>
          <p:cNvCxnSpPr>
            <a:stCxn id="1042" idx="1"/>
            <a:endCxn id="1034" idx="1"/>
          </p:cNvCxnSpPr>
          <p:nvPr/>
        </p:nvCxnSpPr>
        <p:spPr>
          <a:xfrm rot="10800000">
            <a:off x="3504600" y="3398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36" name=""/>
          <p:cNvSpPr/>
          <p:nvPr/>
        </p:nvSpPr>
        <p:spPr>
          <a:xfrm>
            <a:off x="6283800" y="32004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729840" y="39625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729840" y="45720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48" name=""/>
          <p:cNvCxnSpPr>
            <a:stCxn id="1046" idx="1"/>
            <a:endCxn id="1036" idx="1"/>
          </p:cNvCxnSpPr>
          <p:nvPr/>
        </p:nvCxnSpPr>
        <p:spPr>
          <a:xfrm rot="10800000">
            <a:off x="6247800" y="3398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49" name=""/>
          <p:cNvCxnSpPr>
            <a:stCxn id="1047" idx="1"/>
            <a:endCxn id="1036" idx="1"/>
          </p:cNvCxnSpPr>
          <p:nvPr/>
        </p:nvCxnSpPr>
        <p:spPr>
          <a:xfrm rot="10800000">
            <a:off x="6247800" y="3398040"/>
            <a:ext cx="381600" cy="135828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0" name=""/>
          <p:cNvSpPr/>
          <p:nvPr/>
        </p:nvSpPr>
        <p:spPr>
          <a:xfrm>
            <a:off x="3986640" y="579132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51" name=""/>
          <p:cNvCxnSpPr>
            <a:stCxn id="1050" idx="1"/>
            <a:endCxn id="1034" idx="1"/>
          </p:cNvCxnSpPr>
          <p:nvPr/>
        </p:nvCxnSpPr>
        <p:spPr>
          <a:xfrm rot="10800000">
            <a:off x="3504600" y="3398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52" name=""/>
          <p:cNvSpPr/>
          <p:nvPr/>
        </p:nvSpPr>
        <p:spPr>
          <a:xfrm>
            <a:off x="6633360" y="152388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648320" y="243828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66680" y="1523880"/>
            <a:ext cx="3200400" cy="190512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¿Cuáles son la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cione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de este tipo d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representación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organigramática”?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/>
          <p:nvPr/>
        </p:nvSpPr>
        <p:spPr>
          <a:xfrm>
            <a:off x="55764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0066"/>
                </a:solidFill>
                <a:latin typeface="Tahoma"/>
              </a:rPr>
              <a:t>Limitaciones de la estructura “organigramática de UEP”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7" name=""/>
          <p:cNvSpPr/>
          <p:nvPr/>
        </p:nvSpPr>
        <p:spPr>
          <a:xfrm>
            <a:off x="97812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657240" y="1219320"/>
            <a:ext cx="1867680" cy="106884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Proyect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Comic Sans MS"/>
              </a:rPr>
              <a:t>(UE)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9648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648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1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61" name=""/>
          <p:cNvCxnSpPr>
            <a:stCxn id="1055" idx="0"/>
            <a:endCxn id="1058" idx="2"/>
          </p:cNvCxnSpPr>
          <p:nvPr/>
        </p:nvCxnSpPr>
        <p:spPr>
          <a:xfrm flipH="1" flipV="1" rot="5400000">
            <a:off x="2620440" y="1306080"/>
            <a:ext cx="982080" cy="295992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2" name=""/>
          <p:cNvCxnSpPr>
            <a:stCxn id="1063" idx="0"/>
            <a:endCxn id="1058" idx="2"/>
          </p:cNvCxnSpPr>
          <p:nvPr/>
        </p:nvCxnSpPr>
        <p:spPr>
          <a:xfrm flipH="1" flipV="1" rot="5400000">
            <a:off x="4078440" y="2764080"/>
            <a:ext cx="982080" cy="4356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4" name=""/>
          <p:cNvCxnSpPr>
            <a:stCxn id="1065" idx="0"/>
            <a:endCxn id="1058" idx="2"/>
          </p:cNvCxnSpPr>
          <p:nvPr/>
        </p:nvCxnSpPr>
        <p:spPr>
          <a:xfrm flipV="1" rot="16200000">
            <a:off x="5450040" y="1435320"/>
            <a:ext cx="982080" cy="2701080"/>
          </a:xfrm>
          <a:prstGeom prst="bentConnector3">
            <a:avLst>
              <a:gd name="adj1" fmla="val 49981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6" name=""/>
          <p:cNvCxnSpPr>
            <a:stCxn id="1057" idx="1"/>
            <a:endCxn id="1055" idx="1"/>
          </p:cNvCxnSpPr>
          <p:nvPr/>
        </p:nvCxnSpPr>
        <p:spPr>
          <a:xfrm rot="10800000">
            <a:off x="53280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7" name=""/>
          <p:cNvCxnSpPr>
            <a:stCxn id="1059" idx="1"/>
            <a:endCxn id="1055" idx="1"/>
          </p:cNvCxnSpPr>
          <p:nvPr/>
        </p:nvCxnSpPr>
        <p:spPr>
          <a:xfrm rot="10800000">
            <a:off x="53280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68" name=""/>
          <p:cNvCxnSpPr>
            <a:stCxn id="1060" idx="1"/>
            <a:endCxn id="1055" idx="1"/>
          </p:cNvCxnSpPr>
          <p:nvPr/>
        </p:nvCxnSpPr>
        <p:spPr>
          <a:xfrm rot="10800000">
            <a:off x="53280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3" name=""/>
          <p:cNvSpPr/>
          <p:nvPr/>
        </p:nvSpPr>
        <p:spPr>
          <a:xfrm>
            <a:off x="34740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8919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9103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3910320" y="525780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2" name=""/>
          <p:cNvCxnSpPr>
            <a:stCxn id="1069" idx="1"/>
            <a:endCxn id="1063" idx="1"/>
          </p:cNvCxnSpPr>
          <p:nvPr/>
        </p:nvCxnSpPr>
        <p:spPr>
          <a:xfrm rot="10800000">
            <a:off x="34282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3" name=""/>
          <p:cNvCxnSpPr>
            <a:stCxn id="1070" idx="1"/>
            <a:endCxn id="1063" idx="1"/>
          </p:cNvCxnSpPr>
          <p:nvPr/>
        </p:nvCxnSpPr>
        <p:spPr>
          <a:xfrm rot="10800000">
            <a:off x="34282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4" name=""/>
          <p:cNvCxnSpPr>
            <a:stCxn id="1071" idx="1"/>
            <a:endCxn id="1063" idx="1"/>
          </p:cNvCxnSpPr>
          <p:nvPr/>
        </p:nvCxnSpPr>
        <p:spPr>
          <a:xfrm rot="10800000">
            <a:off x="3428280" y="3479040"/>
            <a:ext cx="381600" cy="196776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65" name=""/>
          <p:cNvSpPr/>
          <p:nvPr/>
        </p:nvSpPr>
        <p:spPr>
          <a:xfrm>
            <a:off x="6217200" y="3276720"/>
            <a:ext cx="2146680" cy="3988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40458c"/>
                </a:solidFill>
                <a:latin typeface="Comic Sans MS"/>
              </a:rPr>
              <a:t>COMPONENTE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6635160" y="40384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6653520" y="464832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3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5" idx="1"/>
            <a:endCxn id="1065" idx="1"/>
          </p:cNvCxnSpPr>
          <p:nvPr/>
        </p:nvCxnSpPr>
        <p:spPr>
          <a:xfrm rot="10800000">
            <a:off x="6171480" y="3479040"/>
            <a:ext cx="381600" cy="7484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cxnSp>
        <p:nvCxnSpPr>
          <p:cNvPr id="1078" name=""/>
          <p:cNvCxnSpPr>
            <a:stCxn id="1076" idx="1"/>
            <a:endCxn id="1065" idx="1"/>
          </p:cNvCxnSpPr>
          <p:nvPr/>
        </p:nvCxnSpPr>
        <p:spPr>
          <a:xfrm rot="10800000">
            <a:off x="6171480" y="3479040"/>
            <a:ext cx="381600" cy="135792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79" name=""/>
          <p:cNvSpPr/>
          <p:nvPr/>
        </p:nvSpPr>
        <p:spPr>
          <a:xfrm>
            <a:off x="3910320" y="5867280"/>
            <a:ext cx="1755000" cy="3682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Comic Sans MS"/>
              </a:rPr>
              <a:t>ACTIVIDAD 2.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080" name=""/>
          <p:cNvCxnSpPr>
            <a:stCxn id="1079" idx="1"/>
            <a:endCxn id="1063" idx="1"/>
          </p:cNvCxnSpPr>
          <p:nvPr/>
        </p:nvCxnSpPr>
        <p:spPr>
          <a:xfrm rot="10800000">
            <a:off x="3428280" y="3479040"/>
            <a:ext cx="381600" cy="2577240"/>
          </a:xfrm>
          <a:prstGeom prst="bentConnector3">
            <a:avLst>
              <a:gd name="adj1" fmla="val 159962"/>
            </a:avLst>
          </a:prstGeom>
          <a:ln w="936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1081" name=""/>
          <p:cNvSpPr/>
          <p:nvPr/>
        </p:nvSpPr>
        <p:spPr>
          <a:xfrm>
            <a:off x="6562440" y="1600200"/>
            <a:ext cx="1481760" cy="1067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72000" y="2514600"/>
            <a:ext cx="198108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4920" y="1295280"/>
            <a:ext cx="2209680" cy="144792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Propici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jerarquiz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autoritarism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2209680" cy="1447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acilita e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“</a:t>
            </a: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artiment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estanco”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Componente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no convers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876920" y="4876920"/>
            <a:ext cx="220968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Trabajo en equip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209680" y="4800600"/>
            <a:ext cx="2210040" cy="1447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mpide visualizar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Las relacione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b7c1eb"/>
                </a:solidFill>
                <a:latin typeface="Times New Roman"/>
              </a:rPr>
              <a:t>interna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400800" y="3200400"/>
            <a:ext cx="2209680" cy="1447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aport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inform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sobre actore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553080" y="1295280"/>
            <a:ext cx="2210040" cy="1447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No induce 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gestión extern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505320" y="1371600"/>
            <a:ext cx="2209680" cy="14479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Limita l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Coordin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b7c1eb"/>
                </a:solidFill>
                <a:latin typeface="Times New Roman"/>
              </a:rPr>
              <a:t>y la deleg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581280" y="2971800"/>
            <a:ext cx="2210040" cy="14479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b7c1eb"/>
                </a:solidFill>
                <a:latin typeface="Times New Roman"/>
              </a:rPr>
              <a:t>Otros: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EPCIÓN RELACION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Un buen diseño del mapa organizacional contempl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Identificar los actores clave, internos y extern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Especificar los actores clave, identificar, personificar la relación (desagregar categorías muy amplias o genérica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f89f7"/>
                </a:solidFill>
                <a:latin typeface="Tahoma"/>
              </a:rPr>
              <a:t>Precisar el tipo de relación (demanda, apoyo, control, comunicación, coordinación)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Relaciónes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con los</a:t>
            </a: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 involucrad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Organic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 Unidad Ejecutora y sus rel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ogram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Presupuest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las actividad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Forme el equipo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gerenci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Lidere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 el equipo y gestione las relaciones extern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Gestione los recurs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os cos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Controle la ejecu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Entregue </a:t>
            </a:r>
            <a:r>
              <a:rPr b="0" lang="es-ES_tradnl" sz="2000" spc="-1" strike="noStrike">
                <a:solidFill>
                  <a:srgbClr val="40458c"/>
                </a:solidFill>
                <a:latin typeface="Comic Sans MS"/>
              </a:rPr>
              <a:t>productos y cierre el proyec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Comic Sans MS"/>
              </a:rPr>
              <a:t>Aprenda de la experie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600200"/>
            <a:ext cx="769644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15360" y="2666880"/>
            <a:ext cx="251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PREPARA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Times New Roman"/>
              </a:rPr>
              <a:t>DE LA EJECUCIÓ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3332160"/>
            <a:ext cx="7696080" cy="17524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280200" y="4240080"/>
            <a:ext cx="20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SEGUIMIEN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084640"/>
            <a:ext cx="7696080" cy="865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84560" y="5408640"/>
            <a:ext cx="335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Times New Roman"/>
              </a:rPr>
              <a:t>TÉRMINO DE PROYECTO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0066"/>
                </a:solidFill>
                <a:latin typeface="Tahoma"/>
              </a:rPr>
              <a:t>ORGANIZACIÓN RELACIONAL</a:t>
            </a:r>
            <a:br>
              <a:rPr sz="32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GERENCIA DE COMPONENTE</a:t>
            </a:r>
            <a:br>
              <a:rPr sz="3000"/>
            </a:br>
            <a:r>
              <a:rPr b="0" lang="es-MX" sz="3000" spc="-1" strike="noStrike">
                <a:solidFill>
                  <a:srgbClr val="660066"/>
                </a:solidFill>
                <a:latin typeface="Tahoma"/>
              </a:rPr>
              <a:t>NÚCLEO DE GESTIÓN</a:t>
            </a:r>
            <a:endParaRPr b="0" lang="en-US" sz="3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4" name=""/>
          <p:cNvSpPr/>
          <p:nvPr/>
        </p:nvSpPr>
        <p:spPr>
          <a:xfrm>
            <a:off x="3699720" y="4214880"/>
            <a:ext cx="219384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58c"/>
                </a:solidFill>
                <a:latin typeface="Comic Sans MS"/>
              </a:rPr>
              <a:t>SUBCOMPONENTE 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248000" y="1600200"/>
            <a:ext cx="1652760" cy="703800"/>
          </a:xfrm>
          <a:prstGeom prst="rect">
            <a:avLst/>
          </a:prstGeom>
          <a:solidFill>
            <a:srgbClr val="ecd8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PROGRA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(UE)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34200" y="480060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1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5434200" y="5410080"/>
            <a:ext cx="1828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ACTIVIDAD 1.2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235680" y="2971800"/>
            <a:ext cx="220752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b7c1eb"/>
                </a:solidFill>
                <a:latin typeface="Comic Sans MS"/>
              </a:rPr>
              <a:t>COMPONENTE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074280" y="2971800"/>
            <a:ext cx="206604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b7c1eb"/>
                </a:solidFill>
                <a:latin typeface="Comic Sans MS"/>
              </a:rPr>
              <a:t>COMPONENTE j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24280" y="251460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895480" y="2743200"/>
            <a:ext cx="6019920" cy="83808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895480" y="3809880"/>
            <a:ext cx="6019920" cy="25146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724280" y="350532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6600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861960" y="1447920"/>
            <a:ext cx="15717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POY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Administra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Logístic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b7c1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b7c1eb"/>
                </a:solidFill>
                <a:latin typeface="Times New Roman"/>
              </a:rPr>
              <a:t>Financier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rot="16200000">
            <a:off x="6057720" y="171396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771280" y="4800600"/>
            <a:ext cx="1450080" cy="3682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58c"/>
                </a:solidFill>
                <a:latin typeface="Comic Sans MS"/>
              </a:rPr>
              <a:t>CONTRAT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16200000">
            <a:off x="5448240" y="3009960"/>
            <a:ext cx="60984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cxnSp>
        <p:nvCxnSpPr>
          <p:cNvPr id="1108" name=""/>
          <p:cNvCxnSpPr>
            <a:stCxn id="1094" idx="2"/>
            <a:endCxn id="1096" idx="1"/>
          </p:cNvCxnSpPr>
          <p:nvPr/>
        </p:nvCxnSpPr>
        <p:spPr>
          <a:xfrm flipH="1" rot="16200000">
            <a:off x="4848120" y="4499640"/>
            <a:ext cx="43416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cxnSp>
        <p:nvCxnSpPr>
          <p:cNvPr id="1109" name=""/>
          <p:cNvCxnSpPr>
            <a:stCxn id="1094" idx="2"/>
            <a:endCxn id="1097" idx="1"/>
          </p:cNvCxnSpPr>
          <p:nvPr/>
        </p:nvCxnSpPr>
        <p:spPr>
          <a:xfrm flipH="1" rot="16200000">
            <a:off x="4543200" y="4804200"/>
            <a:ext cx="1043640" cy="537480"/>
          </a:xfrm>
          <a:prstGeom prst="bentConnector2">
            <a:avLst/>
          </a:prstGeom>
          <a:ln w="9360">
            <a:solidFill>
              <a:srgbClr val="40458c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6658920" y="4214880"/>
            <a:ext cx="2129760" cy="337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Comic Sans MS"/>
              </a:rPr>
              <a:t>SUBCOMPONENTE k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5943240" y="4190760"/>
            <a:ext cx="60984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rot="16200000">
            <a:off x="4228920" y="4762080"/>
            <a:ext cx="609480" cy="38088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2209680" y="4876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" y="4800600"/>
            <a:ext cx="1828800" cy="457200"/>
          </a:xfrm>
          <a:prstGeom prst="ellipse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b7c1eb"/>
                </a:solidFill>
                <a:latin typeface="Times New Roman"/>
              </a:rPr>
              <a:t>CONTRATIS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80880" y="22860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AGENTE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EXTERN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80880" y="3200400"/>
            <a:ext cx="1828800" cy="685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INVOLUCRADOS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b7c1eb"/>
                </a:solidFill>
                <a:latin typeface="Times New Roman"/>
              </a:rPr>
              <a:t>SOCIE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rot="16200000">
            <a:off x="2209680" y="3428640"/>
            <a:ext cx="60948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rot="16200000">
            <a:off x="2209680" y="2590920"/>
            <a:ext cx="60984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e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7732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Comic Sans MS"/>
              </a:rPr>
              <a:t>Objetivos, organización e involucrad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40458c"/>
                </a:solidFill>
                <a:latin typeface="Comic Sans MS"/>
              </a:rPr>
              <a:t>Lectura de Caso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120" name="" descr=""/>
          <p:cNvPicPr/>
          <p:nvPr/>
        </p:nvPicPr>
        <p:blipFill>
          <a:blip r:embed="rId1"/>
          <a:stretch/>
        </p:blipFill>
        <p:spPr>
          <a:xfrm>
            <a:off x="6934320" y="533520"/>
            <a:ext cx="12762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6" dur="500"/>
                                        <p:tgtEl>
                                          <p:spTgt spid="1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28600"/>
            <a:ext cx="449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ahoma"/>
              </a:rPr>
              <a:t>Gestión de Proyectos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28600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1295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581280"/>
            <a:ext cx="55623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2b2b2"/>
                </a:solidFill>
                <a:latin typeface="Times New Roman"/>
              </a:rPr>
              <a:t>Tenga Claros los Objetivos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705720" y="3581280"/>
            <a:ext cx="1703160" cy="1905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019920" y="1295280"/>
            <a:ext cx="2743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CO" sz="2400" spc="-1" strike="noStrike">
                <a:solidFill>
                  <a:srgbClr val="40458c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40458c"/>
                </a:solidFill>
                <a:latin typeface="Comic Sans MS"/>
              </a:rPr>
              <a:t>Tenga claros los </a:t>
            </a:r>
            <a:r>
              <a:rPr b="1" lang="es-ES_tradnl" sz="3200" spc="-1" strike="noStrike">
                <a:solidFill>
                  <a:srgbClr val="40458c"/>
                </a:solidFill>
                <a:latin typeface="Comic Sans MS"/>
              </a:rPr>
              <a:t>objetivo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40458c"/>
                </a:solidFill>
                <a:latin typeface="Tahoma"/>
              </a:rPr>
              <a:t>Todo gerente de proyecto debe tener claro: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spcBef>
                <a:spcPts val="11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_tradnl" sz="4400" spc="-1" strike="noStrike">
                <a:solidFill>
                  <a:srgbClr val="40458c"/>
                </a:solidFill>
                <a:latin typeface="Tahoma"/>
              </a:rPr>
              <a:t>Qué debe entregar</a:t>
            </a:r>
            <a:endParaRPr b="0" lang="en-US" sz="4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Medio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Verificació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Supuesto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Comic Sans MS"/>
              </a:rPr>
              <a:t>Indicado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282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20520" y="19051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ostenibilidad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657600" y="2209680"/>
            <a:ext cx="2913120" cy="325764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289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292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02720" y="4267080"/>
              <a:ext cx="136476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6640" y="533520"/>
            <a:ext cx="659844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SIGNIFICADO DE LOS NIVELES DE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80880" y="3929040"/>
            <a:ext cx="8524800" cy="1298520"/>
            <a:chOff x="380880" y="3929040"/>
            <a:chExt cx="8524800" cy="1298520"/>
          </a:xfrm>
        </p:grpSpPr>
        <p:sp>
          <p:nvSpPr>
            <p:cNvPr id="297" name=""/>
            <p:cNvSpPr/>
            <p:nvPr/>
          </p:nvSpPr>
          <p:spPr>
            <a:xfrm>
              <a:off x="2641680" y="4287960"/>
              <a:ext cx="2071440" cy="928440"/>
            </a:xfrm>
            <a:prstGeom prst="rect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COMPONENT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09840" y="3957480"/>
              <a:ext cx="801720" cy="19872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4866480" y="43131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PRODUCTOS QUE ENTREGA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A GERENCIA DE EJECUCIÓN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76400" y="392904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380880" y="4253040"/>
              <a:ext cx="866880" cy="8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1397160" y="4253040"/>
              <a:ext cx="1041120" cy="92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"/>
          <p:cNvGrpSpPr/>
          <p:nvPr/>
        </p:nvGrpSpPr>
        <p:grpSpPr>
          <a:xfrm>
            <a:off x="595440" y="2700360"/>
            <a:ext cx="8310240" cy="1155600"/>
            <a:chOff x="595440" y="2700360"/>
            <a:chExt cx="8310240" cy="1155600"/>
          </a:xfrm>
        </p:grpSpPr>
        <p:sp>
          <p:nvSpPr>
            <p:cNvPr id="304" name=""/>
            <p:cNvSpPr/>
            <p:nvPr/>
          </p:nvSpPr>
          <p:spPr>
            <a:xfrm>
              <a:off x="2641680" y="2895480"/>
              <a:ext cx="2071440" cy="928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PROPÓSITO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866480" y="29415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FECTO DIRECTO U OBJETIVO CENTRAL DE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PROYECTO, EL QUE RESUELVE EL PROBLEMA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S EL RESULTADO DE UTILIZAR LO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COMPONENTES 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595440" y="2894040"/>
            <a:ext cx="801720" cy="915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2894040"/>
                      <a:ext cx="801720" cy="91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08" name=""/>
            <p:cNvGrpSpPr/>
            <p:nvPr/>
          </p:nvGrpSpPr>
          <p:grpSpPr>
            <a:xfrm>
              <a:off x="1450800" y="2700360"/>
              <a:ext cx="870120" cy="1150560"/>
              <a:chOff x="1450800" y="2700360"/>
              <a:chExt cx="870120" cy="1150560"/>
            </a:xfrm>
          </p:grpSpPr>
          <p:pic>
            <p:nvPicPr>
              <p:cNvPr id="30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50800" y="3068280"/>
                <a:ext cx="399600" cy="782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10" name=""/>
              <p:cNvGrpSpPr/>
              <p:nvPr/>
            </p:nvGrpSpPr>
            <p:grpSpPr>
              <a:xfrm>
                <a:off x="1823760" y="2700360"/>
                <a:ext cx="497160" cy="1150560"/>
                <a:chOff x="1823760" y="2700360"/>
                <a:chExt cx="497160" cy="1150560"/>
              </a:xfrm>
            </p:grpSpPr>
            <p:pic>
              <p:nvPicPr>
                <p:cNvPr id="31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823760" y="2700360"/>
                  <a:ext cx="497160" cy="55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2072160" y="3206520"/>
                  <a:ext cx="0" cy="6444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595440" y="1569960"/>
            <a:ext cx="8310240" cy="1260720"/>
            <a:chOff x="595440" y="1569960"/>
            <a:chExt cx="8310240" cy="1260720"/>
          </a:xfrm>
        </p:grpSpPr>
        <p:sp>
          <p:nvSpPr>
            <p:cNvPr id="314" name=""/>
            <p:cNvSpPr/>
            <p:nvPr/>
          </p:nvSpPr>
          <p:spPr>
            <a:xfrm>
              <a:off x="2641680" y="1569960"/>
              <a:ext cx="2071440" cy="928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40458c"/>
                  </a:solidFill>
                  <a:latin typeface="Comic Sans MS"/>
                </a:rPr>
                <a:t>FINES</a:t>
              </a:r>
              <a:endParaRPr b="0" lang="en-US" sz="20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09840" y="2630520"/>
              <a:ext cx="801720" cy="20016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866480" y="1569960"/>
              <a:ext cx="4038840" cy="9144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LOS IMPACTOS DEL PROYECTO EN EL SECTOR, 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EN EL ENTORNO O EN UN SISTEMA SUPERIOR.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SON LA “CONTRIBUCIÓN DE DESARROLLO”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40458c"/>
                  </a:solidFill>
                  <a:latin typeface="Comic Sans MS"/>
                </a:rPr>
                <a:t>DEL PROYECTO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7" name="" descr=""/>
            <p:cNvPicPr/>
            <p:nvPr/>
          </p:nvPicPr>
          <p:blipFill>
            <a:blip r:embed="rId7"/>
            <a:stretch/>
          </p:blipFill>
          <p:spPr>
            <a:xfrm>
              <a:off x="595440" y="1600200"/>
              <a:ext cx="74916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1076400" y="2635200"/>
              <a:ext cx="641160" cy="1936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319" name="" descr=""/>
            <p:cNvPicPr/>
            <p:nvPr/>
          </p:nvPicPr>
          <p:blipFill>
            <a:blip r:embed="rId8"/>
            <a:stretch/>
          </p:blipFill>
          <p:spPr>
            <a:xfrm>
              <a:off x="1504800" y="1600200"/>
              <a:ext cx="747720" cy="8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2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2448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32448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3048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448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1905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5334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4191120"/>
            <a:ext cx="1371600" cy="91440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32448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00400" y="1066680"/>
            <a:ext cx="1371600" cy="609840"/>
          </a:xfrm>
          <a:prstGeom prst="rect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600200" y="3048120"/>
            <a:ext cx="1371600" cy="914400"/>
            <a:chOff x="1600200" y="3048120"/>
            <a:chExt cx="1371600" cy="914400"/>
          </a:xfrm>
        </p:grpSpPr>
        <p:sp>
          <p:nvSpPr>
            <p:cNvPr id="338" name=""/>
            <p:cNvSpPr/>
            <p:nvPr/>
          </p:nvSpPr>
          <p:spPr>
            <a:xfrm>
              <a:off x="1600200" y="3048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662840" y="3110040"/>
              <a:ext cx="101592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Propósito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841480" y="23328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Comic Sans MS"/>
              </a:rPr>
              <a:t>Tenga claros los objetivo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1066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Nivel d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458c"/>
                </a:solidFill>
                <a:latin typeface="Comic Sans MS"/>
              </a:rPr>
              <a:t>Objetiv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315200" y="3200400"/>
            <a:ext cx="1566720" cy="1752480"/>
          </a:xfrm>
          <a:prstGeom prst="rect">
            <a:avLst/>
          </a:prstGeom>
          <a:ln w="0">
            <a:noFill/>
          </a:ln>
        </p:spPr>
      </p:pic>
      <p:grpSp>
        <p:nvGrpSpPr>
          <p:cNvPr id="343" name=""/>
          <p:cNvGrpSpPr/>
          <p:nvPr/>
        </p:nvGrpSpPr>
        <p:grpSpPr>
          <a:xfrm>
            <a:off x="1600200" y="1905120"/>
            <a:ext cx="1371600" cy="914400"/>
            <a:chOff x="1600200" y="1905120"/>
            <a:chExt cx="1371600" cy="914400"/>
          </a:xfrm>
        </p:grpSpPr>
        <p:sp>
          <p:nvSpPr>
            <p:cNvPr id="344" name=""/>
            <p:cNvSpPr/>
            <p:nvPr/>
          </p:nvSpPr>
          <p:spPr>
            <a:xfrm>
              <a:off x="1600200" y="1905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63200" y="1967040"/>
              <a:ext cx="642600" cy="3373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Fin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600200" y="4191120"/>
            <a:ext cx="1371600" cy="914400"/>
            <a:chOff x="1600200" y="4191120"/>
            <a:chExt cx="1371600" cy="914400"/>
          </a:xfrm>
        </p:grpSpPr>
        <p:sp>
          <p:nvSpPr>
            <p:cNvPr id="347" name=""/>
            <p:cNvSpPr/>
            <p:nvPr/>
          </p:nvSpPr>
          <p:spPr>
            <a:xfrm>
              <a:off x="1600200" y="4191120"/>
              <a:ext cx="1371600" cy="9144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02720" y="4267080"/>
              <a:ext cx="1364760" cy="8240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Componentes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(Productos)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370320" y="2666880"/>
            <a:ext cx="3727080" cy="459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Para qué es el proyect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63480" y="4419720"/>
            <a:ext cx="38566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o que se debe entreg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1828800"/>
            <a:ext cx="228600" cy="22096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411480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6T23:34:55Z</dcterms:created>
  <dc:creator>Héctor Sanín - Modificado por Eduardo Contreras</dc:creator>
  <dc:description/>
  <dc:language>en-US</dc:language>
  <cp:lastModifiedBy>alumnodii</cp:lastModifiedBy>
  <dcterms:modified xsi:type="dcterms:W3CDTF">2009-04-22T22:23:30Z</dcterms:modified>
  <cp:revision>91</cp:revision>
  <dc:subject/>
  <dc:title>Presentación de PowerPoint</dc:title>
</cp:coreProperties>
</file>