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11.wmf" ContentType="image/x-wmf"/>
  <Override PartName="/ppt/media/image6.wmf" ContentType="image/x-wmf"/>
  <Override PartName="/ppt/media/FRENAD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5E4F-D5CA-430B-966A-A33015305AD1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DCEE-6D7F-4C92-9CC6-4EEA5854CE70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938-C783-41D8-A059-C149E07B5628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4E70-78DA-4BAB-827F-09EABA2DCBC0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B7B55-BDDB-45EB-AFA1-2E1E3FDA9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06CB7-C9BC-408A-9AD3-A3602C8C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4BC72-D44D-48CA-8D4F-A782E59B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4A18-A863-4520-9A47-544EEE76EB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A9F14-60F2-4952-A50A-501FFF1C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165C8-46C1-471B-8996-DE4C9A72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543A7-93E8-4F88-A2D8-A9ED9B3E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68B98-27EE-4F4C-8285-36F0314B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2270B-2DDB-42B9-966B-DBD13CDA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32A8A-6FBF-40FB-8248-B36683D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F6ED9-D418-4647-8AE4-B15F2CC3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AA5F7-5C6F-44ED-BFA7-1C3862A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9835F-5210-4C4A-A81A-55A34E04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EC82A-8535-4856-B8B6-8E50A925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D6A46-6686-4794-BCAC-F6A018EF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4B41F-4A8D-4B8C-8DCA-AA4AEB8A7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43404-DF33-48C6-A2DF-3B67B612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BDCC-43D4-4C4C-92F6-454EFF0B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0A9A-466F-463D-AD46-A1CB6F86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07651-48B5-42EC-94D8-5440EEF0B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0716-C924-4645-92EF-71D973A0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4419B-C127-4E49-A9B8-C57B0836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D07C-CBF2-4B63-A1B0-326073DE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655F-B7C4-428C-B3D1-B90EF07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AE7C-ECD0-4429-A994-F5688296964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761-B1A4-470F-845C-A9BA5E835E7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90720" y="1773000"/>
            <a:ext cx="64008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ódulo Gestión de Proye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ofesor Eduardo Contrer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52108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7236000" y="260280"/>
          <a:ext cx="105696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260280"/>
                    <a:ext cx="10569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187280" y="544500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ahoma"/>
              </a:rPr>
              <a:t>Diplomado de Preparación y Evaluación Social de Proye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ahoma"/>
              </a:rPr>
              <a:t>Ministerio de Planificación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Héctor Sanín - Consul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Defina el obje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286840" y="211680"/>
            <a:ext cx="615960" cy="601200"/>
            <a:chOff x="8286840" y="211680"/>
            <a:chExt cx="615960" cy="601200"/>
          </a:xfrm>
        </p:grpSpPr>
        <p:sp>
          <p:nvSpPr>
            <p:cNvPr id="356" name=""/>
            <p:cNvSpPr/>
            <p:nvPr/>
          </p:nvSpPr>
          <p:spPr>
            <a:xfrm rot="2700000">
              <a:off x="8549640" y="230760"/>
              <a:ext cx="8892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700000">
              <a:off x="8467560" y="31068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700000">
              <a:off x="838620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700000">
              <a:off x="8632440" y="310680"/>
              <a:ext cx="88920" cy="82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700000">
              <a:off x="855000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700000">
              <a:off x="846648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700000">
              <a:off x="87991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700000">
              <a:off x="871776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700000">
              <a:off x="838620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0000">
              <a:off x="83023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700000">
              <a:off x="8550000" y="710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700000">
              <a:off x="8632440" y="629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700000">
              <a:off x="8467560" y="62964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700000">
              <a:off x="855000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0000">
              <a:off x="86317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700000">
              <a:off x="871776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95280" y="914400"/>
            <a:ext cx="1447920" cy="129384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ici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914400"/>
            <a:ext cx="1447920" cy="129528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733920" y="1219320"/>
            <a:ext cx="1679400" cy="647640"/>
            <a:chOff x="3733920" y="1219320"/>
            <a:chExt cx="1679400" cy="647640"/>
          </a:xfrm>
        </p:grpSpPr>
        <p:sp>
          <p:nvSpPr>
            <p:cNvPr id="375" name=""/>
            <p:cNvSpPr/>
            <p:nvPr/>
          </p:nvSpPr>
          <p:spPr>
            <a:xfrm>
              <a:off x="3733920" y="1219320"/>
              <a:ext cx="1679400" cy="647640"/>
            </a:xfrm>
            <a:prstGeom prst="rightArrow">
              <a:avLst>
                <a:gd name="adj1" fmla="val 50000"/>
                <a:gd name="adj2" fmla="val 64828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2600" y="1390680"/>
              <a:ext cx="1460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YEC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20760" y="2514600"/>
            <a:ext cx="16513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87840" y="2438280"/>
            <a:ext cx="3100680" cy="70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PÓSITO 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BLEMA RESUEL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8600" y="4114800"/>
            <a:ext cx="4114800" cy="838080"/>
            <a:chOff x="228600" y="4114800"/>
            <a:chExt cx="4114800" cy="838080"/>
          </a:xfrm>
        </p:grpSpPr>
        <p:sp>
          <p:nvSpPr>
            <p:cNvPr id="380" name=""/>
            <p:cNvSpPr/>
            <p:nvPr/>
          </p:nvSpPr>
          <p:spPr>
            <a:xfrm>
              <a:off x="374040" y="4114800"/>
              <a:ext cx="35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Sistema de transpor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úblico inefici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" y="4114800"/>
              <a:ext cx="411480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800600" y="4114800"/>
            <a:ext cx="4114800" cy="838080"/>
            <a:chOff x="4800600" y="411480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5280840" y="4114800"/>
              <a:ext cx="35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Sistema de transpor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úblico efici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00600" y="4114800"/>
              <a:ext cx="411480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419720" y="3962520"/>
            <a:ext cx="30456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880" y="5334120"/>
            <a:ext cx="827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ahoma"/>
              </a:rPr>
              <a:t>Si no mido el objetivo, no sabré si lo estoy logrand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ida el obje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86840" y="211680"/>
            <a:ext cx="615960" cy="601200"/>
            <a:chOff x="8286840" y="211680"/>
            <a:chExt cx="615960" cy="601200"/>
          </a:xfrm>
        </p:grpSpPr>
        <p:sp>
          <p:nvSpPr>
            <p:cNvPr id="390" name=""/>
            <p:cNvSpPr/>
            <p:nvPr/>
          </p:nvSpPr>
          <p:spPr>
            <a:xfrm rot="2700000">
              <a:off x="8549640" y="230760"/>
              <a:ext cx="8892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700000">
              <a:off x="8467560" y="31068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700000">
              <a:off x="838620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700000">
              <a:off x="8632440" y="310680"/>
              <a:ext cx="88920" cy="82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700000">
              <a:off x="855000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0000">
              <a:off x="846648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700000">
              <a:off x="87991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700000">
              <a:off x="871776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700000">
              <a:off x="838620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700000">
              <a:off x="83023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0000">
              <a:off x="8550000" y="710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700000">
              <a:off x="8632440" y="629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700000">
              <a:off x="8467560" y="62964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700000">
              <a:off x="855000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700000">
              <a:off x="86317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0000">
              <a:off x="871776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35120" y="914400"/>
            <a:ext cx="7166880" cy="2895120"/>
            <a:chOff x="735120" y="914400"/>
            <a:chExt cx="7166880" cy="2895120"/>
          </a:xfrm>
        </p:grpSpPr>
        <p:sp>
          <p:nvSpPr>
            <p:cNvPr id="407" name=""/>
            <p:cNvSpPr/>
            <p:nvPr/>
          </p:nvSpPr>
          <p:spPr>
            <a:xfrm>
              <a:off x="1638000" y="914400"/>
              <a:ext cx="1225440" cy="117036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tu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ici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59440" y="914400"/>
              <a:ext cx="1225440" cy="1171800"/>
            </a:xfrm>
            <a:prstGeom prst="ellipse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tu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bjetiv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702240" y="1190160"/>
              <a:ext cx="1421280" cy="585720"/>
              <a:chOff x="3702240" y="1190160"/>
              <a:chExt cx="1421280" cy="585720"/>
            </a:xfrm>
          </p:grpSpPr>
          <p:sp>
            <p:nvSpPr>
              <p:cNvPr id="410" name=""/>
              <p:cNvSpPr/>
              <p:nvPr/>
            </p:nvSpPr>
            <p:spPr>
              <a:xfrm>
                <a:off x="3702240" y="1190160"/>
                <a:ext cx="1421280" cy="585720"/>
              </a:xfrm>
              <a:prstGeom prst="rightArrow">
                <a:avLst>
                  <a:gd name="adj1" fmla="val 50000"/>
                  <a:gd name="adj2" fmla="val 60664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13400" y="1342800"/>
                <a:ext cx="131256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YECTO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575000" y="2247120"/>
              <a:ext cx="150192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BLEM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98320" y="2179440"/>
              <a:ext cx="280368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PÓSITO =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BLEMA RESUEL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35120" y="2913480"/>
              <a:ext cx="3483000" cy="758520"/>
              <a:chOff x="735120" y="2913480"/>
              <a:chExt cx="3483000" cy="758520"/>
            </a:xfrm>
          </p:grpSpPr>
          <p:sp>
            <p:nvSpPr>
              <p:cNvPr id="415" name=""/>
              <p:cNvSpPr/>
              <p:nvPr/>
            </p:nvSpPr>
            <p:spPr>
              <a:xfrm>
                <a:off x="1005120" y="298368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Sistema de transpor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úblico ineficien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5120" y="2913480"/>
                <a:ext cx="3483000" cy="758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605120" y="2913480"/>
              <a:ext cx="3289320" cy="758520"/>
              <a:chOff x="4605120" y="2913480"/>
              <a:chExt cx="3289320" cy="758520"/>
            </a:xfrm>
          </p:grpSpPr>
          <p:sp>
            <p:nvSpPr>
              <p:cNvPr id="418" name=""/>
              <p:cNvSpPr/>
              <p:nvPr/>
            </p:nvSpPr>
            <p:spPr>
              <a:xfrm>
                <a:off x="5052960" y="298368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Sistema de transpor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úblico eficien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05120" y="2913480"/>
                <a:ext cx="3289320" cy="758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4282560" y="2775600"/>
              <a:ext cx="193320" cy="1033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179240" y="4267080"/>
            <a:ext cx="43718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iempo medio de desplazamient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 los usuarios del sistema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ransporte  público disminuido 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 58%,pasando de 120 a 50 minu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final del cuarto año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9720" y="373392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dor m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54520" y="4572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ínea de b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51840" y="579132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iempo medio 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splazamien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61440" y="58672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20 minu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51760" y="5867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50 minu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5638680"/>
            <a:ext cx="1522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Tenga claros los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2. El buen gerente de proyecto tiene clar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40458c"/>
                </a:solidFill>
                <a:latin typeface="Tahoma"/>
              </a:rPr>
              <a:t>Qué debe entregar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O sea, los</a:t>
            </a:r>
            <a:r>
              <a:rPr b="1" lang="es-ES_tradnl" sz="5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800" spc="-1" strike="noStrike">
                <a:solidFill>
                  <a:srgbClr val="40458c"/>
                </a:solidFill>
                <a:latin typeface="Tahoma"/>
              </a:rPr>
              <a:t>productos</a:t>
            </a:r>
            <a:r>
              <a:rPr b="1" lang="es-ES_tradnl" sz="5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resultantes de la ejecución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071360" cy="1068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21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4040" y="60948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INDICADORES de COMPONENTES (PRODUCTOS 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772400" y="3276720"/>
            <a:ext cx="977760" cy="819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661160" y="4343400"/>
            <a:ext cx="1177920" cy="868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006960" y="583236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22860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. Diseñado un nuevo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e rutas de transporte urb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327672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. Reconstruidas las vías d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nuevo sistema de rut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267080"/>
            <a:ext cx="3200400" cy="838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. Asignado el parqu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utomotor para las rut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52578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. Educada la ciudadanía pa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funcionamiento del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600200"/>
            <a:ext cx="3200400" cy="5335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1600200"/>
            <a:ext cx="3200400" cy="5335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INDICAD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22860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Sistema nuevo convenido con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los involucrados y reglamento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probado al final del año 1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91120" y="327672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Reconstruidos 20 Km. de vías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con las especificaciones exigidas,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l final del año 2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4267080"/>
            <a:ext cx="3200400" cy="838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signados 200 automotores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rticulados con capacidad d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120 personas, al final del año 2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52578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El 90% de la ciudadanía está enterad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del nuevo sistema y el 75% está ap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para utilizarlo al final del año  2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3809880"/>
            <a:ext cx="5562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Relaciónese con los involucrad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¿Quiénes son </a:t>
            </a:r>
            <a:r>
              <a:rPr b="1" lang="es-ES_tradnl" sz="2800" spc="-1" strike="noStrike">
                <a:solidFill>
                  <a:srgbClr val="b2b2b2"/>
                </a:solidFill>
                <a:latin typeface="Comic Sans MS"/>
              </a:rPr>
              <a:t>INVOLUCRADOS</a:t>
            </a: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Personas, instituciones o grupos socia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afectados por 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 que se mueven en el entorno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 que pueden participar en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914400" y="225360"/>
            <a:ext cx="17463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Comic Sans MS"/>
              </a:rPr>
              <a:t>Participación de los involucr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Con base en el mapa de involucrados el equipo de proyecto diseña y aplica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estrategias participativas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 que e abran espacio sociopolítico al proyecto y propicien la intervención efectiva y el compromiso de los involucrados con la ejecución del proy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934320" y="487692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66"/>
                </a:solidFill>
                <a:latin typeface="Tahoma"/>
              </a:rPr>
              <a:t>Pasos para análisis y gestión de rela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 Mapa de involucr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2. Diseño de estrategias participa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 Realización de las estrategi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657600" y="3124080"/>
            <a:ext cx="1219320" cy="1143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jecuto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1240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Cáma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l lib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Entid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inanci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0600" y="1523880"/>
            <a:ext cx="914400" cy="8384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3657600"/>
            <a:ext cx="914400" cy="838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Organism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regulad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4648320"/>
            <a:ext cx="914400" cy="838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Minister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 educ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343400"/>
            <a:ext cx="9144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roveed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8120" y="1752480"/>
            <a:ext cx="914400" cy="8384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182880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Administrador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docent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4952880"/>
            <a:ext cx="914400" cy="8384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acult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 Educ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514600"/>
            <a:ext cx="30456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76560" y="2514600"/>
            <a:ext cx="990360" cy="762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105160" y="3505320"/>
            <a:ext cx="6094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95680" y="4419720"/>
            <a:ext cx="152640" cy="6094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580920" y="4343400"/>
            <a:ext cx="30492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666880" y="4038480"/>
            <a:ext cx="91440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19160" y="3581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743200" y="2743200"/>
            <a:ext cx="91440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3733560" y="266652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105520" y="3962160"/>
            <a:ext cx="12952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4800600" y="4190760"/>
            <a:ext cx="91440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1.1 Identificación de involucrad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76520" y="1905120"/>
            <a:ext cx="914400" cy="838080"/>
            <a:chOff x="1676520" y="1905120"/>
            <a:chExt cx="914400" cy="838080"/>
          </a:xfrm>
        </p:grpSpPr>
        <p:sp>
          <p:nvSpPr>
            <p:cNvPr id="485" name=""/>
            <p:cNvSpPr/>
            <p:nvPr/>
          </p:nvSpPr>
          <p:spPr>
            <a:xfrm>
              <a:off x="1676520" y="1905120"/>
              <a:ext cx="914400" cy="8380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10360" y="2233440"/>
              <a:ext cx="813240" cy="246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40458c"/>
                  </a:solidFill>
                  <a:latin typeface="Times New Roman"/>
                </a:rPr>
                <a:t>Estudiant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829760" y="17892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rofes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01040" y="190512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adres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amili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04960" y="548640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Municip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30760" y="4419720"/>
            <a:ext cx="876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imes New Roman"/>
              </a:rPr>
              <a:t>Expectativa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: Apreciación de la importancia que el involucrado le atribuye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al área de interés considerada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b2b2b2"/>
                </a:solidFill>
                <a:latin typeface="Times New Roman"/>
              </a:rPr>
              <a:t>Positiva (+)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 si el involucrado percibe beneficios por parte del proyect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Negativa (-)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 si se percibe que el proyecto traslada costos o lesiona intereses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imes New Roman"/>
              </a:rPr>
              <a:t>Fuerza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: Capacidad de influir de alguna forma en el proyect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49400" y="108108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06720" y="1081080"/>
            <a:ext cx="17229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Expecta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49400" y="161460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9400" y="214776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49400" y="268128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49400" y="321480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49400" y="374796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73160" y="167652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74600" y="220968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3160" y="274320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73160" y="327672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60200" y="382428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106668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74400" y="106668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16002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213372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266688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32004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373392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28720" y="16621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30520" y="219564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28720" y="27288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28720" y="32623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6120" y="380988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43600" y="10666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79760" y="1066680"/>
            <a:ext cx="15706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Result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16002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21337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26668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32004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43600" y="37339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16240" y="166212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17680" y="219564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67360" y="272880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67360" y="326232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4760" y="380988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5520" y="16765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5520" y="2209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25520" y="27432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5520" y="32767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5520" y="38098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4520" y="16765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64520" y="22096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64520" y="27432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4520" y="32767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64520" y="38098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08240" y="11430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46160" y="11430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1.2 Valoración de expectativas, fuerzas y resultant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6618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3333cc"/>
                </a:solidFill>
                <a:latin typeface="Tahoma"/>
              </a:rPr>
              <a:t>Gestión de Proyectos</a:t>
            </a:r>
            <a:br>
              <a:rPr sz="8000"/>
            </a:br>
            <a:br>
              <a:rPr sz="8000"/>
            </a:b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ofesor: Eduardo Contrera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Presentación adaptada de curso de Héctor Sanín – Gerencial  Ltda. - Ilpes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8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63600" y="682560"/>
            <a:ext cx="1922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Expectativ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1295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6858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Fuer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1295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68580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Resul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81480" y="1295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01680" y="1219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6120" y="78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38880" y="1295280"/>
            <a:ext cx="167652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Favoreced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Adept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38880" y="2895480"/>
            <a:ext cx="167652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Indifer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Neutr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38880" y="4495680"/>
            <a:ext cx="167652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Oposit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Obstaculizador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6858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Posi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Potenc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6765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20574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16765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43200" y="20574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16765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20574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438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2438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1480" y="2438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880" y="2895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43200" y="2895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895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63760" y="2895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1680" y="2819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32767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36576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32767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43200" y="36576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32767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36576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4038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4038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4038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4495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4495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495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3760" y="4495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1680" y="4419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48769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52578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43200" y="48769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43200" y="52578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81480" y="48769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52578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5638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5638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81480" y="5638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63760" y="1295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3760" y="2438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63760" y="4038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63760" y="5638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1680" y="2362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01680" y="3962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1680" y="5562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35812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2640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1680" y="7621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685800"/>
            <a:ext cx="815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1.2 Valoración de expectativas, fuerzas y resultantes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55760" y="2971800"/>
            <a:ext cx="8686080" cy="2329560"/>
            <a:chOff x="455760" y="2971800"/>
            <a:chExt cx="8686080" cy="2329560"/>
          </a:xfrm>
        </p:grpSpPr>
        <p:sp>
          <p:nvSpPr>
            <p:cNvPr id="601" name=""/>
            <p:cNvSpPr/>
            <p:nvPr/>
          </p:nvSpPr>
          <p:spPr>
            <a:xfrm>
              <a:off x="5171760" y="3516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71760" y="397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86160" y="3454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86160" y="3881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62400" y="297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76800" y="302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11240" y="2981160"/>
              <a:ext cx="2286000" cy="387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5160" y="3000240"/>
              <a:ext cx="828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teré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5760" y="2990880"/>
              <a:ext cx="1379520" cy="3776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8240" y="2987640"/>
              <a:ext cx="1310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volucrado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5760" y="3417840"/>
              <a:ext cx="1379520" cy="865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50480" y="29718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Observacio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11240" y="3444840"/>
              <a:ext cx="2286000" cy="36504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11240" y="3902040"/>
              <a:ext cx="2286000" cy="387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75440" y="2971800"/>
              <a:ext cx="198108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3429000"/>
              <a:ext cx="198108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98920" y="2971800"/>
              <a:ext cx="6858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3320" y="2971800"/>
              <a:ext cx="6858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55920" y="2971800"/>
              <a:ext cx="9144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65720" y="2971800"/>
              <a:ext cx="884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Fuerz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27760" y="30481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40458c"/>
                  </a:solidFill>
                  <a:latin typeface="Times New Roman"/>
                </a:rPr>
                <a:t>Expect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96400" y="297180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dic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55920" y="3429000"/>
              <a:ext cx="9144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55920" y="3886200"/>
              <a:ext cx="914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98920" y="388620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13320" y="342900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13320" y="388620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98920" y="342900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5440" y="3886200"/>
              <a:ext cx="19810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89000" y="3505320"/>
              <a:ext cx="17701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. Incrementada cobertu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7840" y="3733920"/>
              <a:ext cx="1236960" cy="2764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Padres de famili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42120" y="3465360"/>
              <a:ext cx="34236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+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75320" y="3465360"/>
              <a:ext cx="25704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13400" y="3465360"/>
              <a:ext cx="4093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59760" y="3922560"/>
              <a:ext cx="3070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7532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26360" y="3922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16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71760" y="4506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71760" y="4964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86160" y="4444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6160" y="4871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5760" y="4408560"/>
              <a:ext cx="1379520" cy="865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11240" y="4435560"/>
              <a:ext cx="2286000" cy="36504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05120" y="4876920"/>
              <a:ext cx="2286000" cy="387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. Incrementado valor matrícul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75440" y="4419720"/>
              <a:ext cx="198108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5920" y="4419720"/>
              <a:ext cx="9144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55920" y="4876920"/>
              <a:ext cx="914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98920" y="487692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13320" y="441972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13320" y="487692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98920" y="441972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75440" y="4876920"/>
              <a:ext cx="198108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9000" y="4495680"/>
              <a:ext cx="17701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. Incrementada cobertu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4280" y="4648320"/>
              <a:ext cx="822240" cy="27648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Profes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59760" y="4456080"/>
              <a:ext cx="30708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75320" y="4456080"/>
              <a:ext cx="25704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88200" y="4456080"/>
              <a:ext cx="4597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2120" y="4913280"/>
              <a:ext cx="3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+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75320" y="4913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05560" y="4952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76520" y="3505320"/>
              <a:ext cx="1983600" cy="24624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40458c"/>
                  </a:solidFill>
                  <a:latin typeface="Times New Roman"/>
                </a:rPr>
                <a:t>Alto interés y apoyo a este objetivo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01280" y="3962520"/>
              <a:ext cx="214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40458c"/>
                  </a:solidFill>
                  <a:latin typeface="Times New Roman"/>
                </a:rPr>
                <a:t>Oposición con capacidad de interveni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2560" y="4419720"/>
              <a:ext cx="2012400" cy="3682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Oposición con alto poder al aumento d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cobertura sin contratar más profesor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65720" y="4876920"/>
              <a:ext cx="20264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Hay interés si el incremento del valor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significa contratación de más profesor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12680" y="3962520"/>
              <a:ext cx="21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. Incrementado valor matrícul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657600" y="3124080"/>
            <a:ext cx="1219320" cy="1143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jecuto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365760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1320" y="464832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5181480"/>
            <a:ext cx="914400" cy="838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4952880"/>
            <a:ext cx="914400" cy="838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648320" y="2514600"/>
            <a:ext cx="30456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876560" y="2514600"/>
            <a:ext cx="990360" cy="762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5105160" y="3505320"/>
            <a:ext cx="6094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95680" y="4419720"/>
            <a:ext cx="152640" cy="6094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580920" y="4343400"/>
            <a:ext cx="30492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895480" y="4419720"/>
            <a:ext cx="91440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819160" y="3581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2743200" y="2743200"/>
            <a:ext cx="91440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33560" y="266652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105520" y="3962160"/>
            <a:ext cx="12952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800600" y="4190760"/>
            <a:ext cx="91440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3 Analizar categorías de involucrados por áreas de interés u objetivos (componentes)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800600" y="1523880"/>
            <a:ext cx="914400" cy="838440"/>
            <a:chOff x="4800600" y="1523880"/>
            <a:chExt cx="914400" cy="838440"/>
          </a:xfrm>
        </p:grpSpPr>
        <p:sp>
          <p:nvSpPr>
            <p:cNvPr id="685" name=""/>
            <p:cNvSpPr/>
            <p:nvPr/>
          </p:nvSpPr>
          <p:spPr>
            <a:xfrm>
              <a:off x="4800600" y="1523880"/>
              <a:ext cx="914400" cy="838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29760" y="178920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Profes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048120" y="1752480"/>
            <a:ext cx="914400" cy="838440"/>
            <a:chOff x="3048120" y="1752480"/>
            <a:chExt cx="914400" cy="838440"/>
          </a:xfrm>
        </p:grpSpPr>
        <p:sp>
          <p:nvSpPr>
            <p:cNvPr id="688" name=""/>
            <p:cNvSpPr/>
            <p:nvPr/>
          </p:nvSpPr>
          <p:spPr>
            <a:xfrm>
              <a:off x="3048120" y="1752480"/>
              <a:ext cx="914400" cy="838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01040" y="1905120"/>
              <a:ext cx="81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Padres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famili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+2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 rot="21115200">
            <a:off x="2514600" y="1480680"/>
            <a:ext cx="3581280" cy="13716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06560" y="1600200"/>
            <a:ext cx="238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1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Incrementar la cobertur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752480" y="3200400"/>
            <a:ext cx="914400" cy="838080"/>
            <a:chOff x="1752480" y="3200400"/>
            <a:chExt cx="914400" cy="838080"/>
          </a:xfrm>
        </p:grpSpPr>
        <p:sp>
          <p:nvSpPr>
            <p:cNvPr id="693" name=""/>
            <p:cNvSpPr/>
            <p:nvPr/>
          </p:nvSpPr>
          <p:spPr>
            <a:xfrm>
              <a:off x="1752480" y="3200400"/>
              <a:ext cx="914400" cy="8380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2560" y="3465360"/>
              <a:ext cx="180720" cy="459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676520" y="4267080"/>
            <a:ext cx="914400" cy="838440"/>
            <a:chOff x="1676520" y="4267080"/>
            <a:chExt cx="914400" cy="838440"/>
          </a:xfrm>
        </p:grpSpPr>
        <p:sp>
          <p:nvSpPr>
            <p:cNvPr id="696" name=""/>
            <p:cNvSpPr/>
            <p:nvPr/>
          </p:nvSpPr>
          <p:spPr>
            <a:xfrm>
              <a:off x="1676520" y="4267080"/>
              <a:ext cx="914400" cy="838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46240" y="4419720"/>
              <a:ext cx="18432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295280" y="2666880"/>
            <a:ext cx="1752840" cy="289584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40" y="5791320"/>
            <a:ext cx="32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2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Incrementar valor de las matrícul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85800" y="4494960"/>
            <a:ext cx="533520" cy="1295640"/>
          </a:xfrm>
          <a:custGeom>
            <a:avLst/>
            <a:gdLst>
              <a:gd name="textAreaLeft" fmla="*/ 71280 w 533520"/>
              <a:gd name="textAreaRight" fmla="*/ 462240 w 533520"/>
              <a:gd name="textAreaTop" fmla="*/ 226440 h 1295640"/>
              <a:gd name="textAreaBottom" fmla="*/ 939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02520" y="35416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Profes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5360" y="4343400"/>
            <a:ext cx="76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Padres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famili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-1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171480" y="167652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514600"/>
            <a:ext cx="2438280" cy="335268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15320" y="579132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j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696080" y="47242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2. Diseño de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strategias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ambientación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del proyecto y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manejo de las relaciones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6836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1 Estrategias gen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ivulgación y promoción para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unicar los objetivo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brirle espacio en la opinión públ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acilitar apoyo y adepción sociopolít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2 Estrategias específicas o foca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ocer expectativas de grupos específic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Resolver problemas ligados a expectativ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Generar espacios de conciliación y logro de apoy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venir mecanismos para aplicar soluciones convenid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3 Estrategias organizativ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iseñar mecanismos de articulación y de cooper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efinir grupos consultivos, comités interinstitucionales y equipos de seguimien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121440" y="1989000"/>
            <a:ext cx="302256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3. Definición de un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agenda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para l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gestión de las relaciones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3.1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y programación y ejecución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tividades de comunicación por distintas for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uniones, talleres, foros para negoci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uesta en práctica de compromi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guimiento a compromi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3.2 Responsab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Designar encargados de manejar las distintas rela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as de alta importancia estratégica en cabeza del Gerente de la 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as de segundo orden en cabeza de gerentes de compone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poyarse en otros recursos político-institucionales para fortalecer la capacidad negociadora: El Ministro, el Líder Comunitario, el Lider polític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8"/>
          <a:stretch/>
        </p:blipFill>
        <p:spPr>
          <a:xfrm>
            <a:off x="6781680" y="1219320"/>
            <a:ext cx="1968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1371600" y="609480"/>
            <a:ext cx="6477120" cy="5791320"/>
            <a:chOff x="1371600" y="609480"/>
            <a:chExt cx="6477120" cy="5791320"/>
          </a:xfrm>
        </p:grpSpPr>
        <p:sp>
          <p:nvSpPr>
            <p:cNvPr id="714" name=""/>
            <p:cNvSpPr/>
            <p:nvPr/>
          </p:nvSpPr>
          <p:spPr>
            <a:xfrm>
              <a:off x="5334120" y="114300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cc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76720" y="60948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Identificación de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34120" y="198108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cc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76720" y="144792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Apreciación - valora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34120" y="281952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76720" y="228600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Análisis de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76720" y="312408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general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76720" y="396252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focalizad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76720" y="480060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organizativ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1600" y="1295280"/>
              <a:ext cx="1295280" cy="838440"/>
            </a:xfrm>
            <a:prstGeom prst="beve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Mapa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Involucrad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71600" y="3809880"/>
              <a:ext cx="1295280" cy="838440"/>
            </a:xfrm>
            <a:prstGeom prst="bevel">
              <a:avLst>
                <a:gd name="adj" fmla="val 125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Diseño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strategi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71600" y="5562720"/>
              <a:ext cx="1295280" cy="838080"/>
            </a:xfrm>
            <a:prstGeom prst="beve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jecu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strategi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9520" y="60948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9520" y="312408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9520" y="5562720"/>
              <a:ext cx="304560" cy="761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76720" y="5715000"/>
              <a:ext cx="4572000" cy="457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Gestión de relaciones con los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34120" y="541008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cce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stCxn id="720" idx="2"/>
              <a:endCxn id="721" idx="0"/>
            </p:cNvCxnSpPr>
            <p:nvPr/>
          </p:nvCxnSpPr>
          <p:spPr>
            <a:xfrm flipV="1" rot="10800000">
              <a:off x="5562000" y="3580920"/>
              <a:ext cx="1080" cy="381960"/>
            </a:xfrm>
            <a:prstGeom prst="bentConnector2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32" name=""/>
            <p:cNvCxnSpPr>
              <a:stCxn id="721" idx="2"/>
              <a:endCxn id="722" idx="0"/>
            </p:cNvCxnSpPr>
            <p:nvPr/>
          </p:nvCxnSpPr>
          <p:spPr>
            <a:xfrm flipV="1" rot="10800000">
              <a:off x="5562000" y="4419360"/>
              <a:ext cx="1080" cy="381600"/>
            </a:xfrm>
            <a:prstGeom prst="bentConnector2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40458c"/>
                </a:solidFill>
                <a:latin typeface="Comic Sans MS"/>
              </a:rPr>
              <a:t>Organice la Unidad Ejecutora</a:t>
            </a: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40458c"/>
                </a:solidFill>
                <a:latin typeface="Comic Sans MS"/>
              </a:rPr>
              <a:t>y sus relaciones</a:t>
            </a: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170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Pasos para el diseño de la </a:t>
            </a:r>
            <a:br>
              <a:rPr sz="3600"/>
            </a:b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Organización del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dentificar el trabajo a realizar      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(Componentes y Actividades del M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justar la Estructura Analítica del Proy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finir responsabilidades, delegaciones y autorizaciones (“empowerment”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ablecer relaciones entre grupos de trabaj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finir inserción instituc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172200" y="487692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72428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2448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324480" y="5105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2428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3962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2819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0040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00200" y="1676520"/>
            <a:ext cx="6095880" cy="914400"/>
            <a:chOff x="1600200" y="1676520"/>
            <a:chExt cx="6095880" cy="914400"/>
          </a:xfrm>
        </p:grpSpPr>
        <p:sp>
          <p:nvSpPr>
            <p:cNvPr id="751" name=""/>
            <p:cNvSpPr/>
            <p:nvPr/>
          </p:nvSpPr>
          <p:spPr>
            <a:xfrm>
              <a:off x="472428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0040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60020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040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020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Verif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2448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Supues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0040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Indic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62120" y="173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62840" y="288144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ropósi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62480" y="402444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Compon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2720" y="510552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12600" y="228600"/>
            <a:ext cx="773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1. Identificar trabajo: Componentes y Actividades del 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0020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Concep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23880" y="6324480"/>
            <a:ext cx="6398640" cy="276480"/>
            <a:chOff x="1523880" y="6324480"/>
            <a:chExt cx="6398640" cy="276480"/>
          </a:xfrm>
        </p:grpSpPr>
        <p:sp>
          <p:nvSpPr>
            <p:cNvPr id="769" name=""/>
            <p:cNvSpPr/>
            <p:nvPr/>
          </p:nvSpPr>
          <p:spPr>
            <a:xfrm>
              <a:off x="1523880" y="6440400"/>
              <a:ext cx="380880" cy="75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95400" y="6324480"/>
              <a:ext cx="227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Ambito de responsabilidad direc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6440400"/>
              <a:ext cx="38088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75360" y="6324480"/>
              <a:ext cx="27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Elementos referenciales, bajo observ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523880" y="3886200"/>
            <a:ext cx="47246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20" y="3897360"/>
            <a:ext cx="151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REFERENCIA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BASICA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PARA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ORGANIZACIÓN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66680" y="41911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4567320" y="3041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82880" y="3203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30720" y="320364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77120" y="3203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82880" y="3203640"/>
            <a:ext cx="1684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67320" y="3203640"/>
            <a:ext cx="5634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30720" y="3203640"/>
            <a:ext cx="22464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82880" y="372420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5720" y="3886200"/>
            <a:ext cx="1800" cy="160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03560" y="3886200"/>
            <a:ext cx="1800" cy="160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5720" y="3886200"/>
            <a:ext cx="1127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82880" y="3886200"/>
            <a:ext cx="11206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0720" y="4046400"/>
            <a:ext cx="20779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84080" y="410364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CROACTIVIDAD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0720" y="4046400"/>
            <a:ext cx="20779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03560" y="440532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1760" y="456732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03560" y="456732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64280" y="456732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1760" y="4567320"/>
            <a:ext cx="1261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03560" y="4567320"/>
            <a:ext cx="126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00320" y="4729320"/>
            <a:ext cx="109224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82400" y="4786200"/>
            <a:ext cx="93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0320" y="4729320"/>
            <a:ext cx="109224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60680" y="4729320"/>
            <a:ext cx="109224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22600" y="4786200"/>
            <a:ext cx="9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60680" y="4729320"/>
            <a:ext cx="109224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21400" y="4729320"/>
            <a:ext cx="109188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04920" y="4786200"/>
            <a:ext cx="93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21400" y="4729320"/>
            <a:ext cx="109188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967120" y="4046400"/>
            <a:ext cx="20797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30480" y="410364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CROACTIVIDAD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67120" y="4046400"/>
            <a:ext cx="20797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47880" y="3365640"/>
            <a:ext cx="207792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9484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47880" y="3365640"/>
            <a:ext cx="207792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94280" y="3365640"/>
            <a:ext cx="207936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268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94280" y="3365640"/>
            <a:ext cx="207936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2120" y="3365640"/>
            <a:ext cx="207792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8872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42120" y="3365640"/>
            <a:ext cx="207792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54600" y="2682720"/>
            <a:ext cx="12319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18320" y="2738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54600" y="2682720"/>
            <a:ext cx="12319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71880" y="5867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Times New Roman"/>
              </a:rPr>
              <a:t>* Work Breakdown Structure (WB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64520" y="53352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2. Ajustar la Estructura Analítica del Proyecto - EAP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223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230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088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581360"/>
            <a:ext cx="1439640" cy="13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Gestión de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Proyecto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987280" y="5661000"/>
            <a:ext cx="64764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71880" y="5867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* Work Breakdown Structure (WB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64520" y="53352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2. Ajustar la Estructura Analítica del Proyecto - EAP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organización interna del proyecto es la conjugación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ponentes sustan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ponentes de gestión o de apoy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os componentes sustantivos se derivan del M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os componentes de gestión generalmente se aglutinan en un componente adicional denominado “GERENCIA” o “GESTIÓ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57200" y="3808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 Asignar responsabilida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aso: Construcción Parque Comu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600200" y="1828800"/>
            <a:ext cx="5781600" cy="3313080"/>
            <a:chOff x="1600200" y="1828800"/>
            <a:chExt cx="5781600" cy="3313080"/>
          </a:xfrm>
        </p:grpSpPr>
        <p:sp>
          <p:nvSpPr>
            <p:cNvPr id="828" name=""/>
            <p:cNvSpPr/>
            <p:nvPr/>
          </p:nvSpPr>
          <p:spPr>
            <a:xfrm>
              <a:off x="1758960" y="3597120"/>
              <a:ext cx="14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58960" y="396540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58960" y="431316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758960" y="4659480"/>
              <a:ext cx="11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58960" y="500688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58960" y="3965400"/>
              <a:ext cx="144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58960" y="4313160"/>
              <a:ext cx="144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758960" y="4659480"/>
              <a:ext cx="1440" cy="34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6984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10680" y="387684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OT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6984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984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06440" y="422424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QUIP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984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9840" y="45306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45520" y="4572000"/>
              <a:ext cx="90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TERIALE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69840" y="45306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69840" y="487692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42200" y="4917960"/>
              <a:ext cx="1113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NO DE OBR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69840" y="487692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00200" y="2990880"/>
              <a:ext cx="131904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6680" y="3032280"/>
              <a:ext cx="79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78120" y="320364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 INSUM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00080" y="337356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Secretaria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00200" y="2990880"/>
              <a:ext cx="13190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95360" y="3597120"/>
              <a:ext cx="180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95360" y="396540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95360" y="431316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5360" y="4659480"/>
              <a:ext cx="111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95360" y="3965400"/>
              <a:ext cx="180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95360" y="4313160"/>
              <a:ext cx="180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0660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08840" y="3876840"/>
              <a:ext cx="1041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HACER HOY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0660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0660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53040" y="4224240"/>
              <a:ext cx="117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TRAER PLANTA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0660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06600" y="45306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93160" y="4572000"/>
              <a:ext cx="66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LANTAR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06600" y="45306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35160" y="2990880"/>
              <a:ext cx="131940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92200" y="3032280"/>
              <a:ext cx="85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RDINERI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61320" y="3203640"/>
              <a:ext cx="73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Jardinero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35160" y="2990880"/>
              <a:ext cx="13194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30680" y="3597120"/>
              <a:ext cx="14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30680" y="396540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30680" y="431316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30680" y="4659480"/>
              <a:ext cx="111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30680" y="500688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30680" y="3965400"/>
              <a:ext cx="144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30680" y="4313160"/>
              <a:ext cx="144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30680" y="4659480"/>
              <a:ext cx="1440" cy="34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41920" y="3835440"/>
              <a:ext cx="120312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29920" y="3876840"/>
              <a:ext cx="66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RENAJE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41920" y="3835440"/>
              <a:ext cx="120312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41920" y="4183200"/>
              <a:ext cx="12031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91960" y="422424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NSTRUC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4183200"/>
              <a:ext cx="12031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41920" y="4530600"/>
              <a:ext cx="12031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91320" y="4572000"/>
              <a:ext cx="95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NSTAL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41920" y="4530600"/>
              <a:ext cx="12031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41920" y="4876920"/>
              <a:ext cx="120312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15160" y="491796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CABAD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41920" y="4876920"/>
              <a:ext cx="120312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71920" y="2990880"/>
              <a:ext cx="131904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92160" y="3032280"/>
              <a:ext cx="113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BRAS-JUEG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84480" y="320364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estr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71920" y="2990880"/>
              <a:ext cx="13190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65640" y="3597120"/>
              <a:ext cx="180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65640" y="3965400"/>
              <a:ext cx="112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65640" y="4313160"/>
              <a:ext cx="112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65640" y="3965400"/>
              <a:ext cx="180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7832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53640" y="387684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ROMO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7832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7832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70120" y="4224240"/>
              <a:ext cx="1072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APACIT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832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06880" y="2990880"/>
              <a:ext cx="131940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58880" y="303228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DUC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1200" y="3203640"/>
              <a:ext cx="995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MUNITARI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5760" y="3373560"/>
              <a:ext cx="134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Trabajadora Social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6880" y="2990880"/>
              <a:ext cx="13194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14520" y="1828800"/>
              <a:ext cx="1824120" cy="777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69640" y="187020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BJETIVO: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74520" y="204156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NSTRUC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82000" y="2212920"/>
              <a:ext cx="135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QUE COMUNAL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61680" y="2382840"/>
              <a:ext cx="182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RESPONSABLE: GERENTE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14520" y="1828800"/>
              <a:ext cx="182412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0" idx="0"/>
              <a:endCxn id="916" idx="2"/>
            </p:cNvCxnSpPr>
            <p:nvPr/>
          </p:nvCxnSpPr>
          <p:spPr>
            <a:xfrm flipV="1" rot="16200000">
              <a:off x="5205240" y="1628280"/>
              <a:ext cx="384840" cy="2340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8" name=""/>
            <p:cNvCxnSpPr>
              <a:stCxn id="895" idx="0"/>
              <a:endCxn id="916" idx="2"/>
            </p:cNvCxnSpPr>
            <p:nvPr/>
          </p:nvCxnSpPr>
          <p:spPr>
            <a:xfrm flipV="1" rot="16200000">
              <a:off x="4487040" y="2345760"/>
              <a:ext cx="384840" cy="90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9" name=""/>
            <p:cNvCxnSpPr>
              <a:stCxn id="871" idx="0"/>
              <a:endCxn id="916" idx="2"/>
            </p:cNvCxnSpPr>
            <p:nvPr/>
          </p:nvCxnSpPr>
          <p:spPr>
            <a:xfrm flipH="1" flipV="1" rot="5400000">
              <a:off x="3769200" y="2532240"/>
              <a:ext cx="384840" cy="532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20" name=""/>
            <p:cNvCxnSpPr>
              <a:stCxn id="852" idx="0"/>
              <a:endCxn id="916" idx="2"/>
            </p:cNvCxnSpPr>
            <p:nvPr/>
          </p:nvCxnSpPr>
          <p:spPr>
            <a:xfrm flipH="1" flipV="1" rot="5400000">
              <a:off x="3051720" y="1814760"/>
              <a:ext cx="384840" cy="196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921" name=""/>
          <p:cNvSpPr/>
          <p:nvPr/>
        </p:nvSpPr>
        <p:spPr>
          <a:xfrm>
            <a:off x="223560" y="5334120"/>
            <a:ext cx="430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Combinación de 2 criterios de organización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*</a:t>
            </a: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 Por producto (por componente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 Funcional (por actividades afine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f89f7"/>
                </a:solidFill>
                <a:latin typeface="Tahoma"/>
              </a:rPr>
              <a:t>Relaciones inter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Interdependencia de las activida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Funciones de apoy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Coordin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f89f7"/>
                </a:solidFill>
                <a:latin typeface="Tahoma"/>
              </a:rPr>
              <a:t>Relaciones exter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Grupos de apoy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Contrat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Supervi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457200" y="457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imes New Roman"/>
              </a:rPr>
              <a:t>4. Establecer relaciones entre grupos de trabaj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7"/>
          <a:stretch/>
        </p:blipFill>
        <p:spPr>
          <a:xfrm>
            <a:off x="5867280" y="3581280"/>
            <a:ext cx="228780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ahoma"/>
              </a:rPr>
              <a:t>Pasos para el diseño organizacional del proyecto</a:t>
            </a:r>
            <a:br>
              <a:rPr sz="2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5.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serción institucional</a:t>
            </a:r>
            <a:br>
              <a:rPr sz="3200"/>
            </a:br>
            <a:br>
              <a:rPr sz="3200"/>
            </a:b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ODALIDADES DE ORGANIZACIÓN E INSERC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por Proyect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Matricia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Combinad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352680" y="2139840"/>
          <a:ext cx="1828800" cy="98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139840"/>
                    <a:ext cx="18288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por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471600" y="2228760"/>
          <a:ext cx="82756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228760"/>
                    <a:ext cx="82756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5943600" y="2666880"/>
            <a:ext cx="2895480" cy="32004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30120" y="59436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signación de tareas específicas al proyecto dentro de la Organ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10080" y="5486400"/>
            <a:ext cx="99072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Matrici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4390920" y="22845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5268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6896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84880" y="25401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52680" y="2540160"/>
            <a:ext cx="2816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68960" y="2540160"/>
            <a:ext cx="21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90920" y="2540160"/>
            <a:ext cx="279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2480" y="3371760"/>
            <a:ext cx="180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2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2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2480" y="4094280"/>
            <a:ext cx="180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364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1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00560" y="3371760"/>
            <a:ext cx="144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00560" y="409428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00560" y="469440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0560" y="4094280"/>
            <a:ext cx="144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6160" y="4483080"/>
            <a:ext cx="202716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656160" y="4483080"/>
            <a:ext cx="202716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4136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2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216480" y="3371760"/>
            <a:ext cx="32040" cy="196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16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16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582960" y="2895480"/>
            <a:ext cx="125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69720" y="1806480"/>
            <a:ext cx="260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rección Superior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38160" y="5715000"/>
            <a:ext cx="50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signación simultánea de tareas específicas al proyect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y de tareas de las Areas Funcionales de la Organ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52480" y="5334120"/>
            <a:ext cx="4496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7652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Combinad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>
            <a:off x="4390920" y="22845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5268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6896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84880" y="25401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52680" y="2540160"/>
            <a:ext cx="2816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68960" y="2540160"/>
            <a:ext cx="21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90920" y="2540160"/>
            <a:ext cx="279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82480" y="3371760"/>
            <a:ext cx="180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2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2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2480" y="4094280"/>
            <a:ext cx="180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64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1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00560" y="3371760"/>
            <a:ext cx="144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00560" y="409428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00560" y="469440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4136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2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16480" y="3371760"/>
            <a:ext cx="32040" cy="196236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216480" y="4094280"/>
            <a:ext cx="257400" cy="144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216480" y="4694400"/>
            <a:ext cx="257400" cy="144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3880" y="388296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73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82960" y="2895480"/>
            <a:ext cx="125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69720" y="1806480"/>
            <a:ext cx="260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rección Superior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90080" y="5715000"/>
            <a:ext cx="47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Se dota al proyecto de su propia capac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Y se complementa con ser vicios de áreas funciona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2480" y="5334120"/>
            <a:ext cx="4496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7652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4476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0066"/>
                </a:solidFill>
                <a:latin typeface="Tahoma"/>
              </a:rPr>
              <a:t>ESTRUCTURA CLÁSICA DE PROGRAM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>
            <a:off x="109080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675600" y="1143000"/>
            <a:ext cx="1982160" cy="10688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c1eb"/>
                </a:solidFill>
                <a:latin typeface="Comic Sans MS"/>
              </a:rPr>
              <a:t>Proyec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c1eb"/>
                </a:solidFill>
                <a:latin typeface="Comic Sans MS"/>
              </a:rPr>
              <a:t>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9080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090800" y="51814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32" name=""/>
          <p:cNvCxnSpPr>
            <a:stCxn id="1026" idx="0"/>
            <a:endCxn id="1029" idx="2"/>
          </p:cNvCxnSpPr>
          <p:nvPr/>
        </p:nvCxnSpPr>
        <p:spPr>
          <a:xfrm flipH="1" flipV="1" rot="5400000">
            <a:off x="2712600" y="1245600"/>
            <a:ext cx="991440" cy="291852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3" name=""/>
          <p:cNvCxnSpPr>
            <a:stCxn id="1034" idx="0"/>
            <a:endCxn id="1029" idx="2"/>
          </p:cNvCxnSpPr>
          <p:nvPr/>
        </p:nvCxnSpPr>
        <p:spPr>
          <a:xfrm flipH="1" flipV="1" rot="5400000">
            <a:off x="4160520" y="2693520"/>
            <a:ext cx="991440" cy="2304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36" idx="0"/>
            <a:endCxn id="1029" idx="2"/>
          </p:cNvCxnSpPr>
          <p:nvPr/>
        </p:nvCxnSpPr>
        <p:spPr>
          <a:xfrm flipV="1" rot="16200000">
            <a:off x="5532120" y="1343880"/>
            <a:ext cx="991440" cy="272160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28" idx="1"/>
            <a:endCxn id="1026" idx="1"/>
          </p:cNvCxnSpPr>
          <p:nvPr/>
        </p:nvCxnSpPr>
        <p:spPr>
          <a:xfrm rot="10800000">
            <a:off x="608760" y="3398040"/>
            <a:ext cx="381960" cy="74844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8" name=""/>
          <p:cNvCxnSpPr>
            <a:stCxn id="1030" idx="1"/>
            <a:endCxn id="1026" idx="1"/>
          </p:cNvCxnSpPr>
          <p:nvPr/>
        </p:nvCxnSpPr>
        <p:spPr>
          <a:xfrm rot="10800000">
            <a:off x="608760" y="3398040"/>
            <a:ext cx="381960" cy="135828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1031" idx="1"/>
            <a:endCxn id="1026" idx="1"/>
          </p:cNvCxnSpPr>
          <p:nvPr/>
        </p:nvCxnSpPr>
        <p:spPr>
          <a:xfrm rot="10800000">
            <a:off x="608760" y="3398040"/>
            <a:ext cx="381960" cy="196776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34" name=""/>
          <p:cNvSpPr/>
          <p:nvPr/>
        </p:nvSpPr>
        <p:spPr>
          <a:xfrm>
            <a:off x="354060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8664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98664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86640" y="51814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40" idx="1"/>
            <a:endCxn id="1034" idx="1"/>
          </p:cNvCxnSpPr>
          <p:nvPr/>
        </p:nvCxnSpPr>
        <p:spPr>
          <a:xfrm rot="10800000">
            <a:off x="3504600" y="3398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41" idx="1"/>
            <a:endCxn id="1034" idx="1"/>
          </p:cNvCxnSpPr>
          <p:nvPr/>
        </p:nvCxnSpPr>
        <p:spPr>
          <a:xfrm rot="10800000">
            <a:off x="3504600" y="3398040"/>
            <a:ext cx="381600" cy="135828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5" name=""/>
          <p:cNvCxnSpPr>
            <a:stCxn id="1042" idx="1"/>
            <a:endCxn id="1034" idx="1"/>
          </p:cNvCxnSpPr>
          <p:nvPr/>
        </p:nvCxnSpPr>
        <p:spPr>
          <a:xfrm rot="10800000">
            <a:off x="3504600" y="3398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>
            <a:off x="628380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2984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3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2984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3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48" name=""/>
          <p:cNvCxnSpPr>
            <a:stCxn id="1046" idx="1"/>
            <a:endCxn id="1036" idx="1"/>
          </p:cNvCxnSpPr>
          <p:nvPr/>
        </p:nvCxnSpPr>
        <p:spPr>
          <a:xfrm rot="10800000">
            <a:off x="6247800" y="3398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9" name=""/>
          <p:cNvCxnSpPr>
            <a:stCxn id="1047" idx="1"/>
            <a:endCxn id="1036" idx="1"/>
          </p:cNvCxnSpPr>
          <p:nvPr/>
        </p:nvCxnSpPr>
        <p:spPr>
          <a:xfrm rot="10800000">
            <a:off x="6247800" y="3398040"/>
            <a:ext cx="381600" cy="135828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3986640" y="57913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50" idx="1"/>
            <a:endCxn id="1034" idx="1"/>
          </p:cNvCxnSpPr>
          <p:nvPr/>
        </p:nvCxnSpPr>
        <p:spPr>
          <a:xfrm rot="10800000">
            <a:off x="3504600" y="3398040"/>
            <a:ext cx="381600" cy="25772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6633360" y="1523880"/>
            <a:ext cx="15717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48320" y="2438280"/>
            <a:ext cx="1981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66680" y="1523880"/>
            <a:ext cx="3200400" cy="190512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¿Cuáles son l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limitacion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de este tipo 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representació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organigramática”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5764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0066"/>
                </a:solidFill>
                <a:latin typeface="Tahoma"/>
              </a:rPr>
              <a:t>Limitaciones de la estructura “organigramática de UEP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7" name=""/>
          <p:cNvSpPr/>
          <p:nvPr/>
        </p:nvSpPr>
        <p:spPr>
          <a:xfrm>
            <a:off x="97812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57240" y="1219320"/>
            <a:ext cx="1867680" cy="1068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Comic Sans MS"/>
              </a:rPr>
              <a:t>Proyec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Comic Sans MS"/>
              </a:rPr>
              <a:t>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9648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96480" y="525780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61" name=""/>
          <p:cNvCxnSpPr>
            <a:stCxn id="1055" idx="0"/>
            <a:endCxn id="1058" idx="2"/>
          </p:cNvCxnSpPr>
          <p:nvPr/>
        </p:nvCxnSpPr>
        <p:spPr>
          <a:xfrm flipH="1" flipV="1" rot="5400000">
            <a:off x="2620440" y="1306080"/>
            <a:ext cx="982080" cy="295992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2" name=""/>
          <p:cNvCxnSpPr>
            <a:stCxn id="1063" idx="0"/>
            <a:endCxn id="1058" idx="2"/>
          </p:cNvCxnSpPr>
          <p:nvPr/>
        </p:nvCxnSpPr>
        <p:spPr>
          <a:xfrm flipH="1" flipV="1" rot="5400000">
            <a:off x="4078440" y="2764080"/>
            <a:ext cx="982080" cy="4356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4" name=""/>
          <p:cNvCxnSpPr>
            <a:stCxn id="1065" idx="0"/>
            <a:endCxn id="1058" idx="2"/>
          </p:cNvCxnSpPr>
          <p:nvPr/>
        </p:nvCxnSpPr>
        <p:spPr>
          <a:xfrm flipV="1" rot="16200000">
            <a:off x="5450040" y="1435320"/>
            <a:ext cx="982080" cy="270108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57" idx="1"/>
            <a:endCxn id="1055" idx="1"/>
          </p:cNvCxnSpPr>
          <p:nvPr/>
        </p:nvCxnSpPr>
        <p:spPr>
          <a:xfrm rot="10800000">
            <a:off x="53280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59" idx="1"/>
            <a:endCxn id="1055" idx="1"/>
          </p:cNvCxnSpPr>
          <p:nvPr/>
        </p:nvCxnSpPr>
        <p:spPr>
          <a:xfrm rot="10800000">
            <a:off x="53280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0" idx="1"/>
            <a:endCxn id="1055" idx="1"/>
          </p:cNvCxnSpPr>
          <p:nvPr/>
        </p:nvCxnSpPr>
        <p:spPr>
          <a:xfrm rot="10800000">
            <a:off x="532800" y="3479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63" name=""/>
          <p:cNvSpPr/>
          <p:nvPr/>
        </p:nvSpPr>
        <p:spPr>
          <a:xfrm>
            <a:off x="347400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9196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91032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10320" y="525780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2" name=""/>
          <p:cNvCxnSpPr>
            <a:stCxn id="1069" idx="1"/>
            <a:endCxn id="1063" idx="1"/>
          </p:cNvCxnSpPr>
          <p:nvPr/>
        </p:nvCxnSpPr>
        <p:spPr>
          <a:xfrm rot="10800000">
            <a:off x="342828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70" idx="1"/>
            <a:endCxn id="1063" idx="1"/>
          </p:cNvCxnSpPr>
          <p:nvPr/>
        </p:nvCxnSpPr>
        <p:spPr>
          <a:xfrm rot="10800000">
            <a:off x="342828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1071" idx="1"/>
            <a:endCxn id="1063" idx="1"/>
          </p:cNvCxnSpPr>
          <p:nvPr/>
        </p:nvCxnSpPr>
        <p:spPr>
          <a:xfrm rot="10800000">
            <a:off x="3428280" y="3479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621720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3516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3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5352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3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5" idx="1"/>
            <a:endCxn id="1065" idx="1"/>
          </p:cNvCxnSpPr>
          <p:nvPr/>
        </p:nvCxnSpPr>
        <p:spPr>
          <a:xfrm rot="10800000">
            <a:off x="617148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76" idx="1"/>
            <a:endCxn id="1065" idx="1"/>
          </p:cNvCxnSpPr>
          <p:nvPr/>
        </p:nvCxnSpPr>
        <p:spPr>
          <a:xfrm rot="10800000">
            <a:off x="617148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79" name=""/>
          <p:cNvSpPr/>
          <p:nvPr/>
        </p:nvSpPr>
        <p:spPr>
          <a:xfrm>
            <a:off x="3910320" y="58672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80" name=""/>
          <p:cNvCxnSpPr>
            <a:stCxn id="1079" idx="1"/>
            <a:endCxn id="1063" idx="1"/>
          </p:cNvCxnSpPr>
          <p:nvPr/>
        </p:nvCxnSpPr>
        <p:spPr>
          <a:xfrm rot="10800000">
            <a:off x="3428280" y="3479040"/>
            <a:ext cx="381600" cy="25772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81" name=""/>
          <p:cNvSpPr/>
          <p:nvPr/>
        </p:nvSpPr>
        <p:spPr>
          <a:xfrm>
            <a:off x="6562440" y="1600200"/>
            <a:ext cx="1481760" cy="1067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0" y="2514600"/>
            <a:ext cx="1981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1295280"/>
            <a:ext cx="2209680" cy="1447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Propici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jerarquiz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y autoritaris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22096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acilita e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compartim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estanco”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Compon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no convers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76920" y="4876920"/>
            <a:ext cx="220968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induc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Trabajo en equi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209680" y="4800600"/>
            <a:ext cx="2210040" cy="1447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Impide visualiz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Las relac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intern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00800" y="3200400"/>
            <a:ext cx="2209680" cy="1447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apor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sobre acto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extern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553080" y="1295280"/>
            <a:ext cx="2210040" cy="1447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induce a 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gestión exter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05320" y="1371600"/>
            <a:ext cx="2209680" cy="1447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Limita 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Coordin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y la deleg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581280" y="2971800"/>
            <a:ext cx="2210040" cy="14479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7c1eb"/>
                </a:solidFill>
                <a:latin typeface="Times New Roman"/>
              </a:rPr>
              <a:t>Otr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EPCIÓN REL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Un buen diseño del mapa organizacional contempl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Identificar los actores clave, internos y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Especificar los actores clave, identificar, personificar la relación (desagregar categorías muy amplias o genérica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Precisar el tipo de relación (demanda, apoyo, control, comunicación, coordinació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Relaciónese 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con los</a:t>
            </a: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 involucr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Organic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 Unidad Ejecutora y sus rel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Program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Presupuest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Forme el equipo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gerenci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Lider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el equipo y gestione las relaciones extern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Gestione los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ontrole los 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ontrole la ejecu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Entregue 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productos y cierre 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Aprenda de la experi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696440" cy="1752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2666880"/>
            <a:ext cx="25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PREPAR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DE LA EJECU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3332160"/>
            <a:ext cx="7696080" cy="1752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80200" y="42400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084640"/>
            <a:ext cx="7696080" cy="865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84560" y="5408640"/>
            <a:ext cx="33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TÉRMINO DE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0066"/>
                </a:solidFill>
                <a:latin typeface="Tahoma"/>
              </a:rPr>
              <a:t>ORGANIZACIÓN RELACIONAL</a:t>
            </a:r>
            <a:br>
              <a:rPr sz="3200"/>
            </a:br>
            <a:r>
              <a:rPr b="0" lang="es-MX" sz="3000" spc="-1" strike="noStrike">
                <a:solidFill>
                  <a:srgbClr val="660066"/>
                </a:solidFill>
                <a:latin typeface="Tahoma"/>
              </a:rPr>
              <a:t>GERENCIA DE COMPONENTE</a:t>
            </a:r>
            <a:br>
              <a:rPr sz="3000"/>
            </a:br>
            <a:r>
              <a:rPr b="0" lang="es-MX" sz="3000" spc="-1" strike="noStrike">
                <a:solidFill>
                  <a:srgbClr val="660066"/>
                </a:solidFill>
                <a:latin typeface="Tahoma"/>
              </a:rPr>
              <a:t>NÚCLEO DE GESTIÓN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4" name=""/>
          <p:cNvSpPr/>
          <p:nvPr/>
        </p:nvSpPr>
        <p:spPr>
          <a:xfrm>
            <a:off x="3699720" y="4214880"/>
            <a:ext cx="2193840" cy="337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UB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248000" y="1600200"/>
            <a:ext cx="1652760" cy="70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PROGRA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(U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34200" y="48006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34200" y="54100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35680" y="29718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74280" y="2971800"/>
            <a:ext cx="20660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b7c1eb"/>
                </a:solidFill>
                <a:latin typeface="Comic Sans MS"/>
              </a:rPr>
              <a:t>COMPONENTE j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24280" y="251460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95480" y="2743200"/>
            <a:ext cx="601992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895480" y="3809880"/>
            <a:ext cx="6019920" cy="2514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24280" y="350532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861960" y="1447920"/>
            <a:ext cx="15717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6057720" y="1713960"/>
            <a:ext cx="60948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71280" y="4800600"/>
            <a:ext cx="1450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CONTR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6200000">
            <a:off x="5448240" y="300996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08" name=""/>
          <p:cNvCxnSpPr>
            <a:stCxn id="1094" idx="2"/>
            <a:endCxn id="1096" idx="1"/>
          </p:cNvCxnSpPr>
          <p:nvPr/>
        </p:nvCxnSpPr>
        <p:spPr>
          <a:xfrm flipH="1" rot="16200000">
            <a:off x="4848120" y="4499640"/>
            <a:ext cx="434160" cy="537480"/>
          </a:xfrm>
          <a:prstGeom prst="bentConnector2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09" name=""/>
          <p:cNvCxnSpPr>
            <a:stCxn id="1094" idx="2"/>
            <a:endCxn id="1097" idx="1"/>
          </p:cNvCxnSpPr>
          <p:nvPr/>
        </p:nvCxnSpPr>
        <p:spPr>
          <a:xfrm flipH="1" rot="16200000">
            <a:off x="4543200" y="4804200"/>
            <a:ext cx="1043640" cy="537480"/>
          </a:xfrm>
          <a:prstGeom prst="bentConnector2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6658920" y="4214880"/>
            <a:ext cx="2129760" cy="337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Comic Sans MS"/>
              </a:rPr>
              <a:t>SUBCOMPONENTE 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5943240" y="4190760"/>
            <a:ext cx="60984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4228920" y="4762080"/>
            <a:ext cx="60948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6200000">
            <a:off x="2209680" y="4876920"/>
            <a:ext cx="6098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" y="4800600"/>
            <a:ext cx="1828800" cy="45720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b7c1eb"/>
                </a:solidFill>
                <a:latin typeface="Times New Roman"/>
              </a:rPr>
              <a:t>CONTRATIS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2286000"/>
            <a:ext cx="1828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AGENT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EXTERN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80880" y="3200400"/>
            <a:ext cx="1828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INVOLUCRAD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SOCIE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6200000">
            <a:off x="2209680" y="3428640"/>
            <a:ext cx="6094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16200000">
            <a:off x="2209680" y="2590920"/>
            <a:ext cx="6098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bjetivos, organización e involucr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40458c"/>
                </a:solidFill>
                <a:latin typeface="Comic Sans MS"/>
              </a:rPr>
              <a:t>Lectura de Caso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2762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581280"/>
            <a:ext cx="5562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2b2b2"/>
                </a:solidFill>
                <a:latin typeface="Times New Roman"/>
              </a:rPr>
              <a:t>Tenga Claros los Objet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703160" cy="1905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19920" y="1295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Tenga claros los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58c"/>
                </a:solidFill>
                <a:latin typeface="Tahoma"/>
              </a:rPr>
              <a:t>Todo gerente de proyecto debe tener claro: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11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Para qué es el proyecto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11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Qué debe entregar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Verif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upues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dic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00200" y="3048120"/>
            <a:ext cx="1371600" cy="914400"/>
            <a:chOff x="1600200" y="3048120"/>
            <a:chExt cx="1371600" cy="914400"/>
          </a:xfrm>
        </p:grpSpPr>
        <p:sp>
          <p:nvSpPr>
            <p:cNvPr id="282" name=""/>
            <p:cNvSpPr/>
            <p:nvPr/>
          </p:nvSpPr>
          <p:spPr>
            <a:xfrm>
              <a:off x="1600200" y="3048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62840" y="3110040"/>
              <a:ext cx="101592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841480" y="2332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Nivel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Obje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0520" y="19051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ostenibil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913120" cy="325764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1600200" y="1905120"/>
            <a:ext cx="1371600" cy="914400"/>
            <a:chOff x="1600200" y="1905120"/>
            <a:chExt cx="1371600" cy="914400"/>
          </a:xfrm>
        </p:grpSpPr>
        <p:sp>
          <p:nvSpPr>
            <p:cNvPr id="289" name=""/>
            <p:cNvSpPr/>
            <p:nvPr/>
          </p:nvSpPr>
          <p:spPr>
            <a:xfrm>
              <a:off x="1600200" y="1905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63200" y="1967040"/>
              <a:ext cx="64260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600200" y="4191120"/>
            <a:ext cx="1371600" cy="914400"/>
            <a:chOff x="1600200" y="4191120"/>
            <a:chExt cx="1371600" cy="914400"/>
          </a:xfrm>
        </p:grpSpPr>
        <p:sp>
          <p:nvSpPr>
            <p:cNvPr id="292" name=""/>
            <p:cNvSpPr/>
            <p:nvPr/>
          </p:nvSpPr>
          <p:spPr>
            <a:xfrm>
              <a:off x="1600200" y="4191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2720" y="4267080"/>
              <a:ext cx="136476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Compon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6640" y="533520"/>
            <a:ext cx="6598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SIGNIFICADO DE LOS NIVELES DE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3929040"/>
            <a:ext cx="8524800" cy="1298520"/>
            <a:chOff x="380880" y="3929040"/>
            <a:chExt cx="8524800" cy="1298520"/>
          </a:xfrm>
        </p:grpSpPr>
        <p:sp>
          <p:nvSpPr>
            <p:cNvPr id="297" name=""/>
            <p:cNvSpPr/>
            <p:nvPr/>
          </p:nvSpPr>
          <p:spPr>
            <a:xfrm>
              <a:off x="2641680" y="4287960"/>
              <a:ext cx="2071440" cy="9284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COMPONEN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9840" y="3957480"/>
              <a:ext cx="801720" cy="198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866480" y="43131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OS PRODUCTOS QUE ENTREG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A GERENCIA DE EJECUCIÓN 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76400" y="3929040"/>
              <a:ext cx="641160" cy="193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380880" y="4253040"/>
              <a:ext cx="8668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1397160" y="4253040"/>
              <a:ext cx="104112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595440" y="2700360"/>
            <a:ext cx="8310240" cy="1155600"/>
            <a:chOff x="595440" y="2700360"/>
            <a:chExt cx="8310240" cy="1155600"/>
          </a:xfrm>
        </p:grpSpPr>
        <p:sp>
          <p:nvSpPr>
            <p:cNvPr id="304" name=""/>
            <p:cNvSpPr/>
            <p:nvPr/>
          </p:nvSpPr>
          <p:spPr>
            <a:xfrm>
              <a:off x="2641680" y="2895480"/>
              <a:ext cx="2071440" cy="928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PROPÓSIT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866480" y="29415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FECTO DIRECTO U OBJETIVO CENTRAL DE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PROYECTO, EL QUE RESUELVE EL PROBLEMA.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S EL RESULTADO DE UTILIZAR L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COMPONENTES 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595440" y="2894040"/>
            <a:ext cx="801720" cy="91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2894040"/>
                      <a:ext cx="801720" cy="9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8" name=""/>
            <p:cNvGrpSpPr/>
            <p:nvPr/>
          </p:nvGrpSpPr>
          <p:grpSpPr>
            <a:xfrm>
              <a:off x="1450800" y="2700360"/>
              <a:ext cx="870120" cy="1150560"/>
              <a:chOff x="1450800" y="2700360"/>
              <a:chExt cx="870120" cy="11505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50800" y="3068280"/>
                <a:ext cx="399600" cy="782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"/>
              <p:cNvGrpSpPr/>
              <p:nvPr/>
            </p:nvGrpSpPr>
            <p:grpSpPr>
              <a:xfrm>
                <a:off x="1823760" y="2700360"/>
                <a:ext cx="497160" cy="1150560"/>
                <a:chOff x="1823760" y="2700360"/>
                <a:chExt cx="497160" cy="1150560"/>
              </a:xfrm>
            </p:grpSpPr>
            <p:pic>
              <p:nvPicPr>
                <p:cNvPr id="3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760" y="2700360"/>
                  <a:ext cx="49716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2072160" y="3206520"/>
                  <a:ext cx="0" cy="644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595440" y="1569960"/>
            <a:ext cx="8310240" cy="1260720"/>
            <a:chOff x="595440" y="1569960"/>
            <a:chExt cx="8310240" cy="1260720"/>
          </a:xfrm>
        </p:grpSpPr>
        <p:sp>
          <p:nvSpPr>
            <p:cNvPr id="314" name=""/>
            <p:cNvSpPr/>
            <p:nvPr/>
          </p:nvSpPr>
          <p:spPr>
            <a:xfrm>
              <a:off x="2641680" y="1569960"/>
              <a:ext cx="2071440" cy="928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FIN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09840" y="2630520"/>
              <a:ext cx="801720" cy="200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66480" y="15699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OS IMPACTOS DEL PROYECTO EN EL SECTOR, 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N EL ENTORNO O EN UN SISTEMA SUPERIOR.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SON LA “CONTRIBUCIÓN DE DESARROLLO”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595440" y="1600200"/>
              <a:ext cx="7491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076400" y="2635200"/>
              <a:ext cx="641160" cy="193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1504800" y="1600200"/>
              <a:ext cx="747720" cy="8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448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00200" y="3048120"/>
            <a:ext cx="1371600" cy="914400"/>
            <a:chOff x="1600200" y="3048120"/>
            <a:chExt cx="1371600" cy="914400"/>
          </a:xfrm>
        </p:grpSpPr>
        <p:sp>
          <p:nvSpPr>
            <p:cNvPr id="338" name=""/>
            <p:cNvSpPr/>
            <p:nvPr/>
          </p:nvSpPr>
          <p:spPr>
            <a:xfrm>
              <a:off x="1600200" y="3048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2840" y="3110040"/>
              <a:ext cx="101592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41480" y="2332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Nivel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Obje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315200" y="3200400"/>
            <a:ext cx="1566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1600200" y="1905120"/>
            <a:ext cx="1371600" cy="914400"/>
            <a:chOff x="1600200" y="1905120"/>
            <a:chExt cx="1371600" cy="914400"/>
          </a:xfrm>
        </p:grpSpPr>
        <p:sp>
          <p:nvSpPr>
            <p:cNvPr id="344" name=""/>
            <p:cNvSpPr/>
            <p:nvPr/>
          </p:nvSpPr>
          <p:spPr>
            <a:xfrm>
              <a:off x="1600200" y="1905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200" y="1967040"/>
              <a:ext cx="64260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00200" y="4191120"/>
            <a:ext cx="1371600" cy="914400"/>
            <a:chOff x="1600200" y="4191120"/>
            <a:chExt cx="1371600" cy="914400"/>
          </a:xfrm>
        </p:grpSpPr>
        <p:sp>
          <p:nvSpPr>
            <p:cNvPr id="347" name=""/>
            <p:cNvSpPr/>
            <p:nvPr/>
          </p:nvSpPr>
          <p:spPr>
            <a:xfrm>
              <a:off x="1600200" y="4191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2720" y="4267080"/>
              <a:ext cx="1364760" cy="824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Compon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(Productos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370320" y="2666880"/>
            <a:ext cx="37270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ara qué es el proye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63480" y="4419720"/>
            <a:ext cx="3856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o que se debe entreg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18288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41148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23:34:55Z</dcterms:created>
  <dc:creator>Héctor Sanín - Modificado por Eduardo Contreras</dc:creator>
  <dc:description/>
  <dc:language>en-US</dc:language>
  <cp:lastModifiedBy>alumnodii</cp:lastModifiedBy>
  <dcterms:modified xsi:type="dcterms:W3CDTF">2009-04-22T22:23:30Z</dcterms:modified>
  <cp:revision>91</cp:revision>
  <dc:subject/>
  <dc:title>Presentación de PowerPoint</dc:title>
</cp:coreProperties>
</file>