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FD8-C1F8-4451-8BD2-5FB19E07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09E-30C3-41DD-A724-A8C8434F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EC8-6021-4E7E-AAA9-D27397FE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6F6-C37E-4133-B16B-9D3536AB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E9C-8A3A-4D5C-A743-5EA968B0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4EF-A26B-4EB6-96D0-CFEDC87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78A-A231-441E-B2D6-43FCD89F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AC3-3B08-41A0-A38F-E58DF13E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B93-165C-4CEA-BF93-C31AC683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863-FC87-45BA-8D61-5EB44AD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C8D-96BA-48EB-B510-4442BDD8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46B-9A0A-4255-941B-6398A4C9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FB14-29A7-47B3-8117-038E9127A1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fesor Claudio Jiménez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PLOMA DE PREPARACIÓN Y EVALUACIÓN SOCIAL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OGO DII bco"/>
          <p:cNvPicPr/>
          <p:nvPr/>
        </p:nvPicPr>
        <p:blipFill>
          <a:blip r:embed="rId1"/>
          <a:stretch/>
        </p:blipFill>
        <p:spPr>
          <a:xfrm>
            <a:off x="1071720" y="428760"/>
            <a:ext cx="218124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7215120" y="500040"/>
          <a:ext cx="961920" cy="78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500040"/>
                    <a:ext cx="9619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6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895480" y="60246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>
            <a:off x="2438280" y="48006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 flipV="1">
            <a:off x="4267080" y="5943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952880" y="586728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4952880" y="632448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>
            <a:off x="4267080" y="6324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"/>
          <p:cNvSpPr/>
          <p:nvPr/>
        </p:nvSpPr>
        <p:spPr>
          <a:xfrm>
            <a:off x="62485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1"/>
          <p:cNvSpPr/>
          <p:nvPr/>
        </p:nvSpPr>
        <p:spPr>
          <a:xfrm>
            <a:off x="6629400" y="6553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6858000" y="58672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32936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5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s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6"/>
          <p:cNvSpPr/>
          <p:nvPr/>
        </p:nvSpPr>
        <p:spPr>
          <a:xfrm>
            <a:off x="1219320" y="1600200"/>
            <a:ext cx="129528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7"/>
          <p:cNvSpPr/>
          <p:nvPr/>
        </p:nvSpPr>
        <p:spPr>
          <a:xfrm>
            <a:off x="1219320" y="1600200"/>
            <a:ext cx="259056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7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e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Arriendo de Ofic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Leo</cp:lastModifiedBy>
  <dcterms:modified xsi:type="dcterms:W3CDTF">2009-04-20T02:39:02Z</dcterms:modified>
  <cp:revision>19</cp:revision>
  <dc:subject/>
  <dc:title>Diapositiva 1</dc:title>
</cp:coreProperties>
</file>