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A113-F2B5-4327-AFCE-1424D5A2E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E692-029F-41D9-BA1C-40BB58E5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2F79-7039-40D2-A5BA-A44DD418D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9F9F-1864-4460-A299-CC7C9B430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D594-4418-4E1A-BAD3-961422C3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6F91-FD4E-478A-9799-CBD30C79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3F88-4CDD-4C94-9EE5-14A555F6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D51B-9DCE-4076-A11D-60144B54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8382-C230-4317-AB78-AAFE64A7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E95E-93F9-4A04-A2B3-12081DFC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8261-4360-4ED8-A747-C1388E19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9A44-5DFB-4D4C-8D98-43B90265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D26B-AB67-488E-AD65-0F21CBEA103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Matemáticas Financieras</a:t>
            </a:r>
            <a:br>
              <a:rPr sz="4000"/>
            </a:br>
            <a:br>
              <a:rPr sz="4000"/>
            </a:b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rofesor Claudio Jiménez 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PLOMA DE PREPARACIÓN Y EVALUACIÓN SOCIAL DE PROYE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LOGO DII bco"/>
          <p:cNvPicPr/>
          <p:nvPr/>
        </p:nvPicPr>
        <p:blipFill>
          <a:blip r:embed="rId1"/>
          <a:stretch/>
        </p:blipFill>
        <p:spPr>
          <a:xfrm>
            <a:off x="1071720" y="428760"/>
            <a:ext cx="2181240" cy="77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7215120" y="500040"/>
          <a:ext cx="961920" cy="781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15120" y="500040"/>
                    <a:ext cx="96192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1066680" y="1447920"/>
          <a:ext cx="2295720" cy="423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447920"/>
                    <a:ext cx="2295720" cy="42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5"/>
          <p:cNvGraphicFramePr/>
          <p:nvPr/>
        </p:nvGraphicFramePr>
        <p:xfrm>
          <a:off x="3886200" y="1600200"/>
          <a:ext cx="4952880" cy="4114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1600200"/>
                    <a:ext cx="4952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3. Diagrama Flujo de Caja (DF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finición: DFC es un horizonte de tiempo en el cual se registran ingresos y egresos efectivos de dinero justo en el momento en que ocurren. Su utilidad es que nos permite hacer equivalencias entre valores presentes y valores futuros en cualquier instante de tiempo. Convencion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a flecha hacia abajo es un egreso efectivo de dinero (E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a flecha hacia arriba es un ingreso efectivo de dinero (I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 asume que los ingresos y egresos efectivos de dinero son vencidos (al final del período) salvo que se diga lo contrario (anticipad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lujo de Caja Neto 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IED 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– EED 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FC de un Créd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752480" y="5410080"/>
            <a:ext cx="5991120" cy="1262880"/>
            <a:chOff x="1752480" y="5410080"/>
            <a:chExt cx="5991120" cy="1262880"/>
          </a:xfrm>
        </p:grpSpPr>
        <p:sp>
          <p:nvSpPr>
            <p:cNvPr id="116" name="Line 5"/>
            <p:cNvSpPr/>
            <p:nvPr/>
          </p:nvSpPr>
          <p:spPr>
            <a:xfrm>
              <a:off x="1752480" y="6248160"/>
              <a:ext cx="571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6"/>
            <p:cNvSpPr/>
            <p:nvPr/>
          </p:nvSpPr>
          <p:spPr>
            <a:xfrm>
              <a:off x="7377120" y="62132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7"/>
            <p:cNvSpPr/>
            <p:nvPr/>
          </p:nvSpPr>
          <p:spPr>
            <a:xfrm flipV="1">
              <a:off x="1828800" y="5410080"/>
              <a:ext cx="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8"/>
            <p:cNvSpPr/>
            <p:nvPr/>
          </p:nvSpPr>
          <p:spPr>
            <a:xfrm>
              <a:off x="251460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9"/>
            <p:cNvSpPr/>
            <p:nvPr/>
          </p:nvSpPr>
          <p:spPr>
            <a:xfrm>
              <a:off x="403848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0"/>
            <p:cNvSpPr/>
            <p:nvPr/>
          </p:nvSpPr>
          <p:spPr>
            <a:xfrm>
              <a:off x="327672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1"/>
            <p:cNvSpPr/>
            <p:nvPr/>
          </p:nvSpPr>
          <p:spPr>
            <a:xfrm>
              <a:off x="487692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2"/>
            <p:cNvSpPr/>
            <p:nvPr/>
          </p:nvSpPr>
          <p:spPr>
            <a:xfrm>
              <a:off x="571500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3"/>
            <p:cNvSpPr/>
            <p:nvPr/>
          </p:nvSpPr>
          <p:spPr>
            <a:xfrm>
              <a:off x="655308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FC de una Inve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FC Típ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5"/>
          <p:cNvSpPr/>
          <p:nvPr/>
        </p:nvSpPr>
        <p:spPr>
          <a:xfrm>
            <a:off x="1752480" y="1828800"/>
            <a:ext cx="571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1752480" y="18288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 flipV="1">
            <a:off x="251460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 flipV="1">
            <a:off x="3276720" y="12189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9"/>
          <p:cNvSpPr/>
          <p:nvPr/>
        </p:nvSpPr>
        <p:spPr>
          <a:xfrm flipV="1">
            <a:off x="4038480" y="9907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 flipV="1">
            <a:off x="4876920" y="9144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"/>
          <p:cNvSpPr/>
          <p:nvPr/>
        </p:nvSpPr>
        <p:spPr>
          <a:xfrm flipV="1">
            <a:off x="571500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 flipV="1">
            <a:off x="65530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7429320" y="160020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1752480" y="4419720"/>
            <a:ext cx="685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2971800" y="3657600"/>
            <a:ext cx="129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nu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4800600" y="327672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nticip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4800600" y="403848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nc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6705720" y="3276720"/>
            <a:ext cx="1447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pet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9"/>
          <p:cNvSpPr/>
          <p:nvPr/>
        </p:nvSpPr>
        <p:spPr>
          <a:xfrm>
            <a:off x="6781680" y="4038480"/>
            <a:ext cx="1447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pet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2895480" y="511020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d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1"/>
          <p:cNvSpPr/>
          <p:nvPr/>
        </p:nvSpPr>
        <p:spPr>
          <a:xfrm>
            <a:off x="2895480" y="602460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ale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4800600" y="5338800"/>
            <a:ext cx="1676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crec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3"/>
          <p:cNvSpPr/>
          <p:nvPr/>
        </p:nvSpPr>
        <p:spPr>
          <a:xfrm>
            <a:off x="4800600" y="4648320"/>
            <a:ext cx="129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rec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5"/>
          <p:cNvSpPr/>
          <p:nvPr/>
        </p:nvSpPr>
        <p:spPr>
          <a:xfrm flipV="1">
            <a:off x="2438280" y="403812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6"/>
          <p:cNvSpPr/>
          <p:nvPr/>
        </p:nvSpPr>
        <p:spPr>
          <a:xfrm>
            <a:off x="2438280" y="48006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7"/>
          <p:cNvSpPr/>
          <p:nvPr/>
        </p:nvSpPr>
        <p:spPr>
          <a:xfrm>
            <a:off x="2438280" y="4800600"/>
            <a:ext cx="4572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8"/>
          <p:cNvSpPr/>
          <p:nvPr/>
        </p:nvSpPr>
        <p:spPr>
          <a:xfrm flipV="1">
            <a:off x="4267080" y="350496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9"/>
          <p:cNvSpPr/>
          <p:nvPr/>
        </p:nvSpPr>
        <p:spPr>
          <a:xfrm>
            <a:off x="4267080" y="403848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0"/>
          <p:cNvSpPr/>
          <p:nvPr/>
        </p:nvSpPr>
        <p:spPr>
          <a:xfrm flipV="1">
            <a:off x="4267080" y="49528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31"/>
          <p:cNvSpPr/>
          <p:nvPr/>
        </p:nvSpPr>
        <p:spPr>
          <a:xfrm>
            <a:off x="4267080" y="548640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2"/>
          <p:cNvSpPr/>
          <p:nvPr/>
        </p:nvSpPr>
        <p:spPr>
          <a:xfrm flipV="1">
            <a:off x="4267080" y="594324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3"/>
          <p:cNvSpPr/>
          <p:nvPr/>
        </p:nvSpPr>
        <p:spPr>
          <a:xfrm>
            <a:off x="6172200" y="3505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4"/>
          <p:cNvSpPr/>
          <p:nvPr/>
        </p:nvSpPr>
        <p:spPr>
          <a:xfrm>
            <a:off x="6172200" y="4191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5"/>
          <p:cNvSpPr/>
          <p:nvPr/>
        </p:nvSpPr>
        <p:spPr>
          <a:xfrm>
            <a:off x="4952880" y="5867280"/>
            <a:ext cx="1295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rec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6"/>
          <p:cNvSpPr/>
          <p:nvPr/>
        </p:nvSpPr>
        <p:spPr>
          <a:xfrm>
            <a:off x="4952880" y="6324480"/>
            <a:ext cx="1676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crec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7"/>
          <p:cNvSpPr/>
          <p:nvPr/>
        </p:nvSpPr>
        <p:spPr>
          <a:xfrm>
            <a:off x="4267080" y="632448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8"/>
          <p:cNvSpPr/>
          <p:nvPr/>
        </p:nvSpPr>
        <p:spPr>
          <a:xfrm>
            <a:off x="6248520" y="6095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9"/>
          <p:cNvSpPr/>
          <p:nvPr/>
        </p:nvSpPr>
        <p:spPr>
          <a:xfrm>
            <a:off x="6095880" y="4876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0"/>
          <p:cNvSpPr/>
          <p:nvPr/>
        </p:nvSpPr>
        <p:spPr>
          <a:xfrm>
            <a:off x="6477120" y="5562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41"/>
          <p:cNvSpPr/>
          <p:nvPr/>
        </p:nvSpPr>
        <p:spPr>
          <a:xfrm>
            <a:off x="6629400" y="6553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2"/>
          <p:cNvSpPr/>
          <p:nvPr/>
        </p:nvSpPr>
        <p:spPr>
          <a:xfrm>
            <a:off x="6705720" y="4724280"/>
            <a:ext cx="1447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pet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3"/>
          <p:cNvSpPr/>
          <p:nvPr/>
        </p:nvSpPr>
        <p:spPr>
          <a:xfrm>
            <a:off x="6858000" y="5867280"/>
            <a:ext cx="1447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pet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4"/>
          <p:cNvSpPr/>
          <p:nvPr/>
        </p:nvSpPr>
        <p:spPr>
          <a:xfrm>
            <a:off x="7086600" y="5334120"/>
            <a:ext cx="1447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pet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5"/>
          <p:cNvSpPr/>
          <p:nvPr/>
        </p:nvSpPr>
        <p:spPr>
          <a:xfrm>
            <a:off x="7238880" y="6324480"/>
            <a:ext cx="1447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pet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: préstamo a un a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"/>
          <p:cNvSpPr/>
          <p:nvPr/>
        </p:nvSpPr>
        <p:spPr>
          <a:xfrm>
            <a:off x="1981080" y="24382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5"/>
          <p:cNvSpPr/>
          <p:nvPr/>
        </p:nvSpPr>
        <p:spPr>
          <a:xfrm flipV="1">
            <a:off x="1981080" y="175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4572000" y="243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525680" y="16146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715280" y="3214800"/>
            <a:ext cx="546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830600" y="24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4329360" y="24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5015520" y="22240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2746440" y="207180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%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1748160" y="3998880"/>
            <a:ext cx="221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= VP * ( 1 + i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4"/>
          <p:cNvSpPr/>
          <p:nvPr/>
        </p:nvSpPr>
        <p:spPr>
          <a:xfrm>
            <a:off x="4191120" y="4191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4939560" y="3998880"/>
            <a:ext cx="36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apitalizar o devengar inter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1836720" y="5065560"/>
            <a:ext cx="219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P = VF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/ ( 1 + i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7"/>
          <p:cNvSpPr/>
          <p:nvPr/>
        </p:nvSpPr>
        <p:spPr>
          <a:xfrm>
            <a:off x="419112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5092200" y="510552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ctualizar o descontar inter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4. Tasas Efectivas v/s Nomin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ormalmente cuando se invierte o se pide prestado lo habitual es que se entregue el valor de una tasa que tiene un período que puede ser anual, semestral, trimestral, etc. y éste es el período de la tasa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(p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 inversión o préstamo puede capitalizar o devengar intereses más de una vez en el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período en el cual se capitalizan los intereses se denomina  período de capitalización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(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i pt es igual a pc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, estamos frente a una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asa efectiva o verdadera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. Ejemplo: i = 10% anual (pt) capitalizable anualmente (pc). En este caso, como pt = pc el pc se obvia y la tasa se menciona como i = 10% an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P =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= VP * (1 + i) 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F 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1 añ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= 100 * (1 + 0.1) = 1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0 / 100 = 10% anual (tasa efectiv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i pt es mayor que pc,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amos frente a una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tasa nominal o aparente. Ejemplo: i = 10% anual capitalizable semestralmente.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n este caso, la tasa efectiva asociada a la tasa nominal que se informó es mayor a un 10% anu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P =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F 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6 meses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= 100 * (1 + 10% / 2) = 1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F 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1 añ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= 105 * (1 + 5%) = 110.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0.25 / 100 = 10.25 % anual (tasa efectiv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este caso, la tasa efectiva o verdadera (10,25 % anual) es mayor que la tasa nominal informada (10 % anual capitalizable semestralmen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mportante: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odas las ecuaciones del valor del dinero en el tiempo utilizan tasas efectivas. Por lo tanto, debemos transformar las tasas nominales que informa el mercado en tasa efectivas y esto lo podemos hacer a través de la siguiente ecuació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pt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= ( 1 + j / m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3059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ond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j = tasa nominal (10% anual capitalizable semestralmen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 = nº de veces que se capitaliza la tasa nominal en el pt (2 ve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j / m = tasa efectiva del pc (5% semestr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pt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tasa efectiva del pt (10, 25% anu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clusión: mientras más veces se capitaliza la tasa nominal en el pt, la tasa efectiva asociada a esta tasa nominal es cada vez mayor. El caso extremo es cuando se capitalizan intereses segundo a segundo (capitalización continua, m tiende a infinito). Ejemplo: hay proyectos en que el stock de riqueza invertida crece instante a instante, entre ellos podemos mencionar la engorda de animales, el añejamiento de vinos, la crianza de aves, los proyectos forestales, et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este caso, j = 10 % anual capitalizable continuamente, m tiende a infinito y la ecuación para encontrar i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pt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pt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= e </a:t>
            </a:r>
            <a:r>
              <a:rPr b="1" lang="es-CL" sz="2000" spc="-1" strike="noStrike" baseline="30000">
                <a:solidFill>
                  <a:srgbClr val="000000"/>
                </a:solidFill>
                <a:latin typeface="Arial"/>
              </a:rPr>
              <a:t>j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anual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e 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0.1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1 = 10,51% a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ecuación anterior tiene otra utilidad: “ nos permite establecer equivalencias entre tasa de interés efectivas de distintos período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= (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= 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= 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= 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3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nuestro ejercicio en que j = 10 % anual capitalizable semestralmente lo que hicimos fue lo siguie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 1 + i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) = ( 1 + i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 1 + i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) = ( 1 + 0.05 ) 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10.25% (tasa efectiv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5. Tasas Spots y Forw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pot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s aquella tasa conocida e informada en el mercado al día de h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orward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s una tasa de interés a futuro no observable ni informada directamente en el mercado, pero que se puede calculars a partir de las tasas spo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mbas tasas tienen que ser efec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 que se desea conocer con esta nueva distinción de tasas es la estructura temporal de las tasas de interés. No es lo mismo invertir a un año plazo que invertir a 10 años. Lo mismo para un présta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empre que se quiera calcular tasas forwards a partir de tasas spots, éstas deben llevarse a un período en común (por ejemplo: mensual, trimestral, etc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Line 4"/>
          <p:cNvSpPr/>
          <p:nvPr/>
        </p:nvSpPr>
        <p:spPr>
          <a:xfrm>
            <a:off x="1219320" y="160020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"/>
          <p:cNvSpPr/>
          <p:nvPr/>
        </p:nvSpPr>
        <p:spPr>
          <a:xfrm>
            <a:off x="251460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80988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12193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976320" y="1447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2309760" y="1295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3582720" y="1295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4422240" y="1386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ío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6"/>
          <p:cNvSpPr/>
          <p:nvPr/>
        </p:nvSpPr>
        <p:spPr>
          <a:xfrm>
            <a:off x="1219320" y="1600200"/>
            <a:ext cx="1295280" cy="609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7"/>
          <p:cNvSpPr/>
          <p:nvPr/>
        </p:nvSpPr>
        <p:spPr>
          <a:xfrm>
            <a:off x="1219320" y="1600200"/>
            <a:ext cx="2590560" cy="1447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1759320" y="1766880"/>
            <a:ext cx="31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2369160" y="2529000"/>
            <a:ext cx="31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0"/>
          <p:cNvSpPr/>
          <p:nvPr/>
        </p:nvSpPr>
        <p:spPr>
          <a:xfrm>
            <a:off x="2908080" y="1219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4"/>
          <p:cNvSpPr/>
          <p:nvPr/>
        </p:nvSpPr>
        <p:spPr>
          <a:xfrm>
            <a:off x="1165320" y="3505320"/>
            <a:ext cx="6759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5"/>
          <p:cNvSpPr/>
          <p:nvPr/>
        </p:nvSpPr>
        <p:spPr>
          <a:xfrm>
            <a:off x="1371600" y="3352680"/>
            <a:ext cx="5943600" cy="36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tasa spot a un peri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tasa spot a 2 perío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tasa forward a un período dentro de un perí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cumple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( 1 + i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) * ( 1 + 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) = ( 1 + i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s-C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cordar que 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hay que llevarlo al mismo período de 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 Por esto, ( 1 + 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) en la formula anterior está elevado al cuad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Valor del Dinero en el Tiempo (VD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I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fini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sas de Interés Simple y Compu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iagrama Flujo de Caja (DF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sas Efectivas y Nomi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tereses Interperiod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sas Spots y For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flación, Flujos Reales y Nominales, Interés Real y No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blas de Pago de Créd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jerc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7. Tabla de Pago de Crédi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uando se solicita un crédito y nos lo otorga cualquier institución financiera, adquirimos el compromiso a pagar intereses (costo del préstamo) y a devolver lo que nos prestaron (esto último se denomina amortización del prestam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uota = amortización + intereses (siempre se cancelan primero los intereses y luego se amortiza el préstam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la evaluación privada de proyectos los intereses son un costo del proyecto financiado y se reconocen como un egreso en el flujo de caja operacional antes de impuesto. La amortización del préstamo es un flujo de caja de capitales y se reconoce como un egre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la evaluación social de proyectos los flujos asociados a la deuda (préstamo, intereses, ahorro de impuestos y amortizaciones) no son relevantes ya que es sólo una tranferencia de recursos dentro del mismo sistema (Sociedad Chilena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pendiendo del sistema o forma de pago, los créditos se clasifican 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uotas iguales (aquí debemos recordar la fórmula de anualida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mortizaciones igu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ólo se cancelan los intereses de cada período y se amortiza el total de la deuda en el último período del crédi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amos un ej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estamo hoy = $ 1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 = 5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 = 10%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) Cuotas iguales (ej.: Créditos hipotecarios con una garantía real como segunda fuente de pag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"/>
          <p:cNvPicPr/>
          <p:nvPr/>
        </p:nvPicPr>
        <p:blipFill>
          <a:blip r:embed="rId1"/>
          <a:stretch/>
        </p:blipFill>
        <p:spPr>
          <a:xfrm>
            <a:off x="1941480" y="3581280"/>
            <a:ext cx="522144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) Amortizaciones Iguales (ej.: créditos agrícola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nto Amortización anual = Préstamo / n = 1.000 / 5 =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1"/>
          <a:stretch/>
        </p:blipFill>
        <p:spPr>
          <a:xfrm>
            <a:off x="2057400" y="2209680"/>
            <a:ext cx="4648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) Sólo intereses por período y la amortización total del préstamo en el último período del préstamo (Ej: líneas de crédito, Bon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2209680" y="1981080"/>
            <a:ext cx="464832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s ejemplos anteriores son clásicos. Se pueden dar otras formas de pago derivadas de las anterio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 de interés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íodos de gracia de amortizaciones (Ej.: créditos Corfo para estudios superio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íodos de gracia de amortizaciones e inter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ncelación anticipada del créd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negoci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la evaluación privada de proyectos y específicamente en el proyecto financiado, los préstamos tienen impacto vía ahorro de impuestos. No obstante, el sistema de pago a elegir va a depender de los flujos del proyecto (capacidad de pago) y del impacto del préstamo en el VAN del proyecto (mejor indicador de rentabilidad, lo verán más adelan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1. Defini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VDT es el cambio en la cantidad de dinero durante un período de tiempo d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Dinero hace Dinero”. Ejempl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 depósito en el b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ertir en un nego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ertir en un fondo mut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dir un prést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VDT se manifiesta en el Mercado a través de la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“Tasas de Interé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Tasas de Interés son un concepto d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“Costo de Oportunida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amos el ejemplo de un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irector Financier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 una empre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lo tanto, el mínimo rendimiento que se exige a los activos reales es la rentabilidad que obtendrían los accionistas en el mercado de capitales al realizar inversiones en activos financieros (Bonos y Acciones) de similar riesgo al de los activos reales. Esto se denomin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“Costo de Oportunidad del Capita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395280" y="2738520"/>
            <a:ext cx="18730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portunidad de inver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(Activos Rea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6948360" y="2708280"/>
            <a:ext cx="16560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portunidad de inversión en M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(Activos Financier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2994480" y="2938320"/>
            <a:ext cx="9928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mpre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4791960" y="2997360"/>
            <a:ext cx="1211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ccioni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3065400" y="1989000"/>
            <a:ext cx="777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in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6"/>
          <p:cNvSpPr/>
          <p:nvPr/>
        </p:nvSpPr>
        <p:spPr>
          <a:xfrm>
            <a:off x="2183760" y="378936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nvert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7"/>
          <p:cNvSpPr/>
          <p:nvPr/>
        </p:nvSpPr>
        <p:spPr>
          <a:xfrm>
            <a:off x="3203640" y="3716280"/>
            <a:ext cx="237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lternativ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agar al contado a accioni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8"/>
          <p:cNvSpPr/>
          <p:nvPr/>
        </p:nvSpPr>
        <p:spPr>
          <a:xfrm>
            <a:off x="5292720" y="3860640"/>
            <a:ext cx="216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os accionistas Invierten por sí mis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9"/>
          <p:cNvSpPr/>
          <p:nvPr/>
        </p:nvSpPr>
        <p:spPr>
          <a:xfrm flipH="1">
            <a:off x="2339640" y="31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0"/>
          <p:cNvSpPr/>
          <p:nvPr/>
        </p:nvSpPr>
        <p:spPr>
          <a:xfrm>
            <a:off x="3419640" y="24192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1"/>
          <p:cNvSpPr/>
          <p:nvPr/>
        </p:nvSpPr>
        <p:spPr>
          <a:xfrm>
            <a:off x="4140360" y="3141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2"/>
          <p:cNvSpPr/>
          <p:nvPr/>
        </p:nvSpPr>
        <p:spPr>
          <a:xfrm>
            <a:off x="6156360" y="3141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3"/>
          <p:cNvSpPr/>
          <p:nvPr/>
        </p:nvSpPr>
        <p:spPr>
          <a:xfrm flipV="1">
            <a:off x="2627280" y="328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4"/>
          <p:cNvSpPr/>
          <p:nvPr/>
        </p:nvSpPr>
        <p:spPr>
          <a:xfrm flipV="1">
            <a:off x="4356000" y="321300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5"/>
          <p:cNvSpPr/>
          <p:nvPr/>
        </p:nvSpPr>
        <p:spPr>
          <a:xfrm flipV="1">
            <a:off x="6443640" y="3284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7"/>
          <p:cNvSpPr/>
          <p:nvPr/>
        </p:nvSpPr>
        <p:spPr>
          <a:xfrm>
            <a:off x="7093080" y="4292640"/>
            <a:ext cx="17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e exige Renta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395280" y="4071960"/>
            <a:ext cx="151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e exige Rend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9"/>
          <p:cNvSpPr/>
          <p:nvPr/>
        </p:nvSpPr>
        <p:spPr>
          <a:xfrm>
            <a:off x="1116000" y="3645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0"/>
          <p:cNvSpPr/>
          <p:nvPr/>
        </p:nvSpPr>
        <p:spPr>
          <a:xfrm>
            <a:off x="7885080" y="3860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6840" y="762120"/>
            <a:ext cx="821844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os aspectos relevantes influyen en las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ecisiones de Inversión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e Financiamiento: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“El Riesgo y el Tiempo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VDT es valioso ya que da a conocer el efecto del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iemp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y el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iesg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en tales decis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lgunos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rincipios Económicos – Financie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 dólar hoy vale más que un dólar mañana bajo la premisa de que hoy puedo invertir ese dólar para generar interese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 dólar seguro vale más que uno con riesgo” (no todas las inversiones tienen el mismo riesgo. Debemos comparar con alternativas de similar riesgo. Ej. Bonos del Banco Central v/s Arriendo de Ofici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8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33847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asas de Inter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86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finicion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rés (si se invierte) = Monto actual – Inversión 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rés (si se pide prestado) = Monto debido actualmente - Préstamo 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sa de Interés: el interés se expresa como un porcentaje (%) de la suma original por unidad de 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íodo de Interés es la unidad de tiempo de la  tasa de inter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jemplo: una empresa invirtió $100.000 y obtuvo un total de $106.000 exactamente un año más tar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rés = $106.000 (monto actual) - $100.000 (inversión original) = $6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sa de Interés = $6.000 (interés) / $100.000 (suma original) = 6%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íodo de interés =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asas de Inter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lasificación general de las Tasas de Interé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539640" y="328464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de Inter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2268360" y="234936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Sim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2124000" y="4667400"/>
            <a:ext cx="1440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Compue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4068720" y="3508200"/>
            <a:ext cx="1295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 (Aparen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3852720" y="5489640"/>
            <a:ext cx="1511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Efectivas (Verdader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5869080" y="579132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Forw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5869080" y="449424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Sp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7596360" y="6078600"/>
            <a:ext cx="1223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Re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7596360" y="3860640"/>
            <a:ext cx="1223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6"/>
          <p:cNvSpPr/>
          <p:nvPr/>
        </p:nvSpPr>
        <p:spPr>
          <a:xfrm flipV="1">
            <a:off x="1763640" y="2852640"/>
            <a:ext cx="504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7"/>
          <p:cNvSpPr/>
          <p:nvPr/>
        </p:nvSpPr>
        <p:spPr>
          <a:xfrm>
            <a:off x="1765440" y="3860640"/>
            <a:ext cx="368280" cy="78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8"/>
          <p:cNvSpPr/>
          <p:nvPr/>
        </p:nvSpPr>
        <p:spPr>
          <a:xfrm flipV="1">
            <a:off x="3564000" y="4142880"/>
            <a:ext cx="50328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9"/>
          <p:cNvSpPr/>
          <p:nvPr/>
        </p:nvSpPr>
        <p:spPr>
          <a:xfrm>
            <a:off x="3564000" y="4941720"/>
            <a:ext cx="287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0"/>
          <p:cNvSpPr/>
          <p:nvPr/>
        </p:nvSpPr>
        <p:spPr>
          <a:xfrm flipV="1">
            <a:off x="5334120" y="5105520"/>
            <a:ext cx="507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3"/>
          <p:cNvSpPr/>
          <p:nvPr/>
        </p:nvSpPr>
        <p:spPr>
          <a:xfrm>
            <a:off x="5364000" y="5877000"/>
            <a:ext cx="5032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4"/>
          <p:cNvSpPr/>
          <p:nvPr/>
        </p:nvSpPr>
        <p:spPr>
          <a:xfrm>
            <a:off x="5796000" y="253368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5"/>
          <p:cNvSpPr/>
          <p:nvPr/>
        </p:nvSpPr>
        <p:spPr>
          <a:xfrm>
            <a:off x="5796000" y="364500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Re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6"/>
          <p:cNvSpPr/>
          <p:nvPr/>
        </p:nvSpPr>
        <p:spPr>
          <a:xfrm flipV="1">
            <a:off x="5410080" y="3123720"/>
            <a:ext cx="3556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7"/>
          <p:cNvSpPr/>
          <p:nvPr/>
        </p:nvSpPr>
        <p:spPr>
          <a:xfrm>
            <a:off x="5364000" y="3860640"/>
            <a:ext cx="432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8"/>
          <p:cNvSpPr/>
          <p:nvPr/>
        </p:nvSpPr>
        <p:spPr>
          <a:xfrm>
            <a:off x="7596360" y="5373720"/>
            <a:ext cx="1223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9"/>
          <p:cNvSpPr/>
          <p:nvPr/>
        </p:nvSpPr>
        <p:spPr>
          <a:xfrm>
            <a:off x="7596360" y="4653000"/>
            <a:ext cx="1223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Re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0"/>
          <p:cNvSpPr/>
          <p:nvPr/>
        </p:nvSpPr>
        <p:spPr>
          <a:xfrm flipV="1">
            <a:off x="7093080" y="4221000"/>
            <a:ext cx="503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2"/>
          <p:cNvSpPr/>
          <p:nvPr/>
        </p:nvSpPr>
        <p:spPr>
          <a:xfrm>
            <a:off x="7093080" y="472428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3"/>
          <p:cNvSpPr/>
          <p:nvPr/>
        </p:nvSpPr>
        <p:spPr>
          <a:xfrm flipV="1">
            <a:off x="7093080" y="5733720"/>
            <a:ext cx="503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4"/>
          <p:cNvSpPr/>
          <p:nvPr/>
        </p:nvSpPr>
        <p:spPr>
          <a:xfrm>
            <a:off x="7093080" y="6093000"/>
            <a:ext cx="5032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5"/>
          <p:cNvSpPr/>
          <p:nvPr/>
        </p:nvSpPr>
        <p:spPr>
          <a:xfrm>
            <a:off x="3733920" y="205740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6"/>
          <p:cNvSpPr/>
          <p:nvPr/>
        </p:nvSpPr>
        <p:spPr>
          <a:xfrm>
            <a:off x="3733920" y="274320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Re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7"/>
          <p:cNvSpPr/>
          <p:nvPr/>
        </p:nvSpPr>
        <p:spPr>
          <a:xfrm flipV="1">
            <a:off x="3505320" y="24382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8"/>
          <p:cNvSpPr/>
          <p:nvPr/>
        </p:nvSpPr>
        <p:spPr>
          <a:xfrm>
            <a:off x="3505320" y="25909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2. Tasas de Interés Simples y Compue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380880" y="1447920"/>
            <a:ext cx="8229600" cy="42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terés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incipio: intereses no generan intereses. Sólo el principal (inversión o préstamo) genera intereses. De otra forma es aquel que no considera reinversión de los intereses ganados en períodos intermed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0 , VP = $100 e i = 10%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1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 VP + VP * i = $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2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+ VP * i  (Observemos que sólo calculamos intereses sobre el principal origina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+ VP * i + VP * i = VP + 2 * VP * i = 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a n perío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n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 + n * VP * i ==&gt;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VP * (1 + n * 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terés Com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incipio: Intereses si generan intereses. El principal original más los intereses generan intereses. De otra forma se asume reinversión de los intereses obtenidos en periodos intermed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upongamos que T = 0, VP = $100 e i = 10% anu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1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 + VP * i = 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2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+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* i Observemos ahora calculamos intereses sobre el principal original más los intereses generados en el añ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 + VP * i + VP * i + VP * i 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 * (1 + i) 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1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a n perío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+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* i   ==&gt;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VP * (1 + i) </a:t>
            </a:r>
            <a:r>
              <a:rPr b="1" lang="es-ES_tradnl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9T01:01:05Z</dcterms:created>
  <dc:creator>CHECHO</dc:creator>
  <dc:description/>
  <dc:language>en-US</dc:language>
  <cp:lastModifiedBy>Leo</cp:lastModifiedBy>
  <dcterms:modified xsi:type="dcterms:W3CDTF">2009-04-20T02:39:02Z</dcterms:modified>
  <cp:revision>19</cp:revision>
  <dc:subject/>
  <dc:title>Diapositiva 1</dc:title>
</cp:coreProperties>
</file>