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A10-D066-4FDF-BF64-79044CB3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F56-80C4-49DA-AD8D-AF46A03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EC4E-1AEA-41B5-910B-A98D1D80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F39-21B7-4526-BE78-B7C1402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1BD-17AC-44B3-9709-04E52D7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F5F9-AA87-499B-9EB7-7427FCF2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E302-DD68-46CB-A225-CA38E11A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BDF-4A9B-4A48-85A5-2CD2BFD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B175-0CCD-47A9-BABD-D1659185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D74-16B7-496C-B516-BBE04508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5F53-7186-419A-ACD0-42662FD8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387-E18D-4BA2-AFC4-8EBE82B5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2CDB-062E-4AC3-AC14-D2BD13F5409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br>
              <a:rPr sz="4000"/>
            </a:br>
            <a:br>
              <a:rPr sz="40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fesor Claudio Jiménez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PLOMA DE PREPARACIÓN Y EVALUACIÓN SOCIAL DE PROYE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LOGO DII bco"/>
          <p:cNvPicPr/>
          <p:nvPr/>
        </p:nvPicPr>
        <p:blipFill>
          <a:blip r:embed="rId1"/>
          <a:stretch/>
        </p:blipFill>
        <p:spPr>
          <a:xfrm>
            <a:off x="1071720" y="428760"/>
            <a:ext cx="21812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7215120" y="500040"/>
          <a:ext cx="961920" cy="78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5120" y="500040"/>
                    <a:ext cx="9619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1066680" y="1447920"/>
          <a:ext cx="2295720" cy="423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229572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5"/>
          <p:cNvGraphicFramePr/>
          <p:nvPr/>
        </p:nvGraphicFramePr>
        <p:xfrm>
          <a:off x="3886200" y="1600200"/>
          <a:ext cx="4952880" cy="411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1600200"/>
                    <a:ext cx="4952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3. Diagrama Flujo de Caja (DF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finición: DFC es un horizonte de tiempo en el cual se registran ingresos y egresos efectivos de dinero justo en el momento en que ocurren. Su utilidad es que nos permite hacer equivalencias entre valores presentes y valores futuros en cualquier instante de tiempo. Convenc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bajo es un egreso efectivo de dinero (E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a flecha hacia arriba es un ingreso efectivo de dinero (IE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asume que los ingresos y egresos efectivos de dinero son vencidos (al final del período) salvo que se diga lo contrario (anticipad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Flujo de Caja Neto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I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– EED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FC de un Crédi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752480" y="5410080"/>
            <a:ext cx="5991120" cy="1262880"/>
            <a:chOff x="1752480" y="5410080"/>
            <a:chExt cx="5991120" cy="1262880"/>
          </a:xfrm>
        </p:grpSpPr>
        <p:sp>
          <p:nvSpPr>
            <p:cNvPr id="116" name="Line 5"/>
            <p:cNvSpPr/>
            <p:nvPr/>
          </p:nvSpPr>
          <p:spPr>
            <a:xfrm>
              <a:off x="1752480" y="624816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6"/>
            <p:cNvSpPr/>
            <p:nvPr/>
          </p:nvSpPr>
          <p:spPr>
            <a:xfrm>
              <a:off x="7377120" y="6213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"/>
            <p:cNvSpPr/>
            <p:nvPr/>
          </p:nvSpPr>
          <p:spPr>
            <a:xfrm flipV="1">
              <a:off x="1828800" y="5410080"/>
              <a:ext cx="0" cy="83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8"/>
            <p:cNvSpPr/>
            <p:nvPr/>
          </p:nvSpPr>
          <p:spPr>
            <a:xfrm>
              <a:off x="25146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9"/>
            <p:cNvSpPr/>
            <p:nvPr/>
          </p:nvSpPr>
          <p:spPr>
            <a:xfrm>
              <a:off x="40384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0"/>
            <p:cNvSpPr/>
            <p:nvPr/>
          </p:nvSpPr>
          <p:spPr>
            <a:xfrm>
              <a:off x="32767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1"/>
            <p:cNvSpPr/>
            <p:nvPr/>
          </p:nvSpPr>
          <p:spPr>
            <a:xfrm>
              <a:off x="487692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2"/>
            <p:cNvSpPr/>
            <p:nvPr/>
          </p:nvSpPr>
          <p:spPr>
            <a:xfrm>
              <a:off x="571500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3"/>
            <p:cNvSpPr/>
            <p:nvPr/>
          </p:nvSpPr>
          <p:spPr>
            <a:xfrm>
              <a:off x="6553080" y="624816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de una Inver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 Típ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1752480" y="182880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1752480" y="1828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251460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V="1">
            <a:off x="3276720" y="12189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9"/>
          <p:cNvSpPr/>
          <p:nvPr/>
        </p:nvSpPr>
        <p:spPr>
          <a:xfrm flipV="1">
            <a:off x="4038480" y="990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0"/>
          <p:cNvSpPr/>
          <p:nvPr/>
        </p:nvSpPr>
        <p:spPr>
          <a:xfrm flipV="1">
            <a:off x="4876920" y="9144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"/>
          <p:cNvSpPr/>
          <p:nvPr/>
        </p:nvSpPr>
        <p:spPr>
          <a:xfrm flipV="1">
            <a:off x="571500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2"/>
          <p:cNvSpPr/>
          <p:nvPr/>
        </p:nvSpPr>
        <p:spPr>
          <a:xfrm flipV="1">
            <a:off x="65530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7429320" y="16002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1752480" y="4419720"/>
            <a:ext cx="685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2971800" y="365760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u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4800600" y="32767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nticip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4800600" y="403848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nc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705720" y="327672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6781680" y="4038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2895480" y="51102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ad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895480" y="602460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cal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4800600" y="533880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4800600" y="4648320"/>
            <a:ext cx="129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25"/>
          <p:cNvSpPr/>
          <p:nvPr/>
        </p:nvSpPr>
        <p:spPr>
          <a:xfrm flipV="1">
            <a:off x="2438280" y="403812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6"/>
          <p:cNvSpPr/>
          <p:nvPr/>
        </p:nvSpPr>
        <p:spPr>
          <a:xfrm>
            <a:off x="2438280" y="48006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2438280" y="48006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 flipV="1">
            <a:off x="4267080" y="35049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4267080" y="40384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 flipV="1">
            <a:off x="4267080" y="49528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4267080" y="54864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 flipV="1">
            <a:off x="4267080" y="594324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3"/>
          <p:cNvSpPr/>
          <p:nvPr/>
        </p:nvSpPr>
        <p:spPr>
          <a:xfrm>
            <a:off x="617220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6172200" y="4191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4952880" y="5867280"/>
            <a:ext cx="129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4952880" y="6324480"/>
            <a:ext cx="1676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rec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4267080" y="632448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6248520" y="6095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0"/>
          <p:cNvSpPr/>
          <p:nvPr/>
        </p:nvSpPr>
        <p:spPr>
          <a:xfrm>
            <a:off x="64771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1"/>
          <p:cNvSpPr/>
          <p:nvPr/>
        </p:nvSpPr>
        <p:spPr>
          <a:xfrm>
            <a:off x="6629400" y="6553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6705720" y="4724280"/>
            <a:ext cx="1447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3"/>
          <p:cNvSpPr/>
          <p:nvPr/>
        </p:nvSpPr>
        <p:spPr>
          <a:xfrm>
            <a:off x="6858000" y="58672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4"/>
          <p:cNvSpPr/>
          <p:nvPr/>
        </p:nvSpPr>
        <p:spPr>
          <a:xfrm>
            <a:off x="7086600" y="533412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5"/>
          <p:cNvSpPr/>
          <p:nvPr/>
        </p:nvSpPr>
        <p:spPr>
          <a:xfrm>
            <a:off x="7238880" y="6324480"/>
            <a:ext cx="1447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pet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préstamo a un añ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1981080" y="24382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1981080" y="1752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57200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525680" y="16146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715280" y="3214800"/>
            <a:ext cx="546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83060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329360" y="2452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5015520" y="22240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746440" y="20718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1748160" y="3998880"/>
            <a:ext cx="221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VP *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4"/>
          <p:cNvSpPr/>
          <p:nvPr/>
        </p:nvSpPr>
        <p:spPr>
          <a:xfrm>
            <a:off x="41911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4939560" y="3998880"/>
            <a:ext cx="368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pitalizar o deveng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1836720" y="5065560"/>
            <a:ext cx="2190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VP = V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/ ( 1 + i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7"/>
          <p:cNvSpPr/>
          <p:nvPr/>
        </p:nvSpPr>
        <p:spPr>
          <a:xfrm>
            <a:off x="419112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5092200" y="5105520"/>
            <a:ext cx="36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ctualizar o descontar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4. Tasas Efectivas v/s Nomi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Normalmente cuando se invierte o se pide prestado lo habitual es que se entregue el valor de una tasa que tiene un período que puede ser anual, semestral, trimestral, etc. y éste es el período de la ta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p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a inversión o préstamo puede capitalizar o devengar intereses más de una vez en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período en el cual se capitalizan los intereses se denomina  período de capitalizació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(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igual a pc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, estamos frente a un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asa efectiva o verdadera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. Ejemplo: i = 10% anual (pt) capitalizable anualmente (pc). En este caso, como pt = pc el pc se obvia y la tasa se menciona como i = 10% an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0.1) = 1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 / 100 = 10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 algn="just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pt es mayor que pc,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mos frente a un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tasa nominal o aparente. Ejemplo: i = 10% anual capitalizable semestralmente.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n este caso, la tasa efectiva asociada a la tasa nominal que se informó es mayor a un 10% anu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P 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6 mese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0 * (1 + 10% / 2) = 1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F 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1 añ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= 105 * (1 + 5%) = 11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10.25 / 100 = 10.25 % anual (tasa ef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la tasa efectiva o verdadera (10,25 % anual) es mayor que la tasa nominal informada (10 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mportante: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odas las ecuaciones del valor del dinero en el tiempo utilizan tasas efectivas. Por lo tanto, debemos transformar las tasas nominales que informa el mercado en tasa efectivas y esto lo podemos hacer a través de la siguiente ecuació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 1 + j / m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3059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ond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= tasa nominal (10% anual capitalizable semestralmen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 = nº de veces que se capitaliza la tasa nominal en el pt (2 ve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 / m = tasa efectiva del pc (5% semestr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= tasa efectiva del pt (10, 25% an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clusión: mientras más veces se capitaliza la tasa nominal en el pt, la tasa efectiva asociada a esta tasa nominal es cada vez mayor. El caso extremo es cuando se capitalizan intereses segundo a segundo (capitalización continua, m tiende a infinito). Ejemplo: hay proyectos en que el stock de riqueza invertida crece instante a instante, entre ellos podemos mencionar la engorda de animales, el añejamiento de vinos, la crianza de aves, los proyectos forestales, et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este caso, j = 10 % anual capitalizable continuamente, m tiende a infinito y la ecuación para encontrar 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pt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pt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j 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600" spc="-1" strike="noStrike" baseline="-25000">
                <a:solidFill>
                  <a:srgbClr val="000000"/>
                </a:solidFill>
                <a:latin typeface="Arial"/>
              </a:rPr>
              <a:t>anual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= e 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0.1 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- 1 = 10,51% a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ecuación anterior tiene otra utilidad: “ nos permite establecer equivalencias entre tasa de interés efectivas de distintos períod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= (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= ( 1 + i 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s-CL" sz="1800" spc="-1" strike="noStrike" baseline="30000">
                <a:solidFill>
                  <a:srgbClr val="000000"/>
                </a:solidFill>
                <a:latin typeface="Arial"/>
              </a:rPr>
              <a:t>3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nuestro ejercicio en que j = 10 % anual capitalizable semestralmente lo que hicimos fue lo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 1 + 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= ( 1 + 0.05 ) 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10.25% (tasa efec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5. Tasas Spots y Forw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pot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aquella tasa conocida e informada en el mercado al día de h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s una tasa de interés a futuro no observable ni informada directamente en el mercado, pero que se puede calculars a partir de las tasas spo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bas tasas tienen que ser efec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 que se desea conocer con esta nueva distinción de tasas es la estructura temporal de las tasas de interés. No es lo mismo invertir a un año plazo que invertir a 10 años. Lo mismo para un présta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empre que se quiera calcular tasas forwards a partir de tasas spots, éstas deben llevarse a un período en común (por ejemplo: mensual, trimestral,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4"/>
          <p:cNvSpPr/>
          <p:nvPr/>
        </p:nvSpPr>
        <p:spPr>
          <a:xfrm>
            <a:off x="1219320" y="160020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"/>
          <p:cNvSpPr/>
          <p:nvPr/>
        </p:nvSpPr>
        <p:spPr>
          <a:xfrm>
            <a:off x="251460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8098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12193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976320" y="1447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230976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3582720" y="12952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2"/>
          <p:cNvSpPr/>
          <p:nvPr/>
        </p:nvSpPr>
        <p:spPr>
          <a:xfrm>
            <a:off x="4422240" y="13860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6"/>
          <p:cNvSpPr/>
          <p:nvPr/>
        </p:nvSpPr>
        <p:spPr>
          <a:xfrm>
            <a:off x="1219320" y="1600200"/>
            <a:ext cx="1295280" cy="60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7"/>
          <p:cNvSpPr/>
          <p:nvPr/>
        </p:nvSpPr>
        <p:spPr>
          <a:xfrm>
            <a:off x="1219320" y="1600200"/>
            <a:ext cx="2590560" cy="144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759320" y="176688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2369160" y="2529000"/>
            <a:ext cx="31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2908080" y="1219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1165320" y="3505320"/>
            <a:ext cx="6759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5"/>
          <p:cNvSpPr/>
          <p:nvPr/>
        </p:nvSpPr>
        <p:spPr>
          <a:xfrm>
            <a:off x="1371600" y="3352680"/>
            <a:ext cx="5943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un per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spot a 2 perío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 tasa forward a un período dentro de un perí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cumple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) * ( 1 + 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= ( 1 + i</a:t>
            </a:r>
            <a:r>
              <a:rPr b="1" lang="es-CL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) 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ordar qu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hay que llevarlo al mismo período de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. Por esto, ( 1 + i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) en la formula anterior está elevado al cuad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Valor del Dinero en el Tiempo (VD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Ind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fini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de Interés Simple y Compu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iagrama Flujo de Caja (DF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Efectivas y Nomi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tereses Interperiod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sas Spots y Forw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Inflación, Flujos Reales y Nominales, Interés Real y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Tablas de Pago de Créd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7. Tabla de Pago de Créd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ando se solicita un crédito y nos lo otorga cualquier institución financiera, adquirimos el compromiso a pagar intereses (costo del préstamo) y a devolver lo que nos prestaron (esto último se denomina amortización del pre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 = amortización + intereses (siempre se cancelan primero los intereses y luego se amortiza el préstam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privada de proyectos los intereses son un costo del proyecto financiado y se reconocen como un egreso en el flujo de caja operacional antes de impuesto. La amortización del préstamo es un flujo de caja de capitales y se reconoce como un egr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a evaluación social de proyectos los flujos asociados a la deuda (préstamo, intereses, ahorro de impuestos y amortizaciones) no son relevantes ya que es sólo una tranferencia de recursos dentro del mismo sistema (Sociedad Chilen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pendiendo del sistema o forma de pago, los créditos se clasifican 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uotas iguales (aquí debemos recordar la fórmula de anual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mortizaciones igu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ólo se cancelan los intereses de cada período y se amortiza el total de la deuda en el último período del crédi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stamo hoy = $ 1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 = 5 a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) Cuotas iguales (ej.: Créditos hipotecarios con una garantía real como segunda fuente de pag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1941480" y="3581280"/>
            <a:ext cx="52214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) Amortizaciones Iguales (ej.: créditos agrícol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onto Amortización anual = Préstamo / n = 1.000 / 5 = 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46483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) Sólo intereses por período y la amortización total del préstamo en el último período del préstamo (Ej: líneas de crédito, Bon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648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ejemplos anteriores son clásicos. Se pueden dar otras formas de pago derivadas de las anteri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 de interé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(Ej.: créditos Corfo para estudios superio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íodos de gracia de amortizaciones e 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ncelación anticipada del créd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valuación privada de proyectos y específicamente en el proyecto financiado, los préstamos tienen impacto vía ahorro de impuestos. No obstante, el sistema de pago a elegir va a depender de los flujos del proyecto (capacidad de pago) y del impacto del préstamo en el VAN del proyecto (mejor indicador de rentabilidad, lo verán más adela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1.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es el cambio en la cantidad de dinero durante un período de tiempo d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inero hace Dinero”.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 depósito en el b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ertir en un fondo mutu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dir un prést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DT se manifiesta en el Mercado a través de las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Tasas de Interé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Tasas de Interés son un concepto d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amos el ejemplo de un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rector Financier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 una empres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el mínimo rendimiento que se exige a los activos reales es la rentabilidad que obtendrían los accionistas en el mercado de capitales al realizar inversiones en activos financieros (Bonos y Acciones) de similar riesgo al de los activos reales. Esto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“Costo de Oportunidad del Capit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95280" y="2738520"/>
            <a:ext cx="18730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Rea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6948360" y="2708280"/>
            <a:ext cx="16560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portunidad de inversión en M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(Activos Financier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994480" y="2938320"/>
            <a:ext cx="9928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4791960" y="2997360"/>
            <a:ext cx="12110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5"/>
          <p:cNvSpPr/>
          <p:nvPr/>
        </p:nvSpPr>
        <p:spPr>
          <a:xfrm>
            <a:off x="3065400" y="1989000"/>
            <a:ext cx="777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in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"/>
          <p:cNvSpPr/>
          <p:nvPr/>
        </p:nvSpPr>
        <p:spPr>
          <a:xfrm>
            <a:off x="2183760" y="37893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Invert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7"/>
          <p:cNvSpPr/>
          <p:nvPr/>
        </p:nvSpPr>
        <p:spPr>
          <a:xfrm>
            <a:off x="3203640" y="371628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lternativ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agar al contado a accioni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8"/>
          <p:cNvSpPr/>
          <p:nvPr/>
        </p:nvSpPr>
        <p:spPr>
          <a:xfrm>
            <a:off x="5292720" y="3860640"/>
            <a:ext cx="21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os accionistas Invierten por sí m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 flipH="1">
            <a:off x="2339640" y="31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3419640" y="24192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4140360" y="3141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6156360" y="3141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3"/>
          <p:cNvSpPr/>
          <p:nvPr/>
        </p:nvSpPr>
        <p:spPr>
          <a:xfrm flipV="1">
            <a:off x="2627280" y="32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4"/>
          <p:cNvSpPr/>
          <p:nvPr/>
        </p:nvSpPr>
        <p:spPr>
          <a:xfrm flipV="1">
            <a:off x="4356000" y="321300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5"/>
          <p:cNvSpPr/>
          <p:nvPr/>
        </p:nvSpPr>
        <p:spPr>
          <a:xfrm flipV="1">
            <a:off x="6443640" y="32846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7093080" y="4292640"/>
            <a:ext cx="17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ta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395280" y="407196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e exige Rendi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1116000" y="3645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7885080" y="3860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6840" y="762120"/>
            <a:ext cx="82184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aspectos relevantes influyen en la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cisiones de Inversión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e Financiamiento: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“El Riesgo y el Tiemp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l VDT es valioso ya que da a conocer el efecto d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iemp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iesgo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en tales decis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lgunos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rincipios Económicos – Financi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hoy vale más que un dólar mañana bajo la premisa de que hoy puedo invertir ese dólar para generar interes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Un dólar seguro vale más que uno con riesgo” (no todas las inversiones tienen el mismo riesgo. Debemos comparar con alternativas de similar riesgo. Ej. Bonos del Banco Central v/s Arriendo de Ofici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8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3847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686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inicion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invierte) = Monto actual – Inversión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(si se pide prestado) = Monto debido actualmente - Préstamo Orig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: el interés se expresa como un porcentaje (%) de la suma original por unidad de tiem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es la unidad de tiempo de la  tasa de inte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jemplo: una empresa invirtió $100.000 y obtuvo un total de $106.000 exactamente un año más tar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erés = $106.000 (monto actual) - $100.000 (inversión original) = $6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sa de Interés = $6.000 (interés) / $100.000 (suma original) = 6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eríodo de interés =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lasificación general de las Tasas de Interé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9640" y="32846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de Inter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2268360" y="234936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imp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124000" y="4667400"/>
            <a:ext cx="1440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Compu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068720" y="3508200"/>
            <a:ext cx="129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 (Apar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3852720" y="5489640"/>
            <a:ext cx="1511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Efectivas (Verdader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5869080" y="579132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Forw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5869080" y="449424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Sp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7596360" y="60786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3"/>
          <p:cNvSpPr/>
          <p:nvPr/>
        </p:nvSpPr>
        <p:spPr>
          <a:xfrm>
            <a:off x="7596360" y="386064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 flipV="1">
            <a:off x="1763640" y="285264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1765440" y="3860640"/>
            <a:ext cx="368280" cy="78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 flipV="1">
            <a:off x="3564000" y="4142880"/>
            <a:ext cx="503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9"/>
          <p:cNvSpPr/>
          <p:nvPr/>
        </p:nvSpPr>
        <p:spPr>
          <a:xfrm>
            <a:off x="3564000" y="4941720"/>
            <a:ext cx="287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0"/>
          <p:cNvSpPr/>
          <p:nvPr/>
        </p:nvSpPr>
        <p:spPr>
          <a:xfrm flipV="1">
            <a:off x="5334120" y="5105520"/>
            <a:ext cx="507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3"/>
          <p:cNvSpPr/>
          <p:nvPr/>
        </p:nvSpPr>
        <p:spPr>
          <a:xfrm>
            <a:off x="5364000" y="5877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4"/>
          <p:cNvSpPr/>
          <p:nvPr/>
        </p:nvSpPr>
        <p:spPr>
          <a:xfrm>
            <a:off x="5796000" y="253368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5"/>
          <p:cNvSpPr/>
          <p:nvPr/>
        </p:nvSpPr>
        <p:spPr>
          <a:xfrm>
            <a:off x="5796000" y="36450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46"/>
          <p:cNvSpPr/>
          <p:nvPr/>
        </p:nvSpPr>
        <p:spPr>
          <a:xfrm flipV="1">
            <a:off x="5410080" y="3123720"/>
            <a:ext cx="3556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7"/>
          <p:cNvSpPr/>
          <p:nvPr/>
        </p:nvSpPr>
        <p:spPr>
          <a:xfrm>
            <a:off x="5364000" y="3860640"/>
            <a:ext cx="432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8"/>
          <p:cNvSpPr/>
          <p:nvPr/>
        </p:nvSpPr>
        <p:spPr>
          <a:xfrm>
            <a:off x="7596360" y="537372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9"/>
          <p:cNvSpPr/>
          <p:nvPr/>
        </p:nvSpPr>
        <p:spPr>
          <a:xfrm>
            <a:off x="7596360" y="4653000"/>
            <a:ext cx="12236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0"/>
          <p:cNvSpPr/>
          <p:nvPr/>
        </p:nvSpPr>
        <p:spPr>
          <a:xfrm flipV="1">
            <a:off x="7093080" y="4221000"/>
            <a:ext cx="503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7093080" y="472428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3"/>
          <p:cNvSpPr/>
          <p:nvPr/>
        </p:nvSpPr>
        <p:spPr>
          <a:xfrm flipV="1">
            <a:off x="7093080" y="5733720"/>
            <a:ext cx="503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7093080" y="6093000"/>
            <a:ext cx="5032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5"/>
          <p:cNvSpPr/>
          <p:nvPr/>
        </p:nvSpPr>
        <p:spPr>
          <a:xfrm>
            <a:off x="3733920" y="20574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Nomi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6"/>
          <p:cNvSpPr/>
          <p:nvPr/>
        </p:nvSpPr>
        <p:spPr>
          <a:xfrm>
            <a:off x="3733920" y="2743200"/>
            <a:ext cx="1224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Tasas Re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7"/>
          <p:cNvSpPr/>
          <p:nvPr/>
        </p:nvSpPr>
        <p:spPr>
          <a:xfrm flipV="1">
            <a:off x="3505320" y="24382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8"/>
          <p:cNvSpPr/>
          <p:nvPr/>
        </p:nvSpPr>
        <p:spPr>
          <a:xfrm>
            <a:off x="3505320" y="2590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2. Tasas de Interés Simples y Compues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380880" y="1447920"/>
            <a:ext cx="822960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33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no generan intereses. Sólo el principal (inversión o préstamo) genera intereses. De otra forma es aquel que no considera reinversión de los intereses ganados en perí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0 , VP = $100 e i = 10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 VP + VP * i = $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P * i  (Observemos que sólo calculamos intereses sobre el principal origin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+ VP * i + VP * i = VP + 2 * VP * i = 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n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n * VP * i ==&gt;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n *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terés Com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incipio: Intereses si generan intereses. El principal original más los intereses generan intereses. De otra forma se asume reinversión de los intereses obtenidos en periodos intermed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gamos que T = 0, VP = $100 e i = 10% anu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1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= 1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 = 2,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* i Observemos ahora calculamos intereses sobre el principal original más los intereses generados en el año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+ VP * i + VP * i + VP * i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1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ra n perío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=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+ VF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* i   ==&gt;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= VP * (1 + i) 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9T01:01:05Z</dcterms:created>
  <dc:creator>CHECHO</dc:creator>
  <dc:description/>
  <dc:language>en-US</dc:language>
  <cp:lastModifiedBy>Leo</cp:lastModifiedBy>
  <dcterms:modified xsi:type="dcterms:W3CDTF">2009-04-20T02:39:02Z</dcterms:modified>
  <cp:revision>19</cp:revision>
  <dc:subject/>
  <dc:title>Diapositiva 1</dc:title>
</cp:coreProperties>
</file>