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9.gif" ContentType="image/gif"/>
  <Override PartName="/ppt/media/image10.wmf" ContentType="image/x-wmf"/>
  <Override PartName="/ppt/media/image11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8D77-33BF-4D85-A4FF-D9C439BB8BB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BBF3-26A8-41B1-BC52-BFA52AB6401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CD87-0612-4442-97E0-06E703872EA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F1F5-EF92-40F2-9E28-63E7E82D044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46AE-10DD-4D1C-9B21-38E8415F1AA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7003-3DD8-4386-8978-343DF923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FFAA-7CD1-4D3F-9B79-BE023BBD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134-45AD-4D93-B52D-11E9D037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2DB8-2677-433F-9456-A2F2F5FD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F9AB-EE8A-47E4-BC6B-D8896F1D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786C-CCDC-4F7D-8F3C-F1E9BC0A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383E-47F1-4790-980B-4503DF91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8060-DE96-43CA-B282-A11C2384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4437-6C11-47D4-BA45-634B051B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772D-8CFD-448E-BA1C-E9ABC9FC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3E99-3B79-4196-BB3B-329B3485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6046-729A-4498-AA06-F114DFA7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B51E-16CF-4AD3-85F2-2409258F2A18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71840" y="3886200"/>
            <a:ext cx="428616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ptiembre de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0755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isión esquemática del ciclo de control de gestión en un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2987640" y="2997360"/>
            <a:ext cx="1655640" cy="647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ida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"/>
          <p:cNvSpPr/>
          <p:nvPr/>
        </p:nvSpPr>
        <p:spPr>
          <a:xfrm>
            <a:off x="2771640" y="1628640"/>
            <a:ext cx="194472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rcado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 flipV="1">
            <a:off x="3492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"/>
          <p:cNvSpPr/>
          <p:nvPr/>
        </p:nvSpPr>
        <p:spPr>
          <a:xfrm>
            <a:off x="2916360" y="4149720"/>
            <a:ext cx="1800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 flipV="1">
            <a:off x="3995640" y="3646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 flipH="1">
            <a:off x="3492000" y="364644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4643280" y="3284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5151240" y="2852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6156360" y="177336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590520" y="10526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>
            <a:off x="6804000" y="14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5"/>
          <p:cNvSpPr/>
          <p:nvPr/>
        </p:nvSpPr>
        <p:spPr>
          <a:xfrm>
            <a:off x="6659640" y="3068640"/>
            <a:ext cx="36036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6804000" y="2421000"/>
            <a:ext cx="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6732720" y="31417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Eval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3203640" y="537372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Decid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19"/>
          <p:cNvCxnSpPr>
            <a:stCxn id="117" idx="4"/>
            <a:endCxn id="120" idx="3"/>
          </p:cNvCxnSpPr>
          <p:nvPr/>
        </p:nvCxnSpPr>
        <p:spPr>
          <a:xfrm rot="5400000">
            <a:off x="4535640" y="3393000"/>
            <a:ext cx="2269080" cy="23403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2" name="Line 20"/>
          <p:cNvSpPr/>
          <p:nvPr/>
        </p:nvSpPr>
        <p:spPr>
          <a:xfrm>
            <a:off x="1332000" y="3284640"/>
            <a:ext cx="1655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1332000" y="3284640"/>
            <a:ext cx="0" cy="2449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2"/>
          <p:cNvSpPr/>
          <p:nvPr/>
        </p:nvSpPr>
        <p:spPr>
          <a:xfrm>
            <a:off x="1332000" y="573408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3"/>
          <p:cNvSpPr/>
          <p:nvPr/>
        </p:nvSpPr>
        <p:spPr>
          <a:xfrm>
            <a:off x="5356080" y="1486080"/>
            <a:ext cx="2735280" cy="122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7932600" y="1557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Plani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5"/>
          <p:cNvSpPr/>
          <p:nvPr/>
        </p:nvSpPr>
        <p:spPr>
          <a:xfrm>
            <a:off x="5076720" y="2708280"/>
            <a:ext cx="79236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4429440" y="12682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5003640" y="1700280"/>
            <a:ext cx="43200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8"/>
          <p:cNvSpPr/>
          <p:nvPr/>
        </p:nvSpPr>
        <p:spPr>
          <a:xfrm>
            <a:off x="6227640" y="2781360"/>
            <a:ext cx="122400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7742880" y="3645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al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0"/>
          <p:cNvSpPr/>
          <p:nvPr/>
        </p:nvSpPr>
        <p:spPr>
          <a:xfrm flipH="1" flipV="1">
            <a:off x="7261200" y="3357720"/>
            <a:ext cx="479520" cy="358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1"/>
          <p:cNvSpPr/>
          <p:nvPr/>
        </p:nvSpPr>
        <p:spPr>
          <a:xfrm>
            <a:off x="2627280" y="5084640"/>
            <a:ext cx="237636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4717800" y="58770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ntr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3"/>
          <p:cNvSpPr/>
          <p:nvPr/>
        </p:nvSpPr>
        <p:spPr>
          <a:xfrm>
            <a:off x="7236000" y="1989000"/>
            <a:ext cx="1655640" cy="120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PTO </a:t>
            </a:r>
            <a:r>
              <a:rPr b="1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ER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4794840" y="3376440"/>
            <a:ext cx="844920" cy="717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R 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6877080" y="4437000"/>
            <a:ext cx="2035080" cy="642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ortes y análisis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6"/>
          <p:cNvSpPr/>
          <p:nvPr/>
        </p:nvSpPr>
        <p:spPr>
          <a:xfrm>
            <a:off x="324000" y="5300640"/>
            <a:ext cx="2035080" cy="642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es de acción corre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68360" y="33336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ontrol presupuestario clás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4932360" y="2060640"/>
            <a:ext cx="106668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Pla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ope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181480" y="12193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Estrategia de ope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>
            <a:off x="5435640" y="15573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2209680" y="3809880"/>
            <a:ext cx="2001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Estan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5181480" y="3962520"/>
            <a:ext cx="533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4211640" y="414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900000" y="4149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900000" y="3716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4211640" y="37162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5435640" y="299736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3"/>
          <p:cNvSpPr/>
          <p:nvPr/>
        </p:nvSpPr>
        <p:spPr>
          <a:xfrm>
            <a:off x="5292720" y="40053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 flipV="1">
            <a:off x="5292720" y="400500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3927960" y="314172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ferencia =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6"/>
          <p:cNvSpPr/>
          <p:nvPr/>
        </p:nvSpPr>
        <p:spPr>
          <a:xfrm>
            <a:off x="2700360" y="5445000"/>
            <a:ext cx="1150920" cy="720720"/>
          </a:xfrm>
          <a:prstGeom prst="leftArrowCallout">
            <a:avLst>
              <a:gd name="adj1" fmla="val 25002"/>
              <a:gd name="adj2" fmla="val 25000"/>
              <a:gd name="adj3" fmla="val 2661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899640" y="5805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8"/>
          <p:cNvSpPr/>
          <p:nvPr/>
        </p:nvSpPr>
        <p:spPr>
          <a:xfrm flipV="1">
            <a:off x="900000" y="4149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9"/>
          <p:cNvSpPr/>
          <p:nvPr/>
        </p:nvSpPr>
        <p:spPr>
          <a:xfrm>
            <a:off x="5435640" y="4437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"/>
          <p:cNvSpPr/>
          <p:nvPr/>
        </p:nvSpPr>
        <p:spPr>
          <a:xfrm flipH="1">
            <a:off x="3850920" y="5805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0"/>
          <p:cNvSpPr/>
          <p:nvPr/>
        </p:nvSpPr>
        <p:spPr>
          <a:xfrm>
            <a:off x="4286160" y="6021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ntr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7164360" y="2637000"/>
            <a:ext cx="1655640" cy="120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PTO </a:t>
            </a:r>
            <a:r>
              <a:rPr b="1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ER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2"/>
          <p:cNvSpPr/>
          <p:nvPr/>
        </p:nvSpPr>
        <p:spPr>
          <a:xfrm>
            <a:off x="4312080" y="4221000"/>
            <a:ext cx="844920" cy="717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R 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3"/>
          <p:cNvSpPr/>
          <p:nvPr/>
        </p:nvSpPr>
        <p:spPr>
          <a:xfrm>
            <a:off x="5867280" y="4869000"/>
            <a:ext cx="2035440" cy="642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ortes y análisis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4"/>
          <p:cNvSpPr/>
          <p:nvPr/>
        </p:nvSpPr>
        <p:spPr>
          <a:xfrm>
            <a:off x="0" y="5229360"/>
            <a:ext cx="2035080" cy="642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es de acción corre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ompañía productora de jabón ‘COPITO S.A’ exhibe la siguiente información para el año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985080" cy="3819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6877080" y="2205000"/>
            <a:ext cx="135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ifras en K U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pto para 2009 tiene la siguiente estruc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07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79280" y="1198440"/>
            <a:ext cx="849636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lgunos indicadores proyec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2880" y="35002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a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1547640" y="3429000"/>
            <a:ext cx="144720" cy="79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2438280" y="2535120"/>
            <a:ext cx="4834080" cy="35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álisis de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 tiene la siguiente información para el resultado real del periodo 200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0" y="2421000"/>
            <a:ext cx="88581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alances compar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250920" y="1370160"/>
            <a:ext cx="8713800" cy="4651200"/>
          </a:xfrm>
          <a:prstGeom prst="rect">
            <a:avLst/>
          </a:prstGeom>
          <a:ln w="0">
            <a:noFill/>
          </a:ln>
        </p:spPr>
      </p:pic>
      <p:sp>
        <p:nvSpPr>
          <p:cNvPr id="179" name="5 CuadroTexto"/>
          <p:cNvSpPr/>
          <p:nvPr/>
        </p:nvSpPr>
        <p:spPr>
          <a:xfrm>
            <a:off x="3714840" y="1571760"/>
            <a:ext cx="26431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2008               2009                   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ndicadores compar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98440" y="1889280"/>
            <a:ext cx="86076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presupuesto clá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rol y 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j0076172"/>
          <p:cNvPicPr/>
          <p:nvPr/>
        </p:nvPicPr>
        <p:blipFill>
          <a:blip r:embed="rId1"/>
          <a:stretch/>
        </p:blipFill>
        <p:spPr>
          <a:xfrm>
            <a:off x="5715000" y="1676520"/>
            <a:ext cx="281952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grama del resto del curso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óximas cl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supuesto y ciclo de control financi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rcicio de sim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s de cost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s de Información para el control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lementando sistemas de control de gest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ópicos específicos de control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porta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nto más claro, preciso y bien pensado, más fácilmente las compañía podrá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justar planes, actividades y gasto asdoci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gramar ga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canzar los objetivos de nego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jorar sistemas internos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laves de un buen proceso presupuest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ender la misión y la 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aluación del potencial de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antear programas y sus potenci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signar responsab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robar formalmente el presu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nitorear su ejec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plantear el presupuesto en caso de ser neces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lenda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finir un plan con sus activ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blecer horizonte y progra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finir responsables por t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blecer mecanismos de consolidación y rev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finir Hitos de aprob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tribuir calendario d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9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3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7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2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7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pto de v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pto de cos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fectado por política de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pto de ga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pto de Inversión, I&amp;D, mktg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pto de gast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do de Resultados proyec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lance proyec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lujo de c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strucción del presupue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0" y="2205000"/>
            <a:ext cx="9144000" cy="30243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379080" y="1360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Object 2"/>
          <p:cNvGraphicFramePr/>
          <p:nvPr/>
        </p:nvGraphicFramePr>
        <p:xfrm>
          <a:off x="826920" y="0"/>
          <a:ext cx="6924960" cy="646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0"/>
                    <a:ext cx="692496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ujo de Ca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eneficio Neto después de impue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 (Ingresos – Gastos /sin efecto de caj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-/+ cambio en necesidades netas de oper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ja Generada por la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+/- Caja de Operaciones de Financi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-/+ Caja de inver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ursos Líquidos N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ambio en necesidades netas de explo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/+ cambio en deuda de clientes (Cx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/+ cambio en niveles de exist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/- cambio en cuentas por pagar (Cx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Oval 4"/>
          <p:cNvSpPr/>
          <p:nvPr/>
        </p:nvSpPr>
        <p:spPr>
          <a:xfrm>
            <a:off x="1116000" y="1484280"/>
            <a:ext cx="1800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5"/>
          <p:cNvSpPr/>
          <p:nvPr/>
        </p:nvSpPr>
        <p:spPr>
          <a:xfrm>
            <a:off x="1187280" y="3068640"/>
            <a:ext cx="1800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j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1187280" y="4653000"/>
            <a:ext cx="1800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ja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1116000" y="1484280"/>
            <a:ext cx="1800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j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p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4572000" y="3068640"/>
            <a:ext cx="1655640" cy="72072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$ líqu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3276720" y="1484280"/>
            <a:ext cx="934920" cy="3816360"/>
          </a:xfrm>
          <a:custGeom>
            <a:avLst/>
            <a:gdLst>
              <a:gd name="textAreaLeft" fmla="*/ 0 w 934920"/>
              <a:gd name="textAreaRight" fmla="*/ 337680 w 934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álisis de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 tiene la siguiente información para el resultado real del periodo 200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0" y="2421000"/>
            <a:ext cx="88581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ctur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tilización de sistemas de cost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alances compar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250920" y="1370160"/>
            <a:ext cx="8713800" cy="4651200"/>
          </a:xfrm>
          <a:prstGeom prst="rect">
            <a:avLst/>
          </a:prstGeom>
          <a:ln w="0">
            <a:noFill/>
          </a:ln>
        </p:spPr>
      </p:pic>
      <p:sp>
        <p:nvSpPr>
          <p:cNvPr id="213" name="5 CuadroTexto"/>
          <p:cNvSpPr/>
          <p:nvPr/>
        </p:nvSpPr>
        <p:spPr>
          <a:xfrm>
            <a:off x="3714840" y="1571760"/>
            <a:ext cx="26431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2008               2009                   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plicando al ejemplo anter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seño del ppto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álculo del flujo de caja proyectado (método direct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1042920" y="3141720"/>
            <a:ext cx="71643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étodo indirec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140360" y="549360"/>
            <a:ext cx="45464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eneficio Neto después de impue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- (Ingresos – Gastos /sin efecto de caj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-/+ cambio en necesidades netas de operació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ja Generada por la ope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+/- Caja de Operaciones de Financi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-/+ Caja de inver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cursos Líquidos Ne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813600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tuación real (cálculo indirect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841212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7920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tra forma de compa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424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grupos deberán preparar para la empresa que están estudian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Mapa estraté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modelo de BSC, incluyendo indicadores y m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omendaciones para el control de gestión de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 control financiero clá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foque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paración del presu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yección de flujo de c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0755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isión esquemática del ciclo de control de gestión en un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987640" y="2997360"/>
            <a:ext cx="1655640" cy="647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ida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4"/>
          <p:cNvSpPr/>
          <p:nvPr/>
        </p:nvSpPr>
        <p:spPr>
          <a:xfrm>
            <a:off x="2771640" y="1628640"/>
            <a:ext cx="194472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rcado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 flipV="1">
            <a:off x="3492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2916360" y="4149720"/>
            <a:ext cx="1800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 flipV="1">
            <a:off x="3995640" y="3646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 flipH="1">
            <a:off x="3492000" y="364644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4643280" y="3284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5151240" y="2852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6156360" y="177336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6590520" y="10526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6804000" y="14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5"/>
          <p:cNvSpPr/>
          <p:nvPr/>
        </p:nvSpPr>
        <p:spPr>
          <a:xfrm>
            <a:off x="6659640" y="3068640"/>
            <a:ext cx="36036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6"/>
          <p:cNvSpPr/>
          <p:nvPr/>
        </p:nvSpPr>
        <p:spPr>
          <a:xfrm>
            <a:off x="6804000" y="2421000"/>
            <a:ext cx="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6732720" y="31417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Eval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8"/>
          <p:cNvSpPr/>
          <p:nvPr/>
        </p:nvSpPr>
        <p:spPr>
          <a:xfrm>
            <a:off x="3203640" y="537372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Decid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AutoShape 19"/>
          <p:cNvCxnSpPr>
            <a:stCxn id="73" idx="4"/>
            <a:endCxn id="76" idx="3"/>
          </p:cNvCxnSpPr>
          <p:nvPr/>
        </p:nvCxnSpPr>
        <p:spPr>
          <a:xfrm rot="5400000">
            <a:off x="4535640" y="3393000"/>
            <a:ext cx="2269080" cy="23403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8" name="Line 20"/>
          <p:cNvSpPr/>
          <p:nvPr/>
        </p:nvSpPr>
        <p:spPr>
          <a:xfrm>
            <a:off x="1332000" y="3284640"/>
            <a:ext cx="1655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1"/>
          <p:cNvSpPr/>
          <p:nvPr/>
        </p:nvSpPr>
        <p:spPr>
          <a:xfrm>
            <a:off x="1332000" y="3284640"/>
            <a:ext cx="0" cy="2449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2"/>
          <p:cNvSpPr/>
          <p:nvPr/>
        </p:nvSpPr>
        <p:spPr>
          <a:xfrm>
            <a:off x="1332000" y="573408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23"/>
          <p:cNvSpPr/>
          <p:nvPr/>
        </p:nvSpPr>
        <p:spPr>
          <a:xfrm>
            <a:off x="5356080" y="1486080"/>
            <a:ext cx="2735280" cy="122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7932600" y="1557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Plani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5"/>
          <p:cNvSpPr/>
          <p:nvPr/>
        </p:nvSpPr>
        <p:spPr>
          <a:xfrm>
            <a:off x="5076720" y="2708280"/>
            <a:ext cx="79236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6"/>
          <p:cNvSpPr/>
          <p:nvPr/>
        </p:nvSpPr>
        <p:spPr>
          <a:xfrm>
            <a:off x="4429440" y="12682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7"/>
          <p:cNvSpPr/>
          <p:nvPr/>
        </p:nvSpPr>
        <p:spPr>
          <a:xfrm>
            <a:off x="5003640" y="1700280"/>
            <a:ext cx="43200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28"/>
          <p:cNvSpPr/>
          <p:nvPr/>
        </p:nvSpPr>
        <p:spPr>
          <a:xfrm>
            <a:off x="6227640" y="2781360"/>
            <a:ext cx="122400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7887240" y="31417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al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0"/>
          <p:cNvSpPr/>
          <p:nvPr/>
        </p:nvSpPr>
        <p:spPr>
          <a:xfrm flipH="1">
            <a:off x="7260840" y="335772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1"/>
          <p:cNvSpPr/>
          <p:nvPr/>
        </p:nvSpPr>
        <p:spPr>
          <a:xfrm>
            <a:off x="2627280" y="5084640"/>
            <a:ext cx="237636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2"/>
          <p:cNvSpPr/>
          <p:nvPr/>
        </p:nvSpPr>
        <p:spPr>
          <a:xfrm>
            <a:off x="4717800" y="58770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ntr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80"/>
          <p:cNvSpPr/>
          <p:nvPr/>
        </p:nvSpPr>
        <p:spPr>
          <a:xfrm>
            <a:off x="755640" y="1989000"/>
            <a:ext cx="2303640" cy="20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79"/>
          <p:cNvSpPr/>
          <p:nvPr/>
        </p:nvSpPr>
        <p:spPr>
          <a:xfrm>
            <a:off x="4859280" y="1916280"/>
            <a:ext cx="2017800" cy="22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esupue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77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3184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78"/>
          <p:cNvSpPr/>
          <p:nvPr/>
        </p:nvSpPr>
        <p:spPr>
          <a:xfrm>
            <a:off x="3134880" y="335772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supuesto debería ser una planificación integral del negocio de acuerdo a la estrate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097640" y="27288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ERR (t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lance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294880" y="2781360"/>
            <a:ext cx="154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ERR 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lance 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lujo de ca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132000" y="3141720"/>
            <a:ext cx="1800360" cy="574560"/>
          </a:xfrm>
          <a:prstGeom prst="rightArrow">
            <a:avLst>
              <a:gd name="adj1" fmla="val 50000"/>
              <a:gd name="adj2" fmla="val 783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549800" y="5013360"/>
            <a:ext cx="145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Estrategia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Supues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del 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495960" y="4941720"/>
            <a:ext cx="17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Oper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I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276720" y="501336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 flipV="1">
            <a:off x="2124000" y="3428640"/>
            <a:ext cx="1800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6:47:06Z</dcterms:created>
  <dc:creator>.</dc:creator>
  <dc:description/>
  <dc:language>en-US</dc:language>
  <cp:lastModifiedBy>Ivan Braga</cp:lastModifiedBy>
  <dcterms:modified xsi:type="dcterms:W3CDTF">2009-09-11T00:58:54Z</dcterms:modified>
  <cp:revision>29</cp:revision>
  <dc:subject/>
  <dc:title>El control financiero clásico</dc:title>
</cp:coreProperties>
</file>