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9.gif" ContentType="image/gif"/>
  <Override PartName="/ppt/media/image10.wmf" ContentType="image/x-wmf"/>
  <Override PartName="/ppt/media/image11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C7FD-019F-4689-9738-F056B1A25F8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663A-D627-4D6E-A9E9-36B493C99D6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6135-F536-421F-80D3-AB734075EB7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78F1-8102-4445-A73C-9237140EA29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3B62-288F-4E8A-9AEF-C38FC8D29E7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92EB-AEA1-4B21-8E73-1FB5D519C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4E2E-D7D1-4571-848A-7607A4E2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C26B-97B7-4C65-94AA-0776833DD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45B7-EDB8-4AB2-A1AD-B765EE207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7272-C006-4327-9712-0478D89F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06EB-7625-4FBF-AD12-D708F8C3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2023-C7AF-479B-925D-63394D88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A28C-AD83-4055-BFD6-D0689411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2DF5-7E32-49D4-9FD1-D08FA34D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2BB4-EF11-4301-ADDB-75C0473B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64CF-607F-4071-8444-FF0343FA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9C6B-3FBC-4743-ABFE-14DA1439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7E35-FE09-4464-B335-C1F93D879F32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trol de Gest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71840" y="3886200"/>
            <a:ext cx="428616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ptiembre de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0755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isión esquemática del ciclo de control de gestión en un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2987640" y="2997360"/>
            <a:ext cx="1655640" cy="6476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ida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ego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4"/>
          <p:cNvSpPr/>
          <p:nvPr/>
        </p:nvSpPr>
        <p:spPr>
          <a:xfrm>
            <a:off x="2771640" y="1628640"/>
            <a:ext cx="194472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rcado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"/>
          <p:cNvSpPr/>
          <p:nvPr/>
        </p:nvSpPr>
        <p:spPr>
          <a:xfrm flipV="1">
            <a:off x="3492360" y="22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3924360" y="22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7"/>
          <p:cNvSpPr/>
          <p:nvPr/>
        </p:nvSpPr>
        <p:spPr>
          <a:xfrm>
            <a:off x="2916360" y="4149720"/>
            <a:ext cx="180000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 flipV="1">
            <a:off x="3995640" y="36464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 flipH="1">
            <a:off x="3492000" y="3646440"/>
            <a:ext cx="18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0"/>
          <p:cNvSpPr/>
          <p:nvPr/>
        </p:nvSpPr>
        <p:spPr>
          <a:xfrm>
            <a:off x="4643280" y="328464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5151240" y="285264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6156360" y="1773360"/>
            <a:ext cx="12970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6590520" y="105264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4"/>
          <p:cNvSpPr/>
          <p:nvPr/>
        </p:nvSpPr>
        <p:spPr>
          <a:xfrm>
            <a:off x="6804000" y="14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5"/>
          <p:cNvSpPr/>
          <p:nvPr/>
        </p:nvSpPr>
        <p:spPr>
          <a:xfrm>
            <a:off x="6659640" y="3068640"/>
            <a:ext cx="360360" cy="360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6804000" y="2421000"/>
            <a:ext cx="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6732720" y="314172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Evalu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8"/>
          <p:cNvSpPr/>
          <p:nvPr/>
        </p:nvSpPr>
        <p:spPr>
          <a:xfrm>
            <a:off x="3203640" y="5373720"/>
            <a:ext cx="12970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Decid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AutoShape 19"/>
          <p:cNvCxnSpPr>
            <a:stCxn id="117" idx="4"/>
            <a:endCxn id="120" idx="3"/>
          </p:cNvCxnSpPr>
          <p:nvPr/>
        </p:nvCxnSpPr>
        <p:spPr>
          <a:xfrm rot="5400000">
            <a:off x="4535640" y="3393000"/>
            <a:ext cx="2269080" cy="234036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2" name="Line 20"/>
          <p:cNvSpPr/>
          <p:nvPr/>
        </p:nvSpPr>
        <p:spPr>
          <a:xfrm>
            <a:off x="1332000" y="3284640"/>
            <a:ext cx="1655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1332000" y="3284640"/>
            <a:ext cx="0" cy="2449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2"/>
          <p:cNvSpPr/>
          <p:nvPr/>
        </p:nvSpPr>
        <p:spPr>
          <a:xfrm>
            <a:off x="1332000" y="5734080"/>
            <a:ext cx="1871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3"/>
          <p:cNvSpPr/>
          <p:nvPr/>
        </p:nvSpPr>
        <p:spPr>
          <a:xfrm>
            <a:off x="5356080" y="1486080"/>
            <a:ext cx="2735280" cy="1223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7932600" y="15573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Plani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5"/>
          <p:cNvSpPr/>
          <p:nvPr/>
        </p:nvSpPr>
        <p:spPr>
          <a:xfrm>
            <a:off x="5076720" y="2708280"/>
            <a:ext cx="79236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4429440" y="12682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ed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7"/>
          <p:cNvSpPr/>
          <p:nvPr/>
        </p:nvSpPr>
        <p:spPr>
          <a:xfrm>
            <a:off x="5003640" y="1700280"/>
            <a:ext cx="432000" cy="10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8"/>
          <p:cNvSpPr/>
          <p:nvPr/>
        </p:nvSpPr>
        <p:spPr>
          <a:xfrm>
            <a:off x="6227640" y="2781360"/>
            <a:ext cx="122400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9"/>
          <p:cNvSpPr/>
          <p:nvPr/>
        </p:nvSpPr>
        <p:spPr>
          <a:xfrm>
            <a:off x="7742880" y="36450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val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0"/>
          <p:cNvSpPr/>
          <p:nvPr/>
        </p:nvSpPr>
        <p:spPr>
          <a:xfrm flipH="1" flipV="1">
            <a:off x="7261200" y="3357720"/>
            <a:ext cx="479520" cy="358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1"/>
          <p:cNvSpPr/>
          <p:nvPr/>
        </p:nvSpPr>
        <p:spPr>
          <a:xfrm>
            <a:off x="2627280" y="5084640"/>
            <a:ext cx="237636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2"/>
          <p:cNvSpPr/>
          <p:nvPr/>
        </p:nvSpPr>
        <p:spPr>
          <a:xfrm>
            <a:off x="4717800" y="58770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ontr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3"/>
          <p:cNvSpPr/>
          <p:nvPr/>
        </p:nvSpPr>
        <p:spPr>
          <a:xfrm>
            <a:off x="7236000" y="1989000"/>
            <a:ext cx="1655640" cy="1201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PTO </a:t>
            </a:r>
            <a:r>
              <a:rPr b="1" lang="es-ES_trad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ER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C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4"/>
          <p:cNvSpPr/>
          <p:nvPr/>
        </p:nvSpPr>
        <p:spPr>
          <a:xfrm>
            <a:off x="4794840" y="3376440"/>
            <a:ext cx="844920" cy="717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R 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(t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(t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5"/>
          <p:cNvSpPr/>
          <p:nvPr/>
        </p:nvSpPr>
        <p:spPr>
          <a:xfrm>
            <a:off x="6877080" y="4437000"/>
            <a:ext cx="2035080" cy="642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portes y análisis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6"/>
          <p:cNvSpPr/>
          <p:nvPr/>
        </p:nvSpPr>
        <p:spPr>
          <a:xfrm>
            <a:off x="324000" y="5300640"/>
            <a:ext cx="2035080" cy="642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anes de acción corre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68360" y="333360"/>
            <a:ext cx="3505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Control presupuestario clás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3"/>
          <p:cNvSpPr/>
          <p:nvPr/>
        </p:nvSpPr>
        <p:spPr>
          <a:xfrm>
            <a:off x="4932360" y="2060640"/>
            <a:ext cx="106668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Plan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ope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181480" y="121932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Estrategia de ope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>
            <a:off x="5435640" y="15573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2209680" y="3809880"/>
            <a:ext cx="20019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Estan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5181480" y="3962520"/>
            <a:ext cx="5335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4211640" y="414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9"/>
          <p:cNvSpPr/>
          <p:nvPr/>
        </p:nvSpPr>
        <p:spPr>
          <a:xfrm>
            <a:off x="900000" y="4149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900000" y="37162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4211640" y="37162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2"/>
          <p:cNvSpPr/>
          <p:nvPr/>
        </p:nvSpPr>
        <p:spPr>
          <a:xfrm>
            <a:off x="5435640" y="299736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3"/>
          <p:cNvSpPr/>
          <p:nvPr/>
        </p:nvSpPr>
        <p:spPr>
          <a:xfrm>
            <a:off x="5292720" y="400536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4"/>
          <p:cNvSpPr/>
          <p:nvPr/>
        </p:nvSpPr>
        <p:spPr>
          <a:xfrm flipV="1">
            <a:off x="5292720" y="400500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3927960" y="314172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ferencia = Presu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6"/>
          <p:cNvSpPr/>
          <p:nvPr/>
        </p:nvSpPr>
        <p:spPr>
          <a:xfrm>
            <a:off x="2700360" y="5445000"/>
            <a:ext cx="1150920" cy="720720"/>
          </a:xfrm>
          <a:prstGeom prst="leftArrowCallout">
            <a:avLst>
              <a:gd name="adj1" fmla="val 25002"/>
              <a:gd name="adj2" fmla="val 25000"/>
              <a:gd name="adj3" fmla="val 2661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7"/>
          <p:cNvSpPr/>
          <p:nvPr/>
        </p:nvSpPr>
        <p:spPr>
          <a:xfrm flipH="1">
            <a:off x="899640" y="5805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8"/>
          <p:cNvSpPr/>
          <p:nvPr/>
        </p:nvSpPr>
        <p:spPr>
          <a:xfrm flipV="1">
            <a:off x="900000" y="414936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9"/>
          <p:cNvSpPr/>
          <p:nvPr/>
        </p:nvSpPr>
        <p:spPr>
          <a:xfrm>
            <a:off x="5435640" y="4437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"/>
          <p:cNvSpPr/>
          <p:nvPr/>
        </p:nvSpPr>
        <p:spPr>
          <a:xfrm flipH="1">
            <a:off x="3850920" y="5805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0"/>
          <p:cNvSpPr/>
          <p:nvPr/>
        </p:nvSpPr>
        <p:spPr>
          <a:xfrm>
            <a:off x="4286160" y="60213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ontr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1"/>
          <p:cNvSpPr/>
          <p:nvPr/>
        </p:nvSpPr>
        <p:spPr>
          <a:xfrm>
            <a:off x="7164360" y="2637000"/>
            <a:ext cx="1655640" cy="1201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PTO </a:t>
            </a:r>
            <a:r>
              <a:rPr b="1" lang="es-ES_trad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ER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C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2"/>
          <p:cNvSpPr/>
          <p:nvPr/>
        </p:nvSpPr>
        <p:spPr>
          <a:xfrm>
            <a:off x="4312080" y="4221000"/>
            <a:ext cx="844920" cy="717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R 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(t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(t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3"/>
          <p:cNvSpPr/>
          <p:nvPr/>
        </p:nvSpPr>
        <p:spPr>
          <a:xfrm>
            <a:off x="5867280" y="4869000"/>
            <a:ext cx="2035440" cy="642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portes y análisis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4"/>
          <p:cNvSpPr/>
          <p:nvPr/>
        </p:nvSpPr>
        <p:spPr>
          <a:xfrm>
            <a:off x="0" y="5229360"/>
            <a:ext cx="2035080" cy="642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anes de acción corre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 u="sng">
                <a:solidFill>
                  <a:srgbClr val="000000"/>
                </a:solidFill>
                <a:uFillTx/>
                <a:latin typeface="Arial"/>
              </a:rPr>
              <a:t>Ejemp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compañía productora de jabón ‘COPITO S.A’ exhibe la siguiente información para el año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6985080" cy="3819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6877080" y="2205000"/>
            <a:ext cx="135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ifras en K U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ppto para 2009 tiene la siguiente estructu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64072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179280" y="1198440"/>
            <a:ext cx="849636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Algunos indicadores proyec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2880" y="35002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a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1547640" y="3429000"/>
            <a:ext cx="144720" cy="792000"/>
          </a:xfrm>
          <a:custGeom>
            <a:avLst/>
            <a:gdLst>
              <a:gd name="textAreaLeft" fmla="*/ 92520 w 144720"/>
              <a:gd name="textAreaRight" fmla="*/ 145080 w 1447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1"/>
          <a:stretch/>
        </p:blipFill>
        <p:spPr>
          <a:xfrm>
            <a:off x="2438280" y="2535120"/>
            <a:ext cx="4834080" cy="35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álisis de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532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ongamos que se tiene la siguiente información para el resultado real del periodo 200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0" y="2421000"/>
            <a:ext cx="88581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alances compar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250920" y="1370160"/>
            <a:ext cx="8713800" cy="4651200"/>
          </a:xfrm>
          <a:prstGeom prst="rect">
            <a:avLst/>
          </a:prstGeom>
          <a:ln w="0">
            <a:noFill/>
          </a:ln>
        </p:spPr>
      </p:pic>
      <p:sp>
        <p:nvSpPr>
          <p:cNvPr id="179" name="5 CuadroTexto"/>
          <p:cNvSpPr/>
          <p:nvPr/>
        </p:nvSpPr>
        <p:spPr>
          <a:xfrm>
            <a:off x="3714840" y="1571760"/>
            <a:ext cx="26431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Arial"/>
              </a:rPr>
              <a:t>2008               2009                   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Indicadores compar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298440" y="1889280"/>
            <a:ext cx="860760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 presupuesto clás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rol y Eval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j0076172"/>
          <p:cNvPicPr/>
          <p:nvPr/>
        </p:nvPicPr>
        <p:blipFill>
          <a:blip r:embed="rId1"/>
          <a:stretch/>
        </p:blipFill>
        <p:spPr>
          <a:xfrm>
            <a:off x="5715000" y="1676520"/>
            <a:ext cx="281952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grama del resto del curso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ntrol de Gest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óximas cla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supuesto y ciclo de control financi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rcicio de sim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stemas de cost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stemas de Información para el control de g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lementando sistemas de control de gest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ópicos específicos de control de g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mporta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anto más claro, preciso y bien pensado, más fácilmente las compañía podrá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justar planes, actividades y gasto asdoci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gramar ga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canzar los objetivos de nego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jorar sistemas internos d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laves de un buen proceso presupuest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ender la misión y la estrate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aluación del potencial de nego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lantear programas y sus potencia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signar responsabil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probar formalmente el presupu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nitorear su ejec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plantear el presupuesto en caso de ser neces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lenda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finir un plan con sus activid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ablecer horizonte y progra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finir responsables por t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ablecer mecanismos de consolidación y rev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finir Hitos de aprob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stribuir calendario d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5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9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3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7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2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7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pto de ve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pto de cos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fectado por política de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pto de ga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pto de Inversión, I&amp;D, mktg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Ppto de gasto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ado de Resultados proyec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lance proyec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lujo de ca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nstrucción del presupues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0" y="2205000"/>
            <a:ext cx="9144000" cy="30243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379080" y="1360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Object 2"/>
          <p:cNvGraphicFramePr/>
          <p:nvPr/>
        </p:nvGraphicFramePr>
        <p:xfrm>
          <a:off x="826920" y="0"/>
          <a:ext cx="6924960" cy="646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0"/>
                    <a:ext cx="6924960" cy="64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lujo de Ca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eneficio Neto después de impue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- (Ingresos – Gastos /sin efecto de caj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-/+ cambio en necesidades netas de oper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ja Generada por la op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+/- Caja de Operaciones de Financi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-/+ Caja de inver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cursos Líquidos N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ambio en necesidades netas de explot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-/+ cambio en deuda de clientes (Cx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-/+ cambio en niveles de exist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+/- cambio en cuentas por pagar (Cx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Oval 4"/>
          <p:cNvSpPr/>
          <p:nvPr/>
        </p:nvSpPr>
        <p:spPr>
          <a:xfrm>
            <a:off x="1116000" y="1484280"/>
            <a:ext cx="180036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5"/>
          <p:cNvSpPr/>
          <p:nvPr/>
        </p:nvSpPr>
        <p:spPr>
          <a:xfrm>
            <a:off x="1187280" y="3068640"/>
            <a:ext cx="180036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j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inanci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1187280" y="4653000"/>
            <a:ext cx="180036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ja pa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1116000" y="1484280"/>
            <a:ext cx="180036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j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pe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4572000" y="3068640"/>
            <a:ext cx="1655640" cy="72072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$ líqui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1"/>
          <p:cNvSpPr/>
          <p:nvPr/>
        </p:nvSpPr>
        <p:spPr>
          <a:xfrm>
            <a:off x="3276720" y="1484280"/>
            <a:ext cx="934920" cy="3816360"/>
          </a:xfrm>
          <a:custGeom>
            <a:avLst/>
            <a:gdLst>
              <a:gd name="textAreaLeft" fmla="*/ 0 w 934920"/>
              <a:gd name="textAreaRight" fmla="*/ 337680 w 934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álisis de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532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ongamos que se tiene la siguiente información para el resultado real del periodo 200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0" y="2421000"/>
            <a:ext cx="88581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ctur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tilización de sistemas de cost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alances compar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250920" y="1370160"/>
            <a:ext cx="8713800" cy="4651200"/>
          </a:xfrm>
          <a:prstGeom prst="rect">
            <a:avLst/>
          </a:prstGeom>
          <a:ln w="0">
            <a:noFill/>
          </a:ln>
        </p:spPr>
      </p:pic>
      <p:sp>
        <p:nvSpPr>
          <p:cNvPr id="213" name="5 CuadroTexto"/>
          <p:cNvSpPr/>
          <p:nvPr/>
        </p:nvSpPr>
        <p:spPr>
          <a:xfrm>
            <a:off x="3714840" y="1571760"/>
            <a:ext cx="26431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Arial"/>
              </a:rPr>
              <a:t>2008               2009                   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plicando al ejemplo anteri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seño del ppto </a:t>
            </a: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Cálculo del flujo de caja proyectado (método directo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1042920" y="3141720"/>
            <a:ext cx="71643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étodo indirec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140360" y="549360"/>
            <a:ext cx="45464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eneficio Neto después de impue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- (Ingresos – Gastos /sin efecto de caj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000000"/>
                </a:solidFill>
                <a:uFillTx/>
                <a:latin typeface="Arial"/>
              </a:rPr>
              <a:t>-/+ cambio en necesidades netas de operació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aja Generada por la ope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+/- Caja de Operaciones de Financi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000000"/>
                </a:solidFill>
                <a:uFillTx/>
                <a:latin typeface="Arial"/>
              </a:rPr>
              <a:t>-/+ Caja de invers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ecursos Líquidos Ne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468360" y="3284640"/>
            <a:ext cx="813600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ituación real (cálculo indirect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841212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pa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7920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tra forma de compar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4247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grupos deberán preparar para la empresa que están estudian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 Mapa estraté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 modelo de BSC, incluyendo indicadores y m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comendaciones para el control de gestión de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l control financiero clás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foque d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paración del presupu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yección de flujo de c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0755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isión esquemática del ciclo de control de gestión en un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2987640" y="2997360"/>
            <a:ext cx="1655640" cy="6476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ida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ego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4"/>
          <p:cNvSpPr/>
          <p:nvPr/>
        </p:nvSpPr>
        <p:spPr>
          <a:xfrm>
            <a:off x="2771640" y="1628640"/>
            <a:ext cx="194472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rcado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 flipV="1">
            <a:off x="3492360" y="22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3924360" y="22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7"/>
          <p:cNvSpPr/>
          <p:nvPr/>
        </p:nvSpPr>
        <p:spPr>
          <a:xfrm>
            <a:off x="2916360" y="4149720"/>
            <a:ext cx="180000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 flipV="1">
            <a:off x="3995640" y="36464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 flipH="1">
            <a:off x="3492000" y="3646440"/>
            <a:ext cx="18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4643280" y="328464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5151240" y="285264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6156360" y="1773360"/>
            <a:ext cx="12970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3"/>
          <p:cNvSpPr/>
          <p:nvPr/>
        </p:nvSpPr>
        <p:spPr>
          <a:xfrm>
            <a:off x="6590520" y="105264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4"/>
          <p:cNvSpPr/>
          <p:nvPr/>
        </p:nvSpPr>
        <p:spPr>
          <a:xfrm>
            <a:off x="6804000" y="14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5"/>
          <p:cNvSpPr/>
          <p:nvPr/>
        </p:nvSpPr>
        <p:spPr>
          <a:xfrm>
            <a:off x="6659640" y="3068640"/>
            <a:ext cx="360360" cy="360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6"/>
          <p:cNvSpPr/>
          <p:nvPr/>
        </p:nvSpPr>
        <p:spPr>
          <a:xfrm>
            <a:off x="6804000" y="2421000"/>
            <a:ext cx="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6732720" y="314172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Evalu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8"/>
          <p:cNvSpPr/>
          <p:nvPr/>
        </p:nvSpPr>
        <p:spPr>
          <a:xfrm>
            <a:off x="3203640" y="5373720"/>
            <a:ext cx="12970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Decid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AutoShape 19"/>
          <p:cNvCxnSpPr>
            <a:stCxn id="73" idx="4"/>
            <a:endCxn id="76" idx="3"/>
          </p:cNvCxnSpPr>
          <p:nvPr/>
        </p:nvCxnSpPr>
        <p:spPr>
          <a:xfrm rot="5400000">
            <a:off x="4535640" y="3393000"/>
            <a:ext cx="2269080" cy="234036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8" name="Line 20"/>
          <p:cNvSpPr/>
          <p:nvPr/>
        </p:nvSpPr>
        <p:spPr>
          <a:xfrm>
            <a:off x="1332000" y="3284640"/>
            <a:ext cx="1655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1"/>
          <p:cNvSpPr/>
          <p:nvPr/>
        </p:nvSpPr>
        <p:spPr>
          <a:xfrm>
            <a:off x="1332000" y="3284640"/>
            <a:ext cx="0" cy="2449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2"/>
          <p:cNvSpPr/>
          <p:nvPr/>
        </p:nvSpPr>
        <p:spPr>
          <a:xfrm>
            <a:off x="1332000" y="5734080"/>
            <a:ext cx="1871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23"/>
          <p:cNvSpPr/>
          <p:nvPr/>
        </p:nvSpPr>
        <p:spPr>
          <a:xfrm>
            <a:off x="5356080" y="1486080"/>
            <a:ext cx="2735280" cy="1223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7932600" y="15573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Plani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25"/>
          <p:cNvSpPr/>
          <p:nvPr/>
        </p:nvSpPr>
        <p:spPr>
          <a:xfrm>
            <a:off x="5076720" y="2708280"/>
            <a:ext cx="79236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6"/>
          <p:cNvSpPr/>
          <p:nvPr/>
        </p:nvSpPr>
        <p:spPr>
          <a:xfrm>
            <a:off x="4429440" y="12682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ed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7"/>
          <p:cNvSpPr/>
          <p:nvPr/>
        </p:nvSpPr>
        <p:spPr>
          <a:xfrm>
            <a:off x="5003640" y="1700280"/>
            <a:ext cx="432000" cy="10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28"/>
          <p:cNvSpPr/>
          <p:nvPr/>
        </p:nvSpPr>
        <p:spPr>
          <a:xfrm>
            <a:off x="6227640" y="2781360"/>
            <a:ext cx="122400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9"/>
          <p:cNvSpPr/>
          <p:nvPr/>
        </p:nvSpPr>
        <p:spPr>
          <a:xfrm>
            <a:off x="7887240" y="314172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val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0"/>
          <p:cNvSpPr/>
          <p:nvPr/>
        </p:nvSpPr>
        <p:spPr>
          <a:xfrm flipH="1">
            <a:off x="7260840" y="3357720"/>
            <a:ext cx="576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31"/>
          <p:cNvSpPr/>
          <p:nvPr/>
        </p:nvSpPr>
        <p:spPr>
          <a:xfrm>
            <a:off x="2627280" y="5084640"/>
            <a:ext cx="237636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2"/>
          <p:cNvSpPr/>
          <p:nvPr/>
        </p:nvSpPr>
        <p:spPr>
          <a:xfrm>
            <a:off x="4717800" y="58770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ontr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80"/>
          <p:cNvSpPr/>
          <p:nvPr/>
        </p:nvSpPr>
        <p:spPr>
          <a:xfrm>
            <a:off x="755640" y="1989000"/>
            <a:ext cx="2303640" cy="20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79"/>
          <p:cNvSpPr/>
          <p:nvPr/>
        </p:nvSpPr>
        <p:spPr>
          <a:xfrm>
            <a:off x="4859280" y="1916280"/>
            <a:ext cx="2017800" cy="22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esupues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77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31845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78"/>
          <p:cNvSpPr/>
          <p:nvPr/>
        </p:nvSpPr>
        <p:spPr>
          <a:xfrm>
            <a:off x="3134880" y="335772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esu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supuesto debería ser una planificación integral del negocio de acuerdo a la estrate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097640" y="272880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ERR (t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lance 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5294880" y="2781360"/>
            <a:ext cx="1544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ERR (t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lance (t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lujo de ca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3132000" y="3141720"/>
            <a:ext cx="1800360" cy="574560"/>
          </a:xfrm>
          <a:prstGeom prst="rightArrow">
            <a:avLst>
              <a:gd name="adj1" fmla="val 50000"/>
              <a:gd name="adj2" fmla="val 783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549800" y="5013360"/>
            <a:ext cx="145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Estrategia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Supues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del nego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495960" y="4941720"/>
            <a:ext cx="172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Oper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Financi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Inv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3276720" y="5013360"/>
            <a:ext cx="71280" cy="86364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 flipV="1">
            <a:off x="2124000" y="3428640"/>
            <a:ext cx="1800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6:47:06Z</dcterms:created>
  <dc:creator>.</dc:creator>
  <dc:description/>
  <dc:language>en-US</dc:language>
  <cp:lastModifiedBy>Ivan Braga</cp:lastModifiedBy>
  <dcterms:modified xsi:type="dcterms:W3CDTF">2009-09-11T00:58:54Z</dcterms:modified>
  <cp:revision>29</cp:revision>
  <dc:subject/>
  <dc:title>El control financiero clásico</dc:title>
</cp:coreProperties>
</file>