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2.png" ContentType="image/png"/>
  <Override PartName="/ppt/media/image10.png" ContentType="image/png"/>
  <Override PartName="/ppt/media/image4.png" ContentType="image/png"/>
  <Override PartName="/ppt/media/image26.wmf" ContentType="image/x-wmf"/>
  <Override PartName="/ppt/media/image14.wmf" ContentType="image/x-wmf"/>
  <Override PartName="/ppt/media/image24.wmf" ContentType="image/x-wmf"/>
  <Override PartName="/ppt/media/image2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23.wmf" ContentType="image/x-wmf"/>
  <Override PartName="/ppt/media/image3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C09F-0C97-4AF6-A010-6BA56F1462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E643-AD65-443E-83D5-C601EB468B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C19-010A-40AF-BC41-D9D5771238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D411-5DFE-4AB5-80B7-46B7ABBCC5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1130-E6E1-4347-87B2-41054B531F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EB12-EFAE-4C27-9A02-48D5F94E4F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399F-5A1B-4F2B-BA63-CC031FB030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C9D5-058B-41E7-97F4-66ED5E8D8B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6557-B057-4D92-9B17-EBC1940FE1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D10A-3CBF-4B7D-AF58-8D6243C19E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BCB6-C649-4DA9-8199-DD674E563E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1086-72C4-4334-AB91-CD9FEA57C6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8605-E138-43F8-A2C5-32AF3309DF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C0DE-403B-4FE2-B41A-F9B02DF0A9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39E9-47A9-4477-A993-C8ED26718B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E58C-F05A-4A6D-B2D4-EBE0EE02A5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A317-C3B8-4964-B401-5E9BA1FA37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B732-D517-4C34-A42B-3D3A9A8208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6BE7-E561-4F12-9591-7C712CDC6F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8945-0C98-4F8B-8EB3-4FA36E0A9F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F9D3-EBC6-4D2E-91CA-1D773AE764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FFB9-933F-455D-8189-CBD2338B68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455D-1BF6-4F12-AF67-506228A472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09F4-BB8D-4E4E-8A91-AF2112D600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798B-CAA3-4695-A719-7818B80A2B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6C12-7E3C-41F6-AC93-2870461019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BAD-F4A6-43FD-BE02-B7E01CBBCB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9BB4-CA0A-4D78-A63C-EE253C1928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389E-482A-444C-A803-4BB8FD04F1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B40-35ED-4FEA-9392-3D4A499B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662-AF99-44D7-8770-2ED59549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EC3-92D0-4E29-AD4B-DBF2AF32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A72-FC64-43D7-A0FD-257AFB8E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89D-43F3-4BFC-94BC-625DA5F7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125-EAF6-4714-AEF7-7D2E0505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A69-E04D-4CC4-92A0-DC91A577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EB3-78E1-49F3-9853-3D0411E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407-E61D-4B73-AF18-0CD6A4B6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985-E9D1-4B77-8741-0BC9A078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35C-D4CA-4C7A-91DF-8BB076DA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CFA-E598-4062-95BB-0071188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4E52-C53F-414A-812D-791635A1AB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2"/>
          <p:cNvGrpSpPr/>
          <p:nvPr/>
        </p:nvGrpSpPr>
        <p:grpSpPr>
          <a:xfrm>
            <a:off x="628560" y="2090880"/>
            <a:ext cx="7886880" cy="1585800"/>
            <a:chOff x="628560" y="2090880"/>
            <a:chExt cx="7886880" cy="1585800"/>
          </a:xfrm>
        </p:grpSpPr>
        <p:pic>
          <p:nvPicPr>
            <p:cNvPr id="49" name="Rectangle 2" descr=""/>
            <p:cNvPicPr/>
            <p:nvPr/>
          </p:nvPicPr>
          <p:blipFill>
            <a:blip r:embed="rId1"/>
            <a:stretch/>
          </p:blipFill>
          <p:spPr>
            <a:xfrm>
              <a:off x="628560" y="2090880"/>
              <a:ext cx="788688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5800" y="21304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400" spc="-1" strike="noStrike">
                  <a:solidFill>
                    <a:srgbClr val="ffffff"/>
                  </a:solidFill>
                  <a:latin typeface="Arial"/>
                </a:rPr>
                <a:t>Indicadores de gestió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19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t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233280" y="214200"/>
            <a:ext cx="341604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plomad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rategia y Control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276720" y="1197000"/>
            <a:ext cx="5486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CO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TIDAD DE GAS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UCES 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ELOCI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MPERATURA DEL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ENTA KILÓ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G00027_"/>
          <p:cNvPicPr/>
          <p:nvPr/>
        </p:nvPicPr>
        <p:blipFill>
          <a:blip r:embed="rId1"/>
          <a:stretch/>
        </p:blipFill>
        <p:spPr>
          <a:xfrm>
            <a:off x="611280" y="1773360"/>
            <a:ext cx="2305080" cy="302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j0076187"/>
          <p:cNvPicPr/>
          <p:nvPr/>
        </p:nvPicPr>
        <p:blipFill>
          <a:blip r:embed="rId1"/>
          <a:stretch/>
        </p:blipFill>
        <p:spPr>
          <a:xfrm>
            <a:off x="900000" y="2781360"/>
            <a:ext cx="2614680" cy="2449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762120" y="83808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Cuanto hace que no se toma los exámenes de salu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038480" y="35053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La empresa que administramos desde niños no necesita contr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ol clave: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indicador como sintetiz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s: ROI, PIB, ro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basada en ind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qué objetivos se busca log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orte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4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finir indicadores para medir el cumpl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lación con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ctibilidad de hacer una medición obj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4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los estándares para cada indic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de comparación, re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le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4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cómo se va a contr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d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finición de ind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dentificar o definir explícitamente qué es lo que se quiere me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expresarse en un concepto genérico (Rotación de inventarios)  o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concepto que relacione variables (Porcentaje de...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órmula de cál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ablecer claramente las variables y operaciones que se deben realizar para el cálculo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dios de ver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dentificar elementos 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finir métodos/instrumentos de medición que garanticen autonomía del evalu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canismos de captura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qué forma se registran y recuperan los datos para el cálculo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ta (estánd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or deseado del indicador que se desea alcan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mporalidad / Gradu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250920" y="1197000"/>
            <a:ext cx="8424720" cy="504036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PASOS BASICOS PARA LA CONSTRUCCION DE 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DENTIFICAR OBJETIVOS Y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DENTIFICAR LAS AREAS DE MEDICION DE DESEMPEÑ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RUIR LAS FORMULAS O ALGORIT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IDAR: APLICAR  CRITERIOS DE TECNICOS Y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R LA INFORMACION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ER RESPONSABILIDADES ORGANIZ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UNICAR E INFOR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356000" y="1197000"/>
            <a:ext cx="216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 flipH="1">
            <a:off x="4356000" y="6237360"/>
            <a:ext cx="2872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Objetiv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Para que queremos los indicado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84360" y="2133720"/>
            <a:ext cx="4896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Medir / compa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Revisar tend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Contro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Eval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Gesti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ndicadores europeos"/>
          <p:cNvPicPr/>
          <p:nvPr/>
        </p:nvPicPr>
        <p:blipFill>
          <a:blip r:embed="rId1"/>
          <a:srcRect l="0" t="0" r="0" b="42515"/>
          <a:stretch/>
        </p:blipFill>
        <p:spPr>
          <a:xfrm>
            <a:off x="971640" y="825480"/>
            <a:ext cx="7416720" cy="504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PSA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13" descr=""/>
          <p:cNvPicPr/>
          <p:nvPr/>
        </p:nvPicPr>
        <p:blipFill>
          <a:blip r:embed="rId1"/>
          <a:srcRect l="60564" t="42830" r="19428" b="21079"/>
          <a:stretch/>
        </p:blipFill>
        <p:spPr>
          <a:xfrm>
            <a:off x="468360" y="1646280"/>
            <a:ext cx="748656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ectangle 3"/>
          <p:cNvGrpSpPr/>
          <p:nvPr/>
        </p:nvGrpSpPr>
        <p:grpSpPr>
          <a:xfrm>
            <a:off x="781200" y="1298520"/>
            <a:ext cx="7600680" cy="5900760"/>
            <a:chOff x="781200" y="1298520"/>
            <a:chExt cx="7600680" cy="5900760"/>
          </a:xfrm>
        </p:grpSpPr>
        <p:pic>
          <p:nvPicPr>
            <p:cNvPr id="55" name="Rectangle 3" descr=""/>
            <p:cNvPicPr/>
            <p:nvPr/>
          </p:nvPicPr>
          <p:blipFill>
            <a:blip r:embed="rId1"/>
            <a:stretch/>
          </p:blipFill>
          <p:spPr>
            <a:xfrm>
              <a:off x="781200" y="1298520"/>
              <a:ext cx="7600680" cy="59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71640" y="1413000"/>
              <a:ext cx="7354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BSC e indicador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¿Qué s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Objetiv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Desafí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Clasific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Indicadores por á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8496360" cy="5440680"/>
          </a:xfrm>
          <a:prstGeom prst="rect">
            <a:avLst/>
          </a:prstGeom>
          <a:ln w="0">
            <a:noFill/>
          </a:ln>
        </p:spPr>
      </p:pic>
      <p:grpSp>
        <p:nvGrpSpPr>
          <p:cNvPr id="137" name="5 CuadroTexto"/>
          <p:cNvGrpSpPr/>
          <p:nvPr/>
        </p:nvGrpSpPr>
        <p:grpSpPr>
          <a:xfrm>
            <a:off x="2610000" y="152280"/>
            <a:ext cx="3705120" cy="506520"/>
            <a:chOff x="2610000" y="152280"/>
            <a:chExt cx="3705120" cy="506520"/>
          </a:xfrm>
        </p:grpSpPr>
        <p:pic>
          <p:nvPicPr>
            <p:cNvPr id="138" name="5 CuadroTexto" descr=""/>
            <p:cNvPicPr/>
            <p:nvPr/>
          </p:nvPicPr>
          <p:blipFill>
            <a:blip r:embed="rId2"/>
            <a:stretch/>
          </p:blipFill>
          <p:spPr>
            <a:xfrm>
              <a:off x="2610000" y="152280"/>
              <a:ext cx="37051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736000" y="214200"/>
              <a:ext cx="34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Indicador de control de proce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OBJETIVOS USO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nduc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oras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ndament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 discusión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sibilit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oy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oceso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mulación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acilit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tablecimiento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Compromisos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ahoma"/>
              </a:rPr>
              <a:t>(*) Dirección de Presupuestos. Ministerio Hacienda. Chile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pregunta c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0000"/>
                </a:solidFill>
                <a:latin typeface="Arial"/>
              </a:rPr>
              <a:t>¿Qué queremos medir / evaluar 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0000"/>
                </a:solidFill>
                <a:latin typeface="Arial"/>
              </a:rPr>
              <a:t>gestionar 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0000"/>
                </a:solidFill>
                <a:latin typeface="Arial"/>
              </a:rPr>
              <a:t>controlar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4. Desafíos asociados al trabajo con indicado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os extremos noc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684360" y="2781360"/>
            <a:ext cx="7704000" cy="720720"/>
          </a:xfrm>
          <a:prstGeom prst="leftRightArrow">
            <a:avLst>
              <a:gd name="adj1" fmla="val 50000"/>
              <a:gd name="adj2" fmla="val 212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79800" y="2008080"/>
            <a:ext cx="78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es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dicado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uso de un indicador depende del contexto…no hay indicadores buenos siemp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resos/trabaj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sa de utilización de maqui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EGURARSE QUE ESTOY MIDIENDO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IVOS VINCULADOS A  LO ESTRATE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S POSIBLE, NI DESEABLE MEDIRLO TO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LEVANCIA DE LA MED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MEDIR LO CORREC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OCER EL SISTEMA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IDE, ASEGURANDOSE QUE LA MEDIDA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EMPEÑO 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LA OBTEN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LA ME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racterísticas de un buen indic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68000" y="148428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inculado al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sto ef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esti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DICIONES QUE DEBEN CUMPLIR LO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INDICADORES DE DESEMPEÑO NO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IN EN SI MISMO SINO UN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ALUACION MAS QUE UNA MEDICION ES UNA INTERPRETACION DE LOS RESULTAD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ESPECIFICARSE Y TENERSE EN CUENTA LA INTERRELACION DE LAS DIFERENTES MEDIDA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MPLICIDAD DE LA MEDI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Rectangle 2"/>
          <p:cNvGrpSpPr/>
          <p:nvPr/>
        </p:nvGrpSpPr>
        <p:grpSpPr>
          <a:xfrm>
            <a:off x="365040" y="2676600"/>
            <a:ext cx="8345520" cy="1255680"/>
            <a:chOff x="365040" y="2676600"/>
            <a:chExt cx="8345520" cy="1255680"/>
          </a:xfrm>
        </p:grpSpPr>
        <p:pic>
          <p:nvPicPr>
            <p:cNvPr id="58" name="Rectangle 2" descr=""/>
            <p:cNvPicPr/>
            <p:nvPr/>
          </p:nvPicPr>
          <p:blipFill>
            <a:blip r:embed="rId1"/>
            <a:stretch/>
          </p:blipFill>
          <p:spPr>
            <a:xfrm>
              <a:off x="365040" y="2676600"/>
              <a:ext cx="83455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28760" y="271476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38080" indent="-838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ffffff"/>
                  </a:solidFill>
                  <a:latin typeface="Arial"/>
                </a:rPr>
                <a:t>1. BSC e indicador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O INTERPRETAR LOS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ES DE COMPARAC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EMPEÑO HISTORIC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FI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EMPEÑO LOGRADO EN INSTITUCIONES SIMILARES, PROCESOS O PROGRA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CONSTRUCCION DE INDICADORE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ULAS DE CA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04920" y="1981080"/>
            <a:ext cx="80769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STION DE AÑO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centaje de aumento del parque informático de la Unidad Ejecutora y su conexión en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órmula de cálculo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(Equipos incorporados y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ectados en el año 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 conec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ño t-1) -1] *10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3,9%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5,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CONSTRUCCION DE INDICADORE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ULAS DE CA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0948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N ESTANDAR DE INSTITUCIONES SIMI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83560" y="3165480"/>
            <a:ext cx="60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máximo de tramitación de medi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93640" y="411480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órmula de cálcul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41360" y="4572000"/>
            <a:ext cx="7407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toria de N°de día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mitación/N°de tra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d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8dí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dí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5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í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CONSTRUCCION DE INDICADORE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ULAS DE CA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2452680"/>
            <a:ext cx="9144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 PROGRAMADO, COMPARACION RESPECTO DEL OBJETIVO DEFI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centaje de vías navegables ya habili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16960" y="40798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órmula de cá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9856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33520" y="4738680"/>
            <a:ext cx="661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ías navegables habilitadas año 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ías navegables programadas añ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708440" y="41562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20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937040" y="476568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/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/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20/143)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3,9%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¿COMO INTERPRETAR LOS RESULTA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UNA MEDIDA UNICA QUE DEMUESTRE POR SI SOLA EL DESEMPEÑO DE LA INSTIT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QUIERE UN COMBINACION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S, IMPACTO, EFICACIA, EFICIENCIA,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ERTOS INDICADORES PUEDEN SER CONTRADICTORIOS ENTRE  ELLO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5001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BLEMAS FRECUENTES EN LA CONSTRUCCION DE INDICADOR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MPA DE LA MEDICION: SE MUESTRA COMO RESULTADOS (Y SE HACE)  SOLO LO QUE SE PUEDE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IENDE A MEDIR DE ACUERDO A LA INFORMACION DISPONIBLE, DESCUIDANDO LA MEDICION DE LOS ASPECTOS MA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BVALORACION DE LAS METAS FRENTE A UN AMBIENTE PUNITIVO DE LA EVALUA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BLEMAS FRECUENTES EN LA CONSTRUCCION DE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DENCIA A MEDIRLO TODO PARA NO SUBREPRESENTAR ESFUER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SARROLLAN INDICADORES PERO NO SE USAN PARA LA TOMA DE DEC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GRALIDAD DE LAS M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828800" y="2209680"/>
            <a:ext cx="5334120" cy="198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Aumentar la cobertura del programa de raciones a un 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de la población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Llegar a un costos promedio de $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Alcanzar 1000 calorías por r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6019920" y="4343400"/>
            <a:ext cx="281916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a50021"/>
                </a:solidFill>
                <a:uFillTx/>
                <a:latin typeface="Arial"/>
              </a:rPr>
              <a:t>INDICADOR DE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* Calorías por 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* Porcentaje de acep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de los escolares (encues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200400" y="4365720"/>
            <a:ext cx="2514600" cy="1501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a50021"/>
                </a:solidFill>
                <a:uFillTx/>
                <a:latin typeface="Arial"/>
              </a:rPr>
              <a:t>INDICADOR DE EFIC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Costo promedio de la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raciones: gasto to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programa / númer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4365360"/>
            <a:ext cx="26668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a50021"/>
                </a:solidFill>
                <a:uFillTx/>
                <a:latin typeface="Arial"/>
              </a:rPr>
              <a:t>INDICADOR DE EFIC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blación escolar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grama / pobl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olar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5. Clasific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ueden agrupar de varias for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Tipo 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De acuerdo al concepto que mi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Área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Ventas, producción, RRHH, Abastecimiento, Inventario, distribució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inalidad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Gestionar, controlar, evaluar, medir, revisar tend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eterminación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Objetivos y su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Relación con finanzas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Financieros y Oper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recuencia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Según la periodicidad de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BSC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Lead &amp; Lag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SC: Lead and Lag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g indica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indicadores de rendimiento final claves para la empresa como beneficio ne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: Los cambios en la estrategia a menudo puede llevar meses ya veces años antes de que puedan tener un impacto en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ad indicators  son los indicadores que pueden medirse fácilmente y con rapidez y se mostrará el impacto de las operaciones y decisiones estratégicas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umen estructura B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Text Box 4"/>
          <p:cNvGrpSpPr/>
          <p:nvPr/>
        </p:nvGrpSpPr>
        <p:grpSpPr>
          <a:xfrm>
            <a:off x="3170160" y="1852560"/>
            <a:ext cx="2151000" cy="4078440"/>
            <a:chOff x="3170160" y="1852560"/>
            <a:chExt cx="2151000" cy="4078440"/>
          </a:xfrm>
        </p:grpSpPr>
        <p:pic>
          <p:nvPicPr>
            <p:cNvPr id="62" name="Text Box 4" descr=""/>
            <p:cNvPicPr/>
            <p:nvPr/>
          </p:nvPicPr>
          <p:blipFill>
            <a:blip r:embed="rId1"/>
            <a:stretch/>
          </p:blipFill>
          <p:spPr>
            <a:xfrm>
              <a:off x="3170160" y="1852560"/>
              <a:ext cx="2151000" cy="40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279960" y="1916280"/>
              <a:ext cx="193032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apa estraté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et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5"/>
          <p:cNvSpPr/>
          <p:nvPr/>
        </p:nvSpPr>
        <p:spPr>
          <a:xfrm>
            <a:off x="414036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4140360" y="306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414036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859280" y="4581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Text Box 9"/>
          <p:cNvGrpSpPr/>
          <p:nvPr/>
        </p:nvGrpSpPr>
        <p:grpSpPr>
          <a:xfrm>
            <a:off x="5870520" y="3816360"/>
            <a:ext cx="2084400" cy="1481040"/>
            <a:chOff x="5870520" y="3816360"/>
            <a:chExt cx="2084400" cy="1481040"/>
          </a:xfrm>
        </p:grpSpPr>
        <p:pic>
          <p:nvPicPr>
            <p:cNvPr id="69" name="Text Box 9" descr=""/>
            <p:cNvPicPr/>
            <p:nvPr/>
          </p:nvPicPr>
          <p:blipFill>
            <a:blip r:embed="rId2"/>
            <a:stretch/>
          </p:blipFill>
          <p:spPr>
            <a:xfrm>
              <a:off x="5870520" y="3816360"/>
              <a:ext cx="20844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160320" y="4076640"/>
              <a:ext cx="15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Respons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Recur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Tim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AutoShape 10"/>
          <p:cNvSpPr/>
          <p:nvPr/>
        </p:nvSpPr>
        <p:spPr>
          <a:xfrm>
            <a:off x="5867280" y="4076640"/>
            <a:ext cx="144720" cy="9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: innovación de product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g indic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ntas por nuevos productos (MMU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% de ventas por productos de menos de 2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ad indica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asto en proyectos de nuev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vance de proyectos de diseño de nuevos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l trabajando en nuev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ff"/>
                </a:solidFill>
                <a:latin typeface="Arial"/>
              </a:rPr>
              <a:t>Clasificación según t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Tipos más relevante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Eficac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Eficiencia Equida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Calida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Econom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23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4296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CION DE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214200" y="150012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CO DE LA EVALU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2895480" y="2133720"/>
            <a:ext cx="838440" cy="685800"/>
          </a:xfrm>
          <a:prstGeom prst="rightArrow">
            <a:avLst>
              <a:gd name="adj1" fmla="val 50000"/>
              <a:gd name="adj2" fmla="val 30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114800" y="19810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DICION DEL DESEMPEÑO LOGRADO  POR LAS INSTITU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641760" y="5500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295280" y="3429000"/>
            <a:ext cx="685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ABORACION DE MEDIDAS DE 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DE ABARCAR TODO EL PROCESO DE P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04920" y="4572000"/>
            <a:ext cx="2361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362320" y="5105520"/>
            <a:ext cx="274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181480" y="5562720"/>
            <a:ext cx="190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1219320" y="525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449568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9246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781680" y="6095880"/>
            <a:ext cx="190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5562720" y="6248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1219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4495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55627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685800" y="0"/>
            <a:ext cx="3124080" cy="55627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990720" y="3505320"/>
            <a:ext cx="2361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371600" y="2209680"/>
            <a:ext cx="1981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O – (OUTPU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47920" y="533520"/>
            <a:ext cx="16761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FINAL O IMPAC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OUTCO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676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18288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1371600" y="233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25146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5800" y="4724280"/>
            <a:ext cx="2971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NSUM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INPUT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3429000" y="9907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3505320" y="2209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3429000" y="361476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1447920" y="3962520"/>
            <a:ext cx="0" cy="509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2209680" y="4038480"/>
            <a:ext cx="0" cy="5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2971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7"/>
          <p:cNvSpPr/>
          <p:nvPr/>
        </p:nvSpPr>
        <p:spPr>
          <a:xfrm>
            <a:off x="3886200" y="1905120"/>
            <a:ext cx="304920" cy="761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2666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3886200" y="3048120"/>
            <a:ext cx="380880" cy="1252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32400 h 1252440"/>
              <a:gd name="textAreaBottom" fmla="*/ 1220040 h 12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4267080" y="3048120"/>
            <a:ext cx="2743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Con qué  rapidez lo estamos haci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Cuanto nos cues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4267080" y="1752480"/>
            <a:ext cx="3124440" cy="10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 Cuántas unidad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productos y servicios estam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nd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3733920" y="464832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3"/>
          <p:cNvSpPr/>
          <p:nvPr/>
        </p:nvSpPr>
        <p:spPr>
          <a:xfrm>
            <a:off x="4038480" y="4648320"/>
            <a:ext cx="228600" cy="799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520 h 799920"/>
              <a:gd name="textAreaBottom" fmla="*/ 779400 h 79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4419720" y="4572000"/>
            <a:ext cx="35049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Cuántos recursos invertimos, cuanto personal trabajó en el proce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5"/>
          <p:cNvSpPr/>
          <p:nvPr/>
        </p:nvSpPr>
        <p:spPr>
          <a:xfrm>
            <a:off x="0" y="1566720"/>
            <a:ext cx="914400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4114800" y="380880"/>
            <a:ext cx="3429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ómo están cambiando las condiciones que estamos intervini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7"/>
          <p:cNvSpPr/>
          <p:nvPr/>
        </p:nvSpPr>
        <p:spPr>
          <a:xfrm>
            <a:off x="3809880" y="4572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9072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8080"/>
                </a:solidFill>
                <a:latin typeface="Arial"/>
              </a:rPr>
              <a:t>Procesos</a:t>
            </a:r>
            <a:r>
              <a:rPr b="0" i="1" lang="es-ES_tradnl" sz="2400" spc="-1" strike="noStrike">
                <a:solidFill>
                  <a:srgbClr val="80808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actividades que es necesario ejecutar para la generación y entrega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8080"/>
                </a:solidFill>
                <a:latin typeface="Arial"/>
              </a:rPr>
              <a:t>Producto: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resultados directos obtenidos de los procesos o efectos inmediatos sobre la población objetivo beneficiada; ejemplos: beneficios otorgados, cursos impartidos, urgencias atendi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         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productos pueden tener que satisfacer requisitos de calidad: producida y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percibi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8080"/>
                </a:solidFill>
                <a:latin typeface="Arial"/>
              </a:rPr>
              <a:t>Resultados (impacto):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resultados esperados como propósito final de la organización; deben º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traducirse en un mejoramiento significativo, en algunos casos perdurable en el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tiempo, en algunas de las condiciones o características de la población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objetivo; ejemplos: aumento en el nivel de remuneraciones de una población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capacitada, mejoramiento en el nivel socio económico de familias asistidas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técnic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295280" y="685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dicadores DIPRES: Ámbitos de Control 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BJETIVO DEL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304920" y="2286000"/>
            <a:ext cx="16761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2590920" y="2286000"/>
            <a:ext cx="16761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7162920" y="2286000"/>
            <a:ext cx="16761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4876920" y="2362320"/>
            <a:ext cx="17524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990720" y="4435920"/>
            <a:ext cx="2438280" cy="459720"/>
          </a:xfrm>
          <a:prstGeom prst="rect">
            <a:avLst/>
          </a:pr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5791320" y="4435920"/>
            <a:ext cx="2438280" cy="459720"/>
          </a:xfrm>
          <a:prstGeom prst="rect">
            <a:avLst/>
          </a:pr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3429000" y="6001200"/>
            <a:ext cx="2438280" cy="459720"/>
          </a:xfrm>
          <a:prstGeom prst="rect">
            <a:avLst/>
          </a:pr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1066680" y="36576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 flipH="1">
            <a:off x="2133720" y="365760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5715000" y="3733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 flipH="1">
            <a:off x="6933960" y="36576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2057400" y="495288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 flipH="1">
            <a:off x="4495680" y="495288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066680" y="1905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34290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57150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79246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076720" y="105264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b0101"/>
                </a:solidFill>
                <a:latin typeface="Arial"/>
                <a:ea typeface="Times New Roman"/>
              </a:rPr>
              <a:t>EC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4191120" y="213372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b0101"/>
                </a:solidFill>
                <a:latin typeface="Arial"/>
                <a:ea typeface="Times New Roman"/>
              </a:rPr>
              <a:t>EFIC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867280" y="2133720"/>
            <a:ext cx="1295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b0101"/>
                </a:solidFill>
                <a:latin typeface="Arial"/>
                <a:ea typeface="Times New Roman"/>
              </a:rPr>
              <a:t>EFIC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2209680" y="1052640"/>
            <a:ext cx="2867040" cy="20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6300720" y="1125360"/>
            <a:ext cx="172728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600200" y="3048120"/>
            <a:ext cx="1066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276720" y="29718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266688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483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 flipH="1">
            <a:off x="4114440" y="2362320"/>
            <a:ext cx="304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5181480" y="2438280"/>
            <a:ext cx="45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029200" y="30481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61722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6553080" y="3048120"/>
            <a:ext cx="1524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3733920" y="3429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7"/>
          <p:cNvSpPr/>
          <p:nvPr/>
        </p:nvSpPr>
        <p:spPr>
          <a:xfrm flipH="1">
            <a:off x="5486040" y="3352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2666880" y="37339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NIVEL DE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952880" y="37339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UTI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SATISFA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4114800" y="4191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1"/>
          <p:cNvSpPr/>
          <p:nvPr/>
        </p:nvSpPr>
        <p:spPr>
          <a:xfrm flipH="1">
            <a:off x="5105160" y="4191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962520" y="464832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POB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OBJE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3"/>
          <p:cNvSpPr/>
          <p:nvPr/>
        </p:nvSpPr>
        <p:spPr>
          <a:xfrm>
            <a:off x="-914400" y="1523880"/>
            <a:ext cx="914400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4"/>
          <p:cNvSpPr/>
          <p:nvPr/>
        </p:nvSpPr>
        <p:spPr>
          <a:xfrm flipH="1">
            <a:off x="5791320" y="2421000"/>
            <a:ext cx="581040" cy="70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5"/>
          <p:cNvSpPr/>
          <p:nvPr/>
        </p:nvSpPr>
        <p:spPr>
          <a:xfrm>
            <a:off x="6477120" y="24382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755640" y="0"/>
            <a:ext cx="739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RELACIONES ENTRE EL PROCESO DE PRODUCCION DE BIENES Y SERVICIOS Y LA EFICIENCIA, EFICACIA, ECONOMIA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97920" y="5899320"/>
            <a:ext cx="89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*) Fuente: Indicadores de Gestión para las Entidades Públicas. AECA. Madrid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CEPTOS Y EJEMPLOS DE INDICADORES DE</a:t>
            </a:r>
            <a:r>
              <a:rPr b="1" lang="es-ES_tradnl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cc00"/>
                </a:solidFill>
                <a:latin typeface="Arial"/>
              </a:rPr>
              <a:t>EFICA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de el grado de cumplimiento de los objetivos y metas establecidos, a través de los productos o resultados obtenidos, sin referencia al costo de consecución de los mi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CEPT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ULTADO (% RESULTADO LOGRADO EXITOSAMENTE RESPECTO  REALIZADO-SOLICIT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ON  (LOGRADO  RESPECTO DEL UNIVER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BERTURA  ( LOGRADO RESPECTO DE LA DEMANDA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ACTO (LOGRADO RESPECTO DEL PROBLEMA QUE SE QUIERE ATAC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24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43080" y="990720"/>
            <a:ext cx="8458200" cy="1143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be0e3"/>
                </a:solidFill>
                <a:latin typeface="Arial"/>
              </a:rPr>
              <a:t>CUADRO DE MANDO INTEG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3048120"/>
            <a:ext cx="830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uno de los Cuadro de Mando Integral de las unidades de negocio alimenta a su vez las perspectivas del Balanced Scorecard, donde se homogeniza la información y se obtiene el resultado final o cumplimiento de metas y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457200" y="2349360"/>
          <a:ext cx="8229600" cy="30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49360"/>
                    <a:ext cx="8229600" cy="30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3"/>
          <p:cNvGraphicFramePr/>
          <p:nvPr/>
        </p:nvGraphicFramePr>
        <p:xfrm>
          <a:off x="250920" y="1811160"/>
          <a:ext cx="8642160" cy="32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11160"/>
                    <a:ext cx="864216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1116000" y="2017800"/>
          <a:ext cx="7488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17800"/>
                    <a:ext cx="7488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4"/>
          <p:cNvGraphicFramePr/>
          <p:nvPr/>
        </p:nvGraphicFramePr>
        <p:xfrm>
          <a:off x="900000" y="2017800"/>
          <a:ext cx="7488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17800"/>
                    <a:ext cx="7488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IEN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scribe la relación entre dos magnitu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producción física de un producto (bien o servicio)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insumos o recursos que se utilizaronb para alcanzar ese nivel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yor cantidad de servicios dado el mismo nivel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canzar un determinado nivel de servicios utilizando la menor cantidad de recursos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IEN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1042920" y="2060640"/>
          <a:ext cx="7696440" cy="401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769644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IEN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3"/>
          <p:cNvGraphicFramePr/>
          <p:nvPr/>
        </p:nvGraphicFramePr>
        <p:xfrm>
          <a:off x="457200" y="1690560"/>
          <a:ext cx="8229600" cy="43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90560"/>
                    <a:ext cx="82296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pacidad de la institución para mover adecuadamente los recurs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l cumplimiento de sus o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ficiencia manej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so actual de recursos en relación a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suficiencia financiera en la capacidad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enerar ahorros y en la existencia de 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supues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677880" y="2135160"/>
          <a:ext cx="7778880" cy="392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135160"/>
                    <a:ext cx="777888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IDAD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institución por responder en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istente, rápida y directa a las necesidade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ones Indirec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r los atributos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racterísticas de los produ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ones Direc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ado de satisfacción de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285840" y="520560"/>
          <a:ext cx="86439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520560"/>
                    <a:ext cx="86439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IDA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258920" y="1989000"/>
          <a:ext cx="705816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70581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IDA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468360" y="1700280"/>
          <a:ext cx="813600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136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826920" y="260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INDICADORES DE DESEMPEÑO 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72040" y="2754360"/>
            <a:ext cx="1607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2257560" y="2971800"/>
            <a:ext cx="581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333520" y="3581280"/>
            <a:ext cx="57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333520" y="4191120"/>
            <a:ext cx="57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"/>
          <p:cNvSpPr/>
          <p:nvPr/>
        </p:nvSpPr>
        <p:spPr>
          <a:xfrm>
            <a:off x="2362320" y="48769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1981080" y="182880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            PRODUCTO        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2895480" y="2225520"/>
            <a:ext cx="152640" cy="3489480"/>
          </a:xfrm>
          <a:prstGeom prst="downArrow">
            <a:avLst>
              <a:gd name="adj1" fmla="val 50000"/>
              <a:gd name="adj2" fmla="val 571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4724280" y="2209680"/>
            <a:ext cx="152640" cy="3489480"/>
          </a:xfrm>
          <a:prstGeom prst="downArrow">
            <a:avLst>
              <a:gd name="adj1" fmla="val 50000"/>
              <a:gd name="adj2" fmla="val 571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6781680" y="2209680"/>
            <a:ext cx="152640" cy="3489480"/>
          </a:xfrm>
          <a:prstGeom prst="downArrow">
            <a:avLst>
              <a:gd name="adj1" fmla="val 50000"/>
              <a:gd name="adj2" fmla="val 571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19240" y="2270160"/>
            <a:ext cx="395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1332000" y="11253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AMBITO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331920" y="6356520"/>
            <a:ext cx="50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*) Indicadores de Desempeño. www.dip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triz de cober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c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ci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 serv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Oval 30"/>
          <p:cNvSpPr/>
          <p:nvPr/>
        </p:nvSpPr>
        <p:spPr>
          <a:xfrm>
            <a:off x="6705720" y="2438280"/>
            <a:ext cx="1752480" cy="335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7010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7086600" y="37321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Siempre deben exis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3"/>
          <p:cNvSpPr/>
          <p:nvPr/>
        </p:nvSpPr>
        <p:spPr>
          <a:xfrm>
            <a:off x="3200400" y="2819520"/>
            <a:ext cx="2971800" cy="29718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4"/>
          <p:cNvSpPr/>
          <p:nvPr/>
        </p:nvSpPr>
        <p:spPr>
          <a:xfrm>
            <a:off x="388620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Son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0" y="1142640"/>
            <a:ext cx="9143280" cy="5257440"/>
            <a:chOff x="0" y="1142640"/>
            <a:chExt cx="9143280" cy="5257440"/>
          </a:xfrm>
        </p:grpSpPr>
        <p:grpSp>
          <p:nvGrpSpPr>
            <p:cNvPr id="346" name="Group 3"/>
            <p:cNvGrpSpPr/>
            <p:nvPr/>
          </p:nvGrpSpPr>
          <p:grpSpPr>
            <a:xfrm>
              <a:off x="6480" y="1142640"/>
              <a:ext cx="9136800" cy="5257440"/>
              <a:chOff x="6480" y="1142640"/>
              <a:chExt cx="9136800" cy="5257440"/>
            </a:xfrm>
          </p:grpSpPr>
          <p:sp>
            <p:nvSpPr>
              <p:cNvPr id="347" name="Rectangle 4"/>
              <p:cNvSpPr/>
              <p:nvPr/>
            </p:nvSpPr>
            <p:spPr>
              <a:xfrm>
                <a:off x="6480" y="1163160"/>
                <a:ext cx="9136800" cy="523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5"/>
              <p:cNvSpPr/>
              <p:nvPr/>
            </p:nvSpPr>
            <p:spPr>
              <a:xfrm>
                <a:off x="6480" y="541260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6"/>
              <p:cNvSpPr/>
              <p:nvPr/>
            </p:nvSpPr>
            <p:spPr>
              <a:xfrm>
                <a:off x="6480" y="343944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7"/>
              <p:cNvSpPr/>
              <p:nvPr/>
            </p:nvSpPr>
            <p:spPr>
              <a:xfrm>
                <a:off x="6480" y="442620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8"/>
              <p:cNvSpPr/>
              <p:nvPr/>
            </p:nvSpPr>
            <p:spPr>
              <a:xfrm>
                <a:off x="6480" y="245340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9"/>
              <p:cNvSpPr/>
              <p:nvPr/>
            </p:nvSpPr>
            <p:spPr>
              <a:xfrm>
                <a:off x="16560" y="5488200"/>
                <a:ext cx="78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Calida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0"/>
              <p:cNvSpPr/>
              <p:nvPr/>
            </p:nvSpPr>
            <p:spPr>
              <a:xfrm>
                <a:off x="86040" y="252900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Eficac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1"/>
              <p:cNvSpPr/>
              <p:nvPr/>
            </p:nvSpPr>
            <p:spPr>
              <a:xfrm>
                <a:off x="17280" y="3515760"/>
                <a:ext cx="9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Eficienc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2"/>
              <p:cNvSpPr/>
              <p:nvPr/>
            </p:nvSpPr>
            <p:spPr>
              <a:xfrm>
                <a:off x="18720" y="4502160"/>
                <a:ext cx="98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3"/>
              <p:cNvSpPr/>
              <p:nvPr/>
            </p:nvSpPr>
            <p:spPr>
              <a:xfrm>
                <a:off x="5713560" y="1315080"/>
                <a:ext cx="72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Estim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4"/>
              <p:cNvSpPr/>
              <p:nvPr/>
            </p:nvSpPr>
            <p:spPr>
              <a:xfrm>
                <a:off x="6658560" y="1315080"/>
                <a:ext cx="33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Me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5"/>
              <p:cNvSpPr/>
              <p:nvPr/>
            </p:nvSpPr>
            <p:spPr>
              <a:xfrm>
                <a:off x="383472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6"/>
              <p:cNvSpPr/>
              <p:nvPr/>
            </p:nvSpPr>
            <p:spPr>
              <a:xfrm>
                <a:off x="452700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7"/>
              <p:cNvSpPr/>
              <p:nvPr/>
            </p:nvSpPr>
            <p:spPr>
              <a:xfrm>
                <a:off x="521100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8"/>
              <p:cNvSpPr/>
              <p:nvPr/>
            </p:nvSpPr>
            <p:spPr>
              <a:xfrm>
                <a:off x="585684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9"/>
              <p:cNvSpPr/>
              <p:nvPr/>
            </p:nvSpPr>
            <p:spPr>
              <a:xfrm>
                <a:off x="6672960" y="17956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20"/>
              <p:cNvSpPr/>
              <p:nvPr/>
            </p:nvSpPr>
            <p:spPr>
              <a:xfrm>
                <a:off x="137520" y="1346760"/>
                <a:ext cx="1276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Producto relevant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21"/>
              <p:cNvSpPr/>
              <p:nvPr/>
            </p:nvSpPr>
            <p:spPr>
              <a:xfrm>
                <a:off x="94320" y="1557000"/>
                <a:ext cx="1346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(bien y/o servicio) al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22"/>
              <p:cNvSpPr/>
              <p:nvPr/>
            </p:nvSpPr>
            <p:spPr>
              <a:xfrm>
                <a:off x="205920" y="1808640"/>
                <a:ext cx="916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que se vincu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23"/>
              <p:cNvSpPr/>
              <p:nvPr/>
            </p:nvSpPr>
            <p:spPr>
              <a:xfrm>
                <a:off x="1202040" y="17686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24"/>
              <p:cNvSpPr/>
              <p:nvPr/>
            </p:nvSpPr>
            <p:spPr>
              <a:xfrm>
                <a:off x="1656720" y="1467000"/>
                <a:ext cx="87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Indicador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25"/>
              <p:cNvSpPr/>
              <p:nvPr/>
            </p:nvSpPr>
            <p:spPr>
              <a:xfrm>
                <a:off x="1667520" y="1678680"/>
                <a:ext cx="744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Desempeñ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26"/>
              <p:cNvSpPr/>
              <p:nvPr/>
            </p:nvSpPr>
            <p:spPr>
              <a:xfrm>
                <a:off x="2826720" y="1542960"/>
                <a:ext cx="7581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Fórmula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cálcul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27"/>
              <p:cNvSpPr/>
              <p:nvPr/>
            </p:nvSpPr>
            <p:spPr>
              <a:xfrm>
                <a:off x="3957120" y="1315080"/>
                <a:ext cx="1451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Información Histór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V="1">
                <a:off x="318960" y="1163160"/>
                <a:ext cx="1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467360" y="11426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30"/>
              <p:cNvSpPr/>
              <p:nvPr/>
            </p:nvSpPr>
            <p:spPr>
              <a:xfrm>
                <a:off x="8397000" y="1542960"/>
                <a:ext cx="70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Medios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31"/>
              <p:cNvSpPr/>
              <p:nvPr/>
            </p:nvSpPr>
            <p:spPr>
              <a:xfrm>
                <a:off x="8370000" y="1741680"/>
                <a:ext cx="761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ver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32"/>
              <p:cNvSpPr/>
              <p:nvPr/>
            </p:nvSpPr>
            <p:spPr>
              <a:xfrm>
                <a:off x="7448400" y="1391040"/>
                <a:ext cx="739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Programa/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33"/>
              <p:cNvSpPr/>
              <p:nvPr/>
            </p:nvSpPr>
            <p:spPr>
              <a:xfrm>
                <a:off x="7293600" y="1590120"/>
                <a:ext cx="1052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Subtítulo/ ítem/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34"/>
              <p:cNvSpPr/>
              <p:nvPr/>
            </p:nvSpPr>
            <p:spPr>
              <a:xfrm>
                <a:off x="7336800" y="1827000"/>
                <a:ext cx="687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asign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35"/>
              <p:cNvSpPr/>
              <p:nvPr/>
            </p:nvSpPr>
            <p:spPr>
              <a:xfrm>
                <a:off x="8102160" y="17895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36"/>
              <p:cNvSpPr/>
              <p:nvPr/>
            </p:nvSpPr>
            <p:spPr>
              <a:xfrm flipV="1">
                <a:off x="2539440" y="11534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37"/>
              <p:cNvSpPr/>
              <p:nvPr/>
            </p:nvSpPr>
            <p:spPr>
              <a:xfrm flipV="1">
                <a:off x="3676680" y="116460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38"/>
              <p:cNvSpPr/>
              <p:nvPr/>
            </p:nvSpPr>
            <p:spPr>
              <a:xfrm flipV="1">
                <a:off x="8237160" y="11426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39"/>
              <p:cNvSpPr/>
              <p:nvPr/>
            </p:nvSpPr>
            <p:spPr>
              <a:xfrm flipV="1">
                <a:off x="7270560" y="11426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40"/>
              <p:cNvSpPr/>
              <p:nvPr/>
            </p:nvSpPr>
            <p:spPr>
              <a:xfrm flipV="1">
                <a:off x="4379400" y="1618560"/>
                <a:ext cx="0" cy="47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41"/>
              <p:cNvSpPr/>
              <p:nvPr/>
            </p:nvSpPr>
            <p:spPr>
              <a:xfrm flipV="1">
                <a:off x="5082480" y="1618560"/>
                <a:ext cx="0" cy="47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42"/>
              <p:cNvSpPr/>
              <p:nvPr/>
            </p:nvSpPr>
            <p:spPr>
              <a:xfrm flipV="1">
                <a:off x="6487920" y="116280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43"/>
              <p:cNvSpPr/>
              <p:nvPr/>
            </p:nvSpPr>
            <p:spPr>
              <a:xfrm flipV="1">
                <a:off x="5707440" y="116280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44"/>
              <p:cNvSpPr/>
              <p:nvPr/>
            </p:nvSpPr>
            <p:spPr>
              <a:xfrm>
                <a:off x="3676680" y="1618560"/>
                <a:ext cx="359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Line 45"/>
            <p:cNvSpPr/>
            <p:nvPr/>
          </p:nvSpPr>
          <p:spPr>
            <a:xfrm>
              <a:off x="6480" y="281232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6"/>
            <p:cNvSpPr/>
            <p:nvPr/>
          </p:nvSpPr>
          <p:spPr>
            <a:xfrm>
              <a:off x="9720" y="579204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7"/>
            <p:cNvSpPr/>
            <p:nvPr/>
          </p:nvSpPr>
          <p:spPr>
            <a:xfrm>
              <a:off x="0" y="480564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8"/>
            <p:cNvSpPr/>
            <p:nvPr/>
          </p:nvSpPr>
          <p:spPr>
            <a:xfrm>
              <a:off x="6480" y="381924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Rectangle 49"/>
          <p:cNvSpPr/>
          <p:nvPr/>
        </p:nvSpPr>
        <p:spPr>
          <a:xfrm>
            <a:off x="971640" y="333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ATRIZ DE INDICADORES 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0"/>
          <p:cNvSpPr/>
          <p:nvPr/>
        </p:nvSpPr>
        <p:spPr>
          <a:xfrm>
            <a:off x="376560" y="6521400"/>
            <a:ext cx="40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*)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Indicadores de Desempeño. www.dipres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84360" y="1700280"/>
            <a:ext cx="7467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</a:t>
            </a:r>
            <a:r>
              <a:rPr b="1" i="1" lang="es-ES_tradnl" sz="1400" spc="-1" strike="noStrike">
                <a:solidFill>
                  <a:srgbClr val="808080"/>
                </a:solidFill>
                <a:latin typeface="Arial"/>
              </a:rPr>
              <a:t>indicadores de tendencia, predictivos o inductores de una actuación (lead indicators)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buscan medir el progreso alcanzado en la forma cómo las actividades deben ser desarrolla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Si los indicadores de resultados intentan reflejar el QUE resultados esperar para el éxito, los indicadores de tendencia buscan medir el COM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</a:t>
            </a:r>
            <a:r>
              <a:rPr b="1" i="1" lang="es-ES_tradnl" sz="1400" spc="-1" strike="noStrike">
                <a:solidFill>
                  <a:srgbClr val="808080"/>
                </a:solidFill>
                <a:latin typeface="Arial"/>
              </a:rPr>
              <a:t>indicadores de tendencia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son fundamentales para el control de los recursos empleados, los procesos operados, y los productos obtenid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indicadores de tendencia constituyen un instrumento imprescindible para la evaluación del desempeño de la organización en un área, respecto de un atributo, o en un ámbito, definido como clave o determinante del éxito de la organización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a principal </a:t>
            </a:r>
            <a:r>
              <a:rPr b="1" i="1" lang="es-ES_tradnl" sz="1400" spc="-1" strike="noStrike">
                <a:solidFill>
                  <a:srgbClr val="808080"/>
                </a:solidFill>
                <a:latin typeface="Arial"/>
              </a:rPr>
              <a:t>limitación de los indicadores de tendencia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dice relación con que no proporcionan información que permita deducir o establecer con facilidad el impacto de las acciones inducidas sobre los objetivos o resultados finales esperad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11280" y="260280"/>
            <a:ext cx="5029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dicadores de T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6.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del abast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ficiencia en las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nimizar los recursos necesarios (financieros, humanos, físicos) para suministrar los bienes y servicios requer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r visibilidad a las actividades y criterios de decisión involucrados en el abastecimiento, facilitando el control y el acceso a los 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horro o compra 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tisfacer las necesidades de oportunidad y requerimientos técnicos de los usu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ptimización del uso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acionalizar el uso de recursos al interior de la instit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1042920" y="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dicadores de uso frecuente para evaluar la gestión de abast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stado de indicadores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uración de los inventari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es el número de días en que se consumiría los stocks disponibles de un material a los niveles de consumo promedio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Quiebres de inventari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frecuencia de casos en que una institución se queda sin inventario de un material que se mantiene en bode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iempo de ciclo de compr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tiempo que transcurre entre que se solicita la compra de un material y que este es recibido en bode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iempo de despacho de la orden de compr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tiempo que transcurre entre que se solicita la compra de un material y se despacha al proveedor la orden de compra respectiva.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stado de indicadores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ntidad de peticiones de oferta enviad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 al número de proveedores a los cuales se envía una petición de oferta para los procesos de cotización (para la operación en ChileCompra, corresponde al número de proveedores que son notificados de las cotizaciones vía e-mai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ntidad de ofertas recibid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 al número de ofertas o cotizaciones recibidas en un proceso de com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dicadores de satisfacción de usuari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n a una calificación de la calidad de servicio percibida por los clientes internos del área de adquisiciones, normalmente considera distintos ám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dicadores de evaluación de proveedore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n a una evaluación de la calidad de servicio entregada por los proveedores. Normalmente se asocia a una clasificación de los provee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. ¿Qué es un indicador de gestió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nición oper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STRUMENTOS DE MEDICION QUE PERMITE SINTETIZAR LA DETERMINACION DE COMO  UNA  ORGANIZACION ESTA ALCANZANDO SUS OBJETIVOS Y MET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762120" y="1352520"/>
            <a:ext cx="7619760" cy="52974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lación de indicadores con objetivos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a incorporación de enfoque de género en la gestión pública obedece 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la necesidad del Estado d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ahoma"/>
              </a:rPr>
              <a:t>evaluar los efectos diferenciados de sus productos (bienes y servicios) para mujeres y homb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presenta un avance para el mejoramiento de la gestión del Estado por cuan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ahoma"/>
              </a:rPr>
              <a:t>eleva la eficacia de los programas relacionados con las actuales prioridades públ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 puede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ahoma"/>
              </a:rPr>
              <a:t>preveer y evitar que se produzcan efectos negativos sobre las condiciones de vida y bienestar, o sobre la posición de las mujeres y los homb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 en nuestra socie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ww.dip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Los resultados del producto ¿muestran efectos negativos diferenciad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para hombres y mujer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Ejemplos de efectos nega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Incremento de la carga de trabajo, deterioro de la salud personal, restricción de oportun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Incremento del aislamiento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Rigidez y reproducción de roles tradicionales para mujeres y homb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Ningún o escaso acceso al ingreso o a los productos del servicio o instit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Disminución del acceso a bienes materiales, a nuevas fuentes energéticas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productivas, a los servicios, o a las instituciones el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Disminución de la autoridad en los ámbitos de poder o tareas tradicio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Exclusión de los beneficios del producto en grupos específicos de mujeres (grupos d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mujeres de menores ingresos por ejemp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centración de los beneficios en lo grupos de hombres, et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7772400" cy="2073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7696080" cy="15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5"/>
          <p:cNvSpPr/>
          <p:nvPr/>
        </p:nvSpPr>
        <p:spPr>
          <a:xfrm>
            <a:off x="1130760" y="5442120"/>
            <a:ext cx="59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Fuente: Balance de Gestión Integral. Servicio Nacional de Capacitación y Emp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696080" cy="15192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4"/>
          <p:cNvSpPr/>
          <p:nvPr/>
        </p:nvSpPr>
        <p:spPr>
          <a:xfrm>
            <a:off x="1130760" y="5442120"/>
            <a:ext cx="59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Fuente: Balance de Gestión Integral. Servicio Nacional de Capacitación y Emp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7925040" cy="286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olución de la Tasa de Mortalidad Infantil, 1970-2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1066680" y="1828800"/>
          <a:ext cx="674388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674388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indicador en el contexto del ciclo de control de gest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9"/>
          <p:cNvCxnSpPr>
            <a:stCxn id="91" idx="4"/>
            <a:endCxn id="94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6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8"/>
          <p:cNvSpPr/>
          <p:nvPr/>
        </p:nvSpPr>
        <p:spPr>
          <a:xfrm>
            <a:off x="6037200" y="285264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7887240" y="3141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 flipH="1">
            <a:off x="7260840" y="335772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ILOSOFIA DE LOS INDIC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025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odo lo que se mi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 contro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Y todo aquello que se contro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 admini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Y lo que se admini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 mejor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1:22:21Z</dcterms:created>
  <dc:creator>.</dc:creator>
  <dc:description/>
  <dc:language>en-US</dc:language>
  <cp:lastModifiedBy>Ivan Braga</cp:lastModifiedBy>
  <dcterms:modified xsi:type="dcterms:W3CDTF">2009-07-22T22:08:59Z</dcterms:modified>
  <cp:revision>14</cp:revision>
  <dc:subject/>
  <dc:title>Diapositiva 1</dc:title>
</cp:coreProperties>
</file>