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23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3D9-4EBE-46CF-AD4D-0C7016E8A3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FE7-13A7-416C-86AC-3F6EF14BB9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22A6-A2C8-444D-851A-221C0ABE2D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17E1-57D4-4F15-AD3A-2CA439B4A1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FF0-5274-418A-8FC0-3906B3A3AC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D9A-8201-470A-8422-444E17D6C3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836-DBE8-49C0-B185-999B96AC63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5BF-C732-4A40-9ED6-37C371D0A7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E22-B526-4F30-955D-67A2A11B95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9CA7-CACA-4457-B180-F049D1E2B8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DA90-60A9-46B7-BA6E-CBE44DA7EB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0D4-A8F2-433A-8A72-BC3646D3E9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E91-4D8E-447F-B8BE-98816A1893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4BB-5560-41B0-B2B2-3F9BE2E556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A97-D14F-4C64-88E5-970F5511BF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45EE-B861-4AA5-A1AA-468CC790A0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BA6-7125-433E-BE2C-247995CA07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08B-5953-40B4-ACA4-B85F5015A5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9C07-AF94-4AA2-9076-723E19E6FE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B8C9-1FB2-4EFB-A3E8-AE9E22F0F1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854-B209-4122-A5B5-43F0D77F2E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268-DB7A-42F9-8A8D-43526B0F14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55D-E07A-479C-A223-965D7CE2EA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35F1-C8D3-4493-B481-9B8CF30AF9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6F95-3119-40B9-B0F3-9C56D3BE88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2A97-10EC-47C4-A618-DCF8E1C52F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524-B414-4F79-BF9F-6BBD2D6A73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1AF-6723-4C3E-8DA6-08AAA22EDD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0EE-5145-4FC2-AB86-F0101D62A6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76F-054A-426F-A226-2009B962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FF1-5A3C-4301-8EAF-9F4B1D5F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074-9EC4-44DB-8556-40AA9DB4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0C-23A9-47AF-A47D-C810F347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644-D061-4F2C-B360-C978A7B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222-5D22-4967-887A-FFC64EA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66B-FDD1-47EB-B5FC-4C7B99C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37E-27D7-4EA2-BA49-64A9396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39F-6F1F-42DE-9E4E-511CFFB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5E5-13E6-4BB1-86A8-911C0478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FFD-6435-4613-9683-0A0C890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52B-61FC-4226-AEE7-40719BC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F36-E3E4-4EB3-9674-A28BC782CC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2"/>
          <p:cNvGrpSpPr/>
          <p:nvPr/>
        </p:nvGrpSpPr>
        <p:grpSpPr>
          <a:xfrm>
            <a:off x="628560" y="2090880"/>
            <a:ext cx="7886880" cy="1585800"/>
            <a:chOff x="628560" y="2090880"/>
            <a:chExt cx="7886880" cy="1585800"/>
          </a:xfrm>
        </p:grpSpPr>
        <p:pic>
          <p:nvPicPr>
            <p:cNvPr id="49" name="Rectangle 2" descr=""/>
            <p:cNvPicPr/>
            <p:nvPr/>
          </p:nvPicPr>
          <p:blipFill>
            <a:blip r:embed="rId1"/>
            <a:stretch/>
          </p:blipFill>
          <p:spPr>
            <a:xfrm>
              <a:off x="628560" y="2090880"/>
              <a:ext cx="788688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400" spc="-1" strike="noStrike">
                  <a:solidFill>
                    <a:srgbClr val="ffffff"/>
                  </a:solidFill>
                  <a:latin typeface="Arial"/>
                </a:rPr>
                <a:t>Indicadores de gestió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19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33280" y="214200"/>
            <a:ext cx="341604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ploma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ategia y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276720" y="1197000"/>
            <a:ext cx="5486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CO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TIDAD DE GAS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LOCI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MPERATURA DEL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ENTA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G00027_"/>
          <p:cNvPicPr/>
          <p:nvPr/>
        </p:nvPicPr>
        <p:blipFill>
          <a:blip r:embed="rId1"/>
          <a:stretch/>
        </p:blipFill>
        <p:spPr>
          <a:xfrm>
            <a:off x="611280" y="1773360"/>
            <a:ext cx="2305080" cy="302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j0076187"/>
          <p:cNvPicPr/>
          <p:nvPr/>
        </p:nvPicPr>
        <p:blipFill>
          <a:blip r:embed="rId1"/>
          <a:stretch/>
        </p:blipFill>
        <p:spPr>
          <a:xfrm>
            <a:off x="900000" y="2781360"/>
            <a:ext cx="2614680" cy="244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62120" y="8380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Cuanto hace que no se toma los exámenes de sal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038480" y="3505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La empresa que administramos desde niños no necesita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l clave: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indicador como sintetiz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 ROI, PIB, ro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basada en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qué objetivos se busca log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rte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r indicadores para medir el cumpl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lación co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tibilidad de hacer una 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los estándares para cada ind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 de comparación, re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cómo se va a contr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d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o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ntificar o definir explícitamente qué es lo que se quiere me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expresarse en un concepto genérico (Rotación de inventarios)  o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concepto que relacione variables (Porcentaje de...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órmula de cál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blecer claramente las variables y operaciones que se deben realizar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os de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ntificar elementos 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finir métodos/instrumentos de medición que garanticen autonomía del evalu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s de cap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qué forma se registran y recuperan los datos para el cálculo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a (estánd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 deseado del indicador que se desea alcan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mporalidad / Grad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250920" y="1197000"/>
            <a:ext cx="8424720" cy="504036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PASOS BASICOS PARA LA CONSTRUCCION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ENTIFICAR LAS AREAS DE MEDICION DE DESEMP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IR LAS FORMULAS O ALGORIT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IDAR: APLICAR  CRITERIOS DE TECNICOS Y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R LA INFORMACION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ER RESPONSABILIDAD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UNICAR E INFOR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356000" y="1197000"/>
            <a:ext cx="216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4356000" y="6237360"/>
            <a:ext cx="287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Para que queremos los indic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84360" y="2133720"/>
            <a:ext cx="4896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Medir / compa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Revisar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Contr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Gesti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ndicadores europeos"/>
          <p:cNvPicPr/>
          <p:nvPr/>
        </p:nvPicPr>
        <p:blipFill>
          <a:blip r:embed="rId1"/>
          <a:srcRect l="0" t="0" r="0" b="42515"/>
          <a:stretch/>
        </p:blipFill>
        <p:spPr>
          <a:xfrm>
            <a:off x="971640" y="825480"/>
            <a:ext cx="7416720" cy="504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PSA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3" descr=""/>
          <p:cNvPicPr/>
          <p:nvPr/>
        </p:nvPicPr>
        <p:blipFill>
          <a:blip r:embed="rId1"/>
          <a:srcRect l="60564" t="42830" r="19428" b="21079"/>
          <a:stretch/>
        </p:blipFill>
        <p:spPr>
          <a:xfrm>
            <a:off x="468360" y="1646280"/>
            <a:ext cx="748656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ctangle 3"/>
          <p:cNvGrpSpPr/>
          <p:nvPr/>
        </p:nvGrpSpPr>
        <p:grpSpPr>
          <a:xfrm>
            <a:off x="781200" y="1298520"/>
            <a:ext cx="7600680" cy="5900760"/>
            <a:chOff x="781200" y="1298520"/>
            <a:chExt cx="7600680" cy="5900760"/>
          </a:xfrm>
        </p:grpSpPr>
        <p:pic>
          <p:nvPicPr>
            <p:cNvPr id="55" name="Rectangle 3" descr=""/>
            <p:cNvPicPr/>
            <p:nvPr/>
          </p:nvPicPr>
          <p:blipFill>
            <a:blip r:embed="rId1"/>
            <a:stretch/>
          </p:blipFill>
          <p:spPr>
            <a:xfrm>
              <a:off x="781200" y="1298520"/>
              <a:ext cx="76006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71640" y="1413000"/>
              <a:ext cx="7354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BSC e indicado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¿Qué s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Objetiv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Desafí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Arial"/>
                </a:rPr>
                <a:t>Indicadores por á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99"/>
                </a:spcBef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8496360" cy="5440680"/>
          </a:xfrm>
          <a:prstGeom prst="rect">
            <a:avLst/>
          </a:prstGeom>
          <a:ln w="0">
            <a:noFill/>
          </a:ln>
        </p:spPr>
      </p:pic>
      <p:grpSp>
        <p:nvGrpSpPr>
          <p:cNvPr id="137" name="5 CuadroTexto"/>
          <p:cNvGrpSpPr/>
          <p:nvPr/>
        </p:nvGrpSpPr>
        <p:grpSpPr>
          <a:xfrm>
            <a:off x="2610000" y="152280"/>
            <a:ext cx="3705120" cy="506520"/>
            <a:chOff x="2610000" y="152280"/>
            <a:chExt cx="3705120" cy="506520"/>
          </a:xfrm>
        </p:grpSpPr>
        <p:pic>
          <p:nvPicPr>
            <p:cNvPr id="138" name="5 CuadroTexto" descr=""/>
            <p:cNvPicPr/>
            <p:nvPr/>
          </p:nvPicPr>
          <p:blipFill>
            <a:blip r:embed="rId2"/>
            <a:stretch/>
          </p:blipFill>
          <p:spPr>
            <a:xfrm>
              <a:off x="2610000" y="152280"/>
              <a:ext cx="3705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36000" y="214200"/>
              <a:ext cx="34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Indicador de control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OBJETIVOS USO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duc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ora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ndamen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discus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sib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oy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oces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mulación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cilita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tablecimiento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Compromisos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(*) Dirección de Presupuestos. Ministerio Hacienda. Chile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pregunta c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¿Qué queremos medir / evalu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gestionar 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0000"/>
                </a:solidFill>
                <a:latin typeface="Arial"/>
              </a:rPr>
              <a:t>controlar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Desafíos asociados al trabajo con indica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os extremos noc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84360" y="2781360"/>
            <a:ext cx="7704000" cy="720720"/>
          </a:xfrm>
          <a:prstGeom prst="leftRightArrow">
            <a:avLst>
              <a:gd name="adj1" fmla="val 50000"/>
              <a:gd name="adj2" fmla="val 212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79800" y="200808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es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uso de un indicador depende del contexto…no hay indicadores buenos si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/trabaj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de utiliza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GURARSE QUE ESTOY MIDIEND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 VINCULADOS A  LO ESTRATE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S POSIBLE, NI DESEABLE MEDIRLO TO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EVANCIA DE LA MED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MEDIR LO CORREC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EL SISTEMA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IDE, ASEGURANDOSE QUE LA MEDIDA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EMPEÑO 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LA OBT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M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racterísticas de un buen indic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68000" y="148428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nculado al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sto e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es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DICIONES QUE DEBEN CUMPLIR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DICADORES DE DESEMPEÑO NO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IN EN SI MISMO SINO UN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ALUACION MAS QUE UNA MEDICION ES UNA INTERPRETACION DE LOS RESULTAD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ESPECIFICARSE Y TENERSE EN CUENTA LA INTERRELACION DE LAS DIFERENTES MEDIDA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PLICIDAD DE LA MED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Rectangle 2"/>
          <p:cNvGrpSpPr/>
          <p:nvPr/>
        </p:nvGrpSpPr>
        <p:grpSpPr>
          <a:xfrm>
            <a:off x="365040" y="2676600"/>
            <a:ext cx="8345520" cy="1255680"/>
            <a:chOff x="365040" y="2676600"/>
            <a:chExt cx="8345520" cy="1255680"/>
          </a:xfrm>
        </p:grpSpPr>
        <p:pic>
          <p:nvPicPr>
            <p:cNvPr id="58" name="Rectangle 2" descr=""/>
            <p:cNvPicPr/>
            <p:nvPr/>
          </p:nvPicPr>
          <p:blipFill>
            <a:blip r:embed="rId1"/>
            <a:stretch/>
          </p:blipFill>
          <p:spPr>
            <a:xfrm>
              <a:off x="365040" y="2676600"/>
              <a:ext cx="8345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8760" y="2714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ff"/>
                  </a:solidFill>
                  <a:latin typeface="Arial"/>
                </a:rPr>
                <a:t>1. BSC e indicador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INTERPRETAR L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ES DE COMPARAC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HISTOR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LOGRADO EN INSTITUCIONES SIMILARES, PROCESOS O PROGR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981080"/>
            <a:ext cx="80769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ON DE AÑ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aumento del parque informático de la Unidad Ejecutora y su conexión e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(Equipos incorporados y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ectados en el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 con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ño t-1) -1] *1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3,9%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5,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0948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ESTANDAR DE INSTITUCIONES SIM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83560" y="316548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máximo de tramitación de medi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93640" y="411480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41360" y="457200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matoria de N°de dí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mitación/N°de tra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d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8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dí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5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CONSTRUCCION DE INDICADORE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ULAS DE CA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245268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 PROGRAMADO, COMPARACION RESPECTO DEL OBJETIVO 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centaje de vías navegables ya habili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16960" y="4079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órmula de cál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9856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33520" y="4738680"/>
            <a:ext cx="66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habilitadas año 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avegables programadas añ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708440" y="41562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20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937040" y="47656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/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20/143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3,9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¿COMO INTERPRETAR LOS RESULT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A MEDIDA UNICA QUE DEMUESTRE POR SI SOLA EL DESEMPEÑO DE LA INSTIT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QUIERE UN COMBINACION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S, IMPACTO, EFICACIA, EFICIENCIA,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RTOS INDICADORES PUEDEN SER CONTRADICTORIOS ENTRE  ELLO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5001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MPA DE LA MEDICION: SE MUESTRA COMO RESULTADOS (Y SE HACE)  SOLO LO QUE SE PUEDE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MEDIR DE ACUERDO A LA INFORMACION DISPONIBLE, DESCUIDANDO LA MEDICION DE LOS ASPECTOS MA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VALORACION DE LAS METAS FRENTE A UN AMBIENTE PUNITIVO DE LA EVALUA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BLEMAS FRECUENTES EN LA CONSTRUCCION D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DENCIA A MEDIRLO TODO PARA NO SUBREPRESENTAR ESFUER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SARROLLAN INDICADORES PERO NO SE USAN PARA LA TOMA DE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GRALIDAD DE LAS M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28800" y="2209680"/>
            <a:ext cx="5334120" cy="19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umentar la cobertura del programa de raciones a un 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a población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legar a un costos promedio de $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Alcanzar 1000 calorías por r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19920" y="4343400"/>
            <a:ext cx="281916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Calorías por 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* Porcentaje de ace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de los escolares (encues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4365720"/>
            <a:ext cx="2514600" cy="150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osto promedio de la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: gasto to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programa / 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4365360"/>
            <a:ext cx="26668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a50021"/>
                </a:solidFill>
                <a:uFillTx/>
                <a:latin typeface="Arial"/>
              </a:rPr>
              <a:t>INDICADOR DE 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blación escola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/ pobl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olar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5. Clasific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n agrupar de vari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Tipo 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De acuerdo al concepto que mi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Áre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Ventas, producción, RRHH, Abastecimiento, Inventario, distribuc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inalidad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Gestionar, controlar, evaluar, medir, revisar tend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eterminación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Objetivos y su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lación con finanzas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Financieros y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recuencia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Según la periodicidad de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BSC </a:t>
            </a:r>
            <a:r>
              <a:rPr b="0" lang="es-CL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Lead &amp; Lag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SC: Lead and Lag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g indic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indicadores de rendimiento final claves para la empresa como beneficio ne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 Los cambios en la estrategia a menudo puede llevar meses ya veces años antes de que puedan tener un impacto en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ad indicators  son los indicadores que pueden medirse fácilmente y con rapidez y se mostrará el impacto de las operaciones y decisiones estratégica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men estructura B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Text Box 4"/>
          <p:cNvGrpSpPr/>
          <p:nvPr/>
        </p:nvGrpSpPr>
        <p:grpSpPr>
          <a:xfrm>
            <a:off x="3170160" y="1852560"/>
            <a:ext cx="2151000" cy="4078440"/>
            <a:chOff x="3170160" y="1852560"/>
            <a:chExt cx="2151000" cy="4078440"/>
          </a:xfrm>
        </p:grpSpPr>
        <p:pic>
          <p:nvPicPr>
            <p:cNvPr id="62" name="Text Box 4" descr=""/>
            <p:cNvPicPr/>
            <p:nvPr/>
          </p:nvPicPr>
          <p:blipFill>
            <a:blip r:embed="rId1"/>
            <a:stretch/>
          </p:blipFill>
          <p:spPr>
            <a:xfrm>
              <a:off x="3170160" y="1852560"/>
              <a:ext cx="215100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79960" y="1916280"/>
              <a:ext cx="19303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apa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et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"/>
          <p:cNvSpPr/>
          <p:nvPr/>
        </p:nvSpPr>
        <p:spPr>
          <a:xfrm>
            <a:off x="414036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14036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14036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85928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Text Box 9"/>
          <p:cNvGrpSpPr/>
          <p:nvPr/>
        </p:nvGrpSpPr>
        <p:grpSpPr>
          <a:xfrm>
            <a:off x="5870520" y="3816360"/>
            <a:ext cx="2084400" cy="1481040"/>
            <a:chOff x="5870520" y="3816360"/>
            <a:chExt cx="2084400" cy="1481040"/>
          </a:xfrm>
        </p:grpSpPr>
        <p:pic>
          <p:nvPicPr>
            <p:cNvPr id="69" name="Text Box 9" descr=""/>
            <p:cNvPicPr/>
            <p:nvPr/>
          </p:nvPicPr>
          <p:blipFill>
            <a:blip r:embed="rId2"/>
            <a:stretch/>
          </p:blipFill>
          <p:spPr>
            <a:xfrm>
              <a:off x="5870520" y="3816360"/>
              <a:ext cx="2084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160320" y="4076640"/>
              <a:ext cx="15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spons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Recur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10"/>
          <p:cNvSpPr/>
          <p:nvPr/>
        </p:nvSpPr>
        <p:spPr>
          <a:xfrm>
            <a:off x="5867280" y="4076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: innovación de product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g indi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ntas por nuevos productos (MM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% de ventas por productos de menos de 2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ad indic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sto en proyectos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vance de proyectos de diseño de nuevos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 trabajando en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ff"/>
                </a:solidFill>
                <a:latin typeface="Arial"/>
              </a:rPr>
              <a:t>Clasificación según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Tipos más relevant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a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ficiencia Equ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Calid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AR" sz="3300" spc="-1" strike="noStrike">
                <a:solidFill>
                  <a:srgbClr val="ffff00"/>
                </a:solidFill>
                <a:latin typeface="Arial"/>
              </a:rPr>
              <a:t>Econom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23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ON DE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14200" y="15001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CO DE LA EVALU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895480" y="213372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14800" y="19810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CION DEL DESEMPEÑO LOGRADO  POR LAS INSTITU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641760" y="5500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295280" y="3429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ABORACION DE MEDIDAS DE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 ABARCAR TODO EL PROCESO DE P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04920" y="4572000"/>
            <a:ext cx="2361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362320" y="510552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181480" y="556272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193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9568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9246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781680" y="609588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562720" y="624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219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495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55627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685800" y="0"/>
            <a:ext cx="3124080" cy="55627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90720" y="3505320"/>
            <a:ext cx="2361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371600" y="220968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 – (OUTP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47920" y="533520"/>
            <a:ext cx="16761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FINAL O IMPA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OUTCO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8288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371600" y="233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25146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5800" y="4724280"/>
            <a:ext cx="2971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SUM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INPU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3429000" y="990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3505320" y="2209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3429000" y="361476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1447920" y="3962520"/>
            <a:ext cx="0" cy="50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2209680" y="4038480"/>
            <a:ext cx="0" cy="5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2971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388620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3886200" y="3048120"/>
            <a:ext cx="380880" cy="1252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2400 h 1252440"/>
              <a:gd name="textAreaBottom" fmla="*/ 122004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4267080" y="3048120"/>
            <a:ext cx="2743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on qué  rapidez lo estamos hac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anto nos c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267080" y="1752480"/>
            <a:ext cx="312444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 Cuántas uni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productos y servicios esta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d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3733920" y="46483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4038480" y="4648320"/>
            <a:ext cx="228600" cy="799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419720" y="4572000"/>
            <a:ext cx="35049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¿Cuántos recursos invertimos, cuanto personal trabajó en el proc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0" y="1566720"/>
            <a:ext cx="914400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4114800" y="380880"/>
            <a:ext cx="3429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mo están cambiando las condiciones que estamos intervini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7"/>
          <p:cNvSpPr/>
          <p:nvPr/>
        </p:nvSpPr>
        <p:spPr>
          <a:xfrm>
            <a:off x="3809880" y="4572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9072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cesos</a:t>
            </a:r>
            <a:r>
              <a:rPr b="0" i="1" lang="es-ES_tradnl" sz="2400" spc="-1" strike="noStrike">
                <a:solidFill>
                  <a:srgbClr val="80808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actividades que es necesario ejecutar para la generación y entrega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Producto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directos obtenidos de los procesos o efectos inmediatos sobre la población objetivo beneficiada; ejemplos: beneficios otorgados, cursos impartidos, urgencias atend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         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productos pueden tener que satisfacer requisitos de calidad: producida y   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percib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8080"/>
                </a:solidFill>
                <a:latin typeface="Arial"/>
              </a:rPr>
              <a:t>Resultados (impacto):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resultados esperados como propósito final de la organización; deben º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raducirse en un mejoramiento significativo, en algunos casos perdurable en el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iempo, en algunas de las condiciones o características de l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objetivo; ejemplos: aumento en el nivel de remuneraciones de una población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capacitada, mejoramiento en el nivel socio económico de familias asistidas 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técnic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DIPRES: Ámbitos de Control 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BJETIVO DEL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304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2590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7162920" y="2286000"/>
            <a:ext cx="16761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4876920" y="2362320"/>
            <a:ext cx="17524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9907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791320" y="443592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429000" y="6001200"/>
            <a:ext cx="2438280" cy="45972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066680" y="36576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2133720" y="365760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5715000" y="3733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H="1">
            <a:off x="6933960" y="365760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05740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H="1">
            <a:off x="4495680" y="495288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066680" y="1905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57150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7924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076720" y="105264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191120" y="213372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867280" y="2133720"/>
            <a:ext cx="1295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0101"/>
                </a:solidFill>
                <a:latin typeface="Arial"/>
                <a:ea typeface="Times New Roman"/>
              </a:rPr>
              <a:t>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2209680" y="1052640"/>
            <a:ext cx="2867040" cy="20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6300720" y="1125360"/>
            <a:ext cx="172728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600200" y="304812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276720" y="29718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2666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 flipH="1">
            <a:off x="4114440" y="2362320"/>
            <a:ext cx="304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5181480" y="243828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029200" y="30481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6172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553080" y="3048120"/>
            <a:ext cx="1524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37339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H="1">
            <a:off x="5486040" y="3352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666880" y="37339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NIVEL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952880" y="37339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UTI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SATISF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411480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1"/>
          <p:cNvSpPr/>
          <p:nvPr/>
        </p:nvSpPr>
        <p:spPr>
          <a:xfrm flipH="1">
            <a:off x="510516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96252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6b657"/>
                </a:solidFill>
                <a:latin typeface="Arial"/>
                <a:ea typeface="Times New Roman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-914400" y="1523880"/>
            <a:ext cx="914400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"/>
          <p:cNvSpPr/>
          <p:nvPr/>
        </p:nvSpPr>
        <p:spPr>
          <a:xfrm flipH="1">
            <a:off x="5791320" y="2421000"/>
            <a:ext cx="58104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6477120" y="24382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755640" y="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RELACIONES ENTRE EL PROCESO DE PRODUCCION DE BIENES Y SERVICIOS Y LA EFICIENCIA, EFICACIA, ECONOMIA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97920" y="589932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*) Fuente: Indicadores de Gestión para las Entidades Públicas. AECA. Madrid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Y EJEMPLOS DE INDICADORES DE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cc00"/>
                </a:solidFill>
                <a:latin typeface="Arial"/>
              </a:rPr>
              <a:t>EFICA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 el grado de cumplimiento de los objetivos y metas establecidos, a través de los productos o resultados obtenidos, sin referencia al costo de consecución de los m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 (% RESULTADO LOGRADO EXITOSAMENTE RESPECTO  REALIZADO-SOLICI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ON  (LOGRADO  RESPECTO DEL UNIVE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ERTURA  ( LOGRADO RESPECTO DE LA DEMANDA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(LOGRADO RESPECTO DEL PROBLEMA QUE SE QUIERE ATA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2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43080" y="990720"/>
            <a:ext cx="84582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be0e3"/>
                </a:solidFill>
                <a:latin typeface="Arial"/>
              </a:rPr>
              <a:t>CUADRO DE MANDO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304812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uno de los Cuadro de Mando Integral de las unidades de negocio alimenta a su vez las perspectivas del Balanced Scorecard, donde se homogeniza la información y se obtiene el resultado final o cumplimiento de metas y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457200" y="2349360"/>
          <a:ext cx="8229600" cy="30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9360"/>
                    <a:ext cx="822960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250920" y="1811160"/>
          <a:ext cx="8642160" cy="32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11160"/>
                    <a:ext cx="86421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116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4"/>
          <p:cNvGraphicFramePr/>
          <p:nvPr/>
        </p:nvGraphicFramePr>
        <p:xfrm>
          <a:off x="900000" y="2017800"/>
          <a:ext cx="7488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17800"/>
                    <a:ext cx="748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cribe la relación entre dos magnitu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roducción física de un producto (bien o servicio)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insumos o recursos que se utilizaronb para alcanzar ese nivel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yor cantidad de servicios dado el mismo nivel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canzar un determinado nivel de servicios utilizando la menor cantidad de recursos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042920" y="2060640"/>
          <a:ext cx="7696440" cy="40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69644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457200" y="1690560"/>
          <a:ext cx="82296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0560"/>
                    <a:ext cx="82296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la institución para mover adecuadamente los recurs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l cumplimiento de sus 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iciencia manej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so actual de recursos en relación a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suficiencia financiera en la capacidad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nerar ahorros y en la existencia de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677880" y="2135160"/>
          <a:ext cx="7778880" cy="39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135160"/>
                    <a:ext cx="77788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institución por responder en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istente, rápida y directa a las necesidad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In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r los atributos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ísticas de los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ones Direc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do de satisfacción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85840" y="520560"/>
          <a:ext cx="86439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20560"/>
                    <a:ext cx="86439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258920" y="1989000"/>
          <a:ext cx="70581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70581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468360" y="1700280"/>
          <a:ext cx="813600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136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826920" y="260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INDICADORES DE DESEMPEÑO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72040" y="2754360"/>
            <a:ext cx="1607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2257560" y="2971800"/>
            <a:ext cx="581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333520" y="358128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33520" y="419112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2362320" y="4876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981080" y="18288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            PRODUCTO        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2895480" y="222552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47242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6781680" y="2209680"/>
            <a:ext cx="152640" cy="3489480"/>
          </a:xfrm>
          <a:prstGeom prst="downArrow">
            <a:avLst>
              <a:gd name="adj1" fmla="val 50000"/>
              <a:gd name="adj2" fmla="val 571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19240" y="2270160"/>
            <a:ext cx="3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1332000" y="11253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AMBIT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31920" y="635652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Indicadores de Desempeño. 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z de co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Oval 30"/>
          <p:cNvSpPr/>
          <p:nvPr/>
        </p:nvSpPr>
        <p:spPr>
          <a:xfrm>
            <a:off x="6705720" y="2438280"/>
            <a:ext cx="1752480" cy="335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7010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7086600" y="3732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iempre deben exis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3"/>
          <p:cNvSpPr/>
          <p:nvPr/>
        </p:nvSpPr>
        <p:spPr>
          <a:xfrm>
            <a:off x="3200400" y="2819520"/>
            <a:ext cx="2971800" cy="29718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388620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Son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1142640"/>
            <a:ext cx="9143280" cy="5257440"/>
            <a:chOff x="0" y="1142640"/>
            <a:chExt cx="9143280" cy="5257440"/>
          </a:xfrm>
        </p:grpSpPr>
        <p:grpSp>
          <p:nvGrpSpPr>
            <p:cNvPr id="346" name="Group 3"/>
            <p:cNvGrpSpPr/>
            <p:nvPr/>
          </p:nvGrpSpPr>
          <p:grpSpPr>
            <a:xfrm>
              <a:off x="6480" y="1142640"/>
              <a:ext cx="9136800" cy="5257440"/>
              <a:chOff x="6480" y="1142640"/>
              <a:chExt cx="9136800" cy="5257440"/>
            </a:xfrm>
          </p:grpSpPr>
          <p:sp>
            <p:nvSpPr>
              <p:cNvPr id="347" name="Rectangle 4"/>
              <p:cNvSpPr/>
              <p:nvPr/>
            </p:nvSpPr>
            <p:spPr>
              <a:xfrm>
                <a:off x="6480" y="1163160"/>
                <a:ext cx="9136800" cy="523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"/>
              <p:cNvSpPr/>
              <p:nvPr/>
            </p:nvSpPr>
            <p:spPr>
              <a:xfrm>
                <a:off x="6480" y="54126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"/>
              <p:cNvSpPr/>
              <p:nvPr/>
            </p:nvSpPr>
            <p:spPr>
              <a:xfrm>
                <a:off x="6480" y="343944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"/>
              <p:cNvSpPr/>
              <p:nvPr/>
            </p:nvSpPr>
            <p:spPr>
              <a:xfrm>
                <a:off x="6480" y="44262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8"/>
              <p:cNvSpPr/>
              <p:nvPr/>
            </p:nvSpPr>
            <p:spPr>
              <a:xfrm>
                <a:off x="6480" y="2453400"/>
                <a:ext cx="9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9"/>
              <p:cNvSpPr/>
              <p:nvPr/>
            </p:nvSpPr>
            <p:spPr>
              <a:xfrm>
                <a:off x="16560" y="5488200"/>
                <a:ext cx="78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Ca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0"/>
              <p:cNvSpPr/>
              <p:nvPr/>
            </p:nvSpPr>
            <p:spPr>
              <a:xfrm>
                <a:off x="86040" y="252900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a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1"/>
              <p:cNvSpPr/>
              <p:nvPr/>
            </p:nvSpPr>
            <p:spPr>
              <a:xfrm>
                <a:off x="17280" y="3515760"/>
                <a:ext cx="9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ficien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"/>
              <p:cNvSpPr/>
              <p:nvPr/>
            </p:nvSpPr>
            <p:spPr>
              <a:xfrm>
                <a:off x="18720" y="450216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Economí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5713560" y="1315080"/>
                <a:ext cx="72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Estim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6658560" y="1315080"/>
                <a:ext cx="33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83472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6"/>
              <p:cNvSpPr/>
              <p:nvPr/>
            </p:nvSpPr>
            <p:spPr>
              <a:xfrm>
                <a:off x="4527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521100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8"/>
              <p:cNvSpPr/>
              <p:nvPr/>
            </p:nvSpPr>
            <p:spPr>
              <a:xfrm>
                <a:off x="5856840" y="18021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9"/>
              <p:cNvSpPr/>
              <p:nvPr/>
            </p:nvSpPr>
            <p:spPr>
              <a:xfrm>
                <a:off x="6672960" y="17956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20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0"/>
              <p:cNvSpPr/>
              <p:nvPr/>
            </p:nvSpPr>
            <p:spPr>
              <a:xfrm>
                <a:off x="137520" y="1346760"/>
                <a:ext cx="1276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ducto relevan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1"/>
              <p:cNvSpPr/>
              <p:nvPr/>
            </p:nvSpPr>
            <p:spPr>
              <a:xfrm>
                <a:off x="94320" y="1557000"/>
                <a:ext cx="1346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(bien y/o servicio) 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2"/>
              <p:cNvSpPr/>
              <p:nvPr/>
            </p:nvSpPr>
            <p:spPr>
              <a:xfrm>
                <a:off x="205920" y="1808640"/>
                <a:ext cx="916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e se vincu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3"/>
              <p:cNvSpPr/>
              <p:nvPr/>
            </p:nvSpPr>
            <p:spPr>
              <a:xfrm>
                <a:off x="1202040" y="1768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4"/>
              <p:cNvSpPr/>
              <p:nvPr/>
            </p:nvSpPr>
            <p:spPr>
              <a:xfrm>
                <a:off x="1656720" y="1467000"/>
                <a:ext cx="87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dicador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25"/>
              <p:cNvSpPr/>
              <p:nvPr/>
            </p:nvSpPr>
            <p:spPr>
              <a:xfrm>
                <a:off x="1667520" y="1678680"/>
                <a:ext cx="744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26"/>
              <p:cNvSpPr/>
              <p:nvPr/>
            </p:nvSpPr>
            <p:spPr>
              <a:xfrm>
                <a:off x="2826720" y="1542960"/>
                <a:ext cx="758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Fórmula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cálcu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27"/>
              <p:cNvSpPr/>
              <p:nvPr/>
            </p:nvSpPr>
            <p:spPr>
              <a:xfrm>
                <a:off x="3957120" y="131508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Información Histór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V="1">
                <a:off x="318960" y="1163160"/>
                <a:ext cx="1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4673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30"/>
              <p:cNvSpPr/>
              <p:nvPr/>
            </p:nvSpPr>
            <p:spPr>
              <a:xfrm>
                <a:off x="8397000" y="1542960"/>
                <a:ext cx="70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Medios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31"/>
              <p:cNvSpPr/>
              <p:nvPr/>
            </p:nvSpPr>
            <p:spPr>
              <a:xfrm>
                <a:off x="8370000" y="1741680"/>
                <a:ext cx="761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ver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2"/>
              <p:cNvSpPr/>
              <p:nvPr/>
            </p:nvSpPr>
            <p:spPr>
              <a:xfrm>
                <a:off x="7448400" y="1391040"/>
                <a:ext cx="73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Programa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3"/>
              <p:cNvSpPr/>
              <p:nvPr/>
            </p:nvSpPr>
            <p:spPr>
              <a:xfrm>
                <a:off x="7293600" y="1590120"/>
                <a:ext cx="1052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Subtítulo/ ítem/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4"/>
              <p:cNvSpPr/>
              <p:nvPr/>
            </p:nvSpPr>
            <p:spPr>
              <a:xfrm>
                <a:off x="7336800" y="1827000"/>
                <a:ext cx="687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asign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5"/>
              <p:cNvSpPr/>
              <p:nvPr/>
            </p:nvSpPr>
            <p:spPr>
              <a:xfrm>
                <a:off x="8102160" y="17895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36"/>
              <p:cNvSpPr/>
              <p:nvPr/>
            </p:nvSpPr>
            <p:spPr>
              <a:xfrm flipV="1">
                <a:off x="2539440" y="11534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37"/>
              <p:cNvSpPr/>
              <p:nvPr/>
            </p:nvSpPr>
            <p:spPr>
              <a:xfrm flipV="1">
                <a:off x="3676680" y="11646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38"/>
              <p:cNvSpPr/>
              <p:nvPr/>
            </p:nvSpPr>
            <p:spPr>
              <a:xfrm flipV="1">
                <a:off x="82371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V="1">
                <a:off x="7270560" y="114264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40"/>
              <p:cNvSpPr/>
              <p:nvPr/>
            </p:nvSpPr>
            <p:spPr>
              <a:xfrm flipV="1">
                <a:off x="437940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41"/>
              <p:cNvSpPr/>
              <p:nvPr/>
            </p:nvSpPr>
            <p:spPr>
              <a:xfrm flipV="1">
                <a:off x="5082480" y="1618560"/>
                <a:ext cx="0" cy="47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42"/>
              <p:cNvSpPr/>
              <p:nvPr/>
            </p:nvSpPr>
            <p:spPr>
              <a:xfrm flipV="1">
                <a:off x="648792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43"/>
              <p:cNvSpPr/>
              <p:nvPr/>
            </p:nvSpPr>
            <p:spPr>
              <a:xfrm flipV="1">
                <a:off x="5707440" y="1162800"/>
                <a:ext cx="0" cy="523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44"/>
              <p:cNvSpPr/>
              <p:nvPr/>
            </p:nvSpPr>
            <p:spPr>
              <a:xfrm>
                <a:off x="3676680" y="1618560"/>
                <a:ext cx="359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Line 45"/>
            <p:cNvSpPr/>
            <p:nvPr/>
          </p:nvSpPr>
          <p:spPr>
            <a:xfrm>
              <a:off x="6480" y="281232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6"/>
            <p:cNvSpPr/>
            <p:nvPr/>
          </p:nvSpPr>
          <p:spPr>
            <a:xfrm>
              <a:off x="9720" y="57920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7"/>
            <p:cNvSpPr/>
            <p:nvPr/>
          </p:nvSpPr>
          <p:spPr>
            <a:xfrm>
              <a:off x="0" y="48056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6480" y="3819240"/>
              <a:ext cx="14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49"/>
          <p:cNvSpPr/>
          <p:nvPr/>
        </p:nvSpPr>
        <p:spPr>
          <a:xfrm>
            <a:off x="971640" y="333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ATRIZ DE INDICADORES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0"/>
          <p:cNvSpPr/>
          <p:nvPr/>
        </p:nvSpPr>
        <p:spPr>
          <a:xfrm>
            <a:off x="376560" y="652140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*)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Indicadores de Desempeño. www.dipres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1700280"/>
            <a:ext cx="7467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, predictivos o inductores de una actuación (lead indicators)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buscan medir el progreso alcanzado en la forma cómo las actividades deben ser desarroll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Si los indicadores de resultados intentan reflejar el QUE resultados esperar para el éxito, los indicadores de tendencia buscan medir el COM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son fundamentales para el control de los recursos empleados, los procesos operados, y los productos obteni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os indicadores de tendencia constituyen un instrumento imprescindible para la evaluación del desempeño de la organización en un área, respecto de un atributo, o en un ámbito, definido como clave o determinante del éxito de la organización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La principal </a:t>
            </a:r>
            <a:r>
              <a:rPr b="1" i="1" lang="es-ES_tradnl" sz="1400" spc="-1" strike="noStrike">
                <a:solidFill>
                  <a:srgbClr val="808080"/>
                </a:solidFill>
                <a:latin typeface="Arial"/>
              </a:rPr>
              <a:t>limitación de los indicadores de tendencia</a:t>
            </a:r>
            <a:r>
              <a:rPr b="0" i="1" lang="es-ES_tradnl" sz="1400" spc="-1" strike="noStrike">
                <a:solidFill>
                  <a:srgbClr val="808080"/>
                </a:solidFill>
                <a:latin typeface="Arial"/>
              </a:rPr>
              <a:t> dice relación con que no proporcionan información que permita deducir o establecer con facilidad el impacto de las acciones inducidas sobre los objetivos o resultados finales esper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11280" y="260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dicadores de T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imizar los recursos necesarios (financieros, humanos, físicos) para suministrar los bienes y servicios reque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visibilidad a las actividades y criterios de decisión involucrados en el abastecimiento, facilitando el control y el acceso a los 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horro o compr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tisfacer las necesidades de oportunidad y requerimientos técnicos de los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cionalizar el uso de recursos al interior de la instit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042920" y="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dicadores de uso frecuente para evaluar la gestión de abast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uración de los invent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es el número de días en que se consumiría los stocks disponibles de un material a los niveles de consumo promedi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Quiebres de inventari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frecuencia de casos en que una institución se queda sin inventario de un material que se mantiene en bod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ciclo de compr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que este es recibido en bod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empo de despacho de la orden de compr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tiempo que transcurre entre que se solicita la compra de un material y se despacha al proveedor la orden de compra respectiva.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stado de indicadore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peticiones de oferta envia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proveedores a los cuales se envía una petición de oferta para los procesos de cotización (para la operación en ChileCompra, corresponde al número de proveedores que son notificados de las cotizaciones vía e-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ntidad de ofertas recibi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 al número de ofertas o cotizaciones recibidas en un proceso de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satisfacción de usuari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calificación de la calidad de servicio percibida por los clientes internos del área de adquisiciones, normalmente considera distint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evaluación de proveedor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 corresponden a una evaluación de la calidad de servicio entregada por los proveedores. Normalmente se asocia a una clasificación de los provee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. ¿Qué es un indicador de gestió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oper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TRUMENTOS DE MEDICION QUE PERMITE SINTETIZAR LA DETERMINACION DE COMO  UNA  ORGANIZACION ESTA ALCANZANDO SUS OBJETIVOS Y MET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762120" y="1352520"/>
            <a:ext cx="7619760" cy="52974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lación de indicadores con objetivos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a incorporación de enfoque de género en la gestión pública obedece 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la necesidad del Estado d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valuar los efectos diferenciados de sus productos (bienes y servicios) para mujeres y homb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presenta un avance para el mejoramiento de la gestión del Estado por cuan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eleva la eficacia de los programas relacionados con las actuales prioridades púb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 pued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ahoma"/>
              </a:rPr>
              <a:t>preveer y evitar que se produzcan efectos negativos sobre las condiciones de vida y bienestar, o sobre la posición de las mujeres y los homb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en nuestra socie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ww.dip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Los resultados del producto ¿muestran efectos negativos diferenci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para hombres y mujer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ahoma"/>
              </a:rPr>
              <a:t>Ejemplos de efect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 la carga de trabajo, deterioro de la salud personal, restricción de oportun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Incremento del aislamiento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Rigidez y reproducción de roles tradicionales para mujeres y hom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Ningún o escaso acceso al ingreso o a los productos del servicio o instit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l acceso a bienes materiales, a nuevas fuentes energéticas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productivas, a los servicios, o a las instituciones 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Disminución de la autoridad en los ámbitos de poder o tareas tradi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Exclusión de los beneficios del producto en grupos específicos de mujeres (grupos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mujeres de menores ingresos por ejemp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 de los beneficios en lo grupos de hombres, e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7772400" cy="2073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dicadores con enfoque de gé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15192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4"/>
          <p:cNvSpPr/>
          <p:nvPr/>
        </p:nvSpPr>
        <p:spPr>
          <a:xfrm>
            <a:off x="1130760" y="5442120"/>
            <a:ext cx="59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uente: Balance de Gestión Integral. Servicio Nacional de Capacitación y Em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925040" cy="286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olución de la Tasa de Mortalidad Infantil, 1970-2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1066680" y="1828800"/>
          <a:ext cx="674388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7438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indicador en el contexto del ciclo de control de 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9"/>
          <p:cNvCxnSpPr>
            <a:stCxn id="91" idx="4"/>
            <a:endCxn id="94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6037200" y="285264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IA DE LOS INDIC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02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odo lo que se m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todo aquello que se contr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Y lo que se admini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 mejor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1:22:21Z</dcterms:created>
  <dc:creator>.</dc:creator>
  <dc:description/>
  <dc:language>en-US</dc:language>
  <cp:lastModifiedBy>Ivan Braga</cp:lastModifiedBy>
  <dcterms:modified xsi:type="dcterms:W3CDTF">2009-07-22T22:08:59Z</dcterms:modified>
  <cp:revision>14</cp:revision>
  <dc:subject/>
  <dc:title>Diapositiva 1</dc:title>
</cp:coreProperties>
</file>