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279-55FD-4420-93E5-B7CB85B4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31E-ACD7-4488-9C97-F23EF13D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FCD-3FDC-4DF4-99B6-EA1769EA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934-DB83-414F-A0ED-131E4670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E13-FEF7-4FD8-B8EC-CC2CC7FC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F42-74C8-4143-93CB-F93EC017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C54-8CF6-4064-922B-DCADDD31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7AA-F42A-43F0-9519-B32D1FFA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5B4-A582-4F18-ACF6-94ECC8A0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23C-1E47-49EF-964A-30989548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53B-3B91-4D6A-88FC-1F628231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70D-8513-4AEC-9065-C1B37B97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817D-CD1C-4F2E-BF25-514C7F09D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nálisis de cas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SC del proyecto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hilecomp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perspectiva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3250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Formación y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 BSC 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70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de Chilecomp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88200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s de análisis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daptación al modelo clásico de B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apa estratégico Chile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604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692280"/>
            <a:ext cx="76107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arentar y crear valor en el mercado de las compras públicas, a través de la introducción de instrumentos tecnológicos y de gestión de excel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 para objetivos de aho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9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blero de indicadores plant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6247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perspectiva del d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4978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cliente comp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9520"/>
            <a:ext cx="89647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cliente prov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21:46:55Z</dcterms:created>
  <dc:creator>.</dc:creator>
  <dc:description/>
  <dc:language>en-US</dc:language>
  <cp:lastModifiedBy>.</cp:lastModifiedBy>
  <dcterms:modified xsi:type="dcterms:W3CDTF">2008-07-24T21:57:49Z</dcterms:modified>
  <cp:revision>2</cp:revision>
  <dc:subject/>
  <dc:title>Análisis de caso BSC del proyecto  Chilecompra</dc:title>
</cp:coreProperties>
</file>