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9985-33DD-4FD5-A778-6B31641A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3B9-184A-4EC9-AC85-1D3F8A3A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48C-0F10-426D-8288-E5CCDF28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F51-5922-4F38-98DD-327D167E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AAA-DFA7-459C-8FF0-74CC5D87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D92-126C-4E22-A829-B60F5E40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0C6-40EC-4C05-917E-B82BC5DD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02F-C1F0-45FC-BAF9-5771EF92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09A-E674-432C-8AB8-57AF0986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4CA0-9B4C-48A3-889C-FFA9DD62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2FF-98D3-4B1C-AB7E-B0BB2961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AA2-99FB-48D6-8B5C-F47D9C34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C501-AF48-4AC9-B4D2-14B9DB236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nálisis de cas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BSC del proyecto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hilecomp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perspectiva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3250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Formación y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valuación BSC 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70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de Chilecomp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88200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erspectivas de análisis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daptación al modelo clásico de B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apa estratégico Chile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6045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692280"/>
            <a:ext cx="76107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arentar y crear valor en el mercado de las compras públicas, a través de la introducción de instrumentos tecnológicos y de gestión de excel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o para objetivos de aho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392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blero de indicadores plante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6247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perspectiva del du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4978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cliente comp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279520"/>
            <a:ext cx="89647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 de indicadores cliente prov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21:46:55Z</dcterms:created>
  <dc:creator>.</dc:creator>
  <dc:description/>
  <dc:language>en-US</dc:language>
  <cp:lastModifiedBy>.</cp:lastModifiedBy>
  <dcterms:modified xsi:type="dcterms:W3CDTF">2008-07-24T21:57:49Z</dcterms:modified>
  <cp:revision>2</cp:revision>
  <dc:subject/>
  <dc:title>Análisis de caso BSC del proyecto  Chilecompra</dc:title>
</cp:coreProperties>
</file>