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DC13-985F-4471-8D9F-B4A5171B2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EDEE-EB32-4E27-93C7-F24041D5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69BB-D17B-4BD6-8432-D8895ADF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B047-7883-41DC-94DF-FD6666797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08E7-8732-4FD0-92A8-542E8BCF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A180-77D8-44CC-BC24-D9570D43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09EC-9F2D-4CBB-8044-3CDC4925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497B-40FF-47F8-8A40-FEE23E92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830C-374D-4572-8885-3DC709BF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29A5-C27D-42A0-8C18-6ABFD0EF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22E2-470A-435E-BF21-D982A3B6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F59D-EBB7-4D48-9D77-6810CDCA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BF9C-66C1-4485-B17A-33ECBF6F6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nálisis de caso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BSC del proyecto 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hilecomp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 de indicadores perspectiva de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32508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 de indicadores Formación y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832040"/>
            <a:ext cx="9144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valuación BSC 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770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odelo de Chilecomp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434960"/>
            <a:ext cx="882000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erspectivas de análisis</a:t>
            </a:r>
            <a:br>
              <a:rPr sz="3600"/>
            </a:b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Adaptación al modelo clásico de BS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96472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apa estratégico Chile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812880"/>
            <a:ext cx="9144000" cy="6045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692280"/>
            <a:ext cx="7610760" cy="72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parentar y crear valor en el mercado de las compras públicas, a través de la introducción de instrumentos tecnológicos y de gestión de excel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eño para objetivos de ahor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6392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ablero de indicadores plante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662472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 de indicadores perspectiva del du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49780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 de indicadores cliente compr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2279520"/>
            <a:ext cx="896472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 de indicadores cliente provee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967040"/>
            <a:ext cx="91440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4T21:46:55Z</dcterms:created>
  <dc:creator>.</dc:creator>
  <dc:description/>
  <dc:language>en-US</dc:language>
  <cp:lastModifiedBy>.</cp:lastModifiedBy>
  <dcterms:modified xsi:type="dcterms:W3CDTF">2008-07-24T21:57:49Z</dcterms:modified>
  <cp:revision>2</cp:revision>
  <dc:subject/>
  <dc:title>Análisis de caso BSC del proyecto  Chilecompra</dc:title>
</cp:coreProperties>
</file>