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831-5D32-4880-B1AB-6487F447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410-F76C-41BE-AA34-88759F02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960-58E8-4EEE-A63B-A0B4D25F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D86-097E-435B-8290-66477FFC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5AE6-D03E-4468-BB49-926617A6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169C-5767-4281-B786-E9F1F5F6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B5F3-2AF8-4758-A286-DAA0D2D0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BADB-3313-4D11-82D4-2E08D25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45F7-FE39-4C72-8C71-39BD336A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9CA2-5582-4443-A2C9-54F8ACD6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FFB8-D28C-461C-B129-3096D0A9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407-31F1-4B42-AC78-243870B4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1113-D4BC-4A99-82FB-0A3795C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D5F6-A8C8-43E0-9740-CD5DA0D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B467-720C-41C1-8A37-6A72DC7F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303D-F54C-4F9E-B329-2EAF0201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8CDE-3475-402B-8C12-26320305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61F-C988-4235-BC89-F47DDE04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FCC-6F82-4D6D-BA02-43BB2872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863-CF84-4B5A-879E-611213F5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30A-AF16-4C91-AFE6-986CB5DE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8A4-2979-4F04-8D98-363505B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109-4F7C-48CC-874E-DA5AA37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503-904F-432E-A943-5561967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0550-8BA7-46CA-BA51-CC0239C0BF4B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BFFA-C8C9-4381-8123-DBABC0C1BD2D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0066"/>
                </a:solidFill>
                <a:latin typeface="Arial"/>
              </a:rPr>
              <a:t>El Balanced Scorec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o Fábrica de 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Fabrica de Muebles MES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fabrica de muebles MESA es una empresa mediana dedicada a la fabricación de muebles de dos tip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ebles de oficina, con orientación a líneas estándar masivas y bajo costo, que se comercializa en forma direc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ebles para el hogar, con orientación a segmento masivo, comercializando a través de grandes tiendas y otros intermedi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Diagnóst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consultores ‘WOOD INC’ han hecho un diagnóstico de la empresa cuyos resultados se resumen 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empresa enfrenta problemas financieros, que se manifiestan en el bajo retorno sobre el capital invertido que muestra la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nálisis apuntan a que este síntoma evidencia dos efectos centrales en la empre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Bajos beneficios netos de oper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querimiento de capital superior al neces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l problema del beneficio neto se debe según los análisis realizados 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Nivel de ventas creciendo muy lentame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Nivel de costos alto, especialmente a nivel del proceso productivo y la compra de materias prim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 su vez el problema de las ventas, se asocia según los análisis 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ta rotación de clientes empres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ductos maduros iniciando etapa decreciente, especialmente en la linea hog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blemas en la entrega a 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ficiencias en el servicio post – ven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otra parte el problema en costos se debería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cesos ineficientes en la línea de produc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ción deficiente de los oper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blemas de motivación de los oper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áquinas antiguas en la línea hog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mpras mal gestion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su vez el alto requerimiento de capital de la empresa se puede explicar por el alto nivel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de trabajo requerido para op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os fijos uti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o que se refiere a capital de trabajo se ha detecta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o niveles de inventario en la línea de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o nivel de Cx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a gestión en la bodega de productos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nivel de activo fijo, la empresa prese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espacio físico en forma in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os obsoletos que no se utilizan produc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ota propia subutilizada para distribución y entre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rcicio</a:t>
            </a: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aso Fábrica de Mue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 requiere mejorar el retorno de la empresa, estructurando una línea de acción que permita a la empresa revertir su situación actual, para ello se requiere que Us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alice un mapa estratégico para la empr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ncione los principales indicadores en cada ámb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eñe un BSC básico para la empr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25T20:21:44Z</dcterms:modified>
  <cp:revision>128</cp:revision>
  <dc:subject/>
  <dc:title>Sin título de diapositiva</dc:title>
</cp:coreProperties>
</file>