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FB7-5519-479A-9E58-25B083ED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8DC-D122-42E9-87E1-39C22CB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1AD-F1A8-4AB2-81CF-1DDAC652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631-7F75-456E-960A-299D96CF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05BF-B712-4599-9E6E-8B7FC8D9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8CA9-31E6-45DE-88EC-7D620718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4B6A-99F8-419A-8080-EBA4664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21F4-27F5-48F8-8ABE-7A6CFB9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A4E1-044E-409C-9943-4822F7B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671E-8672-4A68-B668-784821B4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F87-69D1-4760-A5FE-6947682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724-CC04-47D0-8F35-D866CF03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F552-FE91-4E8B-B23A-904F1CB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449-D08A-4E67-B2A2-B1D3A82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75C-DDA7-483E-BC22-30CDB95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BDBE-50E1-46F3-9A81-DF6A524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8A78-7604-4085-A311-5ADDEB93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7DF-25AE-4AFE-A8E9-8D699B2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ECC-3E6A-4A74-9221-2CAB4CD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639-B5DA-4A5C-B0EA-DC724185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5ED-3FAB-41E6-B90B-003CE08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9D9-4FA5-4104-B8E6-0EC0C70C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D62-266E-4842-8960-004178D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9EA-B794-48D8-9128-EB30CD5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86EE-284A-403D-9080-434BBE46550D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F63-5BEE-4A60-8A3A-1885C01A36B9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 Fábrica de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Fabrica de Muebles MES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fabrica de muebles MESA es una empresa mediana dedicada a la fabricación de muebles de dos tip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de oficina, con orientación a líneas estándar masivas y bajo costo, que se comercializa en forma dir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ebles para el hogar, con orientación a segmento masivo, comercializando a través de grandes tiendas y otros intermedi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Diagnóst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consultores ‘WOOD INC’ han hecho un diagnóstico de la empresa cuyos resultados se resumen 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empresa enfrenta problemas financieros, que se manifiestan en el bajo retorno sobre el capital invertido que muestra la empr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análisis apuntan a que este síntoma evidencia dos efectos centrales en la empre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Bajos beneficios netos de oper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querimiento de capital superior al neces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problema del beneficio neto se debe según los análisis realizado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ventas creciendo muy lentame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Nivel de costos alto, especialmente a nivel del proceso productivo y la compra de materias prim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 su vez el problema de las ventas, se asocia según los análisis 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ta rotación de clientes empres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ductos maduros iniciando etapa decreciente, especialmente en la linea hog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en la entrega a 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ciencias en el servicio post – ven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otra parte el problema en costos se deberí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cesos ineficientes en la línea de produc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ción deficiente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oblemas de motivación de los oper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áquinas antiguas en la línea hog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mpras mal gestion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su vez el alto requerimiento de capital de la empresa se puede explicar por el alto nivel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de trabajo requerido para op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fijos uti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lo que se refiere a capital de trabajo se ha detecta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es de inventario en la línea de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o nivel de Cx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a gestión en la bodega de productos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nivel de activo fijo, la empresa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espacio físico en forma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os obsoletos que no se utilizan productiv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ota propia subutilizada para distribución y entre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rcicio</a:t>
            </a: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aso Fábrica de Mue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requiere mejorar el retorno de la empresa, estructurando una línea de acción que permita a la empresa revertir su situación actual, para ello se requiere que Us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alice un mapa estratég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ncione los principales indicadores en cada ámb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eñe un BSC básico para la empr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25T20:21:44Z</dcterms:modified>
  <cp:revision>128</cp:revision>
  <dc:subject/>
  <dc:title>Sin título de diapositiva</dc:title>
</cp:coreProperties>
</file>