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EA1-105C-46FF-B88B-3143AD20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896-5FDF-462F-A233-1A678EA9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EF0-D102-4FEE-8892-CCC48AFE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6D7-A9AF-415B-97EB-36F5B470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2FE5-F3C3-4BB8-A209-62DF8273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418-8883-4F8A-AAF3-06993C4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347A-42C9-493E-B8B6-36FDB70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6CE3-9958-4824-91A0-699C9C6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1A19-B943-4B95-BA4E-659D005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5F82-8A6F-42A1-8E0D-CB5FB08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A0A0-7500-40C3-879A-97DE589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FB-E769-4AAF-B2A3-ED51198A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F274-BD10-4FDB-A5B1-AFF68265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318E-3AFF-48AF-9D19-4E65A26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81BE-82EA-4D7E-900C-4267355A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7810-38F1-472F-9FC2-737BF99B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555-435C-4DCF-9469-4CE4096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22F-095E-478D-A8E9-A700FA07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4E5-0B73-47A8-8005-0CBD3493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C98-0E67-468F-A418-736BB4E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33F-B32F-42F9-85A3-C8BAD56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539-1700-43D8-9D81-56EA537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4CF-2673-4E28-9E2A-6F80116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FD2-ECC9-4F0C-BBEA-3018A563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7E36-E76F-4789-8B20-27E1E651C9A0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6704-44D0-4F88-9DC3-6A12180A6C76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 Fábrica de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Fabrica de Muebles MES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fabrica de muebles MESA es una empresa mediana dedicada a la fabricación de muebles de dos tip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de oficina, con orientación a líneas estándar masivas y bajo costo, que se comercializa en forma dir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para el hogar, con orientación a segmento masivo, comercializando a través de grandes tiendas y otros intermedi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Diagnóst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consultores ‘WOOD INC’ han hecho un diagnóstico de la empresa cuyos resultados se resumen 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empresa enfrenta problemas financieros, que se manifiestan en el bajo retorno sobre el capital invertido que muestra la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nálisis apuntan a que este síntoma evidencia dos efectos centrales en la empre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ajos beneficios netos de oper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querimiento de capital superior al neces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problema del beneficio neto se debe según los análisis realizado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ventas creciendo muy lentam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costos alto, especialmente a nivel del proceso productivo y la compra de materias prim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 su vez el problema de las ventas, se asocia según los análisi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ta rotación de clientes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ductos maduros iniciando etapa decreciente, especialmente en la linea hog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en la entrega a 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ciencias en el servicio post – ven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otra parte el problema en costos se deberí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cesos ineficientes en la línea de produc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ción deficiente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de motivación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áquinas antiguas en la línea hog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mpras mal gestion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su vez el alto requerimiento de capital de la empresa se puede explicar por el alto nivel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de trabajo requerido para op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fijos uti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o que se refiere a capital de trabajo se ha detecta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es de inventario en la línea de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 de Cx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a gestión en la bodega de productos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nivel de activo fijo, la empresa pres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espacio físico en forma in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obsoletos que no se utilizan produc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ota propia subutilizada para distribución y entr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rcicio</a:t>
            </a: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aso Fábrica de Mue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requiere mejorar el retorno de la empresa, estructurando una línea de acción que permita a la empresa revertir su situación actual, para ello se requiere que Us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alice un mapa estratég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ncione los principales indicadores en cada ámb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eñe un BSC bás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25T20:21:44Z</dcterms:modified>
  <cp:revision>128</cp:revision>
  <dc:subject/>
  <dc:title>Sin título de diapositiva</dc:title>
</cp:coreProperties>
</file>