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AA1-C21B-498E-89C3-22BFCF94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605-ADBB-42D5-A7AB-960A9FE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038-3C9C-41DF-B6F4-CCAE194F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336-3FD0-4A99-8212-BA99CF5C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585-7F71-4CC9-928A-CE7B321F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A341-6855-443A-BD44-6D132D2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EC9-51E8-48CF-AEBD-A80339CE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17C-7476-4179-9CC2-A1F7A6E3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080-06F6-4939-9A4E-190F80B2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2FB-B838-4518-8BF3-DFF2E32E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61A3-5606-4638-AD1A-2179F52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9A0-A650-4686-B40F-0806FB3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2C2-65D9-4D0C-AA5B-AF6F667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222-13BC-4CA2-849C-19880DE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B4E0-CB8E-4500-AADA-5C80B77C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857-13B0-4E97-AF65-C81B88B3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D3D9-1519-4237-9473-CDBDCEA6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7E6-9CD4-46B0-9987-7AC02A5B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201-C00A-4459-AC43-9CFC04AE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157-FA37-4775-81DB-E866DE71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81F-77EE-4E5F-99CB-0AC75F39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1C3-6315-44C5-B4DA-AD60285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F49-64F2-4192-9743-B3A9725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52A-3119-4E1C-A9BE-5C744DF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7793-3861-48C8-A151-EB8479819092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90AF-2276-48FF-82F4-940A60853342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s y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19978" t="13867" r="18212" b="801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20561" t="14838" r="18795" b="24613"/>
          <a:stretch/>
        </p:blipFill>
        <p:spPr>
          <a:xfrm>
            <a:off x="179280" y="1413000"/>
            <a:ext cx="85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4093" t="13867" r="21144" b="16796"/>
          <a:stretch/>
        </p:blipFill>
        <p:spPr>
          <a:xfrm>
            <a:off x="900000" y="692280"/>
            <a:ext cx="763272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2530" t="20824" r="16446" b="702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826920" y="549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41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436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86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. Hab. Emple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jorar sist. in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ollar nuevos produ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ptimizar los proc. Prod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Flujo continuo de sol.atr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ntregas ráp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utilida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Reducción de cost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vol. De vent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47"/>
          <p:cNvSpPr/>
          <p:nvPr/>
        </p:nvSpPr>
        <p:spPr>
          <a:xfrm rot="11061600">
            <a:off x="685800" y="5181480"/>
            <a:ext cx="457200" cy="91440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203040" y="4419720"/>
            <a:ext cx="1549440" cy="76176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165240" y="3581280"/>
            <a:ext cx="1511280" cy="83844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1752480" y="3124080"/>
            <a:ext cx="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1"/>
          <p:cNvSpPr/>
          <p:nvPr/>
        </p:nvSpPr>
        <p:spPr>
          <a:xfrm>
            <a:off x="3200400" y="3352680"/>
            <a:ext cx="698400" cy="190512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2"/>
          <p:cNvSpPr/>
          <p:nvPr/>
        </p:nvSpPr>
        <p:spPr>
          <a:xfrm flipV="1">
            <a:off x="1295280" y="3123720"/>
            <a:ext cx="38124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3"/>
          <p:cNvSpPr/>
          <p:nvPr/>
        </p:nvSpPr>
        <p:spPr>
          <a:xfrm>
            <a:off x="3124080" y="4952880"/>
            <a:ext cx="622440" cy="99072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4"/>
          <p:cNvSpPr/>
          <p:nvPr/>
        </p:nvSpPr>
        <p:spPr>
          <a:xfrm>
            <a:off x="3200400" y="4191120"/>
            <a:ext cx="457200" cy="76176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5"/>
          <p:cNvSpPr/>
          <p:nvPr/>
        </p:nvSpPr>
        <p:spPr>
          <a:xfrm>
            <a:off x="3200400" y="3581280"/>
            <a:ext cx="304920" cy="60984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6"/>
          <p:cNvSpPr/>
          <p:nvPr/>
        </p:nvSpPr>
        <p:spPr>
          <a:xfrm flipV="1">
            <a:off x="1371600" y="3200040"/>
            <a:ext cx="30492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7"/>
          <p:cNvGrpSpPr/>
          <p:nvPr/>
        </p:nvGrpSpPr>
        <p:grpSpPr>
          <a:xfrm>
            <a:off x="3200400" y="4572000"/>
            <a:ext cx="5105520" cy="733320"/>
            <a:chOff x="3200400" y="4572000"/>
            <a:chExt cx="5105520" cy="733320"/>
          </a:xfrm>
        </p:grpSpPr>
        <p:sp>
          <p:nvSpPr>
            <p:cNvPr id="340" name="Text Box 58"/>
            <p:cNvSpPr/>
            <p:nvPr/>
          </p:nvSpPr>
          <p:spPr>
            <a:xfrm>
              <a:off x="3322440" y="4572000"/>
              <a:ext cx="144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Ingresos por nue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ductos (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po de 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de nuevos pr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 flipV="1">
              <a:off x="3200400" y="48002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3200400" y="4952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1"/>
            <p:cNvSpPr/>
            <p:nvPr/>
          </p:nvSpPr>
          <p:spPr>
            <a:xfrm>
              <a:off x="4800600" y="463248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90 día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/d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762120"/>
            <a:ext cx="19810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52480" y="1371600"/>
            <a:ext cx="6858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9381" t="13867" r="17032" b="8979"/>
          <a:stretch/>
        </p:blipFill>
        <p:spPr>
          <a:xfrm>
            <a:off x="324000" y="0"/>
            <a:ext cx="8820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39760" y="5638680"/>
            <a:ext cx="14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izaje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68360" y="515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3400" y="42670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" y="3962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8880" y="297180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380880" y="23623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08880" y="990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692360" y="981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recimiento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versificación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998240" y="12682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ener los costos contro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035880" y="53352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ecimient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68360" y="659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0" idx="1"/>
            <a:endCxn id="363" idx="1"/>
          </p:cNvCxnSpPr>
          <p:nvPr/>
        </p:nvCxnSpPr>
        <p:spPr>
          <a:xfrm flipH="1" rot="10800000">
            <a:off x="1692360" y="731160"/>
            <a:ext cx="1356120" cy="845280"/>
          </a:xfrm>
          <a:prstGeom prst="curvedConnector5">
            <a:avLst>
              <a:gd name="adj1" fmla="val -16861"/>
              <a:gd name="adj2" fmla="val 49978"/>
              <a:gd name="adj3" fmla="val -16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19"/>
          <p:cNvCxnSpPr>
            <a:stCxn id="362" idx="3"/>
            <a:endCxn id="363" idx="3"/>
          </p:cNvCxnSpPr>
          <p:nvPr/>
        </p:nvCxnSpPr>
        <p:spPr>
          <a:xfrm flipH="1" flipV="1">
            <a:off x="6767640" y="731160"/>
            <a:ext cx="2132280" cy="857880"/>
          </a:xfrm>
          <a:prstGeom prst="curvedConnector5">
            <a:avLst>
              <a:gd name="adj1" fmla="val -10722"/>
              <a:gd name="adj2" fmla="val 50000"/>
              <a:gd name="adj3" fmla="val -10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Text Box 20"/>
          <p:cNvSpPr/>
          <p:nvPr/>
        </p:nvSpPr>
        <p:spPr>
          <a:xfrm>
            <a:off x="169236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idad          Precios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Entrega en tiemp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Imag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ientes               y form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1765800" y="4076640"/>
            <a:ext cx="68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timizar 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 how a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2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r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u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vés innov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/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13040" y="5445000"/>
            <a:ext cx="69228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vertir e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omentar cultura: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5)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tegr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favorezca innov.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    Departa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compromiso c/cl               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resultados satis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692360" y="2565360"/>
            <a:ext cx="7200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H="1" flipV="1">
            <a:off x="3995280" y="2060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H="1" flipV="1">
            <a:off x="4211280" y="134136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226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2268360" y="3429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5724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 flipV="1">
            <a:off x="802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0"/>
          <p:cNvSpPr/>
          <p:nvPr/>
        </p:nvSpPr>
        <p:spPr>
          <a:xfrm>
            <a:off x="4067280" y="5013360"/>
            <a:ext cx="266544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1"/>
          <p:cNvSpPr/>
          <p:nvPr/>
        </p:nvSpPr>
        <p:spPr>
          <a:xfrm>
            <a:off x="2046960" y="79200"/>
            <a:ext cx="58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del Balanced Scorecard del nego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400" y="544500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 Cr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37372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640" y="3645000"/>
            <a:ext cx="9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0" y="3645000"/>
            <a:ext cx="884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320" y="2133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0" y="206064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320" y="62064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804200" y="105264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vilegiar el reclutami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_tradnl" sz="1800" spc="-1" strike="noStrike">
                <a:solidFill>
                  <a:srgbClr val="669999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1727640" y="189000"/>
            <a:ext cx="65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 Balanced Scorecard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V="1">
            <a:off x="0" y="609120"/>
            <a:ext cx="8763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6"/>
          <p:cNvSpPr/>
          <p:nvPr/>
        </p:nvSpPr>
        <p:spPr>
          <a:xfrm>
            <a:off x="0" y="6597720"/>
            <a:ext cx="877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1197000"/>
            <a:ext cx="16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ntener los costos controlados  </a:t>
            </a:r>
            <a:r>
              <a:rPr b="0" lang="es-ES_tradnl" sz="1400" spc="-1" strike="noStrike">
                <a:solidFill>
                  <a:srgbClr val="0000cc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623240" y="213372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te Gene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vorecer             Person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n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                  productivo            carr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493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951600" y="386064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 im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arial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438160" y="393372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782520" y="393372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624320" y="3716280"/>
            <a:ext cx="20156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lutar 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écnico espec.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avorecer comu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ráre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,3,5,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Impl. Com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gerenci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7096320" y="55166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r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 flipV="1">
            <a:off x="7740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0" y="42451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.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. Proce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7"/>
          <p:cNvSpPr/>
          <p:nvPr/>
        </p:nvSpPr>
        <p:spPr>
          <a:xfrm>
            <a:off x="106200" y="5684760"/>
            <a:ext cx="155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.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ltura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gr.dpto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12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 flipV="1">
            <a:off x="421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0"/>
          <p:cNvSpPr/>
          <p:nvPr/>
        </p:nvSpPr>
        <p:spPr>
          <a:xfrm flipV="1">
            <a:off x="5940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1"/>
          <p:cNvSpPr/>
          <p:nvPr/>
        </p:nvSpPr>
        <p:spPr>
          <a:xfrm flipV="1">
            <a:off x="774072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>
            <a:off x="4211640" y="249228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>
            <a:off x="4067280" y="2133720"/>
            <a:ext cx="4248000" cy="501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2268360" y="220500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66920" y="4869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>
            <a:off x="2268360" y="335772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4932360" y="4943520"/>
            <a:ext cx="1871640" cy="574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5578560" y="3763800"/>
            <a:ext cx="165744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>
            <a:off x="3274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692360" y="2708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480320" y="508644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0760" y="3763800"/>
            <a:ext cx="1395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Garantizar 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mpetencias Cla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l perso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003640" y="4937040"/>
            <a:ext cx="17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librio Financi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3924360" y="3719520"/>
            <a:ext cx="1511280" cy="693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997440" y="3763800"/>
            <a:ext cx="136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otivar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inear el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764360" y="33336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pa Estratégico de un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076720" y="5805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511960" y="573408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aj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3419640" y="5827680"/>
            <a:ext cx="158400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63528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6732720" y="582768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694836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4211640" y="5373360"/>
            <a:ext cx="86508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 flipH="1" flipV="1">
            <a:off x="6732720" y="5373360"/>
            <a:ext cx="100800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5867280" y="5518080"/>
            <a:ext cx="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2268360" y="3692520"/>
            <a:ext cx="158436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413080" y="3740040"/>
            <a:ext cx="134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ontribuir a garantiz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a disponibilidad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7508160" y="39322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las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3419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rantizar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 y de servic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nuestr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8"/>
          <p:cNvSpPr/>
          <p:nvPr/>
        </p:nvSpPr>
        <p:spPr>
          <a:xfrm>
            <a:off x="5506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5651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el uso de los recursos de l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4500720" y="1197000"/>
            <a:ext cx="158400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4717080" y="1244520"/>
            <a:ext cx="11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Satisfacer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ecesida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uestro 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4282920" y="1773360"/>
            <a:ext cx="50508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3"/>
          <p:cNvSpPr/>
          <p:nvPr/>
        </p:nvSpPr>
        <p:spPr>
          <a:xfrm flipH="1" flipV="1">
            <a:off x="5795640" y="1773360"/>
            <a:ext cx="64764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4"/>
          <p:cNvSpPr/>
          <p:nvPr/>
        </p:nvSpPr>
        <p:spPr>
          <a:xfrm>
            <a:off x="3635280" y="4508640"/>
            <a:ext cx="57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7236000" y="4508640"/>
            <a:ext cx="576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6"/>
          <p:cNvSpPr/>
          <p:nvPr/>
        </p:nvSpPr>
        <p:spPr>
          <a:xfrm>
            <a:off x="7380360" y="3763800"/>
            <a:ext cx="158436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1599120" y="133992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munidad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056240" y="365292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quis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sencial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Y 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012000" y="3141360"/>
            <a:ext cx="36036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"/>
          <p:cNvSpPr/>
          <p:nvPr/>
        </p:nvSpPr>
        <p:spPr>
          <a:xfrm flipH="1" flipV="1">
            <a:off x="7092720" y="3068640"/>
            <a:ext cx="863640" cy="649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2987640" y="3068280"/>
            <a:ext cx="72072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2"/>
          <p:cNvSpPr/>
          <p:nvPr/>
        </p:nvSpPr>
        <p:spPr>
          <a:xfrm flipH="1" flipV="1">
            <a:off x="4284360" y="3141720"/>
            <a:ext cx="43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240" y="836280"/>
            <a:ext cx="76201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pa Estratégico de una Empre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1619280" y="5445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619280" y="436572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1619280" y="306864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3492360" y="4437000"/>
            <a:ext cx="288000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3132000" y="3284640"/>
            <a:ext cx="1656000" cy="649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5075280" y="3573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0"/>
          <p:cNvSpPr/>
          <p:nvPr/>
        </p:nvSpPr>
        <p:spPr>
          <a:xfrm>
            <a:off x="1979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"/>
          <p:cNvSpPr/>
          <p:nvPr/>
        </p:nvSpPr>
        <p:spPr>
          <a:xfrm>
            <a:off x="4211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3564000" y="5659560"/>
            <a:ext cx="287964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4103640" y="1341360"/>
            <a:ext cx="1584360" cy="3589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197440" y="2324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4410720" y="2322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4034160" y="13651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1601280" y="29941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70760" y="4255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545480" y="5370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281400" y="335268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isfacción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437080" y="3546360"/>
            <a:ext cx="8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ue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139640" y="45086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lidad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4354920" y="5732640"/>
            <a:ext cx="13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4932360" y="5300280"/>
            <a:ext cx="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5435640" y="4149720"/>
            <a:ext cx="144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H="1" flipV="1">
            <a:off x="4140000" y="4005000"/>
            <a:ext cx="21564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H="1" flipV="1">
            <a:off x="2627280" y="2852280"/>
            <a:ext cx="936720" cy="187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4140360" y="2852280"/>
            <a:ext cx="36036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4932360" y="1700280"/>
            <a:ext cx="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2627280" y="1484280"/>
            <a:ext cx="1440000" cy="720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1"/>
          <p:cNvSpPr/>
          <p:nvPr/>
        </p:nvSpPr>
        <p:spPr>
          <a:xfrm flipH="1" flipV="1">
            <a:off x="5435280" y="2781360"/>
            <a:ext cx="360360" cy="792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479160" y="476280"/>
            <a:ext cx="72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INTENDENCIA DE SERVICI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36040" y="907920"/>
            <a:ext cx="47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pa de Relaciones Causa -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"/>
          <p:cNvSpPr/>
          <p:nvPr/>
        </p:nvSpPr>
        <p:spPr>
          <a:xfrm>
            <a:off x="324000" y="5661000"/>
            <a:ext cx="1800000" cy="4320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473400" y="5734080"/>
            <a:ext cx="15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2268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2763360" y="57340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421164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361400" y="573408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Empl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6156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6305400" y="57340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3132000" y="494172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3357360" y="50148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539640" y="4724280"/>
            <a:ext cx="7417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161928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911240" y="41241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Proc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nnov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7"/>
          <p:cNvSpPr/>
          <p:nvPr/>
        </p:nvSpPr>
        <p:spPr>
          <a:xfrm>
            <a:off x="435600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4360680" y="422100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ministrar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3132000" y="357336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3437640" y="35733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st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68360" y="3357720"/>
            <a:ext cx="73454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161928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1767600" y="270972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vicios de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435600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4361040" y="2709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zación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468360" y="2421000"/>
            <a:ext cx="74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7"/>
          <p:cNvSpPr/>
          <p:nvPr/>
        </p:nvSpPr>
        <p:spPr>
          <a:xfrm>
            <a:off x="2987640" y="177336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3278880" y="177336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u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1260360" y="5157720"/>
            <a:ext cx="187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3348000" y="5373720"/>
            <a:ext cx="360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1"/>
          <p:cNvSpPr/>
          <p:nvPr/>
        </p:nvSpPr>
        <p:spPr>
          <a:xfrm flipH="1" flipV="1">
            <a:off x="4716360" y="5373720"/>
            <a:ext cx="43200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2"/>
          <p:cNvSpPr/>
          <p:nvPr/>
        </p:nvSpPr>
        <p:spPr>
          <a:xfrm flipH="1" flipV="1">
            <a:off x="5003640" y="5157720"/>
            <a:ext cx="20894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3"/>
          <p:cNvSpPr/>
          <p:nvPr/>
        </p:nvSpPr>
        <p:spPr>
          <a:xfrm flipH="1" flipV="1">
            <a:off x="3058920" y="4581000"/>
            <a:ext cx="433080" cy="358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4"/>
          <p:cNvSpPr/>
          <p:nvPr/>
        </p:nvSpPr>
        <p:spPr>
          <a:xfrm flipV="1">
            <a:off x="4500720" y="4581000"/>
            <a:ext cx="57600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5"/>
          <p:cNvSpPr/>
          <p:nvPr/>
        </p:nvSpPr>
        <p:spPr>
          <a:xfrm flipV="1">
            <a:off x="2556000" y="3860280"/>
            <a:ext cx="57600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 flipH="1" flipV="1">
            <a:off x="4932000" y="3860280"/>
            <a:ext cx="43164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 flipH="1" flipV="1">
            <a:off x="2916000" y="3068640"/>
            <a:ext cx="71892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8"/>
          <p:cNvSpPr/>
          <p:nvPr/>
        </p:nvSpPr>
        <p:spPr>
          <a:xfrm flipV="1">
            <a:off x="4356000" y="3068640"/>
            <a:ext cx="79236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9"/>
          <p:cNvSpPr/>
          <p:nvPr/>
        </p:nvSpPr>
        <p:spPr>
          <a:xfrm flipH="1" flipV="1">
            <a:off x="4572000" y="2133720"/>
            <a:ext cx="72072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0"/>
          <p:cNvSpPr/>
          <p:nvPr/>
        </p:nvSpPr>
        <p:spPr>
          <a:xfrm flipV="1">
            <a:off x="2484360" y="2133720"/>
            <a:ext cx="71928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448920" y="4791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448920" y="33782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448200" y="23702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Pre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519480" y="15066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rupos de Inte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Cli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odelo de un mapa estratégic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rcRect l="24093" t="30838" r="25273" b="16796"/>
          <a:stretch/>
        </p:blipFill>
        <p:spPr>
          <a:xfrm>
            <a:off x="0" y="134316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5438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330066"/>
                </a:solidFill>
                <a:latin typeface="Arial"/>
              </a:rPr>
              <a:t>Ejemplo de medición de factores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rcRect l="24093" t="31439" r="24690" b="16796"/>
          <a:stretch/>
        </p:blipFill>
        <p:spPr>
          <a:xfrm>
            <a:off x="0" y="1490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BSC Hospi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24093" t="31439" r="25856" b="16796"/>
          <a:stretch/>
        </p:blipFill>
        <p:spPr>
          <a:xfrm>
            <a:off x="0" y="11253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4669" t="10942" r="16446" b="12875"/>
          <a:stretch/>
        </p:blipFill>
        <p:spPr>
          <a:xfrm>
            <a:off x="250920" y="54936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268360" y="1413000"/>
            <a:ext cx="503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5849" t="9951" r="18795" b="12875"/>
          <a:stretch/>
        </p:blipFill>
        <p:spPr>
          <a:xfrm>
            <a:off x="0" y="19512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1447920" y="3962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47920" y="3124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4479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4479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7e9ce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14479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1337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8195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1371600" y="32767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2819520" y="33526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1981080" y="35053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2133720" y="411480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1447920" y="4191120"/>
            <a:ext cx="53316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182880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28954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160020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13372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66688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H="1" flipV="1">
            <a:off x="2057040" y="3733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H="1" flipV="1">
            <a:off x="1523880" y="3504960"/>
            <a:ext cx="763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1905120" y="3048120"/>
            <a:ext cx="60948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H="1" flipV="1">
            <a:off x="1752120" y="3048120"/>
            <a:ext cx="114300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2514600" y="3048120"/>
            <a:ext cx="5335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 flipV="1">
            <a:off x="2514240" y="3733560"/>
            <a:ext cx="6094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 flipH="1">
            <a:off x="1828800" y="44956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666880" y="3657600"/>
            <a:ext cx="38124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1828800" y="2971440"/>
            <a:ext cx="7632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3352680" y="32767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267080" y="3048120"/>
            <a:ext cx="4496040" cy="1752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6477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7620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525780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4267080" y="3429000"/>
            <a:ext cx="4496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4572000" y="1600200"/>
            <a:ext cx="1828800" cy="1143000"/>
          </a:xfrm>
          <a:prstGeom prst="wedgeRoundRectCallout">
            <a:avLst>
              <a:gd name="adj1" fmla="val 7726"/>
              <a:gd name="adj2" fmla="val 7486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781680" y="1600200"/>
            <a:ext cx="2057400" cy="1143000"/>
          </a:xfrm>
          <a:prstGeom prst="wedgeRoundRectCallout">
            <a:avLst>
              <a:gd name="adj1" fmla="val 7949"/>
              <a:gd name="adj2" fmla="val 73194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2"/>
          <p:cNvSpPr/>
          <p:nvPr/>
        </p:nvSpPr>
        <p:spPr>
          <a:xfrm rot="10813200">
            <a:off x="5560560" y="5106600"/>
            <a:ext cx="2590920" cy="1143000"/>
          </a:xfrm>
          <a:prstGeom prst="wedgeRoundRectCallout">
            <a:avLst>
              <a:gd name="adj1" fmla="val -10509"/>
              <a:gd name="adj2" fmla="val 7004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4533480" y="1687680"/>
            <a:ext cx="187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ómo medir el éxit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la consecu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6748920" y="1600200"/>
            <a:ext cx="209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s clave de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e se requieren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ilitar la consec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 los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4192560" y="306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5183280" y="30621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7"/>
          <p:cNvSpPr/>
          <p:nvPr/>
        </p:nvSpPr>
        <p:spPr>
          <a:xfrm>
            <a:off x="6649920" y="3062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7697160" y="3062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9"/>
          <p:cNvSpPr/>
          <p:nvPr/>
        </p:nvSpPr>
        <p:spPr>
          <a:xfrm>
            <a:off x="4327560" y="3581280"/>
            <a:ext cx="100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jorar la calidad 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5322600" y="3541680"/>
            <a:ext cx="108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apidez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heck-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dice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atisf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6463440" y="3541680"/>
            <a:ext cx="9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 minut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gt;7,5 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7608600" y="354168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rientación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575680" y="5257800"/>
            <a:ext cx="250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ivel de resultado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n un determinado período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seguir el 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523880" y="1828800"/>
            <a:ext cx="175284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20016" t="15634" r="19342" b="12319"/>
          <a:stretch/>
        </p:blipFill>
        <p:spPr>
          <a:xfrm>
            <a:off x="179280" y="836640"/>
            <a:ext cx="896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20016" t="14643" r="19342" b="14277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04Z</dcterms:modified>
  <cp:revision>131</cp:revision>
  <dc:subject/>
  <dc:title>Sin título de diapositiva</dc:title>
</cp:coreProperties>
</file>