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CAB3-4D1A-490F-8059-ACB94685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2D1E-6750-4785-BF3C-34D8F41D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0F02-FE0C-4D00-9FEE-AB4B17D90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CF5F-0B73-44BC-BF8E-1E4C0BAB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0476-9C4A-45B4-A713-59A1D651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32CF-DB80-466F-90CD-105FB480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9085-A9A0-4E5F-BDA0-D2FE49AB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5242-C8DD-4478-A87E-8B930967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8A2A-72CE-44F8-BCBB-ACE620D2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FB4E-DA4C-4CDC-BFD1-5D04B597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FC21-FC8A-4F0F-AA8E-880436EA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4855-A31B-48F2-8319-3B257BA4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D099-5F0A-4E91-B179-992979970094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de módul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jemplo: Empresa manufacturera con alto nivel de co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2997360"/>
            <a:ext cx="1655640" cy="6476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1628640"/>
            <a:ext cx="194472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ado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492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16360" y="4149720"/>
            <a:ext cx="1800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3995640" y="36464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492000" y="3646440"/>
            <a:ext cx="18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3284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51240" y="28526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56360" y="177336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30160" y="981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04000" y="14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59640" y="3068640"/>
            <a:ext cx="360360" cy="36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04000" y="2421000"/>
            <a:ext cx="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32720" y="314172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valu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03640" y="537372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cid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6" idx="4"/>
            <a:endCxn id="59" idx="3"/>
          </p:cNvCxnSpPr>
          <p:nvPr/>
        </p:nvCxnSpPr>
        <p:spPr>
          <a:xfrm rot="5400000">
            <a:off x="4535640" y="3393000"/>
            <a:ext cx="2269080" cy="23403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32000" y="3284640"/>
            <a:ext cx="1655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2000" y="3284640"/>
            <a:ext cx="0" cy="2449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32000" y="5734080"/>
            <a:ext cx="1871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76720" y="3789360"/>
            <a:ext cx="406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ostos crecientes </a:t>
            </a:r>
            <a:r>
              <a:rPr b="0" lang="en-US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Perdida de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63080" y="1052640"/>
            <a:ext cx="17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Competidor de bajo cos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452360" y="1844640"/>
            <a:ext cx="1432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99"/>
                </a:solidFill>
                <a:latin typeface="Arial"/>
              </a:rPr>
              <a:t>Objetivos de cos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99"/>
                </a:solidFill>
                <a:latin typeface="Arial"/>
              </a:rPr>
              <a:t>Iniciativas de Rdx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1000" spc="-1" strike="noStrike">
                <a:solidFill>
                  <a:srgbClr val="333399"/>
                </a:solidFill>
                <a:latin typeface="Arial"/>
              </a:rPr>
              <a:t>cos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04000" y="3573360"/>
            <a:ext cx="234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Compa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lerta sobre desvi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Información de gestión de cos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27480" y="6040440"/>
            <a:ext cx="3587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Reforzar programas de red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cisiones de incen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cisiones de 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85480" y="3430440"/>
            <a:ext cx="180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Nuevas cifras de cos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3500280"/>
            <a:ext cx="504720" cy="216000"/>
          </a:xfrm>
          <a:prstGeom prst="rightArrow">
            <a:avLst>
              <a:gd name="adj1" fmla="val 50000"/>
              <a:gd name="adj2" fmla="val 5841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jemplo: Empresa de servicios con problemas de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87640" y="2997360"/>
            <a:ext cx="1655640" cy="6476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71640" y="1628640"/>
            <a:ext cx="194472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ado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492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24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16360" y="4149720"/>
            <a:ext cx="1800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995640" y="36464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92000" y="3646440"/>
            <a:ext cx="18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43280" y="3284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51240" y="28526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56360" y="177336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30160" y="981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04000" y="14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3068640"/>
            <a:ext cx="360360" cy="36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04000" y="2421000"/>
            <a:ext cx="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314172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valu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3640" y="537372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cid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4" idx="4"/>
            <a:endCxn id="87" idx="3"/>
          </p:cNvCxnSpPr>
          <p:nvPr/>
        </p:nvCxnSpPr>
        <p:spPr>
          <a:xfrm rot="5400000">
            <a:off x="4535640" y="3393000"/>
            <a:ext cx="2269080" cy="23403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332000" y="3284640"/>
            <a:ext cx="1655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32000" y="3284640"/>
            <a:ext cx="0" cy="2449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5734080"/>
            <a:ext cx="1871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6720" y="3789360"/>
            <a:ext cx="406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Mala calidad servicio </a:t>
            </a:r>
            <a:r>
              <a:rPr b="0" lang="en-US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Alta pérdida de 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63440" y="1052640"/>
            <a:ext cx="172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Excelencia en el serv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53080" y="1844640"/>
            <a:ext cx="18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Objetivos de cal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royectos de mejor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en la calidad de aten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04000" y="3573360"/>
            <a:ext cx="234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Compa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lerta sobre desvi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Información de gestión de calidad de serv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27480" y="6040440"/>
            <a:ext cx="3587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Reforzar programas de calidad de aten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cisiones de capacit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cisiones de recursos e infraestruc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88000" y="343044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Nuevas cifras de calidad y retención de 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35280" y="3500280"/>
            <a:ext cx="504720" cy="216000"/>
          </a:xfrm>
          <a:prstGeom prst="rightArrow">
            <a:avLst>
              <a:gd name="adj1" fmla="val 50000"/>
              <a:gd name="adj2" fmla="val 5841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jemplo: Empresa innovadora de alta 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7640" y="2997360"/>
            <a:ext cx="1655640" cy="6476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1640" y="1628640"/>
            <a:ext cx="194472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ado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492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24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16360" y="4149720"/>
            <a:ext cx="1800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995640" y="36464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492000" y="3646440"/>
            <a:ext cx="18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3280" y="3284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51240" y="28526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6360" y="177336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30160" y="981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04000" y="14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59640" y="3068640"/>
            <a:ext cx="360360" cy="36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04000" y="2421000"/>
            <a:ext cx="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32720" y="314172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valu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03640" y="537372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cid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2" idx="4"/>
            <a:endCxn id="115" idx="3"/>
          </p:cNvCxnSpPr>
          <p:nvPr/>
        </p:nvCxnSpPr>
        <p:spPr>
          <a:xfrm rot="5400000">
            <a:off x="4535640" y="3393000"/>
            <a:ext cx="2269080" cy="23403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1332000" y="3284640"/>
            <a:ext cx="1655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32000" y="3284640"/>
            <a:ext cx="0" cy="2449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5734080"/>
            <a:ext cx="1871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76720" y="3789360"/>
            <a:ext cx="4067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Bajo % de ventas por nuevos produ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iclo de desarrollo l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Mercado nos percibe está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62360" y="1052640"/>
            <a:ext cx="162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s-ES_tradnl" sz="1000" spc="-1" strike="noStrike">
                <a:solidFill>
                  <a:srgbClr val="ff0000"/>
                </a:solidFill>
                <a:latin typeface="Arial"/>
              </a:rPr>
              <a:t>Innovación perman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53800" y="1844640"/>
            <a:ext cx="164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99"/>
                </a:solidFill>
                <a:latin typeface="Arial"/>
              </a:rPr>
              <a:t>Objetivos de nuev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99"/>
                </a:solidFill>
                <a:latin typeface="Arial"/>
              </a:rPr>
              <a:t>product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99"/>
                </a:solidFill>
                <a:latin typeface="Arial"/>
              </a:rPr>
              <a:t>Desarrollo de produc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99"/>
                </a:solidFill>
                <a:latin typeface="Arial"/>
              </a:rPr>
              <a:t>Programa de I&amp;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04000" y="3573360"/>
            <a:ext cx="234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Arial"/>
              </a:rPr>
              <a:t>Compa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Arial"/>
              </a:rPr>
              <a:t>Alerta sobre desvi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Arial"/>
              </a:rPr>
              <a:t>Información de gestión de desarrollo de productos e I&amp;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27480" y="6040440"/>
            <a:ext cx="3587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Arial"/>
              </a:rPr>
              <a:t>Optimizar ciclo de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Arial"/>
              </a:rPr>
              <a:t>Aumentar recursos de I&amp;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Arial"/>
              </a:rPr>
              <a:t>Incentivos a la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3430440"/>
            <a:ext cx="165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Nueva cifra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  <a:ea typeface="Arial"/>
              </a:rPr>
              <a:t>% de ventas de nuevos produc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  <a:ea typeface="Arial"/>
              </a:rPr>
              <a:t>Tpo de ciclo desarrollo de produ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3500280"/>
            <a:ext cx="504720" cy="216000"/>
          </a:xfrm>
          <a:prstGeom prst="rightArrow">
            <a:avLst>
              <a:gd name="adj1" fmla="val 50000"/>
              <a:gd name="adj2" fmla="val 5841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21:12:30Z</dcterms:created>
  <dc:creator>.</dc:creator>
  <dc:description/>
  <dc:language>en-US</dc:language>
  <cp:lastModifiedBy>.</cp:lastModifiedBy>
  <dcterms:modified xsi:type="dcterms:W3CDTF">2008-08-08T18:06:29Z</dcterms:modified>
  <cp:revision>5</cp:revision>
  <dc:subject/>
  <dc:title>Ejemplos de módulo 1</dc:title>
</cp:coreProperties>
</file>