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B84481-D18E-42CE-9D56-520930B527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A8BFC-1634-4981-8B76-E189EEAAF2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094AE-C9C7-4F4F-80C9-E7CFAECB2F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7E083-CCCA-41C9-A633-FA5200FC5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287B7-BE67-44D8-BA2A-94906F7B0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2E91E-A037-4EF3-848C-5ECA54D4A7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E2C50-27C8-4DF9-B65E-5B8332DE8B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93430-1365-473D-8D81-B9C50496A2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F6BB4-97F1-400D-8CDE-8A29BC8809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82296-51D6-40CC-A41B-46E02486C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84187D-312C-467D-97CD-5DAF2CE0E6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CA643-3F06-40D1-B1D9-2DB1754D3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3B661F-E641-4026-994B-14A3D6263EF1}" type="slidenum"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mplos de módulo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jemplo: Empresa manufacturera con alto nivel de cost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6230160" y="981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"/>
          <p:cNvCxnSpPr>
            <a:stCxn id="56" idx="4"/>
            <a:endCxn id="59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61" name="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5076720" y="3789360"/>
            <a:ext cx="40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ostos crecientes </a:t>
            </a:r>
            <a:r>
              <a:rPr b="0" lang="en-US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Perdida de competitivida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7363080" y="1052640"/>
            <a:ext cx="17805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Competidor de bajo cos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7452360" y="1844640"/>
            <a:ext cx="1432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Objetivos de 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Iniciativas de Rdx 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cos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6804000" y="3573360"/>
            <a:ext cx="23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mpa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erta sobre desv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Información de gestión de co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3327480" y="6040440"/>
            <a:ext cx="358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Reforzar programas de reduc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cisiones de incentiv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cisiones de tecnologí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785480" y="3430440"/>
            <a:ext cx="180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uevas cifras de cos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835280" y="350028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" dur="5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3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6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9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51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4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5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jemplo: Empresa de servicios con problemas de calida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6230160" y="981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8" name=""/>
          <p:cNvCxnSpPr>
            <a:stCxn id="84" idx="4"/>
            <a:endCxn id="87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076720" y="3789360"/>
            <a:ext cx="4067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ala calidad servicio </a:t>
            </a:r>
            <a:r>
              <a:rPr b="0" lang="en-US" sz="12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 Alta pérdida de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7363440" y="1052640"/>
            <a:ext cx="1725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Arial"/>
              </a:rPr>
              <a:t>Excelencia en el servici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7453080" y="1844640"/>
            <a:ext cx="18403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Objetivos de calida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Proyectos de mejoramient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n-US" sz="1000" spc="-1" strike="noStrike">
                <a:solidFill>
                  <a:srgbClr val="333399"/>
                </a:solidFill>
                <a:latin typeface="Arial"/>
              </a:rPr>
              <a:t>en la calidad de atenció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804000" y="3573360"/>
            <a:ext cx="23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Compa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Alerta sobre desv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Información de gestión de calidad de servi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327480" y="6040440"/>
            <a:ext cx="358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Reforzar programas de calidad de aten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cisiones de capacit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99"/>
                </a:solidFill>
                <a:latin typeface="Arial"/>
              </a:rPr>
              <a:t>Decisiones de recursos e infraestructur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4788000" y="3430440"/>
            <a:ext cx="16556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Nuevas cifras de calidad y retención de client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1835280" y="350028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0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6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8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6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9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51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7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0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5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1" dur="5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85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0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5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964720" cy="692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Arial"/>
              </a:rPr>
              <a:t>Ejemplo: Empresa innovadora de alta tecnologí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987640" y="2997360"/>
            <a:ext cx="1655640" cy="647640"/>
          </a:xfrm>
          <a:prstGeom prst="rect">
            <a:avLst/>
          </a:prstGeom>
          <a:solidFill>
            <a:srgbClr val="ffff0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dad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egoci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771640" y="1628640"/>
            <a:ext cx="1944720" cy="648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ercado 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3492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924360" y="227664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916360" y="4149720"/>
            <a:ext cx="1800000" cy="7207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veedo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 flipV="1">
            <a:off x="3995640" y="364644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>
            <a:off x="3492000" y="3646440"/>
            <a:ext cx="180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4643280" y="3284640"/>
            <a:ext cx="201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151240" y="2852640"/>
            <a:ext cx="132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156360" y="177336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Planificació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6230160" y="981000"/>
            <a:ext cx="1207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strate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804000" y="14130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6659640" y="3068640"/>
            <a:ext cx="360360" cy="360360"/>
          </a:xfrm>
          <a:prstGeom prst="ellipse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6804000" y="2421000"/>
            <a:ext cx="0" cy="57636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732720" y="3141720"/>
            <a:ext cx="698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Evalua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203640" y="5373720"/>
            <a:ext cx="1297080" cy="647640"/>
          </a:xfrm>
          <a:prstGeom prst="rect">
            <a:avLst/>
          </a:prstGeom>
          <a:solidFill>
            <a:srgbClr val="00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Decidi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ac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6" name=""/>
          <p:cNvCxnSpPr>
            <a:stCxn id="112" idx="4"/>
            <a:endCxn id="115" idx="3"/>
          </p:cNvCxnSpPr>
          <p:nvPr/>
        </p:nvCxnSpPr>
        <p:spPr>
          <a:xfrm rot="5400000">
            <a:off x="4535640" y="3393000"/>
            <a:ext cx="2269080" cy="2340360"/>
          </a:xfrm>
          <a:prstGeom prst="bentConnector2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17" name=""/>
          <p:cNvSpPr/>
          <p:nvPr/>
        </p:nvSpPr>
        <p:spPr>
          <a:xfrm>
            <a:off x="1332000" y="3284640"/>
            <a:ext cx="1655640" cy="0"/>
          </a:xfrm>
          <a:prstGeom prst="line">
            <a:avLst/>
          </a:prstGeom>
          <a:ln w="1908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332000" y="3284640"/>
            <a:ext cx="0" cy="244944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332000" y="5734080"/>
            <a:ext cx="187164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076720" y="3789360"/>
            <a:ext cx="406728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Bajo % de ventas por nuevos produ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Ciclo de desarrollo len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Mercado nos percibe estátic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7362360" y="1052640"/>
            <a:ext cx="16268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0000"/>
                </a:solidFill>
                <a:latin typeface="Wingdings"/>
                <a:ea typeface="Wingdings"/>
              </a:rPr>
              <a:t></a:t>
            </a:r>
            <a:r>
              <a:rPr b="0" lang="es-ES_tradnl" sz="1000" spc="-1" strike="noStrike">
                <a:solidFill>
                  <a:srgbClr val="ff0000"/>
                </a:solidFill>
                <a:latin typeface="Arial"/>
              </a:rPr>
              <a:t>Innovación permanen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453800" y="1844640"/>
            <a:ext cx="1643760" cy="70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Objetivos de nuev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producto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Desarrollo de producto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000" spc="-1" strike="noStrike">
                <a:solidFill>
                  <a:srgbClr val="333399"/>
                </a:solidFill>
                <a:latin typeface="Arial"/>
              </a:rPr>
              <a:t>Programa de I&amp;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6804000" y="3573360"/>
            <a:ext cx="2340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Compar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Alerta sobre desvi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Información de gestión de desarrollo de productos e I&amp;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3327480" y="6040440"/>
            <a:ext cx="35877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Optimizar ciclo de desarroll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Aumentar recursos de I&amp;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333399"/>
                </a:solidFill>
                <a:latin typeface="Arial"/>
              </a:rPr>
              <a:t>Incentivos a la innov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788000" y="3430440"/>
            <a:ext cx="165564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</a:rPr>
              <a:t>Nueva cifra d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  <a:ea typeface="Arial"/>
              </a:rPr>
              <a:t>% de ventas de nuevos produc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ff0000"/>
                </a:solidFill>
                <a:latin typeface="Arial"/>
                <a:ea typeface="Arial"/>
              </a:rPr>
              <a:t>Tpo de ciclo desarrollo de product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35280" y="3500280"/>
            <a:ext cx="504720" cy="216000"/>
          </a:xfrm>
          <a:prstGeom prst="rightArrow">
            <a:avLst>
              <a:gd name="adj1" fmla="val 50000"/>
              <a:gd name="adj2" fmla="val 58417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01" dur="indefinite" restart="never" nodeType="tmRoot">
          <p:childTnLst>
            <p:seq>
              <p:cTn id="202" dur="indefinite" nodeType="mainSeq">
                <p:childTnLst>
                  <p:par>
                    <p:cTn id="203" fill="hold">
                      <p:stCondLst>
                        <p:cond delay="0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07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0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3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6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19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5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8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6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9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47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1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7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0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5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1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4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77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5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0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5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6" fill="hold">
                      <p:stCondLst>
                        <p:cond delay="indefinite"/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0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6-28T21:12:30Z</dcterms:created>
  <dc:creator>.</dc:creator>
  <dc:description/>
  <dc:language>en-US</dc:language>
  <cp:lastModifiedBy>.</cp:lastModifiedBy>
  <dcterms:modified xsi:type="dcterms:W3CDTF">2008-08-08T18:06:29Z</dcterms:modified>
  <cp:revision>5</cp:revision>
  <dc:subject/>
  <dc:title>Ejemplos de módulo 1</dc:title>
</cp:coreProperties>
</file>