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41AA-B011-4858-B6D3-5D3461F7AC1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3E40-51D0-48C6-B187-E4442F699F8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E425-21B6-483D-82A4-76FB7A0CEF0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7244-8A28-4DE1-AC5F-0ACD9C38EF0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EDE-DA6D-4CAD-882F-26ABD67C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7D3-DA46-4433-AF07-7EC83BFC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83A-5481-41BB-8779-E6D9B470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D29-B860-463B-9861-61B9AD89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261-ED5A-4CD6-873F-7541630B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00C-753F-47F1-80CE-8E95C77B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444-E57F-4135-BF5B-3C134E0C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EFB-80BA-474A-92B3-50B04254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0C57-617D-45FF-A387-DF1955E6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11C-BF66-4C8C-82A6-9E62B294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036-B7BF-4ED3-9B53-0901EEE7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67F-535B-4CC6-B568-5AED244A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1969-0EAC-48BC-834A-8266B9B1448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53735"/>
                </a:solidFill>
                <a:latin typeface="Calibri"/>
              </a:rPr>
              <a:t>Diploma en Gerencia Pública 2009</a:t>
            </a:r>
            <a:br>
              <a:rPr sz="4000"/>
            </a:br>
            <a:r>
              <a:rPr b="1" lang="es-ES" sz="4000" spc="-1" strike="noStrike">
                <a:solidFill>
                  <a:srgbClr val="0070c0"/>
                </a:solidFill>
                <a:latin typeface="Calibri"/>
              </a:rPr>
              <a:t>Taller de Estudio de Caso Institucional &amp; Generación de Iniciativas de Camb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71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fesor: José Inostroza L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yudante: Natalie Gonzál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echa:19/12/09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Imagen" descr="logotipo PGPP.jpg"/>
          <p:cNvPicPr/>
          <p:nvPr/>
        </p:nvPicPr>
        <p:blipFill>
          <a:blip r:embed="rId1"/>
          <a:stretch/>
        </p:blipFill>
        <p:spPr>
          <a:xfrm>
            <a:off x="2714760" y="214200"/>
            <a:ext cx="378612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53735"/>
                </a:solidFill>
                <a:latin typeface="Calibri"/>
              </a:rPr>
              <a:t>Contenidos de la Presentación fi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. Presentación Formal y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atos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básicos (2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. Modelo de Negocio (2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. Principales Hallazgos de Fuentes Secundaria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. Principales Hallazgos de Instrumento‐encuesta (3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5 Identificación de Problemas Principale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6. “Diagrama Sistémico”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7. Conclusione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8. Recomendaciones de Mejoría (Proyecto, líneas de acción, Rediseños de Procesos) (2 lámin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**Pueden escribir notas en el pp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ANEX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Listado de Entrevistado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Fuentes Revisadas (subir a U‐Curso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NTREGABL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PPT en UCURSO (16/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Base de Datos en EXCEL con microdatos (anonimizad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53735"/>
                </a:solidFill>
                <a:latin typeface="Calibri"/>
              </a:rPr>
              <a:t>Orden de presentación grup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400" y="1571760"/>
            <a:ext cx="871524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inisterio Bienes Nac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AG Región Metropolit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CR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RPLAC 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inisterio de Econom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DECO Peñaf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A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22:15:09Z</dcterms:created>
  <dc:creator>Edacunaf</dc:creator>
  <dc:description/>
  <dc:language>en-US</dc:language>
  <cp:lastModifiedBy>Nombre de usuario</cp:lastModifiedBy>
  <dcterms:modified xsi:type="dcterms:W3CDTF">2009-12-10T14:04:51Z</dcterms:modified>
  <cp:revision>30</cp:revision>
  <dc:subject/>
  <dc:title>Buenas experiencias de liderazgo, gestión del cambio e innovación en la gestión pública</dc:title>
</cp:coreProperties>
</file>