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717F-861F-47D5-BFA0-5CC78432BBE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FD44-A790-4F18-8997-BF5D8DAD1B3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983F-E3FB-4842-A130-002B657A0DA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6FE4-FA35-4FA7-B7CE-1D0D3E76497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FBE-4A85-4B98-8602-2788A91F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C07-3F53-4079-94F7-B129EB17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3C0-EF0A-41A3-AD41-CCBCDC5F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605-B85C-45BB-93ED-49F1F747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BAC-196C-4B3F-A2D8-C0B03909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F93-AEF5-4E84-912D-8F08C050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D027-D769-4FA0-973E-24076253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3CD-5D23-4963-A9CC-1D670CD2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5FD-24EC-4E3B-B1FC-91258785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960-F65B-4040-97D4-AC790E75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124-44C4-4B29-B2FB-62D75671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0DF-8CF5-44AB-AF21-FC68E217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5A31-34A4-4B1F-A465-E4152A0A44D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53735"/>
                </a:solidFill>
                <a:latin typeface="Calibri"/>
              </a:rPr>
              <a:t>Diploma en Gerencia Pública 2009</a:t>
            </a:r>
            <a:br>
              <a:rPr sz="4000"/>
            </a:br>
            <a:r>
              <a:rPr b="1" lang="es-ES" sz="4000" spc="-1" strike="noStrike">
                <a:solidFill>
                  <a:srgbClr val="0070c0"/>
                </a:solidFill>
                <a:latin typeface="Calibri"/>
              </a:rPr>
              <a:t>Taller de Estudio de Caso Institucional &amp; Generación de Iniciativas de Camb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71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fesor: José Inostroza L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yudante: Natalie Gonzál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echa:19/12/09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Imagen" descr="logotipo PGPP.jpg"/>
          <p:cNvPicPr/>
          <p:nvPr/>
        </p:nvPicPr>
        <p:blipFill>
          <a:blip r:embed="rId1"/>
          <a:stretch/>
        </p:blipFill>
        <p:spPr>
          <a:xfrm>
            <a:off x="2714760" y="214200"/>
            <a:ext cx="378612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53735"/>
                </a:solidFill>
                <a:latin typeface="Calibri"/>
              </a:rPr>
              <a:t>Contenidos de la Presentación fi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. Presentación Formal y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atos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básicos (2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2. Modelo de Negocio (2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3. Principales Hallazgos de Fuentes Secundaria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. Principales Hallazgos de Instrumento‐encuesta (3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5 Identificación de Problemas Principale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6. “Diagrama Sistémico”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7. Conclusione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8. Recomendaciones de Mejoría (Proyecto, líneas de acción, Rediseños de Procesos) (2 lámin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**Pueden escribir notas en el pp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ANEX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Listado de Entrevistados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Fuentes Revisadas (subir a U‐Curso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ENTREGABL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PPT en UCURSO (16/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Base de Datos en EXCEL con microdatos (anonimizad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53735"/>
                </a:solidFill>
                <a:latin typeface="Calibri"/>
              </a:rPr>
              <a:t>Orden de presentación grup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400" y="1571760"/>
            <a:ext cx="871524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inisterio Bienes Nac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AG Región Metropolit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CR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RPLAC 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inisterio de Econom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DECO Peñaf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A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22:15:09Z</dcterms:created>
  <dc:creator>Edacunaf</dc:creator>
  <dc:description/>
  <dc:language>en-US</dc:language>
  <cp:lastModifiedBy>Nombre de usuario</cp:lastModifiedBy>
  <dcterms:modified xsi:type="dcterms:W3CDTF">2009-12-10T14:04:51Z</dcterms:modified>
  <cp:revision>30</cp:revision>
  <dc:subject/>
  <dc:title>Buenas experiencias de liderazgo, gestión del cambio e innovación en la gestión pública</dc:title>
</cp:coreProperties>
</file>