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BF74-14A0-4AAD-8033-96C5B3D8BAE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0152-05B6-48C2-BE09-9E14473CFCB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27E1-D561-499D-A6F4-E8B81F78A97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5609-054C-46F5-B2D7-5C8ED368B62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750-187A-40F7-8EFC-0B2ABC25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9FA-51A0-4B67-9ADF-6EA5B258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0EA-BA38-407F-B7AB-09DD0CA9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2AE-6520-42F8-961F-3F83FF91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D87-0203-44E8-87A6-22C24F1B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057-435C-4DF5-9417-52378828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7EF5-0AD8-4561-B1C5-D37227EE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1542-F978-4373-B7F9-BE425A93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538-5CAB-4636-8F54-341EFC77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B90B-0779-4B4B-B537-2472C142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46A-5F5B-48D6-9D19-7D1EA088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0B3-9424-4077-92CD-155D4D5D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BF16-D552-42DD-9294-C7797EECFFA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86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53735"/>
                </a:solidFill>
                <a:latin typeface="Calibri"/>
              </a:rPr>
              <a:t>Diploma en Gerencia Pública 2009</a:t>
            </a:r>
            <a:br>
              <a:rPr sz="4000"/>
            </a:br>
            <a:r>
              <a:rPr b="1" lang="es-ES" sz="4000" spc="-1" strike="noStrike">
                <a:solidFill>
                  <a:srgbClr val="0070c0"/>
                </a:solidFill>
                <a:latin typeface="Calibri"/>
              </a:rPr>
              <a:t>Taller de Estudio de Caso Institucional &amp; Generación de Iniciativas de Camb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71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fesor: José Inostroza L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yudante: Natalie Gonzál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echa:19/12/09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3 Imagen" descr="logotipo PGPP.jpg"/>
          <p:cNvPicPr/>
          <p:nvPr/>
        </p:nvPicPr>
        <p:blipFill>
          <a:blip r:embed="rId1"/>
          <a:stretch/>
        </p:blipFill>
        <p:spPr>
          <a:xfrm>
            <a:off x="2714760" y="214200"/>
            <a:ext cx="378612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53735"/>
                </a:solidFill>
                <a:latin typeface="Calibri"/>
              </a:rPr>
              <a:t>Contenidos de la Presentación fi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1. Presentación Formal y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atos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básicos (2 lámin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2. Modelo de Negocio (2 lámin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3. Principales Hallazgos de Fuentes Secundarias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4. Principales Hallazgos de Instrumento‐encuesta (3 lámin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5 Identificación de Problemas Principales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6. “Diagrama Sistémico”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7. Conclusiones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8. Recomendaciones de Mejoría (Proyecto, líneas de acción, Rediseños de Procesos) (2 lámin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**Pueden escribir notas en el pp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ANEX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Listado de Entrevistados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Fuentes Revisadas (subir a U‐Curso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ENTREGABL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PPT en UCURSO (16/1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Base de Datos en EXCEL con microdatos (anonimizad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53735"/>
                </a:solidFill>
                <a:latin typeface="Calibri"/>
              </a:rPr>
              <a:t>Orden de presentación grup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400" y="1571760"/>
            <a:ext cx="871524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inisterio Bienes Nac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AG Región Metropolit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CR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RPLAC 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inisterio de Econom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DECO Peñaf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A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22:15:09Z</dcterms:created>
  <dc:creator>Edacunaf</dc:creator>
  <dc:description/>
  <dc:language>en-US</dc:language>
  <cp:lastModifiedBy>Nombre de usuario</cp:lastModifiedBy>
  <dcterms:modified xsi:type="dcterms:W3CDTF">2009-12-10T14:04:51Z</dcterms:modified>
  <cp:revision>30</cp:revision>
  <dc:subject/>
  <dc:title>Buenas experiencias de liderazgo, gestión del cambio e innovación en la gestión pública</dc:title>
</cp:coreProperties>
</file>