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BC1-3B93-4160-964B-C96AA6A4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75F-2754-4CE6-B092-2E1937AC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72D-1C8C-4552-8023-ECEBC3DB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7FA-2880-41F0-A0DE-55D20058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835-9439-44C0-91FA-D1AD0B48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B52-C360-4617-BC04-B30F4457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36D-315B-4E33-BD7E-EA8053AF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D9C-4F75-476E-911F-0C6F1CB2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D93-4813-4BCA-8E1B-C96AD59E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D8B-8531-4B20-8657-57A4C9EC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714-3DBD-4F90-B8ED-84CA2C9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710-2F10-40DF-9C95-B18561D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C46C-D198-43A8-B4E0-4EF455D1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de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25/9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troalimentación A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Negocio/Mapa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sentaciones de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5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acar lo es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reguntas/indagaciones surgen al mirar el mode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relación crítica hay entre los componentes? Ejs SH/Procesos; Alianzas/Procesos; Procesos/Producto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Hay espacios de mejorar la agregación de valor públ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den de Presen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AF 16:30-16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N 16:50-17: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DECO Peñaflor 17:10-17: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CREP 17:30-17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pto. Adm. Min Economía  18:20-18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PLAC RM 18:40-18: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EMI BBNN 19:00-19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G RM 19:20-19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entarios Generales Mapa Stakeh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general, los esquemas muy interes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itar saturación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egorizar/Agrupar …es muy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que distinguir entre “grado de relación” y “calidad de la relación”. Importa mas lo seg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acar relaciones clave “entre” S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ve desarrollar más el análisis de tendencias (P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buenas preguntas de indagación le podemos hacer al modelo de nego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Hay alguna relación clave entre algunas dimensiones del modelo de nego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espacio de “repensar” el  modelo puede surgir desde mirar sus componentes el entor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Negocio Minero/Empresa de Consumo (u-cur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6:04:44Z</dcterms:created>
  <dc:creator>Jinostroza</dc:creator>
  <dc:description/>
  <dc:language>en-US</dc:language>
  <cp:lastModifiedBy>Jinostroza</cp:lastModifiedBy>
  <dcterms:modified xsi:type="dcterms:W3CDTF">2009-09-25T20:17:39Z</dcterms:modified>
  <cp:revision>2</cp:revision>
  <dc:subject/>
  <dc:title>Taller de AO 25/9/2009</dc:title>
</cp:coreProperties>
</file>