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A872-D6EF-42FA-BC55-5805FA19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A046-1AEE-46CD-A35B-78E69ED1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630F-99FD-490C-811F-9F7E6BAA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4549-7303-4F04-9DF1-ABA66EF8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32C3-D570-4475-AEF8-09602F60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457A-1ED7-4A86-AE2B-808B6A08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3B68-26BE-4A7A-A1F5-0E4D86DB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69DE-A30F-4E77-BB06-EBDD60D1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90B4-6B3C-4F28-AE5A-F47B1B62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3FD2-99DB-4A2E-BB9C-96BEAF7A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50A4-72EC-4A47-A247-CE5913AD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3FF1-B03B-4953-AA9F-7A3CEB70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E56C-7FBE-47C4-B2E6-6B89C9AF9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aller de AO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25/9/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troalimentación Av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odelo de Negocio/Mapa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sentaciones de Gru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15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tacar lo esen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preguntas/indagaciones surgen al mirar el model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relación crítica hay entre los componentes? Ejs SH/Procesos; Alianzas/Procesos; Procesos/Producto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Hay espacios de mejorar la agregación de valor públic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rden de Present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AF 16:30-16: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N 16:50-17: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DECO Peñaflor 17:10-17: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CREP 17:30-17: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pto. Adm. Min Economía  18:20-18: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RPLAC RM 18:40-18: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REMI BBNN 19:00-19: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AG RM 19:20-19: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mentarios Generales Mapa Stakeh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general, los esquemas muy interes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vitar saturación de in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tegorizar/Agrupar …es muy ú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y que distinguir entre “grado de relación” y “calidad de la relación”. Importa mas lo segu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tacar relaciones clave “entre” S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mentarios Mod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clave desarrollar más el análisis de tendencias (P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buenas preguntas de indagación le podemos hacer al modelo de negoc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Hay alguna relación clave entre algunas dimensiones del modelo de negoc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espacio de “repensar” el  modelo puede surgir desde mirar sus componentes el entor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odelo de Negocio Minero/Empresa de Consumo (u-curs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6:04:44Z</dcterms:created>
  <dc:creator>Jinostroza</dc:creator>
  <dc:description/>
  <dc:language>en-US</dc:language>
  <cp:lastModifiedBy>Jinostroza</cp:lastModifiedBy>
  <dcterms:modified xsi:type="dcterms:W3CDTF">2009-09-25T20:17:39Z</dcterms:modified>
  <cp:revision>2</cp:revision>
  <dc:subject/>
  <dc:title>Taller de AO 25/9/2009</dc:title>
</cp:coreProperties>
</file>