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B21-DE7C-43E6-AD79-92AA52C5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895-DE0C-4743-9F76-80D95CE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2A5-A221-4263-86B8-B4DFF6E7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ECA-EB57-4EB9-8BB4-7770043B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A08-4336-4F2C-9EAF-A42F12E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8BE-5BAB-4663-9DC0-28790C8D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2CA-E581-4574-819B-1D2F2DB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31A-C7CD-4F88-986E-1BD2E94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C9B-F20C-45FC-BF5D-513370F0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736-5248-4438-8574-B0DED77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A32-F4C1-4320-A17F-FA78AC9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346-E14B-4A64-95A3-CE7C04F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34F4-75C4-41E5-959C-F5EE9C77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de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25/9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troalimentación A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/Mapa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ones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5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lo es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reguntas/indagaciones surgen al mirar el mode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relación crítica hay entre los componentes? Ejs SH/Procesos; Alianzas/Procesos; Procesos/Producto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espacios de mejorar la agregación de valor públ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den de 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AF 16:30-1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N 16:50-17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DECO Peñaflor 17:10-17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CREP 17:30-17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pto. Adm. Min Economía  18:20-18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PLAC RM 18:40-18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EMI BBNN 19:00-19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G RM 19:20-19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entarios Generales Mapa Stakeh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general, los esquemas muy interes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itar saturación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egorizar/Agrupar …es muy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que distinguir entre “grado de relación” y “calidad de la relación”. Importa mas lo seg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relaciones clave “entre” S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ve desarrollar más el análisis de tendencias (P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buenas preguntas de indagación le podemos hacer a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alguna relación clave entre algunas dimensiones de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espacio de “repensar” el  modelo puede surgir desde mirar sus componentes el entor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 Minero/Empresa de Consumo (u-cur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6:04:44Z</dcterms:created>
  <dc:creator>Jinostroza</dc:creator>
  <dc:description/>
  <dc:language>en-US</dc:language>
  <cp:lastModifiedBy>Jinostroza</cp:lastModifiedBy>
  <dcterms:modified xsi:type="dcterms:W3CDTF">2009-09-25T20:17:39Z</dcterms:modified>
  <cp:revision>2</cp:revision>
  <dc:subject/>
  <dc:title>Taller de AO 25/9/2009</dc:title>
</cp:coreProperties>
</file>