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C66-16F2-4E9B-BC2C-D77C12CB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62B-3424-4FDB-8F39-670EDDBB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A1D-0440-4E73-B30D-9E14EBFF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147-1FB2-432E-AE55-7B39B612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B15-D799-4194-9CED-62F0B087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628-B873-49D9-B61C-94E4B5A8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955-2D04-47B5-97AF-14DDA54E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432-76E6-4956-9B94-3D10B89C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023-B531-48CA-BC5A-3E21AB5B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231-C3FF-437F-BCC8-58FADF6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BFF-17AB-46BA-9BE3-0960807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926-FF2A-4F59-A2C8-AF03384A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A179-1181-49A4-BA10-75A656D4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de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25/9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troalimentación A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Negocio/Mapa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sentaciones de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5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acar lo es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reguntas/indagaciones surgen al mirar el mode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relación crítica hay entre los componentes? Ejs SH/Procesos; Alianzas/Procesos; Procesos/Producto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Hay espacios de mejorar la agregación de valor públ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den de Presen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AF 16:30-16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N 16:50-17: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DECO Peñaflor 17:10-17: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CREP 17:30-17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pto. Adm. Min Economía  18:20-18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PLAC RM 18:40-18: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EMI BBNN 19:00-19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G RM 19:20-19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entarios Generales Mapa Stakeh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general, los esquemas muy interes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itar saturación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egorizar/Agrupar …es muy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que distinguir entre “grado de relación” y “calidad de la relación”. Importa mas lo seg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acar relaciones clave “entre” S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ve desarrollar más el análisis de tendencias (P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buenas preguntas de indagación le podemos hacer al modelo de nego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Hay alguna relación clave entre algunas dimensiones del modelo de negoc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espacio de “repensar” el  modelo puede surgir desde mirar sus componentes el entor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Negocio Minero/Empresa de Consumo (u-cur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6:04:44Z</dcterms:created>
  <dc:creator>Jinostroza</dc:creator>
  <dc:description/>
  <dc:language>en-US</dc:language>
  <cp:lastModifiedBy>Jinostroza</cp:lastModifiedBy>
  <dcterms:modified xsi:type="dcterms:W3CDTF">2009-09-25T20:17:39Z</dcterms:modified>
  <cp:revision>2</cp:revision>
  <dc:subject/>
  <dc:title>Taller de AO 25/9/2009</dc:title>
</cp:coreProperties>
</file>