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badi MT Condensed Extra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CF44-CB2C-41E7-9210-E2467B0EC888}" type="slidenum"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In this workshop, Geological risk analysis will be performed using Whittle Four-X.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badi MT Condensed Extra Bold"/>
              </a:rPr>
              <a:t>The data set that will be used is from a gold deposit. It contains FROR, OXOR, FRWS and OXWS</a:t>
            </a:r>
            <a:endParaRPr b="0" lang="en-US" sz="12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A14-2727-4CC2-955B-635B6F82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D78-E367-4337-8B9D-9FF7AB1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7B2-7874-4943-812B-94632FF0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0CB-9D76-46D1-8FCD-5A824CBA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D181-44E3-4E94-9767-B1440466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5317-F85C-4746-B662-2E55D176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C737-41B0-405A-8D91-5AA2FCD3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0501-E384-429E-B8AB-232D1E63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87A2-95F9-4297-BD64-E8BBB3F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9A04-81D2-4464-B61B-70BCFEB8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0B53-6533-428C-89E2-9B6D795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7AD-4A66-48E2-ADA7-CA93A9D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010F-7CFB-4D2F-841B-DAACBA64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1924-55E7-4A34-A9F7-27425BC6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309E-4838-4B0D-BAEF-3CAFC182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F8D2-DA32-4544-B090-CB75CD5B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4AE5-B86A-4CD2-BF91-29200A7B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74D-7A8D-4EBF-A577-8B622815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98C-9524-4643-BC1F-4CEA8B2A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773-8A94-4683-B197-E4E1AF4C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F10-3708-48C1-B2DA-639242D3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A6E-85B8-4325-A0A9-59CC5F33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EB4-3578-4502-8D30-AA002307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054-3ACB-4876-B52A-B5C3D447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9A6F-A41C-4204-AE62-C57CF0F730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AA18-EDFA-4040-9CF1-DDBF6B94EA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19320"/>
            <a:ext cx="906768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puter Session: Strategic Risk Management and Applied Optimization in Mine Design 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7391160" cy="4687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777120" y="458640"/>
            <a:ext cx="570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B1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2" name=""/>
          <p:cNvSpPr/>
          <p:nvPr/>
        </p:nvSpPr>
        <p:spPr>
          <a:xfrm>
            <a:off x="4744080" y="458640"/>
            <a:ext cx="570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B2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3" name=""/>
          <p:cNvSpPr/>
          <p:nvPr/>
        </p:nvSpPr>
        <p:spPr>
          <a:xfrm>
            <a:off x="5710680" y="458640"/>
            <a:ext cx="570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B3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4" name=""/>
          <p:cNvSpPr/>
          <p:nvPr/>
        </p:nvSpPr>
        <p:spPr>
          <a:xfrm>
            <a:off x="3384000" y="81288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5" name=""/>
          <p:cNvSpPr/>
          <p:nvPr/>
        </p:nvSpPr>
        <p:spPr>
          <a:xfrm>
            <a:off x="3767760" y="81288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.84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6" name=""/>
          <p:cNvSpPr/>
          <p:nvPr/>
        </p:nvSpPr>
        <p:spPr>
          <a:xfrm>
            <a:off x="4736160" y="81288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7.65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7" name=""/>
          <p:cNvSpPr/>
          <p:nvPr/>
        </p:nvSpPr>
        <p:spPr>
          <a:xfrm>
            <a:off x="5702760" y="81288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8.88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8" name=""/>
          <p:cNvSpPr/>
          <p:nvPr/>
        </p:nvSpPr>
        <p:spPr>
          <a:xfrm>
            <a:off x="3219120" y="1165320"/>
            <a:ext cx="35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19" name=""/>
          <p:cNvSpPr/>
          <p:nvPr/>
        </p:nvSpPr>
        <p:spPr>
          <a:xfrm>
            <a:off x="3767760" y="116532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5.57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0" name=""/>
          <p:cNvSpPr/>
          <p:nvPr/>
        </p:nvSpPr>
        <p:spPr>
          <a:xfrm>
            <a:off x="4736160" y="116532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9.23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1" name=""/>
          <p:cNvSpPr/>
          <p:nvPr/>
        </p:nvSpPr>
        <p:spPr>
          <a:xfrm>
            <a:off x="5702760" y="116532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9.72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2" name=""/>
          <p:cNvSpPr/>
          <p:nvPr/>
        </p:nvSpPr>
        <p:spPr>
          <a:xfrm>
            <a:off x="3219120" y="1519200"/>
            <a:ext cx="35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3" name=""/>
          <p:cNvSpPr/>
          <p:nvPr/>
        </p:nvSpPr>
        <p:spPr>
          <a:xfrm>
            <a:off x="3767760" y="151920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2.41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4" name=""/>
          <p:cNvSpPr/>
          <p:nvPr/>
        </p:nvSpPr>
        <p:spPr>
          <a:xfrm>
            <a:off x="4736160" y="151920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4.31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5" name=""/>
          <p:cNvSpPr/>
          <p:nvPr/>
        </p:nvSpPr>
        <p:spPr>
          <a:xfrm>
            <a:off x="5702760" y="1519200"/>
            <a:ext cx="733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3.24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6" name=""/>
          <p:cNvSpPr/>
          <p:nvPr/>
        </p:nvSpPr>
        <p:spPr>
          <a:xfrm>
            <a:off x="4354920" y="10620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</a:rPr>
              <a:t>DCF ($M)</a:t>
            </a:r>
            <a:endParaRPr b="0" lang="en-US" sz="23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7" name=""/>
          <p:cNvSpPr/>
          <p:nvPr/>
        </p:nvSpPr>
        <p:spPr>
          <a:xfrm>
            <a:off x="3557520" y="82440"/>
            <a:ext cx="1800" cy="178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8" name=""/>
          <p:cNvSpPr/>
          <p:nvPr/>
        </p:nvSpPr>
        <p:spPr>
          <a:xfrm>
            <a:off x="3557520" y="82440"/>
            <a:ext cx="19080" cy="178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29" name=""/>
          <p:cNvSpPr/>
          <p:nvPr/>
        </p:nvSpPr>
        <p:spPr>
          <a:xfrm>
            <a:off x="6459480" y="100080"/>
            <a:ext cx="1800" cy="176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0" name=""/>
          <p:cNvSpPr/>
          <p:nvPr/>
        </p:nvSpPr>
        <p:spPr>
          <a:xfrm>
            <a:off x="6459480" y="100080"/>
            <a:ext cx="17640" cy="17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1" name=""/>
          <p:cNvSpPr/>
          <p:nvPr/>
        </p:nvSpPr>
        <p:spPr>
          <a:xfrm>
            <a:off x="2590920" y="434880"/>
            <a:ext cx="1440" cy="1430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434880"/>
            <a:ext cx="19080" cy="14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3" name=""/>
          <p:cNvSpPr/>
          <p:nvPr/>
        </p:nvSpPr>
        <p:spPr>
          <a:xfrm>
            <a:off x="4524480" y="452520"/>
            <a:ext cx="1440" cy="141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4" name=""/>
          <p:cNvSpPr/>
          <p:nvPr/>
        </p:nvSpPr>
        <p:spPr>
          <a:xfrm>
            <a:off x="4524480" y="452520"/>
            <a:ext cx="19080" cy="14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5" name=""/>
          <p:cNvSpPr/>
          <p:nvPr/>
        </p:nvSpPr>
        <p:spPr>
          <a:xfrm>
            <a:off x="5491080" y="452520"/>
            <a:ext cx="1800" cy="141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6" name=""/>
          <p:cNvSpPr/>
          <p:nvPr/>
        </p:nvSpPr>
        <p:spPr>
          <a:xfrm>
            <a:off x="5491080" y="452520"/>
            <a:ext cx="19080" cy="14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7" name=""/>
          <p:cNvSpPr/>
          <p:nvPr/>
        </p:nvSpPr>
        <p:spPr>
          <a:xfrm>
            <a:off x="3576600" y="82440"/>
            <a:ext cx="2900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8" name=""/>
          <p:cNvSpPr/>
          <p:nvPr/>
        </p:nvSpPr>
        <p:spPr>
          <a:xfrm>
            <a:off x="3576600" y="82440"/>
            <a:ext cx="29005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39" name=""/>
          <p:cNvSpPr/>
          <p:nvPr/>
        </p:nvSpPr>
        <p:spPr>
          <a:xfrm>
            <a:off x="2610000" y="434880"/>
            <a:ext cx="386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0" name=""/>
          <p:cNvSpPr/>
          <p:nvPr/>
        </p:nvSpPr>
        <p:spPr>
          <a:xfrm>
            <a:off x="2610000" y="434880"/>
            <a:ext cx="38671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1" name=""/>
          <p:cNvSpPr/>
          <p:nvPr/>
        </p:nvSpPr>
        <p:spPr>
          <a:xfrm>
            <a:off x="2610000" y="789120"/>
            <a:ext cx="386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2" name=""/>
          <p:cNvSpPr/>
          <p:nvPr/>
        </p:nvSpPr>
        <p:spPr>
          <a:xfrm>
            <a:off x="2610000" y="789120"/>
            <a:ext cx="3867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3" name=""/>
          <p:cNvSpPr/>
          <p:nvPr/>
        </p:nvSpPr>
        <p:spPr>
          <a:xfrm>
            <a:off x="2610000" y="1141560"/>
            <a:ext cx="386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4" name=""/>
          <p:cNvSpPr/>
          <p:nvPr/>
        </p:nvSpPr>
        <p:spPr>
          <a:xfrm>
            <a:off x="2610000" y="1141560"/>
            <a:ext cx="3867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5" name=""/>
          <p:cNvSpPr/>
          <p:nvPr/>
        </p:nvSpPr>
        <p:spPr>
          <a:xfrm>
            <a:off x="2610000" y="1495440"/>
            <a:ext cx="386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6" name=""/>
          <p:cNvSpPr/>
          <p:nvPr/>
        </p:nvSpPr>
        <p:spPr>
          <a:xfrm>
            <a:off x="2610000" y="1495440"/>
            <a:ext cx="3867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7" name=""/>
          <p:cNvSpPr/>
          <p:nvPr/>
        </p:nvSpPr>
        <p:spPr>
          <a:xfrm>
            <a:off x="2610000" y="1847880"/>
            <a:ext cx="386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48" name=""/>
          <p:cNvSpPr/>
          <p:nvPr/>
        </p:nvSpPr>
        <p:spPr>
          <a:xfrm>
            <a:off x="2610000" y="1847880"/>
            <a:ext cx="3867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0" y="533520"/>
          <a:ext cx="9143640" cy="4534920"/>
        </p:xfrm>
        <a:graphic>
          <a:graphicData uri="http://schemas.openxmlformats.org/drawingml/2006/table">
            <a:tbl>
              <a:tblPr/>
              <a:tblGrid>
                <a:gridCol w="679680"/>
                <a:gridCol w="653760"/>
                <a:gridCol w="627840"/>
                <a:gridCol w="699840"/>
                <a:gridCol w="668880"/>
                <a:gridCol w="734040"/>
                <a:gridCol w="627480"/>
                <a:gridCol w="788040"/>
                <a:gridCol w="758520"/>
                <a:gridCol w="731880"/>
                <a:gridCol w="627480"/>
                <a:gridCol w="788040"/>
                <a:gridCol w="758160"/>
              </a:tblGrid>
              <a:tr h="12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im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B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CF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e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ste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l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CF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e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ste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l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.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.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.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.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.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.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.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.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badi MT Condensed Extra Bol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1476360" y="246240"/>
          <a:ext cx="5832360" cy="58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46240"/>
                    <a:ext cx="5832360" cy="58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02840" y="6092280"/>
            <a:ext cx="82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DCF in specified case ($19.718M) is higher than kriging case ($18.877M). </a:t>
            </a:r>
            <a:endParaRPr b="0" lang="en-US" sz="1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195640" y="549360"/>
          <a:ext cx="5357520" cy="54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549360"/>
                    <a:ext cx="535752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762120" y="5876280"/>
            <a:ext cx="72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period’s ore production is very close to the original design. </a:t>
            </a:r>
            <a:endParaRPr b="0" lang="en-US" sz="18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in the second period, mill could not be fed with full capacity.</a:t>
            </a:r>
            <a:endParaRPr b="0" lang="en-US" sz="1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1563840" y="404640"/>
          <a:ext cx="5538600" cy="56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3840" y="404640"/>
                    <a:ext cx="55386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766880" y="260280"/>
          <a:ext cx="578160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6880" y="260280"/>
                    <a:ext cx="57816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improve the cutback design (or the whole pit design)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ntifying grade risk in each design and select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228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verlap the cutback design using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m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mod with sim2.mod:</a:t>
            </a:r>
            <a:endParaRPr b="0" lang="en-US" sz="36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63" name=""/>
          <p:cNvSpPr/>
          <p:nvPr/>
        </p:nvSpPr>
        <p:spPr>
          <a:xfrm>
            <a:off x="2004840" y="3895560"/>
            <a:ext cx="990720" cy="0"/>
          </a:xfrm>
          <a:prstGeom prst="line">
            <a:avLst/>
          </a:prstGeom>
          <a:ln w="7632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1676160" cy="1245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87600" y="3233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029040" y="3324240"/>
            <a:ext cx="2209680" cy="1504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838600" y="2362320"/>
            <a:ext cx="2922480" cy="82548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1 has values 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sim1.mod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005360"/>
            <a:ext cx="990720" cy="0"/>
          </a:xfrm>
          <a:prstGeom prst="line">
            <a:avLst/>
          </a:prstGeom>
          <a:ln w="7632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6253200" y="3333600"/>
            <a:ext cx="2209680" cy="15051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945040" y="2352600"/>
            <a:ext cx="2922480" cy="82548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1 has values 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sim2.mod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2.mod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1.pil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4876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2c.res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85800" y="439560"/>
          <a:ext cx="7848720" cy="603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39560"/>
                    <a:ext cx="7848720" cy="603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622440" y="495360"/>
          <a:ext cx="8064360" cy="598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495360"/>
                    <a:ext cx="806436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0"/>
            <a:ext cx="7391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A Gold Data Set</a:t>
            </a:r>
            <a:endParaRPr b="0" lang="en-US" sz="3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828800"/>
            <a:ext cx="8991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ontain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R: Fresh Ore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XOR: Oxide Ore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WS and OXWS: Waste material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533520" y="450720"/>
          <a:ext cx="7993080" cy="587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0720"/>
                    <a:ext cx="799308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1117440" y="2631960"/>
            <a:ext cx="7293960" cy="398880"/>
            <a:chOff x="1117440" y="2631960"/>
            <a:chExt cx="7293960" cy="398880"/>
          </a:xfrm>
        </p:grpSpPr>
        <p:sp>
          <p:nvSpPr>
            <p:cNvPr id="381" name=""/>
            <p:cNvSpPr/>
            <p:nvPr/>
          </p:nvSpPr>
          <p:spPr>
            <a:xfrm>
              <a:off x="7054200" y="263196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Reference</a:t>
              </a:r>
              <a:endParaRPr b="0" lang="en-US" sz="20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7440" y="2887560"/>
              <a:ext cx="594252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895480" y="2049480"/>
            <a:ext cx="4683240" cy="770040"/>
            <a:chOff x="2895480" y="2049480"/>
            <a:chExt cx="4683240" cy="770040"/>
          </a:xfrm>
        </p:grpSpPr>
        <p:sp>
          <p:nvSpPr>
            <p:cNvPr id="384" name=""/>
            <p:cNvSpPr/>
            <p:nvPr/>
          </p:nvSpPr>
          <p:spPr>
            <a:xfrm>
              <a:off x="6451560" y="2183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side</a:t>
              </a:r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895480" y="2049480"/>
              <a:ext cx="2021040" cy="770040"/>
              <a:chOff x="2895480" y="2049480"/>
              <a:chExt cx="2021040" cy="770040"/>
            </a:xfrm>
          </p:grpSpPr>
          <p:sp>
            <p:nvSpPr>
              <p:cNvPr id="386" name=""/>
              <p:cNvSpPr/>
              <p:nvPr/>
            </p:nvSpPr>
            <p:spPr>
              <a:xfrm>
                <a:off x="4789800" y="2476440"/>
                <a:ext cx="126720" cy="343080"/>
              </a:xfrm>
              <a:prstGeom prst="upDownArrow">
                <a:avLst>
                  <a:gd name="adj1" fmla="val 50000"/>
                  <a:gd name="adj2" fmla="val 53897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Extra Bold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95480" y="2049480"/>
                <a:ext cx="126360" cy="727200"/>
              </a:xfrm>
              <a:prstGeom prst="upDownArrow">
                <a:avLst>
                  <a:gd name="adj1" fmla="val 50000"/>
                  <a:gd name="adj2" fmla="val 114567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Extra Bold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2895480" y="3059280"/>
            <a:ext cx="5068440" cy="598320"/>
            <a:chOff x="2895480" y="3059280"/>
            <a:chExt cx="5068440" cy="598320"/>
          </a:xfrm>
        </p:grpSpPr>
        <p:sp>
          <p:nvSpPr>
            <p:cNvPr id="389" name=""/>
            <p:cNvSpPr/>
            <p:nvPr/>
          </p:nvSpPr>
          <p:spPr>
            <a:xfrm>
              <a:off x="6448320" y="309240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wnside</a:t>
              </a:r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895480" y="3059280"/>
              <a:ext cx="2058120" cy="598320"/>
              <a:chOff x="2895480" y="3059280"/>
              <a:chExt cx="2058120" cy="598320"/>
            </a:xfrm>
          </p:grpSpPr>
          <p:sp>
            <p:nvSpPr>
              <p:cNvPr id="391" name=""/>
              <p:cNvSpPr/>
              <p:nvPr/>
            </p:nvSpPr>
            <p:spPr>
              <a:xfrm>
                <a:off x="2895480" y="3059280"/>
                <a:ext cx="121320" cy="340920"/>
              </a:xfrm>
              <a:prstGeom prst="upDownArrow">
                <a:avLst>
                  <a:gd name="adj1" fmla="val 50000"/>
                  <a:gd name="adj2" fmla="val 55941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Extra Bold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32640" y="3059280"/>
                <a:ext cx="120960" cy="598320"/>
              </a:xfrm>
              <a:prstGeom prst="upDownArrow">
                <a:avLst>
                  <a:gd name="adj1" fmla="val 50000"/>
                  <a:gd name="adj2" fmla="val 98470"/>
                </a:avLst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Extra Bold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2583000" y="2031840"/>
            <a:ext cx="112680" cy="1368360"/>
            <a:chOff x="2583000" y="2031840"/>
            <a:chExt cx="112680" cy="1368360"/>
          </a:xfrm>
        </p:grpSpPr>
        <p:sp>
          <p:nvSpPr>
            <p:cNvPr id="394" name=""/>
            <p:cNvSpPr/>
            <p:nvPr/>
          </p:nvSpPr>
          <p:spPr>
            <a:xfrm>
              <a:off x="2639880" y="2074680"/>
              <a:ext cx="0" cy="1325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3000" y="216036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83000" y="233208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83000" y="203184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83000" y="314460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83000" y="335736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83000" y="2587680"/>
              <a:ext cx="1126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284800" y="2502000"/>
            <a:ext cx="110880" cy="1069920"/>
            <a:chOff x="5284800" y="2502000"/>
            <a:chExt cx="110880" cy="1069920"/>
          </a:xfrm>
        </p:grpSpPr>
        <p:sp>
          <p:nvSpPr>
            <p:cNvPr id="402" name=""/>
            <p:cNvSpPr/>
            <p:nvPr/>
          </p:nvSpPr>
          <p:spPr>
            <a:xfrm>
              <a:off x="5340960" y="2502000"/>
              <a:ext cx="0" cy="106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84800" y="322884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84800" y="305892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4800" y="250200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84800" y="271620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84800" y="3400200"/>
              <a:ext cx="110880" cy="42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84800" y="3528720"/>
              <a:ext cx="110880" cy="42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409" name=""/>
          <p:cNvSpPr/>
          <p:nvPr/>
        </p:nvSpPr>
        <p:spPr>
          <a:xfrm rot="16122000">
            <a:off x="287280" y="2511000"/>
            <a:ext cx="498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C F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0" name=""/>
          <p:cNvSpPr/>
          <p:nvPr/>
        </p:nvSpPr>
        <p:spPr>
          <a:xfrm>
            <a:off x="6861240" y="48006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t design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480060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8006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19320" y="4114800"/>
            <a:ext cx="1265760" cy="459720"/>
            <a:chOff x="1219320" y="4114800"/>
            <a:chExt cx="1265760" cy="459720"/>
          </a:xfrm>
        </p:grpSpPr>
        <p:sp>
          <p:nvSpPr>
            <p:cNvPr id="414" name=""/>
            <p:cNvSpPr/>
            <p:nvPr/>
          </p:nvSpPr>
          <p:spPr>
            <a:xfrm>
              <a:off x="1219320" y="4381200"/>
              <a:ext cx="228240" cy="71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27120" y="411480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ffffff"/>
                  </a:solidFill>
                  <a:latin typeface="Arial"/>
                </a:rPr>
                <a:t>Value</a:t>
              </a:r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33520" y="763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Upside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 Potential </a:t>
            </a: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/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Downside 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Risk</a:t>
            </a: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143000" y="1294920"/>
            <a:ext cx="0" cy="3429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4724280"/>
            <a:ext cx="7010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90720" y="5715000"/>
            <a:ext cx="8153280" cy="685800"/>
            <a:chOff x="990720" y="5715000"/>
            <a:chExt cx="8153280" cy="685800"/>
          </a:xfrm>
        </p:grpSpPr>
        <p:sp>
          <p:nvSpPr>
            <p:cNvPr id="420" name=""/>
            <p:cNvSpPr/>
            <p:nvPr/>
          </p:nvSpPr>
          <p:spPr>
            <a:xfrm>
              <a:off x="990720" y="5715000"/>
              <a:ext cx="8153280" cy="685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graphicFrame>
          <p:nvGraphicFramePr>
            <p:cNvPr id="421" name=""/>
            <p:cNvGraphicFramePr/>
            <p:nvPr/>
          </p:nvGraphicFramePr>
          <p:xfrm>
            <a:off x="2590920" y="5715000"/>
            <a:ext cx="6553080" cy="649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90920" y="5715000"/>
                      <a:ext cx="655308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3" name=""/>
            <p:cNvSpPr/>
            <p:nvPr/>
          </p:nvSpPr>
          <p:spPr>
            <a:xfrm>
              <a:off x="990720" y="5742000"/>
              <a:ext cx="1684080" cy="520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5ffff"/>
                  </a:solidFill>
                  <a:latin typeface="Times New Roman"/>
                </a:rPr>
                <a:t>Upside or </a:t>
              </a:r>
              <a:endParaRPr b="0" lang="en-US" sz="28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95880" y="5715000"/>
              <a:ext cx="838440" cy="550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d1e07"/>
                  </a:solidFill>
                  <a:latin typeface="Times New Roman"/>
                </a:rPr>
                <a:t>Ref</a:t>
              </a:r>
              <a:endParaRPr b="0" lang="en-US" sz="30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01280" y="5943600"/>
            <a:ext cx="51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Section at 10,000 m East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039680"/>
            <a:ext cx="8964720" cy="5651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4080" y="5714280"/>
            <a:ext cx="51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Section at 10,000 m East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94" name=""/>
          <p:cNvSpPr/>
          <p:nvPr/>
        </p:nvSpPr>
        <p:spPr>
          <a:xfrm>
            <a:off x="6205680" y="1052640"/>
            <a:ext cx="3200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049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Estimated Orebody Model</a:t>
            </a:r>
            <a:endParaRPr b="0" lang="en-US" sz="3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991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itional pit design: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orting orebody model generated by Kriging estimation method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pit shells and find ultimate pit limits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cutbacks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ptimisation</a:t>
            </a: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1</a:t>
            </a:r>
            <a:endParaRPr b="0" lang="en-US" sz="40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4596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Tahoma"/>
              </a:rPr>
              <a:t>Quantifying Risk</a:t>
            </a: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 on the Cutbacks</a:t>
            </a:r>
            <a:endParaRPr b="0" lang="en-US" sz="3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743200"/>
            <a:ext cx="99072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86000" y="4191120"/>
            <a:ext cx="9144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1676160" cy="1246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6200" y="2014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04" name=""/>
          <p:cNvSpPr/>
          <p:nvPr/>
        </p:nvSpPr>
        <p:spPr>
          <a:xfrm>
            <a:off x="231480" y="1219320"/>
            <a:ext cx="27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rebody models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1676520" cy="1244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252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200400" y="2971800"/>
            <a:ext cx="2209680" cy="1504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355200" y="1981080"/>
            <a:ext cx="194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aditional 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143760" y="4683240"/>
            <a:ext cx="2603520" cy="991800"/>
            <a:chOff x="6143760" y="4683240"/>
            <a:chExt cx="2603520" cy="991800"/>
          </a:xfrm>
        </p:grpSpPr>
        <p:sp>
          <p:nvSpPr>
            <p:cNvPr id="110" name=""/>
            <p:cNvSpPr/>
            <p:nvPr/>
          </p:nvSpPr>
          <p:spPr>
            <a:xfrm>
              <a:off x="6180120" y="4683240"/>
              <a:ext cx="25653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80120" y="5402160"/>
              <a:ext cx="25653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80120" y="5160960"/>
              <a:ext cx="2565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80120" y="4924440"/>
              <a:ext cx="2565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80120" y="4683240"/>
              <a:ext cx="2565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80120" y="4683240"/>
              <a:ext cx="2565360" cy="957240"/>
            </a:xfrm>
            <a:prstGeom prst="rect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24760" y="5121360"/>
              <a:ext cx="61920" cy="5191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78680" y="4843440"/>
              <a:ext cx="61920" cy="7970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35840" y="4830840"/>
              <a:ext cx="63720" cy="80964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86680" y="5175360"/>
              <a:ext cx="63360" cy="4651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0600" y="4853160"/>
              <a:ext cx="66600" cy="78732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99560" y="4835520"/>
              <a:ext cx="61920" cy="804960"/>
            </a:xfrm>
            <a:prstGeom prst="rect">
              <a:avLst/>
            </a:prstGeom>
            <a:solidFill>
              <a:srgbClr val="99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50040" y="5111640"/>
              <a:ext cx="66600" cy="5288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07200" y="4781520"/>
              <a:ext cx="63720" cy="85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61480" y="4754520"/>
              <a:ext cx="66600" cy="885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16640" y="5129280"/>
              <a:ext cx="61920" cy="511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4799160"/>
              <a:ext cx="61920" cy="841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28080" y="4776840"/>
              <a:ext cx="63360" cy="8636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8560" y="5111640"/>
              <a:ext cx="63360" cy="5288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2840" y="4835520"/>
              <a:ext cx="63360" cy="804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91440" y="4821120"/>
              <a:ext cx="61920" cy="819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41920" y="5133960"/>
              <a:ext cx="61920" cy="5065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6200" y="4853160"/>
              <a:ext cx="66600" cy="787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53360" y="4843440"/>
              <a:ext cx="63720" cy="797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03840" y="5170320"/>
              <a:ext cx="63720" cy="4701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62800" y="4888080"/>
              <a:ext cx="61920" cy="7524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7080" y="4870440"/>
              <a:ext cx="61920" cy="770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67560" y="5133960"/>
              <a:ext cx="61920" cy="5065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4720" y="4821120"/>
              <a:ext cx="63360" cy="819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79000" y="4803840"/>
              <a:ext cx="61560" cy="8366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29480" y="5116680"/>
              <a:ext cx="66600" cy="523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88080" y="4799160"/>
              <a:ext cx="61920" cy="841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40560" y="4776840"/>
              <a:ext cx="68400" cy="8636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6080" y="5143680"/>
              <a:ext cx="63360" cy="496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50000" y="4870440"/>
              <a:ext cx="66960" cy="770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08960" y="4861080"/>
              <a:ext cx="61920" cy="7794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9440" y="5121360"/>
              <a:ext cx="61920" cy="519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16960" y="4799160"/>
              <a:ext cx="63360" cy="841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70880" y="4794120"/>
              <a:ext cx="63360" cy="846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21360" y="5143680"/>
              <a:ext cx="63720" cy="496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80320" y="4786200"/>
              <a:ext cx="61920" cy="854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34240" y="4754520"/>
              <a:ext cx="61920" cy="885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0120" y="4683240"/>
              <a:ext cx="1440" cy="9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43760" y="564048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43760" y="5402160"/>
              <a:ext cx="363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43760" y="516096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3760" y="492444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43760" y="468324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80120" y="5640480"/>
              <a:ext cx="2565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180120" y="5640120"/>
              <a:ext cx="144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034040" y="5640120"/>
              <a:ext cx="180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891560" y="5640120"/>
              <a:ext cx="144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745480" y="5640120"/>
              <a:ext cx="180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972040" y="546084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64" name=""/>
          <p:cNvSpPr/>
          <p:nvPr/>
        </p:nvSpPr>
        <p:spPr>
          <a:xfrm>
            <a:off x="5943240" y="49528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65" name=""/>
          <p:cNvSpPr/>
          <p:nvPr/>
        </p:nvSpPr>
        <p:spPr>
          <a:xfrm>
            <a:off x="5943240" y="441972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4974840" y="493092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Gold (Mgr)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143760" y="3246480"/>
            <a:ext cx="2604960" cy="828720"/>
            <a:chOff x="6143760" y="3246480"/>
            <a:chExt cx="2604960" cy="828720"/>
          </a:xfrm>
        </p:grpSpPr>
        <p:sp>
          <p:nvSpPr>
            <p:cNvPr id="168" name=""/>
            <p:cNvSpPr/>
            <p:nvPr/>
          </p:nvSpPr>
          <p:spPr>
            <a:xfrm>
              <a:off x="6180120" y="3246480"/>
              <a:ext cx="25671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80120" y="3875040"/>
              <a:ext cx="25671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80120" y="371484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80120" y="356076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80120" y="340056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80120" y="324648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80120" y="3246480"/>
              <a:ext cx="2567160" cy="782640"/>
            </a:xfrm>
            <a:prstGeom prst="rect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1520" y="3697200"/>
              <a:ext cx="60120" cy="33192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75440" y="3452760"/>
              <a:ext cx="60480" cy="57636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34400" y="3435480"/>
              <a:ext cx="60120" cy="59364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81640" y="3720960"/>
              <a:ext cx="55800" cy="30816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35920" y="3435480"/>
              <a:ext cx="60120" cy="59364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94520" y="3417840"/>
              <a:ext cx="55800" cy="611280"/>
            </a:xfrm>
            <a:prstGeom prst="rect">
              <a:avLst/>
            </a:prstGeom>
            <a:solidFill>
              <a:srgbClr val="99336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37440" y="3714840"/>
              <a:ext cx="60120" cy="314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96040" y="3417840"/>
              <a:ext cx="55800" cy="611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50320" y="3395520"/>
              <a:ext cx="60120" cy="6336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97560" y="3692520"/>
              <a:ext cx="60480" cy="3366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51840" y="3411360"/>
              <a:ext cx="60120" cy="6177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10440" y="3382920"/>
              <a:ext cx="60480" cy="646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58040" y="3703680"/>
              <a:ext cx="57240" cy="325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11960" y="3446640"/>
              <a:ext cx="61920" cy="5824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70920" y="3429000"/>
              <a:ext cx="57240" cy="600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15280" y="3703680"/>
              <a:ext cx="60120" cy="325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73880" y="3452760"/>
              <a:ext cx="60480" cy="576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28160" y="3440160"/>
              <a:ext cx="60120" cy="58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75400" y="3710160"/>
              <a:ext cx="6048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34360" y="3440160"/>
              <a:ext cx="55440" cy="58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88280" y="3417840"/>
              <a:ext cx="60480" cy="611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35880" y="3710160"/>
              <a:ext cx="6012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89800" y="3446640"/>
              <a:ext cx="60480" cy="5824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48760" y="3424320"/>
              <a:ext cx="60120" cy="604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96000" y="3720960"/>
              <a:ext cx="55800" cy="3081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0280" y="3446640"/>
              <a:ext cx="60120" cy="5824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08880" y="3424320"/>
              <a:ext cx="55800" cy="604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51800" y="3710160"/>
              <a:ext cx="6012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10400" y="3452760"/>
              <a:ext cx="60480" cy="5763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64680" y="3440160"/>
              <a:ext cx="60120" cy="58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11920" y="3720960"/>
              <a:ext cx="60480" cy="3081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70880" y="3411360"/>
              <a:ext cx="55440" cy="6177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24800" y="3406680"/>
              <a:ext cx="60480" cy="622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72400" y="3710160"/>
              <a:ext cx="5544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26320" y="3406680"/>
              <a:ext cx="60480" cy="622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85280" y="3378240"/>
              <a:ext cx="55440" cy="6508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27840" y="3710160"/>
              <a:ext cx="60480" cy="318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86800" y="3395520"/>
              <a:ext cx="60120" cy="6336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40720" y="3367080"/>
              <a:ext cx="60480" cy="662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80120" y="3246480"/>
              <a:ext cx="1440" cy="782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43760" y="402912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43760" y="3875040"/>
              <a:ext cx="363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760" y="371484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3760" y="356076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43760" y="340056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43760" y="3246480"/>
              <a:ext cx="36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80120" y="4029120"/>
              <a:ext cx="2567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180120" y="4029120"/>
              <a:ext cx="144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034040" y="4029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93000" y="4029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747280" y="4029120"/>
              <a:ext cx="144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743440" y="3711600"/>
            <a:ext cx="38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27" name=""/>
          <p:cNvSpPr/>
          <p:nvPr/>
        </p:nvSpPr>
        <p:spPr>
          <a:xfrm>
            <a:off x="5752800" y="3379680"/>
            <a:ext cx="38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28" name=""/>
          <p:cNvSpPr/>
          <p:nvPr/>
        </p:nvSpPr>
        <p:spPr>
          <a:xfrm>
            <a:off x="5775120" y="3000240"/>
            <a:ext cx="38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928040" y="3312360"/>
            <a:ext cx="131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Mt)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106668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B-1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106668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B-2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6668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B-3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033960" y="1684440"/>
            <a:ext cx="2573640" cy="977760"/>
            <a:chOff x="6033960" y="1684440"/>
            <a:chExt cx="2573640" cy="977760"/>
          </a:xfrm>
        </p:grpSpPr>
        <p:sp>
          <p:nvSpPr>
            <p:cNvPr id="234" name=""/>
            <p:cNvSpPr/>
            <p:nvPr/>
          </p:nvSpPr>
          <p:spPr>
            <a:xfrm>
              <a:off x="6070680" y="1684440"/>
              <a:ext cx="25351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0680" y="2427120"/>
              <a:ext cx="25351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44600"/>
              <a:ext cx="25351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70680" y="2055960"/>
              <a:ext cx="25351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70680" y="1873080"/>
              <a:ext cx="25351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0680" y="1684440"/>
              <a:ext cx="25351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70680" y="1684440"/>
              <a:ext cx="2535120" cy="931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13520" y="2062080"/>
              <a:ext cx="60120" cy="55404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58080" y="1998720"/>
              <a:ext cx="60120" cy="61740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2640" y="1998720"/>
              <a:ext cx="60120" cy="61740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3640" y="2141640"/>
              <a:ext cx="55800" cy="47448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18200" y="2062080"/>
              <a:ext cx="55800" cy="55404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62760" y="2055960"/>
              <a:ext cx="55800" cy="560160"/>
            </a:xfrm>
            <a:prstGeom prst="rect">
              <a:avLst/>
            </a:prstGeom>
            <a:solidFill>
              <a:srgbClr val="ff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29440" y="2021040"/>
              <a:ext cx="6012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74000" y="1924200"/>
              <a:ext cx="60120" cy="6919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18560" y="1919160"/>
              <a:ext cx="60120" cy="6969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89560" y="2095560"/>
              <a:ext cx="55800" cy="52056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34120" y="1969920"/>
              <a:ext cx="55800" cy="646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78680" y="1963800"/>
              <a:ext cx="55800" cy="652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038320"/>
              <a:ext cx="60120" cy="5778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89920" y="2004840"/>
              <a:ext cx="60120" cy="611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34480" y="2004840"/>
              <a:ext cx="60120" cy="611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5480" y="2084400"/>
              <a:ext cx="55800" cy="5317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50040" y="2021040"/>
              <a:ext cx="5580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94600" y="2021040"/>
              <a:ext cx="5724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61280" y="2158920"/>
              <a:ext cx="60120" cy="457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05840" y="2124000"/>
              <a:ext cx="60120" cy="492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51840" y="2124000"/>
              <a:ext cx="60120" cy="492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21400" y="2077920"/>
              <a:ext cx="55440" cy="538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65960" y="1969920"/>
              <a:ext cx="55440" cy="6462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11960" y="1963800"/>
              <a:ext cx="55800" cy="652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76840" y="2016000"/>
              <a:ext cx="60480" cy="6001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21400" y="1901880"/>
              <a:ext cx="60480" cy="7142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67760" y="1895400"/>
              <a:ext cx="60120" cy="7207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37320" y="2106720"/>
              <a:ext cx="55440" cy="50940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81880" y="2084400"/>
              <a:ext cx="57240" cy="5317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27880" y="2084400"/>
              <a:ext cx="55800" cy="5317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92760" y="2044800"/>
              <a:ext cx="60480" cy="57132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9120" y="1981080"/>
              <a:ext cx="60120" cy="635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3680" y="1981080"/>
              <a:ext cx="60120" cy="6350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53240" y="2101680"/>
              <a:ext cx="55440" cy="5144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99240" y="1952640"/>
              <a:ext cx="55800" cy="6634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43800" y="1941480"/>
              <a:ext cx="55800" cy="67464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08680" y="2112840"/>
              <a:ext cx="60480" cy="5032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55040" y="2021040"/>
              <a:ext cx="6012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99600" y="2021040"/>
              <a:ext cx="60120" cy="595080"/>
            </a:xfrm>
            <a:prstGeom prst="rect">
              <a:avLst/>
            </a:prstGeom>
            <a:solidFill>
              <a:srgbClr val="0099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70680" y="1684440"/>
              <a:ext cx="1440" cy="9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33960" y="2616120"/>
              <a:ext cx="367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33960" y="2427120"/>
              <a:ext cx="367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244600"/>
              <a:ext cx="367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33960" y="2055960"/>
              <a:ext cx="367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3960" y="1873080"/>
              <a:ext cx="367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33960" y="1684440"/>
              <a:ext cx="367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70680" y="2616120"/>
              <a:ext cx="25351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070680" y="2616120"/>
              <a:ext cx="144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916680" y="2616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761240" y="2616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605800" y="2616120"/>
              <a:ext cx="180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Extra Bold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827320" y="223056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3" name=""/>
          <p:cNvSpPr/>
          <p:nvPr/>
        </p:nvSpPr>
        <p:spPr>
          <a:xfrm>
            <a:off x="5702040" y="18558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4" name=""/>
          <p:cNvSpPr/>
          <p:nvPr/>
        </p:nvSpPr>
        <p:spPr>
          <a:xfrm>
            <a:off x="5714640" y="152388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796280" y="1756800"/>
            <a:ext cx="144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DC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$)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1036800"/>
            <a:ext cx="8839080" cy="5144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 flipV="1">
            <a:off x="5486400" y="20570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12952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ltimate pit limits for kriging model</a:t>
            </a:r>
            <a:endParaRPr b="0" lang="en-US" sz="28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228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Best Case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V="1">
            <a:off x="6438960" y="13716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685800"/>
            <a:ext cx="228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ltimate Pit Limits Using Kriging model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522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CF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$M)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V="1">
            <a:off x="6338880" y="132876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685800"/>
            <a:ext cx="228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ltimate Pit Limits Using Kriging model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522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e Tonnage (M. Tons)</a:t>
            </a:r>
            <a:endParaRPr b="0" lang="en-US" sz="2400" spc="-1" strike="noStrike">
              <a:solidFill>
                <a:srgbClr val="ffffff"/>
              </a:solidFill>
              <a:latin typeface="Abadi MT Condensed Extra 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art 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nalysis for the cutback design and schedul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f in reality is like one of the simulated scenarios of the orebody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3:56:10Z</dcterms:created>
  <dc:creator>visitor1</dc:creator>
  <dc:description/>
  <dc:language>en-US</dc:language>
  <cp:lastModifiedBy>rdimit</cp:lastModifiedBy>
  <dcterms:modified xsi:type="dcterms:W3CDTF">2008-12-06T04:54:15Z</dcterms:modified>
  <cp:revision>134</cp:revision>
  <dc:subject/>
  <dc:title>GEOSTATISTICAL  TEXTBOOKS</dc:title>
</cp:coreProperties>
</file>