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move the slid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4BAC-B6E4-4480-A470-F50E1443BD6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704F-93A1-4E8C-8BB0-324E9F0D15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1837-DF69-44B8-928A-08161EE925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b61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gartner.com/silentlocalechooser.jsp?locale=wcw" TargetMode="Externa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youtube.com/watch?v=AIXubjbO6Rk" TargetMode="External"/><Relationship Id="rId3" Type="http://schemas.openxmlformats.org/officeDocument/2006/relationships/image" Target="../media/image11.png"/><Relationship Id="rId4" Type="http://schemas.openxmlformats.org/officeDocument/2006/relationships/hyperlink" Target="http://www.youtube.com/watch?v=FLxB4pHH_GY" TargetMode="External"/><Relationship Id="rId5" Type="http://schemas.openxmlformats.org/officeDocument/2006/relationships/image" Target="../media/image12.png"/><Relationship Id="rId6" Type="http://schemas.openxmlformats.org/officeDocument/2006/relationships/hyperlink" Target="http://www.youtube.com/watch?v=LHFcGgoS1W8" TargetMode="External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hyperlink" Target="http://es.youtube.com/watch?v=CzYzVXxbAoA&amp;feature=related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gartner.com/silentlocalechooser.jsp?locale=wcw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9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6b61"/>
                </a:solidFill>
                <a:latin typeface="Book Antiqua"/>
              </a:rPr>
              <a:t>Introduc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78920" y="2865600"/>
            <a:ext cx="87138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ecnologías de Información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obierno Electrón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ploma en Gerencia Pública – POLI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ván B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3889440" cy="13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22" name="_s605191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605192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Proyectos en Chi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605193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_s605194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genda Digita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605195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_s605196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cepto de e-gov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605197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605198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Model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electrónic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negoci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_s605199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605200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vance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_s605201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obiern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Electrónic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482760" y="1949400"/>
            <a:ext cx="8139600" cy="4082040"/>
            <a:chOff x="482760" y="1949400"/>
            <a:chExt cx="8139600" cy="4082040"/>
          </a:xfrm>
        </p:grpSpPr>
        <p:sp>
          <p:nvSpPr>
            <p:cNvPr id="135" name="_s606225"/>
            <p:cNvSpPr/>
            <p:nvPr/>
          </p:nvSpPr>
          <p:spPr>
            <a:xfrm flipH="1" flipV="1">
              <a:off x="2540160" y="3809520"/>
              <a:ext cx="1007640" cy="16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606224"/>
            <p:cNvSpPr/>
            <p:nvPr/>
          </p:nvSpPr>
          <p:spPr>
            <a:xfrm>
              <a:off x="482760" y="30913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Factores crít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de éxi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_s606215"/>
            <p:cNvSpPr/>
            <p:nvPr/>
          </p:nvSpPr>
          <p:spPr>
            <a:xfrm flipH="1">
              <a:off x="3312360" y="4592880"/>
              <a:ext cx="619920" cy="44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606216"/>
            <p:cNvSpPr/>
            <p:nvPr/>
          </p:nvSpPr>
          <p:spPr>
            <a:xfrm>
              <a:off x="1638360" y="49316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Adquisiciones 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_s606217"/>
            <p:cNvSpPr/>
            <p:nvPr/>
          </p:nvSpPr>
          <p:spPr>
            <a:xfrm>
              <a:off x="5172840" y="4592880"/>
              <a:ext cx="623880" cy="44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_s606218"/>
            <p:cNvSpPr/>
            <p:nvPr/>
          </p:nvSpPr>
          <p:spPr>
            <a:xfrm>
              <a:off x="5359680" y="49298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eneficios de las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_s606219"/>
            <p:cNvSpPr/>
            <p:nvPr/>
          </p:nvSpPr>
          <p:spPr>
            <a:xfrm flipV="1">
              <a:off x="5557320" y="3807720"/>
              <a:ext cx="1004400" cy="17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_s606220"/>
            <p:cNvSpPr/>
            <p:nvPr/>
          </p:nvSpPr>
          <p:spPr>
            <a:xfrm>
              <a:off x="6508080" y="308772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l pl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estratégic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_s606221"/>
            <p:cNvSpPr/>
            <p:nvPr/>
          </p:nvSpPr>
          <p:spPr>
            <a:xfrm flipV="1">
              <a:off x="45525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_s606222"/>
            <p:cNvSpPr/>
            <p:nvPr/>
          </p:nvSpPr>
          <p:spPr>
            <a:xfrm>
              <a:off x="34956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Administració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proyec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700" spc="-1" strike="noStrike">
                  <a:solidFill>
                    <a:srgbClr val="000000"/>
                  </a:solidFill>
                  <a:latin typeface="Arial"/>
                </a:rPr>
                <a:t>de 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_s606223"/>
            <p:cNvSpPr/>
            <p:nvPr/>
          </p:nvSpPr>
          <p:spPr>
            <a:xfrm>
              <a:off x="34956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las TI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Calendari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6 de Julio: Clase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1 de Octubre : Clases 2 y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5 de Octubre: Clases 4 y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8 de Noviembre: Clases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1 de Noviembre: Clases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2 de Noviembre: Clase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5 de Diciembre: Clase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6b61"/>
                </a:solidFill>
                <a:latin typeface="Book Antiqua"/>
              </a:rPr>
              <a:t>Metodología</a:t>
            </a:r>
            <a:br>
              <a:rPr sz="4000"/>
            </a:b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metodología del programa consiste en los siguientes asp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visión de ca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most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posiciones de especialistas invi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de referencia con base en la bibliograf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rcicios de a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valuación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evaluación del curso se realizará a través los siguientes mecanis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reas asociados a los tópicos revisados durante el cur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bajo de aplicación asociado al caso que se desarrolla durante todo el diplom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50920" y="1341360"/>
          <a:ext cx="835344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3534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7162920" cy="451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800" spc="-1" strike="noStrike">
              <a:solidFill>
                <a:srgbClr val="006b61"/>
              </a:solidFill>
              <a:latin typeface="Book Antiqua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239240" cy="48942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2920" y="189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T explica más del 50% de la ganancia de productividad de la economía norteamericana desde el año 9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13105" t="5316" r="15874" b="3741"/>
          <a:stretch/>
        </p:blipFill>
        <p:spPr>
          <a:xfrm>
            <a:off x="395280" y="1341360"/>
            <a:ext cx="8748720" cy="525636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7500600" y="6613560"/>
            <a:ext cx="16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uente: www.nasdaq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5054400" y="2133720"/>
            <a:ext cx="1944360" cy="28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Evolución del NASDAQ-100 </a:t>
            </a:r>
            <a:br>
              <a:rPr sz="1800"/>
            </a:br>
            <a:r>
              <a:rPr b="0" lang="es-CL" sz="1800" spc="-1" strike="noStrike">
                <a:solidFill>
                  <a:srgbClr val="006b61"/>
                </a:solidFill>
                <a:latin typeface="Book Antiqua"/>
              </a:rPr>
              <a:t>1999 - 2005</a:t>
            </a:r>
            <a:endParaRPr b="0" lang="en-US" sz="18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65" name=""/>
          <p:cNvSpPr/>
          <p:nvPr/>
        </p:nvSpPr>
        <p:spPr>
          <a:xfrm>
            <a:off x="1980360" y="40464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Times New Roman"/>
              </a:rPr>
              <a:t>La Burbuja de las nuevas tecnolog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Alcance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lantear la motivación del curso, sus objetivos, programa y la forma en que se desarrollará y evaluar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894880" cy="126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2"/>
          <a:stretch/>
        </p:blipFill>
        <p:spPr>
          <a:xfrm>
            <a:off x="928800" y="1569960"/>
            <a:ext cx="7143480" cy="52880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gartner.com/it/images/homepage/gartner136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72240" y="1714680"/>
            <a:ext cx="1162080" cy="295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4240" y="4643280"/>
            <a:ext cx="2095560" cy="1484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00800" y="1857240"/>
            <a:ext cx="2857320" cy="471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14240" y="1571760"/>
            <a:ext cx="2276640" cy="2639880"/>
          </a:xfrm>
          <a:prstGeom prst="rect">
            <a:avLst/>
          </a:prstGeom>
          <a:ln w="0">
            <a:noFill/>
          </a:ln>
        </p:spPr>
      </p:pic>
      <p:pic>
        <p:nvPicPr>
          <p:cNvPr id="173" name="Right Arrow 8" descr=""/>
          <p:cNvPicPr/>
          <p:nvPr/>
        </p:nvPicPr>
        <p:blipFill>
          <a:blip r:embed="rId8"/>
          <a:stretch/>
        </p:blipFill>
        <p:spPr>
          <a:xfrm>
            <a:off x="2865600" y="3505320"/>
            <a:ext cx="2815920" cy="1736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-10080" y="6275520"/>
            <a:ext cx="742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http://es.youtube.com/watch?v=CzYzVXxbAoA&amp;feature=relate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344520"/>
            <a:ext cx="4608720" cy="10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b61"/>
                </a:solidFill>
                <a:latin typeface="Book Antiqua"/>
              </a:rPr>
              <a:t>Internet se está incorporando mucho más rápido que otras tecnologías.</a:t>
            </a:r>
            <a:endParaRPr b="0" lang="en-US" sz="2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929280" cy="4592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601640" y="5883120"/>
            <a:ext cx="647712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3560" y="5806080"/>
            <a:ext cx="81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0                  20                  40                  60                  80                 100                 1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609000" y="6230520"/>
            <a:ext cx="28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iempo desde la int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03000">
            <a:off x="-490320" y="3635280"/>
            <a:ext cx="311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enetración (%  de la pobl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Convergencia de Industrias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11200" y="1976400"/>
            <a:ext cx="6669000" cy="3774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455840" y="23245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1760" y="3519720"/>
            <a:ext cx="2730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nvergencia de voz/datos/vid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áfico digital excede al analó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reg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09040" y="232452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20000" y="3427560"/>
            <a:ext cx="212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stándares Abier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ey de Mo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volución hacia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66800" y="498204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67640" y="5797800"/>
            <a:ext cx="270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pacidades Multimed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anejo de Derechos de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86640" y="5882040"/>
            <a:ext cx="188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cnología Dispon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ercanía al us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00880" y="4799160"/>
            <a:ext cx="257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232323"/>
                </a:solidFill>
                <a:latin typeface="Times New Roman"/>
              </a:rPr>
              <a:t>Electrónica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360" y="637920"/>
            <a:ext cx="6902640" cy="46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b61"/>
                </a:solidFill>
                <a:latin typeface="Book Antiqua"/>
              </a:rPr>
              <a:t>Una reflexión acerca de la Productividad de las TI</a:t>
            </a:r>
            <a:endParaRPr b="0" lang="en-US" sz="3200" spc="-1" strike="noStrike">
              <a:solidFill>
                <a:srgbClr val="006b61"/>
              </a:solidFill>
              <a:latin typeface="Book Antiqua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2254320"/>
          <a:ext cx="4773600" cy="2557440"/>
        </p:xfrm>
        <a:graphic>
          <a:graphicData uri="http://schemas.openxmlformats.org/drawingml/2006/table">
            <a:tbl>
              <a:tblPr/>
              <a:tblGrid>
                <a:gridCol w="2386800"/>
                <a:gridCol w="2386800"/>
              </a:tblGrid>
              <a:tr h="127836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79080"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360" rIns="90360" tIns="44280" bIns="442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360" marR="90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94" name=""/>
          <p:cNvSpPr/>
          <p:nvPr/>
        </p:nvSpPr>
        <p:spPr>
          <a:xfrm>
            <a:off x="1663560" y="1731960"/>
            <a:ext cx="54864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mpacto en Aumento de  Productividad (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361440" y="2349000"/>
            <a:ext cx="1010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 vert="eaVert">
            <a:spAutoFit/>
          </a:bodyPr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acticas de Gest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95560" y="5105520"/>
            <a:ext cx="5054400" cy="14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-)                                          (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nsidad de us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29400" y="3476520"/>
            <a:ext cx="2260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u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studio hecho en el 2004 por Mackinsey en 100 empresas en EEUU y Europa en un período de 9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6b61"/>
                </a:solidFill>
                <a:latin typeface="Book Antiqua"/>
              </a:rPr>
              <a:t>Esencia de las T.I.</a:t>
            </a:r>
            <a:endParaRPr b="0" lang="en-US" sz="40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57578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rramientas que permi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ptu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ransmi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c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lmace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pleg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3213000"/>
            <a:ext cx="215640" cy="2305080"/>
          </a:xfrm>
          <a:custGeom>
            <a:avLst/>
            <a:gdLst>
              <a:gd name="textAreaLeft" fmla="*/ 0 w 215640"/>
              <a:gd name="textAreaRight" fmla="*/ 77760 w 21564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685320" y="4168800"/>
            <a:ext cx="260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tos 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7619760" cy="48006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40600" y="425520"/>
            <a:ext cx="66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ecnologías que permiten manejar 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256536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42920" y="2060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Captu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637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93080" y="350028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Proc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7280" y="436572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2000" y="522936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Almace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8360" y="2421000"/>
            <a:ext cx="2808360" cy="136836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3800" y="3284640"/>
            <a:ext cx="14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Desple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35640" y="4724280"/>
            <a:ext cx="2808360" cy="1368720"/>
          </a:xfrm>
          <a:prstGeom prst="ellipse">
            <a:avLst/>
          </a:prstGeom>
          <a:solidFill>
            <a:srgbClr val="ff00ff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99280" y="558792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Transmit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rot="1947000">
            <a:off x="5292360" y="4221000"/>
            <a:ext cx="1512720" cy="720720"/>
          </a:xfrm>
          <a:prstGeom prst="leftRightArrow">
            <a:avLst>
              <a:gd name="adj1" fmla="val 50000"/>
              <a:gd name="adj2" fmla="val 4178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http://www.gartner.com/it/images/homepage/gartner136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58040" y="4429080"/>
            <a:ext cx="1162080" cy="2952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tretch/>
        </p:blipFill>
        <p:spPr>
          <a:xfrm>
            <a:off x="7429680" y="4929120"/>
            <a:ext cx="1161720" cy="15908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 txBox="1"/>
          <p:nvPr/>
        </p:nvSpPr>
        <p:spPr>
          <a:xfrm>
            <a:off x="188640" y="1699920"/>
            <a:ext cx="6383160" cy="4105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1000"/>
          </a:bodyPr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ozIP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ash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lataformas web y las arquitecturas orientadas a la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 World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4600" indent="-25812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ftware soc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¿Por que surge este curso?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1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impacto de las TIC, Internet y su uso en el gobi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requiere una visión panorámica que nos permita entender esquemáticamente los conceptos y la situación actual respecto a este 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ar sistémicam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st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99"/>
              </a:spcBef>
              <a:buClr>
                <a:srgbClr val="00c0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 tecnologí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 un desafío clave, en los tiempos que cor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9360" y="1736640"/>
            <a:ext cx="610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C= Tecnologías de Información y Comun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Objetivos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4628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752480"/>
            <a:ext cx="8016840" cy="119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Entregar una visión introductoria esquemática de las TI y el gobierno electrónico, que permita entender sus posibilidades y beneficios, así como su estado actual de ev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3352680"/>
            <a:ext cx="802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e espera que al finalizar el curso, Usted sea capaz de entend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 importancia de la gestión de procesos en el uso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e se entiende por modelos electrónicos de negoc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concepto de e-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s tipos de solucione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as ventajas y beneficios que genera el gobierno electrónico, pero también las condiciones que se requieren para su aplic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l estado actual y las tendencias futuras en T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dentificar las iniciativas y posibilidades que se generan para el mundo públ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ticipar del diseño de estrategias y proyectos de gobierno 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20720" y="31543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dernización de la gestión públ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33760" y="3429000"/>
            <a:ext cx="30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y masifica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s 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45080" y="5222880"/>
            <a:ext cx="32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arrollo de negocios electró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006880"/>
            <a:ext cx="2449440" cy="1008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obier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ectró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0705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565080" y="4070520"/>
            <a:ext cx="86364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708360" y="551016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8920" y="1714680"/>
            <a:ext cx="21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os en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25800" y="22701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44360" y="2270160"/>
            <a:ext cx="1871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942160" y="407052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708360" y="4070160"/>
            <a:ext cx="136836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484360" y="4070520"/>
            <a:ext cx="0" cy="863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484360" y="2269800"/>
            <a:ext cx="0" cy="8636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97240" y="1989000"/>
            <a:ext cx="1995480" cy="11653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08360" y="5864400"/>
            <a:ext cx="1368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372360" y="4070160"/>
            <a:ext cx="0" cy="1152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79640" y="3851280"/>
            <a:ext cx="13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st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3059280" y="3494160"/>
            <a:ext cx="506160" cy="357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058920" y="4492800"/>
            <a:ext cx="237960" cy="44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211640" y="3741840"/>
            <a:ext cx="433440" cy="21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9040" y="60530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lementación eficiente de las 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297240" y="6014880"/>
            <a:ext cx="1347840" cy="22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b61"/>
                </a:solidFill>
                <a:latin typeface="Book Antiqua"/>
              </a:rPr>
              <a:t>Estructura del Curso</a:t>
            </a: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2384280"/>
            <a:ext cx="5400720" cy="64800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Proc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371600"/>
            <a:ext cx="3564000" cy="647640"/>
          </a:xfrm>
          <a:custGeom>
            <a:avLst/>
            <a:gdLst>
              <a:gd name="textAreaLeft" fmla="*/ 0 w 3564000"/>
              <a:gd name="textAreaRight" fmla="*/ 3564360 w 3564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357192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Sinopsis de Tecnologías Relev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50920" y="465300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obiern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0920" y="5732640"/>
            <a:ext cx="5400720" cy="64764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Gestión de las 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377720" y="1949400"/>
            <a:ext cx="6703560" cy="3574440"/>
            <a:chOff x="1377720" y="1949400"/>
            <a:chExt cx="6703560" cy="3574440"/>
          </a:xfrm>
        </p:grpSpPr>
        <p:sp>
          <p:nvSpPr>
            <p:cNvPr id="98" name="_s601100"/>
            <p:cNvSpPr/>
            <p:nvPr/>
          </p:nvSpPr>
          <p:spPr>
            <a:xfrm flipH="1">
              <a:off x="3114360" y="4421880"/>
              <a:ext cx="80712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_s601099"/>
            <p:cNvSpPr/>
            <p:nvPr/>
          </p:nvSpPr>
          <p:spPr>
            <a:xfrm>
              <a:off x="1377720" y="442404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Rediseñ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de 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601098"/>
            <p:cNvSpPr/>
            <p:nvPr/>
          </p:nvSpPr>
          <p:spPr>
            <a:xfrm>
              <a:off x="5534280" y="4424040"/>
              <a:ext cx="80784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_s601097"/>
            <p:cNvSpPr/>
            <p:nvPr/>
          </p:nvSpPr>
          <p:spPr>
            <a:xfrm>
              <a:off x="6217560" y="442188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Levantamiento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mape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601096"/>
            <p:cNvSpPr/>
            <p:nvPr/>
          </p:nvSpPr>
          <p:spPr>
            <a:xfrm flipV="1">
              <a:off x="472968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_s601095"/>
            <p:cNvSpPr/>
            <p:nvPr/>
          </p:nvSpPr>
          <p:spPr>
            <a:xfrm>
              <a:off x="3797640" y="1949400"/>
              <a:ext cx="186372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Concepto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66"/>
                  </a:solidFill>
                  <a:latin typeface="Arial"/>
                </a:rPr>
                <a:t>básic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_s601094"/>
            <p:cNvSpPr/>
            <p:nvPr/>
          </p:nvSpPr>
          <p:spPr>
            <a:xfrm>
              <a:off x="3797640" y="3598920"/>
              <a:ext cx="186372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Gestión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proceso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b61"/>
              </a:solidFill>
              <a:latin typeface="Book Antiqu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108440" y="1949400"/>
            <a:ext cx="7611480" cy="4397400"/>
            <a:chOff x="1108440" y="1949400"/>
            <a:chExt cx="7611480" cy="4397400"/>
          </a:xfrm>
        </p:grpSpPr>
        <p:sp>
          <p:nvSpPr>
            <p:cNvPr id="107" name="_s604268"/>
            <p:cNvSpPr/>
            <p:nvPr/>
          </p:nvSpPr>
          <p:spPr>
            <a:xfrm flipH="1" flipV="1">
              <a:off x="3081960" y="3598920"/>
              <a:ext cx="915480" cy="27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604267"/>
            <p:cNvSpPr/>
            <p:nvPr/>
          </p:nvSpPr>
          <p:spPr>
            <a:xfrm>
              <a:off x="1108440" y="277416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Uso de tecnologí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604266"/>
            <p:cNvSpPr/>
            <p:nvPr/>
          </p:nvSpPr>
          <p:spPr>
            <a:xfrm flipH="1">
              <a:off x="3085200" y="442404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_s604265"/>
            <p:cNvSpPr/>
            <p:nvPr/>
          </p:nvSpPr>
          <p:spPr>
            <a:xfrm>
              <a:off x="1112400" y="442404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Tendenci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604262"/>
            <p:cNvSpPr/>
            <p:nvPr/>
          </p:nvSpPr>
          <p:spPr>
            <a:xfrm>
              <a:off x="4917600" y="4696920"/>
              <a:ext cx="0" cy="54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604261"/>
            <p:cNvSpPr/>
            <p:nvPr/>
          </p:nvSpPr>
          <p:spPr>
            <a:xfrm>
              <a:off x="3860640" y="52470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700" spc="-1" strike="noStrike">
                  <a:solidFill>
                    <a:srgbClr val="000000"/>
                  </a:solidFill>
                  <a:latin typeface="Arial"/>
                </a:rPr>
                <a:t>Segur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_s604165"/>
            <p:cNvSpPr/>
            <p:nvPr/>
          </p:nvSpPr>
          <p:spPr>
            <a:xfrm>
              <a:off x="5830920" y="4420080"/>
              <a:ext cx="91548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04166"/>
            <p:cNvSpPr/>
            <p:nvPr/>
          </p:nvSpPr>
          <p:spPr>
            <a:xfrm>
              <a:off x="6606360" y="4421880"/>
              <a:ext cx="211356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and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person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04167"/>
            <p:cNvSpPr/>
            <p:nvPr/>
          </p:nvSpPr>
          <p:spPr>
            <a:xfrm flipV="1">
              <a:off x="5826960" y="3596760"/>
              <a:ext cx="91656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04168"/>
            <p:cNvSpPr/>
            <p:nvPr/>
          </p:nvSpPr>
          <p:spPr>
            <a:xfrm>
              <a:off x="6602040" y="2772360"/>
              <a:ext cx="2114280" cy="10994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nologías e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mpresa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y organizacion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04169"/>
            <p:cNvSpPr/>
            <p:nvPr/>
          </p:nvSpPr>
          <p:spPr>
            <a:xfrm flipV="1">
              <a:off x="4914360" y="3049200"/>
              <a:ext cx="0" cy="549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04170"/>
            <p:cNvSpPr/>
            <p:nvPr/>
          </p:nvSpPr>
          <p:spPr>
            <a:xfrm>
              <a:off x="3857400" y="1949400"/>
              <a:ext cx="2114280" cy="10998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municaciones,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des y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nectivid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04171"/>
            <p:cNvSpPr/>
            <p:nvPr/>
          </p:nvSpPr>
          <p:spPr>
            <a:xfrm>
              <a:off x="3857400" y="3598920"/>
              <a:ext cx="2114280" cy="109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Sinopsis d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700" spc="-1" strike="noStrike">
                  <a:solidFill>
                    <a:srgbClr val="000066"/>
                  </a:solidFill>
                  <a:latin typeface="Arial"/>
                </a:rPr>
                <a:t>Tecnología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4T17:44:24Z</dcterms:created>
  <dc:creator/>
  <dc:description/>
  <cp:keywords/>
  <dc:language>en-US</dc:language>
  <cp:lastModifiedBy>.</cp:lastModifiedBy>
  <cp:lastPrinted>1999-07-07T01:01:57Z</cp:lastPrinted>
  <dcterms:modified xsi:type="dcterms:W3CDTF">2008-07-26T17:41:49Z</dcterms:modified>
  <cp:revision>194</cp:revision>
  <dc:subject/>
  <dc:title>Information Resources in Business</dc:title>
</cp:coreProperties>
</file>