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0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5.wmf" ContentType="image/x-wmf"/>
  <Override PartName="/ppt/media/image9.png" ContentType="image/png"/>
  <Override PartName="/ppt/media/image13.png" ContentType="image/png"/>
  <Override PartName="/ppt/media/image8.png" ContentType="image/png"/>
  <Override PartName="/ppt/media/image16.wmf" ContentType="image/x-wmf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b61"/>
                </a:solidFill>
                <a:latin typeface="Book Antiqua"/>
              </a:rPr>
              <a:t>Click to move the slide</a:t>
            </a:r>
            <a:endParaRPr b="0" lang="en-US" sz="4400" spc="-1" strike="noStrike">
              <a:solidFill>
                <a:srgbClr val="006b61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31857-D5E9-4FFD-92A4-AEC09B9D6CEC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AB4D9-8C18-4D8E-8C69-CF7E085CF69F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551C9-5970-40DA-8889-4DAFC7908D53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b61"/>
              </a:solidFill>
              <a:latin typeface="Book Antiqu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b61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b61"/>
              </a:solidFill>
              <a:latin typeface="Book Antiqu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b61"/>
              </a:solidFill>
              <a:latin typeface="Book Antiqu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b61"/>
              </a:solidFill>
              <a:latin typeface="Book Antiqu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b61"/>
              </a:solidFill>
              <a:latin typeface="Book Antiqu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b61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b61"/>
              </a:solidFill>
              <a:latin typeface="Book Antiqu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b61"/>
              </a:solidFill>
              <a:latin typeface="Book Antiqu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b61"/>
              </a:solidFill>
              <a:latin typeface="Book Antiqu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428840"/>
            <a:ext cx="9132840" cy="152280"/>
            <a:chOff x="0" y="1428840"/>
            <a:chExt cx="9132840" cy="152280"/>
          </a:xfrm>
        </p:grpSpPr>
        <p:sp>
          <p:nvSpPr>
            <p:cNvPr id="1" name=""/>
            <p:cNvSpPr/>
            <p:nvPr/>
          </p:nvSpPr>
          <p:spPr>
            <a:xfrm>
              <a:off x="0" y="1428840"/>
              <a:ext cx="9132840" cy="7452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4296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b61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6b61"/>
              </a:solidFill>
              <a:latin typeface="Book Antiqu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0c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00ff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c0c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hyperlink" Target="http://www.gartner.com/silentlocalechooser.jsp?locale=wcw" TargetMode="External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hyperlink" Target="http://www.youtube.com/watch?v=AIXubjbO6Rk" TargetMode="External"/><Relationship Id="rId3" Type="http://schemas.openxmlformats.org/officeDocument/2006/relationships/image" Target="../media/image11.png"/><Relationship Id="rId4" Type="http://schemas.openxmlformats.org/officeDocument/2006/relationships/hyperlink" Target="http://www.youtube.com/watch?v=FLxB4pHH_GY" TargetMode="External"/><Relationship Id="rId5" Type="http://schemas.openxmlformats.org/officeDocument/2006/relationships/image" Target="../media/image12.png"/><Relationship Id="rId6" Type="http://schemas.openxmlformats.org/officeDocument/2006/relationships/hyperlink" Target="http://www.youtube.com/watch?v=LHFcGgoS1W8" TargetMode="External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hyperlink" Target="http://es.youtube.com/watch?v=CzYzVXxbAoA&amp;feature=related" TargetMode="External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hyperlink" Target="http://www.gartner.com/silentlocalechooser.jsp?locale=wcw" TargetMode="External"/><Relationship Id="rId3" Type="http://schemas.openxmlformats.org/officeDocument/2006/relationships/image" Target="../media/image9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395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6b61"/>
                </a:solidFill>
                <a:latin typeface="Book Antiqua"/>
              </a:rPr>
              <a:t>Introducción</a:t>
            </a:r>
            <a:endParaRPr b="0" lang="en-US" sz="4400" spc="-1" strike="noStrike">
              <a:solidFill>
                <a:srgbClr val="006b61"/>
              </a:solidFill>
              <a:latin typeface="Book Antiqu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78920" y="2865600"/>
            <a:ext cx="871380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Gestión de Proces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Tecnologías de Información 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Gobierno Electrónic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Diploma en Gerencia Pública – POLIS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Iván Bra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200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411280" y="0"/>
            <a:ext cx="3889440" cy="13780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b61"/>
              </a:solidFill>
              <a:latin typeface="Book Antiqua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482760" y="1949400"/>
            <a:ext cx="8139600" cy="4082040"/>
            <a:chOff x="482760" y="1949400"/>
            <a:chExt cx="8139600" cy="4082040"/>
          </a:xfrm>
        </p:grpSpPr>
        <p:sp>
          <p:nvSpPr>
            <p:cNvPr id="122" name="_s605191"/>
            <p:cNvSpPr/>
            <p:nvPr/>
          </p:nvSpPr>
          <p:spPr>
            <a:xfrm flipH="1" flipV="1">
              <a:off x="2540160" y="3809520"/>
              <a:ext cx="1007640" cy="168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_s605192"/>
            <p:cNvSpPr/>
            <p:nvPr/>
          </p:nvSpPr>
          <p:spPr>
            <a:xfrm>
              <a:off x="482760" y="3091320"/>
              <a:ext cx="2114280" cy="109980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Proyectos en Chil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_s605193"/>
            <p:cNvSpPr/>
            <p:nvPr/>
          </p:nvSpPr>
          <p:spPr>
            <a:xfrm flipH="1">
              <a:off x="3312360" y="4592880"/>
              <a:ext cx="619920" cy="444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_s605194"/>
            <p:cNvSpPr/>
            <p:nvPr/>
          </p:nvSpPr>
          <p:spPr>
            <a:xfrm>
              <a:off x="1638360" y="4931640"/>
              <a:ext cx="2114280" cy="109980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Agenda Digital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_s605195"/>
            <p:cNvSpPr/>
            <p:nvPr/>
          </p:nvSpPr>
          <p:spPr>
            <a:xfrm>
              <a:off x="5172840" y="4592880"/>
              <a:ext cx="623880" cy="44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_s605196"/>
            <p:cNvSpPr/>
            <p:nvPr/>
          </p:nvSpPr>
          <p:spPr>
            <a:xfrm>
              <a:off x="5359680" y="4929840"/>
              <a:ext cx="2114280" cy="109980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Concepto de e-gov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_s605197"/>
            <p:cNvSpPr/>
            <p:nvPr/>
          </p:nvSpPr>
          <p:spPr>
            <a:xfrm flipV="1">
              <a:off x="5557320" y="3807720"/>
              <a:ext cx="1004400" cy="170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_s605198"/>
            <p:cNvSpPr/>
            <p:nvPr/>
          </p:nvSpPr>
          <p:spPr>
            <a:xfrm>
              <a:off x="6508080" y="3087720"/>
              <a:ext cx="2114280" cy="109980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Modelo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electrónicos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de negocio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_s605199"/>
            <p:cNvSpPr/>
            <p:nvPr/>
          </p:nvSpPr>
          <p:spPr>
            <a:xfrm flipV="1">
              <a:off x="4552560" y="3049200"/>
              <a:ext cx="0" cy="549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_s605200"/>
            <p:cNvSpPr/>
            <p:nvPr/>
          </p:nvSpPr>
          <p:spPr>
            <a:xfrm>
              <a:off x="3495600" y="1949400"/>
              <a:ext cx="2114280" cy="109980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Avance de las TI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_s605201"/>
            <p:cNvSpPr/>
            <p:nvPr/>
          </p:nvSpPr>
          <p:spPr>
            <a:xfrm>
              <a:off x="3495600" y="3598920"/>
              <a:ext cx="2114280" cy="1099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700" spc="-1" strike="noStrike">
                  <a:solidFill>
                    <a:srgbClr val="000066"/>
                  </a:solidFill>
                  <a:latin typeface="Arial"/>
                </a:rPr>
                <a:t>Gobierno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700" spc="-1" strike="noStrike">
                  <a:solidFill>
                    <a:srgbClr val="000066"/>
                  </a:solidFill>
                  <a:latin typeface="Arial"/>
                </a:rPr>
                <a:t>Electrónico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b61"/>
              </a:solidFill>
              <a:latin typeface="Book Antiqua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482760" y="1949400"/>
            <a:ext cx="8139600" cy="4082040"/>
            <a:chOff x="482760" y="1949400"/>
            <a:chExt cx="8139600" cy="4082040"/>
          </a:xfrm>
        </p:grpSpPr>
        <p:sp>
          <p:nvSpPr>
            <p:cNvPr id="135" name="_s606225"/>
            <p:cNvSpPr/>
            <p:nvPr/>
          </p:nvSpPr>
          <p:spPr>
            <a:xfrm flipH="1" flipV="1">
              <a:off x="2540160" y="3809520"/>
              <a:ext cx="1007640" cy="168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_s606224"/>
            <p:cNvSpPr/>
            <p:nvPr/>
          </p:nvSpPr>
          <p:spPr>
            <a:xfrm>
              <a:off x="482760" y="3091320"/>
              <a:ext cx="2114280" cy="109980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Factores crítico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de éxito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_s606215"/>
            <p:cNvSpPr/>
            <p:nvPr/>
          </p:nvSpPr>
          <p:spPr>
            <a:xfrm flipH="1">
              <a:off x="3312360" y="4592880"/>
              <a:ext cx="619920" cy="444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_s606216"/>
            <p:cNvSpPr/>
            <p:nvPr/>
          </p:nvSpPr>
          <p:spPr>
            <a:xfrm>
              <a:off x="1638360" y="4931640"/>
              <a:ext cx="2114280" cy="109980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Adquisiciones de TI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_s606217"/>
            <p:cNvSpPr/>
            <p:nvPr/>
          </p:nvSpPr>
          <p:spPr>
            <a:xfrm>
              <a:off x="5172840" y="4592880"/>
              <a:ext cx="623880" cy="44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_s606218"/>
            <p:cNvSpPr/>
            <p:nvPr/>
          </p:nvSpPr>
          <p:spPr>
            <a:xfrm>
              <a:off x="5359680" y="4929840"/>
              <a:ext cx="2114280" cy="109980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Beneficios de las TI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_s606219"/>
            <p:cNvSpPr/>
            <p:nvPr/>
          </p:nvSpPr>
          <p:spPr>
            <a:xfrm flipV="1">
              <a:off x="5557320" y="3807720"/>
              <a:ext cx="1004400" cy="170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_s606220"/>
            <p:cNvSpPr/>
            <p:nvPr/>
          </p:nvSpPr>
          <p:spPr>
            <a:xfrm>
              <a:off x="6508080" y="3087720"/>
              <a:ext cx="2114280" cy="109980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700" spc="-1" strike="noStrike">
                  <a:solidFill>
                    <a:srgbClr val="000000"/>
                  </a:solidFill>
                  <a:latin typeface="Arial"/>
                </a:rPr>
                <a:t>El plan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ES" sz="1700" spc="-1" strike="noStrike">
                  <a:solidFill>
                    <a:srgbClr val="000000"/>
                  </a:solidFill>
                  <a:latin typeface="Arial"/>
                </a:rPr>
                <a:t>estratégico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700" spc="-1" strike="noStrike">
                  <a:solidFill>
                    <a:srgbClr val="000000"/>
                  </a:solidFill>
                  <a:latin typeface="Arial"/>
                </a:rPr>
                <a:t>de TIC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_s606221"/>
            <p:cNvSpPr/>
            <p:nvPr/>
          </p:nvSpPr>
          <p:spPr>
            <a:xfrm flipV="1">
              <a:off x="4552560" y="3049200"/>
              <a:ext cx="0" cy="549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_s606222"/>
            <p:cNvSpPr/>
            <p:nvPr/>
          </p:nvSpPr>
          <p:spPr>
            <a:xfrm>
              <a:off x="3495600" y="1949400"/>
              <a:ext cx="2114280" cy="109980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700" spc="-1" strike="noStrike">
                  <a:solidFill>
                    <a:srgbClr val="000000"/>
                  </a:solidFill>
                  <a:latin typeface="Arial"/>
                </a:rPr>
                <a:t>Administración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700" spc="-1" strike="noStrike">
                  <a:solidFill>
                    <a:srgbClr val="000000"/>
                  </a:solidFill>
                  <a:latin typeface="Arial"/>
                </a:rPr>
                <a:t>de proyectos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700" spc="-1" strike="noStrike">
                  <a:solidFill>
                    <a:srgbClr val="000000"/>
                  </a:solidFill>
                  <a:latin typeface="Arial"/>
                </a:rPr>
                <a:t>de TI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_s606223"/>
            <p:cNvSpPr/>
            <p:nvPr/>
          </p:nvSpPr>
          <p:spPr>
            <a:xfrm>
              <a:off x="3495600" y="3598920"/>
              <a:ext cx="2114280" cy="1099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700" spc="-1" strike="noStrike">
                  <a:solidFill>
                    <a:srgbClr val="000066"/>
                  </a:solidFill>
                  <a:latin typeface="Arial"/>
                </a:rPr>
                <a:t>Gestión de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700" spc="-1" strike="noStrike">
                  <a:solidFill>
                    <a:srgbClr val="000066"/>
                  </a:solidFill>
                  <a:latin typeface="Arial"/>
                </a:rPr>
                <a:t>las TIC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6b61"/>
                </a:solidFill>
                <a:latin typeface="Book Antiqua"/>
              </a:rPr>
              <a:t>Calendario</a:t>
            </a:r>
            <a:endParaRPr b="0" lang="en-US" sz="4400" spc="-1" strike="noStrike">
              <a:solidFill>
                <a:srgbClr val="006b61"/>
              </a:solidFill>
              <a:latin typeface="Book Antiqu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26 de Julio: Clase 1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11 de Octubre : Clases 2 y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25 de Octubre: Clases 4 y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8 de Noviembre: Clases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21 de Noviembre: Clases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22 de Noviembre: Clase 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5 de Diciembre: Clase 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006b61"/>
                </a:solidFill>
                <a:latin typeface="Book Antiqua"/>
              </a:rPr>
              <a:t>Metodología</a:t>
            </a:r>
            <a:br>
              <a:rPr sz="4000"/>
            </a:br>
            <a:endParaRPr b="0" lang="en-US" sz="4000" spc="-1" strike="noStrike">
              <a:solidFill>
                <a:srgbClr val="006b61"/>
              </a:solidFill>
              <a:latin typeface="Book Antiqu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a metodología del programa consiste en los siguientes aspect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las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visión de ca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mostra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xposiciones de especialistas invit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ecturas de referencia con base en la bibliograf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jercicios de aplic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6b61"/>
                </a:solidFill>
                <a:latin typeface="Book Antiqua"/>
              </a:rPr>
              <a:t>Evaluación</a:t>
            </a:r>
            <a:endParaRPr b="0" lang="en-US" sz="4400" spc="-1" strike="noStrike">
              <a:solidFill>
                <a:srgbClr val="006b61"/>
              </a:solidFill>
              <a:latin typeface="Book Antiqu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La evaluación del curso se realizará a través los siguientes mecanism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0c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Tareas asociados a los tópicos revisados durante el curs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0c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Trabajo de aplicación asociado al caso que se desarrolla durante todo el diploma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b61"/>
              </a:solidFill>
              <a:latin typeface="Book Antiqu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250920" y="1341360"/>
          <a:ext cx="8353440" cy="5040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341360"/>
                    <a:ext cx="8353440" cy="50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1523880" y="1905120"/>
            <a:ext cx="7162920" cy="4518000"/>
          </a:xfrm>
          <a:prstGeom prst="rect">
            <a:avLst/>
          </a:prstGeom>
          <a:ln w="0">
            <a:noFill/>
          </a:ln>
        </p:spPr>
      </p:pic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_tradnl" sz="2800" spc="-1" strike="noStrike">
              <a:solidFill>
                <a:srgbClr val="006b61"/>
              </a:solidFill>
              <a:latin typeface="Book Antiqua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1295280" y="1676520"/>
            <a:ext cx="7239240" cy="489420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1042920" y="189000"/>
            <a:ext cx="763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IT explica más del 50% de la ganancia de productividad de la economía norteamericana desde el año 9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9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rcRect l="13105" t="5316" r="15874" b="3741"/>
          <a:stretch/>
        </p:blipFill>
        <p:spPr>
          <a:xfrm>
            <a:off x="395280" y="1341360"/>
            <a:ext cx="8748720" cy="5256360"/>
          </a:xfrm>
          <a:prstGeom prst="rect">
            <a:avLst/>
          </a:prstGeom>
          <a:ln w="38160">
            <a:solidFill>
              <a:srgbClr val="000080"/>
            </a:solidFill>
            <a:miter/>
          </a:ln>
        </p:spPr>
      </p:pic>
      <p:sp>
        <p:nvSpPr>
          <p:cNvPr id="163" name=""/>
          <p:cNvSpPr/>
          <p:nvPr/>
        </p:nvSpPr>
        <p:spPr>
          <a:xfrm>
            <a:off x="7500600" y="6613560"/>
            <a:ext cx="1642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Fuente: www.nasdaq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title"/>
          </p:nvPr>
        </p:nvSpPr>
        <p:spPr>
          <a:xfrm>
            <a:off x="5054400" y="2133720"/>
            <a:ext cx="1944360" cy="28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6b61"/>
                </a:solidFill>
                <a:latin typeface="Book Antiqua"/>
              </a:rPr>
              <a:t>Evolución del NASDAQ-100 </a:t>
            </a:r>
            <a:br>
              <a:rPr sz="1800"/>
            </a:br>
            <a:r>
              <a:rPr b="0" lang="es-CL" sz="1800" spc="-1" strike="noStrike">
                <a:solidFill>
                  <a:srgbClr val="006b61"/>
                </a:solidFill>
                <a:latin typeface="Book Antiqua"/>
              </a:rPr>
              <a:t>1999 - 2005</a:t>
            </a:r>
            <a:endParaRPr b="0" lang="en-US" sz="1800" spc="-1" strike="noStrike">
              <a:solidFill>
                <a:srgbClr val="006b61"/>
              </a:solidFill>
              <a:latin typeface="Book Antiqua"/>
            </a:endParaRPr>
          </a:p>
        </p:txBody>
      </p:sp>
      <p:sp>
        <p:nvSpPr>
          <p:cNvPr id="165" name=""/>
          <p:cNvSpPr/>
          <p:nvPr/>
        </p:nvSpPr>
        <p:spPr>
          <a:xfrm>
            <a:off x="1980360" y="404640"/>
            <a:ext cx="501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66"/>
                </a:solidFill>
                <a:latin typeface="Times New Roman"/>
              </a:rPr>
              <a:t>La Burbuja de las nuevas tecnologí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6b61"/>
                </a:solidFill>
                <a:latin typeface="Book Antiqua"/>
              </a:rPr>
              <a:t>Alcance</a:t>
            </a:r>
            <a:endParaRPr b="0" lang="en-US" sz="4400" spc="-1" strike="noStrike">
              <a:solidFill>
                <a:srgbClr val="006b61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Plantear la motivación del curso, sus objetivos, programa y la forma en que se desarrollará y evaluará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Title 1" descr=""/>
          <p:cNvPicPr/>
          <p:nvPr/>
        </p:nvPicPr>
        <p:blipFill>
          <a:blip r:embed="rId1"/>
          <a:stretch/>
        </p:blipFill>
        <p:spPr>
          <a:xfrm>
            <a:off x="255600" y="152280"/>
            <a:ext cx="8894880" cy="12621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2" descr=""/>
          <p:cNvPicPr/>
          <p:nvPr/>
        </p:nvPicPr>
        <p:blipFill>
          <a:blip r:embed="rId2"/>
          <a:stretch/>
        </p:blipFill>
        <p:spPr>
          <a:xfrm>
            <a:off x="928800" y="1569960"/>
            <a:ext cx="7143480" cy="52880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6" descr="http://www.gartner.com/it/images/homepage/gartner136.gif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572240" y="1714680"/>
            <a:ext cx="1162080" cy="2952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6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14240" y="4643280"/>
            <a:ext cx="2095560" cy="148464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7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500800" y="1857240"/>
            <a:ext cx="2857320" cy="471492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8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714240" y="1571760"/>
            <a:ext cx="2276640" cy="2639880"/>
          </a:xfrm>
          <a:prstGeom prst="rect">
            <a:avLst/>
          </a:prstGeom>
          <a:ln w="0">
            <a:noFill/>
          </a:ln>
        </p:spPr>
      </p:pic>
      <p:pic>
        <p:nvPicPr>
          <p:cNvPr id="173" name="Right Arrow 8" descr=""/>
          <p:cNvPicPr/>
          <p:nvPr/>
        </p:nvPicPr>
        <p:blipFill>
          <a:blip r:embed="rId8"/>
          <a:stretch/>
        </p:blipFill>
        <p:spPr>
          <a:xfrm>
            <a:off x="2865600" y="3505320"/>
            <a:ext cx="2815920" cy="173664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-10080" y="6275520"/>
            <a:ext cx="742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http://es.youtube.com/watch?v=CzYzVXxbAoA&amp;feature=related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2000"/>
                            </p:stCondLst>
                            <p:childTnLst>
                              <p:par>
                                <p:cTn id="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268360" y="344520"/>
            <a:ext cx="4608720" cy="105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6b61"/>
                </a:solidFill>
                <a:latin typeface="Book Antiqua"/>
              </a:rPr>
              <a:t>Internet se está incorporando mucho más rápido que otras tecnologías.</a:t>
            </a:r>
            <a:endParaRPr b="0" lang="en-US" sz="2400" spc="-1" strike="noStrike">
              <a:solidFill>
                <a:srgbClr val="006b61"/>
              </a:solidFill>
              <a:latin typeface="Book Antiqua"/>
            </a:endParaRPr>
          </a:p>
        </p:txBody>
      </p:sp>
      <p:sp>
        <p:nvSpPr>
          <p:cNvPr id="176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1447920" y="1447920"/>
            <a:ext cx="6929280" cy="459252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178" name=""/>
          <p:cNvSpPr/>
          <p:nvPr/>
        </p:nvSpPr>
        <p:spPr>
          <a:xfrm>
            <a:off x="1601640" y="5883120"/>
            <a:ext cx="6477120" cy="0"/>
          </a:xfrm>
          <a:prstGeom prst="line">
            <a:avLst/>
          </a:prstGeom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63560" y="5806080"/>
            <a:ext cx="815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0                  20                  40                  60                  80                 100                 1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609000" y="6230520"/>
            <a:ext cx="283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Tiempo desde la introduc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rot="16203000">
            <a:off x="-490320" y="3635280"/>
            <a:ext cx="311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Penetración (%  de la població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37160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6b61"/>
                </a:solidFill>
                <a:latin typeface="Book Antiqua"/>
              </a:rPr>
              <a:t>Convergencia de Industrias</a:t>
            </a:r>
            <a:endParaRPr b="0" lang="en-US" sz="4000" spc="-1" strike="noStrike">
              <a:solidFill>
                <a:srgbClr val="006b61"/>
              </a:solidFill>
              <a:latin typeface="Book Antiqua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1411200" y="1976400"/>
            <a:ext cx="6669000" cy="377496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1455840" y="232452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omunica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1760" y="3519720"/>
            <a:ext cx="2730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Convergencia de voz/datos/vide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Tráfico digital excede al analógic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Desregul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09040" y="2324520"/>
            <a:ext cx="194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ompu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020000" y="3427560"/>
            <a:ext cx="2124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Estándares Abiert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Ley de Mo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Evolución hacia servici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666800" y="4982040"/>
            <a:ext cx="180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232323"/>
                </a:solidFill>
                <a:latin typeface="Times New Roman"/>
              </a:rPr>
              <a:t>Conten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67640" y="5797800"/>
            <a:ext cx="2707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Capacidades Multimedia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Manejo de Derechos de Propied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786640" y="5882040"/>
            <a:ext cx="1881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Tecnología Disponi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Cercanía al usuar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600880" y="4799160"/>
            <a:ext cx="2570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232323"/>
                </a:solidFill>
                <a:latin typeface="Times New Roman"/>
              </a:rPr>
              <a:t>Electrónica de Consu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76360" y="637920"/>
            <a:ext cx="6902640" cy="468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b61"/>
                </a:solidFill>
                <a:latin typeface="Book Antiqua"/>
              </a:rPr>
              <a:t>Una reflexión acerca de la Productividad de las TI</a:t>
            </a:r>
            <a:endParaRPr b="0" lang="en-US" sz="3200" spc="-1" strike="noStrike">
              <a:solidFill>
                <a:srgbClr val="006b61"/>
              </a:solidFill>
              <a:latin typeface="Book Antiqua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619280" y="2254320"/>
          <a:ext cx="4773600" cy="2557440"/>
        </p:xfrm>
        <a:graphic>
          <a:graphicData uri="http://schemas.openxmlformats.org/drawingml/2006/table">
            <a:tbl>
              <a:tblPr/>
              <a:tblGrid>
                <a:gridCol w="2386800"/>
                <a:gridCol w="2386800"/>
              </a:tblGrid>
              <a:tr h="1278360"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279080"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194" name=""/>
          <p:cNvSpPr/>
          <p:nvPr/>
        </p:nvSpPr>
        <p:spPr>
          <a:xfrm>
            <a:off x="1663560" y="1731960"/>
            <a:ext cx="548640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Impacto en Aumento de  Productividad (%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rot="10800000">
            <a:off x="361440" y="2349000"/>
            <a:ext cx="1010160" cy="26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 vert="eaVert">
            <a:spAutoFit/>
          </a:bodyPr>
          <a:p>
            <a:pPr algn="ctr"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Practicas de Gest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(-)                        (+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095560" y="5105520"/>
            <a:ext cx="5054400" cy="141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(-)                                          (+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Intensidad de uso 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Tecnologías de la Inform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29400" y="3476520"/>
            <a:ext cx="2260440" cy="182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Fuent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Estudio hecho en el 2004 por Mackinsey en 100 empresas en EEUU y Europa en un período de 9 añ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6b61"/>
                </a:solidFill>
                <a:latin typeface="Book Antiqua"/>
              </a:rPr>
              <a:t>Esencia de las T.I.</a:t>
            </a:r>
            <a:endParaRPr b="0" lang="en-US" sz="4000" spc="-1" strike="noStrike">
              <a:solidFill>
                <a:srgbClr val="006b61"/>
              </a:solidFill>
              <a:latin typeface="Book Antiqu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57578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Herramientas que permite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0c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aptur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0c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ransmit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0c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roces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0c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lmacen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0c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espleg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276720" y="3213000"/>
            <a:ext cx="215640" cy="2305080"/>
          </a:xfrm>
          <a:custGeom>
            <a:avLst/>
            <a:gdLst>
              <a:gd name="textAreaLeft" fmla="*/ 0 w 215640"/>
              <a:gd name="textAreaRight" fmla="*/ 77760 w 215640"/>
              <a:gd name="textAreaTop" fmla="*/ 60120 h 2305080"/>
              <a:gd name="textAreaBottom" fmla="*/ 2244960 h 23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685320" y="4168800"/>
            <a:ext cx="260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atos e inform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250920" y="1197000"/>
            <a:ext cx="7619760" cy="48006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1740600" y="425520"/>
            <a:ext cx="663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Tecnologías que permiten manejar INFORMA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79280" y="2565360"/>
            <a:ext cx="2808360" cy="1368360"/>
          </a:xfrm>
          <a:prstGeom prst="ellipse">
            <a:avLst/>
          </a:prstGeom>
          <a:solidFill>
            <a:srgbClr val="ff00ff">
              <a:alpha val="3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042920" y="2060640"/>
            <a:ext cx="124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Times New Roman"/>
              </a:rPr>
              <a:t>Captur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627280" y="2637000"/>
            <a:ext cx="2808360" cy="1368360"/>
          </a:xfrm>
          <a:prstGeom prst="ellipse">
            <a:avLst/>
          </a:prstGeom>
          <a:solidFill>
            <a:srgbClr val="ff00ff">
              <a:alpha val="3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493080" y="3500280"/>
            <a:ext cx="123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Times New Roman"/>
              </a:rPr>
              <a:t>Proces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627280" y="4365720"/>
            <a:ext cx="2808360" cy="1368360"/>
          </a:xfrm>
          <a:prstGeom prst="ellipse">
            <a:avLst/>
          </a:prstGeom>
          <a:solidFill>
            <a:srgbClr val="ff00ff">
              <a:alpha val="3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492000" y="5229360"/>
            <a:ext cx="152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Times New Roman"/>
              </a:rPr>
              <a:t>Almacen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148360" y="2421000"/>
            <a:ext cx="2808360" cy="1368360"/>
          </a:xfrm>
          <a:prstGeom prst="ellipse">
            <a:avLst/>
          </a:prstGeom>
          <a:solidFill>
            <a:srgbClr val="ff00ff">
              <a:alpha val="3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013800" y="3284640"/>
            <a:ext cx="141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Times New Roman"/>
              </a:rPr>
              <a:t>Despleg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335640" y="4724280"/>
            <a:ext cx="2808360" cy="1368720"/>
          </a:xfrm>
          <a:prstGeom prst="ellipse">
            <a:avLst/>
          </a:prstGeom>
          <a:solidFill>
            <a:srgbClr val="ff00ff">
              <a:alpha val="3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199280" y="5587920"/>
            <a:ext cx="147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Times New Roman"/>
              </a:rPr>
              <a:t>Transmit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rot="1947000">
            <a:off x="5292360" y="4221000"/>
            <a:ext cx="1512720" cy="720720"/>
          </a:xfrm>
          <a:prstGeom prst="leftRightArrow">
            <a:avLst>
              <a:gd name="adj1" fmla="val 50000"/>
              <a:gd name="adj2" fmla="val 41784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8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87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00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03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1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19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5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32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35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4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48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5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6" descr="http://www.gartner.com/it/images/homepage/gartner136.gif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358040" y="4429080"/>
            <a:ext cx="1162080" cy="29520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2" descr=""/>
          <p:cNvPicPr/>
          <p:nvPr/>
        </p:nvPicPr>
        <p:blipFill>
          <a:blip r:embed="rId4"/>
          <a:stretch/>
        </p:blipFill>
        <p:spPr>
          <a:xfrm>
            <a:off x="7429680" y="4929120"/>
            <a:ext cx="1161720" cy="15908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 txBox="1"/>
          <p:nvPr/>
        </p:nvSpPr>
        <p:spPr>
          <a:xfrm>
            <a:off x="188640" y="1699920"/>
            <a:ext cx="6383160" cy="41050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81000"/>
          </a:bodyPr>
          <a:p>
            <a:pPr marL="354600" indent="-258120"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VozIP</a:t>
            </a:r>
            <a:br>
              <a:rPr sz="2800"/>
            </a:b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4600" indent="-258120"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Mash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4600" indent="-258120"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4600" indent="-258120"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Plataformas web y las arquitecturas orientadas a la web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4600" indent="-258120"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4600" indent="-258120"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Real World We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4600" indent="-258120"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4600" indent="-258120"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Software social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6b61"/>
                </a:solidFill>
                <a:latin typeface="Book Antiqua"/>
              </a:rPr>
              <a:t>¿Por que surge este curso?</a:t>
            </a:r>
            <a:endParaRPr b="0" lang="en-US" sz="4400" spc="-1" strike="noStrike">
              <a:solidFill>
                <a:srgbClr val="006b61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7772400" cy="291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8000"/>
          </a:bodyPr>
          <a:p>
            <a:pPr marL="301680" indent="-301680" algn="just">
              <a:lnSpc>
                <a:spcPct val="80000"/>
              </a:lnSpc>
              <a:spcBef>
                <a:spcPts val="601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l impacto de las TIC, Internet y su uso en el gobiern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just">
              <a:lnSpc>
                <a:spcPct val="80000"/>
              </a:lnSpc>
              <a:spcBef>
                <a:spcPts val="601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Se requiere una visión panorámica que nos permita entender esquemáticamente los conceptos y la situación actual respecto a este tem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just">
              <a:lnSpc>
                <a:spcPct val="80000"/>
              </a:lnSpc>
              <a:spcBef>
                <a:spcPts val="601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onectar sistémicamen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 algn="just">
              <a:lnSpc>
                <a:spcPct val="80000"/>
              </a:lnSpc>
              <a:spcBef>
                <a:spcPts val="499"/>
              </a:spcBef>
              <a:buClr>
                <a:srgbClr val="00c0c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gestió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 algn="just">
              <a:lnSpc>
                <a:spcPct val="80000"/>
              </a:lnSpc>
              <a:spcBef>
                <a:spcPts val="499"/>
              </a:spcBef>
              <a:buClr>
                <a:srgbClr val="00c0c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strateg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 algn="just">
              <a:lnSpc>
                <a:spcPct val="80000"/>
              </a:lnSpc>
              <a:spcBef>
                <a:spcPts val="499"/>
              </a:spcBef>
              <a:buClr>
                <a:srgbClr val="00c0c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roces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 algn="just">
              <a:lnSpc>
                <a:spcPct val="80000"/>
              </a:lnSpc>
              <a:spcBef>
                <a:spcPts val="499"/>
              </a:spcBef>
              <a:buClr>
                <a:srgbClr val="00c0c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y tecnologí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just">
              <a:lnSpc>
                <a:spcPct val="80000"/>
              </a:lnSpc>
              <a:spcBef>
                <a:spcPts val="601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s un desafío clave, en los tiempos que corr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179360" y="1736640"/>
            <a:ext cx="610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IC= Tecnologías de Información y Comunic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6b61"/>
                </a:solidFill>
                <a:latin typeface="Book Antiqua"/>
              </a:rPr>
              <a:t>Objetivos del Curso</a:t>
            </a:r>
            <a:endParaRPr b="0" lang="en-US" sz="4400" spc="-1" strike="noStrike">
              <a:solidFill>
                <a:srgbClr val="006b61"/>
              </a:solidFill>
              <a:latin typeface="Book Antiqua"/>
            </a:endParaRPr>
          </a:p>
        </p:txBody>
      </p:sp>
      <p:sp>
        <p:nvSpPr>
          <p:cNvPr id="53" name=""/>
          <p:cNvSpPr/>
          <p:nvPr/>
        </p:nvSpPr>
        <p:spPr>
          <a:xfrm>
            <a:off x="746280" y="1793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33520" y="1752480"/>
            <a:ext cx="8016840" cy="119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Entregar una visión introductoria esquemática de las TI y el gobierno electrónico, que permita entender sus posibilidades y beneficios, así como su estado actual de evolu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520" y="3352680"/>
            <a:ext cx="8029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2600" indent="-282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Se espera que al finalizar el curso, Usted sea capaz de entender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2600" indent="-282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2600" indent="-282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La importancia de la gestión de procesos en el uso de las T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2600" indent="-282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Que se entiende por modelos electrónicos de negoci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2600" indent="-282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El concepto de e-govern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2600" indent="-282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Los tipos de soluciones de gobierno electrón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2600" indent="-282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Las ventajas y beneficios que genera el gobierno electrónico, pero también las condiciones que se requieren para su aplicació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2600" indent="-282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El estado actual y las tendencias futuras en TIC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2600" indent="-282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Identificar las iniciativas y posibilidades que se generan para el mundo públic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2600" indent="-282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Participar del diseño de estrategias y proyectos de gobierno electrón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2600" indent="-282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620720" y="3154320"/>
            <a:ext cx="167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Modernización de la gestión públ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433760" y="3429000"/>
            <a:ext cx="309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sarrollo y masificación d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as T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645080" y="5222880"/>
            <a:ext cx="3260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sarrollo de negocios electrónic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116000" y="5006880"/>
            <a:ext cx="2449440" cy="100800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Gobiern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lectrón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25800" y="407052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565080" y="4070520"/>
            <a:ext cx="863640" cy="86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3708360" y="5510160"/>
            <a:ext cx="115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28920" y="1714680"/>
            <a:ext cx="217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ambios en la Socie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125800" y="227016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 flipV="1">
            <a:off x="2844360" y="2270160"/>
            <a:ext cx="187164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942160" y="4070520"/>
            <a:ext cx="0" cy="122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620720" y="3154320"/>
            <a:ext cx="167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Modernización de la gestión públ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433760" y="3429000"/>
            <a:ext cx="309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sarrollo y masificación d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as T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645080" y="5222880"/>
            <a:ext cx="3260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sarrollo de negocios electrónic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16000" y="5006880"/>
            <a:ext cx="2449440" cy="100800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Gobiern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lectrón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125800" y="407052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3565080" y="4070520"/>
            <a:ext cx="863640" cy="86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3708360" y="5510160"/>
            <a:ext cx="115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528920" y="1714680"/>
            <a:ext cx="217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ambios en la Socie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125800" y="227016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2844360" y="2270160"/>
            <a:ext cx="187164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942160" y="4070520"/>
            <a:ext cx="0" cy="122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3708360" y="4070160"/>
            <a:ext cx="1368360" cy="115236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484360" y="4070520"/>
            <a:ext cx="0" cy="8632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2484360" y="2269800"/>
            <a:ext cx="0" cy="86364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297240" y="1989000"/>
            <a:ext cx="1995480" cy="116532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708360" y="5864400"/>
            <a:ext cx="136836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6372360" y="4070160"/>
            <a:ext cx="0" cy="115236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79640" y="3851280"/>
            <a:ext cx="137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Gestión de proces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 flipV="1">
            <a:off x="3059280" y="3494160"/>
            <a:ext cx="506160" cy="357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3058920" y="4492800"/>
            <a:ext cx="237960" cy="441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4211640" y="3741840"/>
            <a:ext cx="433440" cy="218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649040" y="6053040"/>
            <a:ext cx="36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mplementación eficiente de las T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H="1" flipV="1">
            <a:off x="3297240" y="6014880"/>
            <a:ext cx="1347840" cy="222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6b61"/>
                </a:solidFill>
                <a:latin typeface="Book Antiqua"/>
              </a:rPr>
              <a:t>Estructura del Curso</a:t>
            </a:r>
            <a:endParaRPr b="0" lang="en-US" sz="4400" spc="-1" strike="noStrike">
              <a:solidFill>
                <a:srgbClr val="006b61"/>
              </a:solidFill>
              <a:latin typeface="Book Antiqua"/>
            </a:endParaRPr>
          </a:p>
        </p:txBody>
      </p:sp>
      <p:sp>
        <p:nvSpPr>
          <p:cNvPr id="91" name=""/>
          <p:cNvSpPr/>
          <p:nvPr/>
        </p:nvSpPr>
        <p:spPr>
          <a:xfrm>
            <a:off x="2050920" y="2384280"/>
            <a:ext cx="5400720" cy="648000"/>
          </a:xfrm>
          <a:custGeom>
            <a:avLst/>
            <a:gdLst>
              <a:gd name="textAreaLeft" fmla="*/ 0 w 5400720"/>
              <a:gd name="textAreaRight" fmla="*/ 5401080 w 5400720"/>
              <a:gd name="textAreaTop" fmla="*/ 0 h 648000"/>
              <a:gd name="textAreaBottom" fmla="*/ 648000 h 6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66"/>
                </a:solidFill>
                <a:latin typeface="Arial"/>
              </a:rPr>
              <a:t>Gestión de Proces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1371600"/>
            <a:ext cx="3564000" cy="647640"/>
          </a:xfrm>
          <a:custGeom>
            <a:avLst/>
            <a:gdLst>
              <a:gd name="textAreaLeft" fmla="*/ 0 w 3564000"/>
              <a:gd name="textAreaRight" fmla="*/ 3564360 w 3564000"/>
              <a:gd name="textAreaTop" fmla="*/ 0 h 647640"/>
              <a:gd name="textAreaBottom" fmla="*/ 64800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66"/>
                </a:solidFill>
                <a:latin typeface="Arial"/>
              </a:rPr>
              <a:t>Introdu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050920" y="3571920"/>
            <a:ext cx="5400720" cy="647640"/>
          </a:xfrm>
          <a:custGeom>
            <a:avLst/>
            <a:gdLst>
              <a:gd name="textAreaLeft" fmla="*/ 0 w 5400720"/>
              <a:gd name="textAreaRight" fmla="*/ 5401080 w 5400720"/>
              <a:gd name="textAreaTop" fmla="*/ 0 h 647640"/>
              <a:gd name="textAreaBottom" fmla="*/ 64800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66"/>
                </a:solidFill>
                <a:latin typeface="Arial"/>
              </a:rPr>
              <a:t>Sinopsis de Tecnologías Releva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050920" y="4653000"/>
            <a:ext cx="5400720" cy="647640"/>
          </a:xfrm>
          <a:custGeom>
            <a:avLst/>
            <a:gdLst>
              <a:gd name="textAreaLeft" fmla="*/ 0 w 5400720"/>
              <a:gd name="textAreaRight" fmla="*/ 5401080 w 5400720"/>
              <a:gd name="textAreaTop" fmla="*/ 0 h 647640"/>
              <a:gd name="textAreaBottom" fmla="*/ 64800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66"/>
                </a:solidFill>
                <a:latin typeface="Arial"/>
              </a:rPr>
              <a:t>Gobierno Electrón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050920" y="5732640"/>
            <a:ext cx="5400720" cy="647640"/>
          </a:xfrm>
          <a:custGeom>
            <a:avLst/>
            <a:gdLst>
              <a:gd name="textAreaLeft" fmla="*/ 0 w 5400720"/>
              <a:gd name="textAreaRight" fmla="*/ 5401080 w 5400720"/>
              <a:gd name="textAreaTop" fmla="*/ 0 h 647640"/>
              <a:gd name="textAreaBottom" fmla="*/ 64800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66"/>
                </a:solidFill>
                <a:latin typeface="Arial"/>
              </a:rPr>
              <a:t>Gestión de las 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b61"/>
              </a:solidFill>
              <a:latin typeface="Book Antiqua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1377720" y="1949400"/>
            <a:ext cx="6703560" cy="3574440"/>
            <a:chOff x="1377720" y="1949400"/>
            <a:chExt cx="6703560" cy="3574440"/>
          </a:xfrm>
        </p:grpSpPr>
        <p:sp>
          <p:nvSpPr>
            <p:cNvPr id="98" name="_s601100"/>
            <p:cNvSpPr/>
            <p:nvPr/>
          </p:nvSpPr>
          <p:spPr>
            <a:xfrm flipH="1">
              <a:off x="3114360" y="4421880"/>
              <a:ext cx="807120" cy="275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_s601099"/>
            <p:cNvSpPr/>
            <p:nvPr/>
          </p:nvSpPr>
          <p:spPr>
            <a:xfrm>
              <a:off x="1377720" y="4424040"/>
              <a:ext cx="1863720" cy="109980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66"/>
                  </a:solidFill>
                  <a:latin typeface="Arial"/>
                </a:rPr>
                <a:t>Rediseño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66"/>
                  </a:solidFill>
                  <a:latin typeface="Arial"/>
                </a:rPr>
                <a:t>de proceso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_s601098"/>
            <p:cNvSpPr/>
            <p:nvPr/>
          </p:nvSpPr>
          <p:spPr>
            <a:xfrm>
              <a:off x="5534280" y="4424040"/>
              <a:ext cx="80784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_s601097"/>
            <p:cNvSpPr/>
            <p:nvPr/>
          </p:nvSpPr>
          <p:spPr>
            <a:xfrm>
              <a:off x="6217560" y="4421880"/>
              <a:ext cx="1863720" cy="109980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66"/>
                  </a:solidFill>
                  <a:latin typeface="Arial"/>
                </a:rPr>
                <a:t>Levantamiento y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66"/>
                  </a:solidFill>
                  <a:latin typeface="Arial"/>
                </a:rPr>
                <a:t>mapeo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_s601096"/>
            <p:cNvSpPr/>
            <p:nvPr/>
          </p:nvSpPr>
          <p:spPr>
            <a:xfrm flipV="1">
              <a:off x="4729680" y="3049200"/>
              <a:ext cx="0" cy="549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_s601095"/>
            <p:cNvSpPr/>
            <p:nvPr/>
          </p:nvSpPr>
          <p:spPr>
            <a:xfrm>
              <a:off x="3797640" y="1949400"/>
              <a:ext cx="1863720" cy="109980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66"/>
                  </a:solidFill>
                  <a:latin typeface="Arial"/>
                </a:rPr>
                <a:t>Conceptos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66"/>
                  </a:solidFill>
                  <a:latin typeface="Arial"/>
                </a:rPr>
                <a:t>básico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_s601094"/>
            <p:cNvSpPr/>
            <p:nvPr/>
          </p:nvSpPr>
          <p:spPr>
            <a:xfrm>
              <a:off x="3797640" y="3598920"/>
              <a:ext cx="1863720" cy="1099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700" spc="-1" strike="noStrike">
                  <a:solidFill>
                    <a:srgbClr val="000066"/>
                  </a:solidFill>
                  <a:latin typeface="Arial"/>
                </a:rPr>
                <a:t>Gestión de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700" spc="-1" strike="noStrike">
                  <a:solidFill>
                    <a:srgbClr val="000066"/>
                  </a:solidFill>
                  <a:latin typeface="Arial"/>
                </a:rPr>
                <a:t>proceso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b61"/>
              </a:solidFill>
              <a:latin typeface="Book Antiqua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1108440" y="1949400"/>
            <a:ext cx="7611480" cy="4397400"/>
            <a:chOff x="1108440" y="1949400"/>
            <a:chExt cx="7611480" cy="4397400"/>
          </a:xfrm>
        </p:grpSpPr>
        <p:sp>
          <p:nvSpPr>
            <p:cNvPr id="107" name="_s604268"/>
            <p:cNvSpPr/>
            <p:nvPr/>
          </p:nvSpPr>
          <p:spPr>
            <a:xfrm flipH="1" flipV="1">
              <a:off x="3081960" y="3598920"/>
              <a:ext cx="915480" cy="275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_s604267"/>
            <p:cNvSpPr/>
            <p:nvPr/>
          </p:nvSpPr>
          <p:spPr>
            <a:xfrm>
              <a:off x="1108440" y="2774160"/>
              <a:ext cx="2114280" cy="109980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Uso de tecnología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_s604266"/>
            <p:cNvSpPr/>
            <p:nvPr/>
          </p:nvSpPr>
          <p:spPr>
            <a:xfrm flipH="1">
              <a:off x="3085200" y="4424040"/>
              <a:ext cx="91656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_s604265"/>
            <p:cNvSpPr/>
            <p:nvPr/>
          </p:nvSpPr>
          <p:spPr>
            <a:xfrm>
              <a:off x="1112400" y="4424040"/>
              <a:ext cx="2114280" cy="109980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Tendencia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_s604262"/>
            <p:cNvSpPr/>
            <p:nvPr/>
          </p:nvSpPr>
          <p:spPr>
            <a:xfrm>
              <a:off x="4917600" y="4696920"/>
              <a:ext cx="0" cy="549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_s604261"/>
            <p:cNvSpPr/>
            <p:nvPr/>
          </p:nvSpPr>
          <p:spPr>
            <a:xfrm>
              <a:off x="3860640" y="5247000"/>
              <a:ext cx="2114280" cy="109980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Seguridad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_s604165"/>
            <p:cNvSpPr/>
            <p:nvPr/>
          </p:nvSpPr>
          <p:spPr>
            <a:xfrm>
              <a:off x="5830920" y="4420080"/>
              <a:ext cx="91548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_s604166"/>
            <p:cNvSpPr/>
            <p:nvPr/>
          </p:nvSpPr>
          <p:spPr>
            <a:xfrm>
              <a:off x="6606360" y="4421880"/>
              <a:ext cx="2113560" cy="109980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Conectando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empresas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y persona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_s604167"/>
            <p:cNvSpPr/>
            <p:nvPr/>
          </p:nvSpPr>
          <p:spPr>
            <a:xfrm flipV="1">
              <a:off x="5826960" y="3596760"/>
              <a:ext cx="91656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_s604168"/>
            <p:cNvSpPr/>
            <p:nvPr/>
          </p:nvSpPr>
          <p:spPr>
            <a:xfrm>
              <a:off x="6602040" y="2772360"/>
              <a:ext cx="2114280" cy="109944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Tecnologías en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empresas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y organizacione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_s604169"/>
            <p:cNvSpPr/>
            <p:nvPr/>
          </p:nvSpPr>
          <p:spPr>
            <a:xfrm flipV="1">
              <a:off x="4914360" y="3049200"/>
              <a:ext cx="0" cy="549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_s604170"/>
            <p:cNvSpPr/>
            <p:nvPr/>
          </p:nvSpPr>
          <p:spPr>
            <a:xfrm>
              <a:off x="3857400" y="1949400"/>
              <a:ext cx="2114280" cy="109980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Comunicaciones,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redes y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conectividad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_s604171"/>
            <p:cNvSpPr/>
            <p:nvPr/>
          </p:nvSpPr>
          <p:spPr>
            <a:xfrm>
              <a:off x="3857400" y="3598920"/>
              <a:ext cx="2114280" cy="1099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700" spc="-1" strike="noStrike">
                  <a:solidFill>
                    <a:srgbClr val="000066"/>
                  </a:solidFill>
                  <a:latin typeface="Arial"/>
                </a:rPr>
                <a:t>Sinopsis de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700" spc="-1" strike="noStrike">
                  <a:solidFill>
                    <a:srgbClr val="000066"/>
                  </a:solidFill>
                  <a:latin typeface="Arial"/>
                </a:rPr>
                <a:t>Tecnología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24T17:44:24Z</dcterms:created>
  <dc:creator/>
  <dc:description/>
  <cp:keywords/>
  <dc:language>en-US</dc:language>
  <cp:lastModifiedBy>.</cp:lastModifiedBy>
  <cp:lastPrinted>1999-07-07T01:01:57Z</cp:lastPrinted>
  <dcterms:modified xsi:type="dcterms:W3CDTF">2008-07-26T17:41:49Z</dcterms:modified>
  <cp:revision>194</cp:revision>
  <dc:subject/>
  <dc:title>Information Resources in Business</dc:title>
</cp:coreProperties>
</file>