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FF2-9EE1-4FC6-A117-FB03B8E4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6DB-F461-4456-969A-4AA01A58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D28-F655-4C3A-BC34-70B4F2D8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787-ABD6-42B6-A9E4-CCC09C64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5DB-9158-4AA8-9538-33D4CF3A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5A8-449A-466D-A826-54E4A1DE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DFAB-BA90-497D-B09E-0960C7AF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BD4-AFCA-476B-A378-4A8B7FD0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2F7-AA9C-45C3-B762-DCF3BA7A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78A-A27C-4B08-A2C6-8F32001B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02F-730D-4271-BE81-4DEFE2BF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7A8-5208-4F00-9798-09385403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D78A-BD98-4707-AF56-8376741E1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ller AO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9 de ago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rganización del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reúnen en grupos para trabajar (14:30-15:45). Alguien debe tomar nota y entregar al final del trabajo (subir a UCUR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odelo de Nego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 preguntas/afirmaciones originales redactadas (se pueden dividir ámb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vistables (tipos), al menos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uesta en común y Comentarios Generales sobre planificación (15:45-16:3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entari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chos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ocumentos normativ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Buscar más estadísticas/indicadores/estudios/procesos. Usar Prensa. No se observa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ones DIPR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programa, comprehensiva del gasto, impacto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uestionario debe ser aprobad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ntes de aplicar. Habrá algunos ítems obligadamente inmodific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derar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ás tiempo para entrevista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agrama sistém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e puede trabajar desde antes (varios borradores). Se pondrá énfasis en el diagrama sistémico (capacidad de revelar lo esencial y hacer sínte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ir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ocumentación a UCURS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cada grupo se debe crear una sección (dejarla de uso restringido; incluso con clave si en algún caso es necesar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udas… por el FO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6:02:44Z</dcterms:created>
  <dc:creator>Jinostroza</dc:creator>
  <dc:description/>
  <dc:language>en-US</dc:language>
  <cp:lastModifiedBy>Jinostroza</cp:lastModifiedBy>
  <dcterms:modified xsi:type="dcterms:W3CDTF">2008-08-09T19:01:32Z</dcterms:modified>
  <cp:revision>3</cp:revision>
  <dc:subject/>
  <dc:title>Taller AO</dc:title>
</cp:coreProperties>
</file>