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5EC-40DE-4E49-B34F-2B40BEAA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53D-F714-421D-9A11-46F72273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A05-00F4-44BD-9B68-BC9D020C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ECE-0A01-470D-8B25-D6152A02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C05-F6C6-4DF1-8520-41EF65FB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DEB0-B223-446A-AA9F-66A1E5B5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09E-FDAA-4B2C-924F-457475B3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9020-C1D9-4C89-8F4C-37FA7F8D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4348-BA6F-4A94-95DA-28DF645C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DC4-C5B6-4168-8370-FC354E89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F1B-AE82-4E4A-93C8-2B52189B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834-C4AC-4534-B954-D9E88495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29C3-546B-44FB-B203-B0EC41D4A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ller AO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9 de ago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rganización del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reúnen en grupos para trabajar (14:30-15:45). Alguien debe tomar nota y entregar al final del trabajo (subir a UCUR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odelo de Nego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 preguntas/afirmaciones originales redactadas (se pueden dividir ámb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vistables (tipos), al menos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uesta en común y Comentarios Generales sobre planificación (15:45-16:3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entari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chos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ocumentos normativ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Buscar más estadísticas/indicadores/estudios/procesos. Usar Prensa. No se observa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ones DIPR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programa, comprehensiva del gasto, impacto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uestionario debe ser aprobad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ntes de aplicar. Habrá algunos ítems obligadamente inmodific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derar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ás tiempo para entrevista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agrama sistém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e puede trabajar desde antes (varios borradores). Se pondrá énfasis en el diagrama sistémico (capacidad de revelar lo esencial y hacer sínte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ir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ocumentación a UCURS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cada grupo se debe crear una sección (dejarla de uso restringido; incluso con clave si en algún caso es necesar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udas… por el FO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6:02:44Z</dcterms:created>
  <dc:creator>Jinostroza</dc:creator>
  <dc:description/>
  <dc:language>en-US</dc:language>
  <cp:lastModifiedBy>Jinostroza</cp:lastModifiedBy>
  <dcterms:modified xsi:type="dcterms:W3CDTF">2008-08-09T19:01:32Z</dcterms:modified>
  <cp:revision>3</cp:revision>
  <dc:subject/>
  <dc:title>Taller AO</dc:title>
</cp:coreProperties>
</file>