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EB7B-EF9F-4514-9081-E5501D780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FD55-5EAA-4E93-BD0B-4C6273D03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6CCD-BE43-48FA-A2A2-7EE506803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4B13-267E-475B-954A-6838C683F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D558-09D1-48C4-B35F-A2AD21ECA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71BC-5E48-43CB-91C3-378D0BD7E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A27E-47D7-434C-A3BB-CFD487155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C11B-4DBA-4BF5-AFBB-0BA444E27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6F87-CF07-44D6-9958-D205CE6B1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5636-B50C-4FCC-861E-F6D94177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AD1F-BB8B-4CB0-87D7-673212DE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F6E9-A43E-4A73-B25B-AA0330DB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DA031-1860-49EB-8A7C-9568B39B0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aller AO</a:t>
            </a:r>
            <a:br>
              <a:rPr sz="4400"/>
            </a:b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9 de agos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Organización del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reúnen en grupos para trabajar (14:30-15:45). Alguien debe tomar nota y entregar al final del trabajo (subir a UCURS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odelo de Negoc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10 preguntas/afirmaciones originales redactadas (se pueden dividir ámbi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ntrevistables (tipos), al menos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uesta en común y Comentarios Generales sobre planificación (15:45-16:3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mentarios 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uchos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ocumentos normativo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. Buscar más estadísticas/indicadores/estudios/procesos. Usar Prensa. No se observan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valuaciones DIPRE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(programa, comprehensiva del gasto, impacto…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uestionario debe ser aprobado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antes de aplicar. Habrá algunos ítems obligadamente inmodific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siderar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más tiempo para entrevista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iagrama sistémico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se puede trabajar desde antes (varios borradores). Se pondrá énfasis en el diagrama sistémico (capacidad de revelar lo esencial y hacer síntes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ubir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ocumentación a UCURSO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cada grupo se debe crear una sección (dejarla de uso restringido; incluso con clave si en algún caso es necesar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udas… por el FO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9T16:02:44Z</dcterms:created>
  <dc:creator>Jinostroza</dc:creator>
  <dc:description/>
  <dc:language>en-US</dc:language>
  <cp:lastModifiedBy>Jinostroza</cp:lastModifiedBy>
  <dcterms:modified xsi:type="dcterms:W3CDTF">2008-08-09T19:01:32Z</dcterms:modified>
  <cp:revision>3</cp:revision>
  <dc:subject/>
  <dc:title>Taller AO</dc:title>
</cp:coreProperties>
</file>