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471-801C-4261-AAED-3F7AD332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BE5-3B5D-48EC-B834-02287EE6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BA8-4D12-40E7-8A40-ECA11C03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764-F624-4230-BEC1-D70C39CD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D46-E9E7-452D-9DA8-2F37F57C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579-0CAE-4730-AEAA-ABE515BE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B67-986B-4761-9722-0C5966FE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E30-7C04-4B97-AA2B-5F3ACE47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C4A9-62D4-4772-92EE-53EA27CA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FB6-C4EE-4B8B-AB01-8249373E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4F9-1245-4FFA-BF5C-EA4DB743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569-8C44-4E67-B414-10301DC0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631F-3ED5-4C5C-BBBD-79001B19FD4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eporte 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Quiebres PO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3357360"/>
            <a:ext cx="7705800" cy="26636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plomado en Gerencia P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blica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Álvaro V. Ramírez Alu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457200"/>
          <a:ext cx="8001000" cy="568008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9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ta de coordina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(duplicidad de funciones, ineficiencia, múltiples respuestas, se manifestaba en el clien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Egoísmo en la información (falta de oportunidad y calidad de la información; parcelas; campos de inseguridad e información es pod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érdida de la misión institucional (procesos y no fines; falta rigurosidad en funciones; socialización efica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ébil trabajo en equipo (poner en común y sentido en lo que se hace - misión; falta liderazgo y proactividad; sólo problemas no soluci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Exceso de burocracia (mantener lo esencial y cambiar lo fundament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ébil gestión de RRHH  (falta de polític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33520" y="457200"/>
          <a:ext cx="8001000" cy="506268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acro y micr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gencia por sobre lo importante (faltan metas clar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ta de compromiso con los proyectos (indiferencia; sin mirada de L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ntifica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precaria de los roles (sin participación de actores relevantes; traslape de roles y falta de clarida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lidades y compromisos (operativa b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ásic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usencia de trabajo en equipo (individual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Jerarquía de urgencia e importancia (vivimos apagando incendi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33520" y="457200"/>
          <a:ext cx="8001000" cy="507060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mplir lo acordado (no se respetan los compromisos y no se genera ac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odo era para ayer (temas de planificación; pérdida de prioridades y merman calidad de trabaj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Vista gorda (falta cultura de evaluación y liderazgo para decisi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as en la informa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(flujos de información mal diseñados; desconfianza; falta de transparenc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Incentivos y motivación insuficiente (ejemplo: PMG; sólo garrote no zanahor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roblemas de planificación (reuniones de trabajo; prioridades; distribución de tare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3520" y="457200"/>
          <a:ext cx="8001000" cy="303048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ta de compromiso (integral de mis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del servicio; parceladas; no hay interrelaci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Hacer por hacer: Rutinas, por que siempre se ha hecho así.. No buscar alternativas; ley de mínimo esfue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anificación VS urgencias: Respuesta a requerimientos internos y exter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0:16:30Z</dcterms:created>
  <dc:creator>Alvaro Ramírez</dc:creator>
  <dc:description/>
  <dc:language>en-US</dc:language>
  <cp:lastModifiedBy>Alvaro Ramirez</cp:lastModifiedBy>
  <dcterms:modified xsi:type="dcterms:W3CDTF">2008-07-22T21:07:11Z</dcterms:modified>
  <cp:revision>28</cp:revision>
  <dc:subject/>
  <dc:title>Presentación de PowerPoint</dc:title>
</cp:coreProperties>
</file>