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ED7-8666-46B1-9276-E69E61C4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EB5-CCE5-4E74-A543-B717E1AC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CE9-591F-4E23-809A-FF8962C4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CF3-25FD-4884-AAE6-AF0A10AE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82C-221A-4429-9516-523B442E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02B-3731-47F1-87FC-B588E7C1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908-4B21-4171-885F-6AD1C1DD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D69-5001-4A16-AA8E-0DAD465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ECD-A5EE-4AFB-B13F-C8408737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779-9C9E-47F5-86BC-9C70E67F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BAB5-DACA-4CB7-9990-C08A0BF2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9F2-2AB8-4149-964C-3BC95ADE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90FF-D784-4CAE-B937-FA70F4F51BD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eporte 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Quiebres PO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3357360"/>
            <a:ext cx="7705800" cy="26636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plomado en Gerencia P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blica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artamento de Ingeniería Indust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Álvaro V. Ramírez Alu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457200"/>
          <a:ext cx="8001000" cy="56800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6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ordin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duplicidad de funciones, ineficiencia, múltiples respuestas, se manifestaba en el clien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goísmo en la información (falta de oportunidad y calidad de la información; parcelas; campos de inseguridad e información es po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érdida de la misión institucional (procesos y no fines; falta rigurosidad en funciones; socialización efica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ébil trabajo en equipo (poner en común y sentido en lo que se hace - misión; falta liderazgo y proactividad; sólo problemas no solu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xceso de burocracia (mantener lo esencial y cambiar lo fundament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ébil gestión de RRHH  (falta de polític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457200"/>
          <a:ext cx="8001000" cy="50626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acro y mic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gencia por sobre lo importante (faltan metas clar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con los proyectos (indiferencia; sin mirada de L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entific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precaria de los roles (sin participación de actores relevantes; traslape de roles y falta de clarida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lidades y compromisos (operativa b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ásic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usencia de trabajo en equipo (individual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Jerarquía de urgencia e importancia (vivimos apagando incendi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3520" y="457200"/>
          <a:ext cx="8001000" cy="507060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mplir lo acordado (no se respetan los compromisos y no se genera ac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odo era para ayer (temas de planificación; pérdida de prioridades y merman calidad de trabaj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Vista gorda (falta cultura de evaluación y liderazgo para decis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as en la informac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(flujos de información mal diseñados; desconfianza; falta de transparenc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ncentivos y motivación insuficiente (ejemplo: PMG; sólo garrote no zanahor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roblemas de planificación (reuniones de trabajo; prioridades; distribución de tare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3520" y="457200"/>
          <a:ext cx="8001000" cy="3030480"/>
        </p:xfrm>
        <a:graphic>
          <a:graphicData uri="http://schemas.openxmlformats.org/drawingml/2006/table">
            <a:tbl>
              <a:tblPr/>
              <a:tblGrid>
                <a:gridCol w="2514600"/>
                <a:gridCol w="5486400"/>
              </a:tblGrid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e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o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ta de compromiso (integral de mis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ón del servicio; parceladas; no hay interrelacio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acer por hacer: Rutinas, por que siempre se ha hecho así.. No buscar alternativas; ley de mínimo esfuer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lanificación VS urgencias: Respuesta a requerimientos internos y exter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0:16:30Z</dcterms:created>
  <dc:creator>Alvaro Ramírez</dc:creator>
  <dc:description/>
  <dc:language>en-US</dc:language>
  <cp:lastModifiedBy>Alvaro Ramirez</cp:lastModifiedBy>
  <dcterms:modified xsi:type="dcterms:W3CDTF">2008-07-22T21:07:11Z</dcterms:modified>
  <cp:revision>28</cp:revision>
  <dc:subject/>
  <dc:title>Presentación de PowerPoint</dc:title>
</cp:coreProperties>
</file>