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BB11-F4B0-4207-B710-2F1AA337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78D5-2FEB-44C8-A2ED-139969E8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7B4C-A8D9-4830-9CA7-43643F72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89C6-A733-45EA-80BC-BB049715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535-FAAD-494C-A146-87D8B350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DC0-A841-4B0C-8AB7-BA5B0DF7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2A1-103B-4275-B6BF-A454802A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475-38BE-46B6-9A12-2043CBCD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23F7-03BB-40BE-9FF3-4D4FCBED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7552-05A5-4895-83A6-52DDF714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BC86-5995-4D73-B20E-52D12C01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F629-6816-440B-8555-C6DC2361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052E-5B32-41DD-81B9-86BA76C7071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eporte 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Quiebres PO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3357360"/>
            <a:ext cx="7705800" cy="26636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plomado en Gerencia P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blica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Álvaro V. Ramírez Alu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457200"/>
          <a:ext cx="8001000" cy="5680080"/>
        </p:xfrm>
        <a:graphic>
          <a:graphicData uri="http://schemas.openxmlformats.org/drawingml/2006/table">
            <a:tbl>
              <a:tblPr/>
              <a:tblGrid>
                <a:gridCol w="2514600"/>
                <a:gridCol w="5486400"/>
              </a:tblGrid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9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ta de coordinac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 (duplicidad de funciones, ineficiencia, múltiples respuestas, se manifestaba en el clien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Egoísmo en la información (falta de oportunidad y calidad de la información; parcelas; campos de inseguridad e información es pod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érdida de la misión institucional (procesos y no fines; falta rigurosidad en funciones; socialización efica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ébil trabajo en equipo (poner en común y sentido en lo que se hace - misión; falta liderazgo y proactividad; sólo problemas no solucion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Exceso de burocracia (mantener lo esencial y cambiar lo fundament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ébil gestión de RRHH  (falta de polític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33520" y="457200"/>
          <a:ext cx="8001000" cy="5062680"/>
        </p:xfrm>
        <a:graphic>
          <a:graphicData uri="http://schemas.openxmlformats.org/drawingml/2006/table">
            <a:tbl>
              <a:tblPr/>
              <a:tblGrid>
                <a:gridCol w="2514600"/>
                <a:gridCol w="5486400"/>
              </a:tblGrid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acro y micr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gencia por sobre lo importante (faltan metas clar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ta de compromiso con los proyectos (indiferencia; sin mirada de L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ntificac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 precaria de los roles (sin participación de actores relevantes; traslape de roles y falta de clarida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lidades y compromisos (operativa b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ásic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usencia de trabajo en equipo (individual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Jerarquía de urgencia e importancia (vivimos apagando incendi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33520" y="457200"/>
          <a:ext cx="8001000" cy="5070600"/>
        </p:xfrm>
        <a:graphic>
          <a:graphicData uri="http://schemas.openxmlformats.org/drawingml/2006/table">
            <a:tbl>
              <a:tblPr/>
              <a:tblGrid>
                <a:gridCol w="2514600"/>
                <a:gridCol w="5486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mplir lo acordado (no se respetan los compromisos y no se genera acc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odo era para ayer (temas de planificación; pérdida de prioridades y merman calidad de trabaj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Vista gorda (falta cultura de evaluación y liderazgo para decision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as en la informac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 (flujos de información mal diseñados; desconfianza; falta de transparenc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Incentivos y motivación insuficiente (ejemplo: PMG; sólo garrote no zanahor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roblemas de planificación (reuniones de trabajo; prioridades; distribución de tare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33520" y="457200"/>
          <a:ext cx="8001000" cy="3030480"/>
        </p:xfrm>
        <a:graphic>
          <a:graphicData uri="http://schemas.openxmlformats.org/drawingml/2006/table">
            <a:tbl>
              <a:tblPr/>
              <a:tblGrid>
                <a:gridCol w="2514600"/>
                <a:gridCol w="5486400"/>
              </a:tblGrid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ta de compromiso (integral de mis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 del servicio; parceladas; no hay interrelacion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Hacer por hacer: Rutinas, por que siempre se ha hecho así.. No buscar alternativas; ley de mínimo esfue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anificación VS urgencias: Respuesta a requerimientos internos y exter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00:16:30Z</dcterms:created>
  <dc:creator>Alvaro Ramírez</dc:creator>
  <dc:description/>
  <dc:language>en-US</dc:language>
  <cp:lastModifiedBy>Alvaro Ramirez</cp:lastModifiedBy>
  <dcterms:modified xsi:type="dcterms:W3CDTF">2008-07-22T21:07:11Z</dcterms:modified>
  <cp:revision>28</cp:revision>
  <dc:subject/>
  <dc:title>Presentación de PowerPoint</dc:title>
</cp:coreProperties>
</file>