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5E68-1DE9-4018-84F1-DA43BFEF47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D5F7-FAA8-486B-828A-97763EA969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FD7C-F8CB-416D-B236-0B8934A13B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5802-7556-41DD-A424-2F548BF2BF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ADC-7464-4E80-99C5-6DB447CD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C21-3E89-4702-931D-27712D78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B9D-3AD0-4B0D-BA5E-C7959439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497-019E-47C0-A5CB-9C3E0617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4B1E8-C6E1-4297-94A6-D56D3D72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6B8EC-6AA5-4107-A612-6224BF04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20CE5-9334-42A6-89C0-B468F1A3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B3ED1-0E30-4024-AA78-AC105BC9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CB1DE-73CD-46D7-9CD2-3F36C023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391F7-1A3A-43C5-9EDB-35FFA9A3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D1738-EE66-44A1-AF06-AC916552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BA9-44D7-4396-832E-E3BE81D6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D75CA-BA67-415A-AE8E-2F2CD42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FB46D-7EDB-430F-B1CF-75A740E4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58F4E-53CF-4084-A394-286377AE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A9448-DB08-42EA-A86F-B1CBE7E8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91BED-78D5-4102-B4F0-EB5E8F93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7C6-3964-4B2E-B035-0FD75927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496-78BA-4BDF-9642-69F28304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4FC-8389-47B0-8B94-9AFA9C15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F5B-F96F-4533-A01F-A204AAA1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422-557D-479C-8E08-BB2BDBA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511-D715-49DB-B7FB-F28282E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45F-28A6-415D-A41B-789A759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9A68-F1D6-4136-82C2-8315F0D9EC9D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5DA4-80E3-4A0B-A706-70AD4C2A0E30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A6CB-DFDB-43EC-A809-2750B7F3C16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CADA-88CE-486F-B2F8-A6CACC435DB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36" name="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39" name="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fina el proceso de adquisición y análisis de requerimientos en su empresa piloto 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Use el patrón de proceso dado en clase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recolec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05120"/>
          <a:ext cx="8229600" cy="49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9. Perfil de Calidad para su empresa ejempl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atributos / sub.-atributos son los más relevantes desde el punto de vista de los diferentes interesados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6T03:07:09Z</dcterms:modified>
  <cp:revision>519</cp:revision>
  <dc:subject/>
  <dc:title>ISO 9000 aplicado a software</dc:title>
</cp:coreProperties>
</file>